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3.jpeg" ContentType="image/jpeg"/>
  <Override PartName="/ppt/media/image3.wmf" ContentType="image/x-wmf"/>
  <Override PartName="/ppt/media/image1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5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6.gif" ContentType="image/gif"/>
  <Override PartName="/ppt/media/image2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6896B-705E-4575-B6D7-61DC3614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BE56A-ECB6-4C7B-BEAC-EB463041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D0BAC-7BBD-4C58-8643-82AE953E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E11F5-DEFF-444D-9ECC-4A88FE4D0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200C-1175-4AE1-839A-E8769364E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4935-89F3-4EE0-BC5D-8883C06B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4225-9350-47AB-A04F-38A4E124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C526-7187-4AF9-8656-29F341AF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2D9-A770-4693-B287-BB11A966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B837-92DE-401C-9C2F-9266E47E6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7AAE-B69A-4BA7-9560-3D6DD029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55998-108E-47CB-A2EC-3D3999B24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92D1-5F26-4662-9999-2C6F38FE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FB88-6858-4876-B05E-FF07B617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5AF4-AF23-4746-BD4B-ADABAA5A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0FD1-00E8-45F0-8190-24CE6997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EEB2-0199-4BCF-A668-FE2334F0F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A168-42FB-4381-8534-2254E748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57E41-3A94-4D93-BB02-C956BBAB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2F9FC-65F2-4BDD-A14F-340125276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D6C9D-CF94-467F-A112-588B820B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B326-253E-412F-89B2-5D4AD81D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062AD-B3AE-4013-AAD3-0D001E8D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FFAE4-2EB7-4739-A63B-AE31BFB4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87FA0-9B6E-40B2-B177-09D6F8D221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480" y="1219320"/>
            <a:ext cx="7314120" cy="4571280"/>
            <a:chOff x="915480" y="1219320"/>
            <a:chExt cx="731412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0240" y="1219320"/>
              <a:ext cx="864360" cy="4548600"/>
              <a:chOff x="111024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024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996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86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46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480" y="1436760"/>
              <a:ext cx="7314120" cy="4098960"/>
              <a:chOff x="915480" y="1436760"/>
              <a:chExt cx="731412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480" y="1436760"/>
                <a:ext cx="7298280" cy="821520"/>
                <a:chOff x="915480" y="1436760"/>
                <a:chExt cx="729828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480" y="143676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360" y="171180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520" y="198324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28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0000"/>
                <a:ext cx="7297200" cy="820440"/>
                <a:chOff x="932400" y="252000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00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39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440" y="33404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480" y="3631320"/>
                <a:ext cx="7298280" cy="820440"/>
                <a:chOff x="915480" y="3631320"/>
                <a:chExt cx="72982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480" y="36313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360" y="39049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520" y="41767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17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2760"/>
                <a:ext cx="7297200" cy="822960"/>
                <a:chOff x="932400" y="4712760"/>
                <a:chExt cx="72972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2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6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1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440" y="5535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79520" y="1243080"/>
              <a:ext cx="864360" cy="4547520"/>
              <a:chOff x="227952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79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59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55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5360" y="1243080"/>
              <a:ext cx="864360" cy="4547520"/>
              <a:chOff x="346536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2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1200" y="1243080"/>
              <a:ext cx="864360" cy="4547520"/>
              <a:chOff x="46512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29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4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5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88080" y="1243080"/>
              <a:ext cx="862920" cy="4547520"/>
              <a:chOff x="578808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88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4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1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1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47640" y="1243080"/>
              <a:ext cx="864360" cy="4547520"/>
              <a:chOff x="69476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47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5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11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2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D3A8-F2B1-462B-8BA5-B27D86368D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НАКАЗЫВАТЬ ИЛИ ПООЩРЯ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Вадим\Мои документы\Дети и родители 11.jpeg"/>
          <p:cNvPicPr/>
          <p:nvPr/>
        </p:nvPicPr>
        <p:blipFill>
          <a:blip r:embed="rId1"/>
          <a:stretch/>
        </p:blipFill>
        <p:spPr>
          <a:xfrm>
            <a:off x="5105520" y="3429000"/>
            <a:ext cx="2666880" cy="2332080"/>
          </a:xfrm>
          <a:prstGeom prst="rect">
            <a:avLst/>
          </a:prstGeom>
          <a:ln w="9360">
            <a:solidFill>
              <a:srgbClr val="0000ff">
                <a:alpha val="72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0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величив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меньш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68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ощрение является более правильным способом воздействия, так как оно однозначно указывает на то, какое поведение является желательным, тогда как наказание лишь определяет, какое поведение является нежелате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эффективным, о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о содерж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то: какое поведение является правиль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этой целью, оно долж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немедленно после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после каждого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ся вместе с положительным поощрением жел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правильно хвалить ребен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, хвалить ребенка -  необходимо!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 не знаете, за что похвалить ребенка, придумайте эт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, что здесь должно быть передано ребенку, 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ренняя ве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го возмож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сихиатр и психотерапевт В. Ле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H:\ШШККООЛЛАА\ШШШКККОООЛЛЛААА\анимации Гаряева\смайлики\cache_343148613.gif"/>
          <p:cNvPicPr/>
          <p:nvPr/>
        </p:nvPicPr>
        <p:blipFill>
          <a:blip r:embed="rId1"/>
          <a:stretch/>
        </p:blipFill>
        <p:spPr>
          <a:xfrm>
            <a:off x="7467480" y="228600"/>
            <a:ext cx="1333800" cy="124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:\Documents and Settings\Вадим\Мои документы\Учащиеся.jpeg"/>
          <p:cNvPicPr/>
          <p:nvPr/>
        </p:nvPicPr>
        <p:blipFill>
          <a:blip r:embed="rId2"/>
          <a:stretch/>
        </p:blipFill>
        <p:spPr>
          <a:xfrm>
            <a:off x="3581280" y="5116680"/>
            <a:ext cx="1752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C:\Documents and Settings\Вадим\Мои документы\Дети и родители.jpeg"/>
          <p:cNvPicPr/>
          <p:nvPr/>
        </p:nvPicPr>
        <p:blipFill>
          <a:blip r:embed="rId1"/>
          <a:stretch/>
        </p:blipFill>
        <p:spPr>
          <a:xfrm>
            <a:off x="533520" y="4724280"/>
            <a:ext cx="2365200" cy="1543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Documents and Settings\Вадим\Мои документы\Дети и родители 6.jpeg"/>
          <p:cNvPicPr/>
          <p:nvPr/>
        </p:nvPicPr>
        <p:blipFill>
          <a:blip r:embed="rId2"/>
          <a:stretch/>
        </p:blipFill>
        <p:spPr>
          <a:xfrm>
            <a:off x="68580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Documents and Settings\Вадим\Мои документы\Дети и родители 4.jpeg"/>
          <p:cNvPicPr/>
          <p:nvPr/>
        </p:nvPicPr>
        <p:blipFill>
          <a:blip r:embed="rId3"/>
          <a:stretch/>
        </p:blipFill>
        <p:spPr>
          <a:xfrm>
            <a:off x="3048120" y="3886200"/>
            <a:ext cx="3703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609480" y="11430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" descr="C:\Documents and Settings\Вадим\Мои документы\Девочка.jpeg"/>
          <p:cNvPicPr/>
          <p:nvPr/>
        </p:nvPicPr>
        <p:blipFill>
          <a:blip r:embed="rId1"/>
          <a:stretch/>
        </p:blipFill>
        <p:spPr>
          <a:xfrm>
            <a:off x="2666880" y="4038480"/>
            <a:ext cx="385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редно, если хвалят ребенка за то, что ему дается легко, за то, что ему дано самой природой. Похвала не за труд, не за усилие, а всего лишь за наличие способности не дает ничего, что действительно было бы необходимо ребенку для его развития. А навредить она может, особенно при ее повт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двойне вредно хвалить того, кому что-то дается легко, ставя его в пример тем, кому это же дается трудно, вопреки усилиям. Ругая одного и хваля другого, навязывая его как пример первому, их противопоставляют друг другу. Сам факт несправедливой оценки усилия, вернее - замалчивание, игнорирование его, тяжело травмирует психику ребенка (и не только ребенка!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нижает побуждение к д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ребенка дошкольного возраста складывается не только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ых аспектов взаимо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их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в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ица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иц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з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казания и поощрения являются своеобразными рычагами воспит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редно, когда хвалят слишком часто, безо всякой необходимости и неискренне. Это и обесценивает похвалу, и приучает к дешевому успеху, и способствует бездумному отношению к тому, что исходит от старших. Наблюдая за детьми, за их старшими, вы сами сможете увидеть и другие вредности необдуманной похва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ажно хвалить конкретный поступок ребенка, то, что он сделал, чего добился, а не его личность в целом. Иначе можно сформировать у него слишком большое самомнение и необъективно завышенную самооценку, ожидания. Если в дальнейшей жизни ребенок столкнется с тем, что окружающие люди ценят его не так высоко, как он сам о себе мнит, то это может привести к нев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а наказания детей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H:\ШШККООЛЛАА\ШШШКККОООЛЛЛААА\анимации Гаряева\05.gif"/>
          <p:cNvPicPr/>
          <p:nvPr/>
        </p:nvPicPr>
        <p:blipFill>
          <a:blip r:embed="rId1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Documents and Settings\Вадим\Мои документы\Ученик6.jpeg"/>
          <p:cNvPicPr/>
          <p:nvPr/>
        </p:nvPicPr>
        <p:blipFill>
          <a:blip r:embed="rId1"/>
          <a:stretch/>
        </p:blipFill>
        <p:spPr>
          <a:xfrm>
            <a:off x="7391520" y="5257800"/>
            <a:ext cx="1209600" cy="1384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:\ШШККООЛЛАА\ШШШКККОООЛЛЛААА\анимации Гаряева\смайлики\6417892.gif"/>
          <p:cNvPicPr/>
          <p:nvPr/>
        </p:nvPicPr>
        <p:blipFill>
          <a:blip r:embed="rId2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Documents and Settings\Вадим\Мои документы\Ученик3.jpeg"/>
          <p:cNvPicPr/>
          <p:nvPr/>
        </p:nvPicPr>
        <p:blipFill>
          <a:blip r:embed="rId3"/>
          <a:stretch/>
        </p:blipFill>
        <p:spPr>
          <a:xfrm>
            <a:off x="3048120" y="525780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казание... часто оказывается весьма эффективным средством прекращения недопустим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полной неэффективности других испробованных альтернатив, наказание... может оказаться лучшим ре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каз от наказаний... снижает эффективность весьма полезных приемов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зание и поощрени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основные методы воспитания, преследуют конечную цел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лаго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:\Documents and Settings\Вадим\Мои документы\Дети и родители 9.jpeg"/>
          <p:cNvPicPr/>
          <p:nvPr/>
        </p:nvPicPr>
        <p:blipFill>
          <a:blip r:embed="rId1"/>
          <a:stretch/>
        </p:blipFill>
        <p:spPr>
          <a:xfrm>
            <a:off x="4038480" y="5181480"/>
            <a:ext cx="2286000" cy="1490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09" name="Picture 5" descr="C:\Documents and Settings\Вадим\Мои документы\Дети и родители 10.jpeg"/>
          <p:cNvPicPr/>
          <p:nvPr/>
        </p:nvPicPr>
        <p:blipFill>
          <a:blip r:embed="rId2"/>
          <a:stretch/>
        </p:blipFill>
        <p:spPr>
          <a:xfrm>
            <a:off x="7315200" y="5183280"/>
            <a:ext cx="1371600" cy="14889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0" name="Picture 6" descr="C:\Documents and Settings\Вадим\Мои документы\Дети и родители 5.jpeg"/>
          <p:cNvPicPr/>
          <p:nvPr/>
        </p:nvPicPr>
        <p:blipFill>
          <a:blip r:embed="rId3"/>
          <a:stretch/>
        </p:blipFill>
        <p:spPr>
          <a:xfrm>
            <a:off x="1600200" y="5181480"/>
            <a:ext cx="1371600" cy="1517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Documents and Settings\Вадим\Мои документы\Дети и родители2.jpeg"/>
          <p:cNvPicPr/>
          <p:nvPr/>
        </p:nvPicPr>
        <p:blipFill>
          <a:blip r:embed="rId1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едупред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зможные отрицательные поступ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ажно подчеркнуть, что нак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туп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 н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H:\ШШККООЛЛАА\ШШШКККОООЛЛЛААА\анимации Гаряева\1056.gif"/>
          <p:cNvPicPr/>
          <p:nvPr/>
        </p:nvPicPr>
        <p:blipFill>
          <a:blip r:embed="rId1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Documents and Settings\Вадим\Мои документы\Ребенок.jpeg"/>
          <p:cNvPicPr/>
          <p:nvPr/>
        </p:nvPicPr>
        <p:blipFill>
          <a:blip r:embed="rId2"/>
          <a:stretch/>
        </p:blipFill>
        <p:spPr>
          <a:xfrm>
            <a:off x="7620120" y="152280"/>
            <a:ext cx="127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1_05_00"/>
          <p:cNvPicPr/>
          <p:nvPr/>
        </p:nvPicPr>
        <p:blipFill>
          <a:blip r:embed="rId1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его приемлем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C:\Documents and Settings\Вадим\Мои документы\Родители1.jpeg"/>
          <p:cNvPicPr/>
          <p:nvPr/>
        </p:nvPicPr>
        <p:blipFill>
          <a:blip r:embed="rId1"/>
          <a:stretch/>
        </p:blipFill>
        <p:spPr>
          <a:xfrm>
            <a:off x="3124080" y="44956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взгляды на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й и наказ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питании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 считают, что надо как можно чаще наказывать и как можно реже поощр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наоборот, советуют чаще использовать поощрения, наказывать же лишь изре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думают, что следует только поощрять, а наказывать не надо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сть и такие, кто убежден, что истинное воспитание - это воспитание вообще без каких бы то ни было поощрений и наказ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(ИЗ АНКЕТ РОДИТЕЛЕЙ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Физическое наказание детей следует применя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сключительных случаях,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Documents and Settings\Вадим\Мои документы\Дети и родители12.jpeg"/>
          <p:cNvPicPr/>
          <p:nvPr/>
        </p:nvPicPr>
        <p:blipFill>
          <a:blip r:embed="rId1"/>
          <a:stretch/>
        </p:blipFill>
        <p:spPr>
          <a:xfrm>
            <a:off x="6934320" y="22860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</p:spTree>
  </p:cSld>
  <p:transition>
    <p:pull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Хаим Гинотт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не устраняет недопустимое поведение, просто ребенок становится более осторожным в своем "преступлении". Он лучше заметает следы, его становится труднее застигнуть на месте. Когда ребенка наказывают, он решает быть более осторожным, а не более честным и ответственным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Ирвин А. Хайман пиш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Телесные наказания учат детей тому, что проблемы можно решить с помощью насилия. Исследования показывают, что те, кто причиняет боль, учат этому тех, кому боль причиняют, и тех, кто становится свидетелями этого процесса. Телесные наказания не учат детей внутреннему контролю, который является неотъемлемым элементом демократ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Рудольф Драйкурс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Сегодня родители и учителя больше не могут заставить детей слушаться. Реальность требует, чтобы мы применяли новые методы влияния и мотивации детей к взаимодействию. Наказания — порка, шлепки, унижение, лишение чего-либо — это устаревший и неэффективный способ закрепления дисциплины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Альберт Бандура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может устранить недопустимое поведение, но оно не является стимулом к поведению желательному и не устраняет у ребенка желания вести себя неправильн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ловесные способы поощрения и поддержки ребенка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о! Правильно! Хорошо! Необыкновенно! Прекрасно! Совершенно!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о! Превосходно! Чуд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делаешь это очень хорошо. Ты делаешь это красиво! Ты делаешь это сегодня значительно лучше. Хорошая работа! Еще немного времени, и у тебя это получиться. С каждым днем у тебя получается лучше. Я знал (а), что ты можешь сделать это. Твоя работа принесла мне много ра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лучше всего! Еще лучше! Это лучше, чем всегда. Так держать! Ты это сможешь! Ты смелее, умнее, сильне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дравляю! Мои поздравления! Я очень горжусь тобой. Это уже успех! Это твоя победа. Сердечно рад (а) за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стоящий мастер. Я верю в тебя, у тебя будет всегда получаться не хуже, чем сейчас. Хорошо запомнил! Ты сейчас на правильном пу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ец! Умница! Ты быстро учишься. Это то, что надо! Ты пра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тебе спасибо! Ты хороший (ая)! Ты – чу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ельзя наказыва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чанием. Выдержать бойкот ребенку дошкольного возраста чрезвычайно трудно, для этого ему может потребоваться напряжение всех его психических 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ворить: «Я тебя больше не люблю» и т.п. Лишение любви – это самое сильное наказание, конечно, при условии, если эта любовь к ребенку со стороны взрослых действительно имеется. Это наказание опасно применять к детям дошкольного возраста, поскольку оно подрывает ту основу основ, от которой зависит жизнь маленько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и, поскольку за внешней эффективностью, кроме страха, не скрывается ничего. И утешать себя тем, что я бью ребенка для его же блага, бесполезно – вреда здесь больше: вы не только научили бояться наказания, но и преподали ребенку урок жесто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чать на ребенка, поскольку крик воспринимается ребенком дошкольного возраста как словесное бит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о, не соблюдая правила о том, что поощрений при воспитании ребенка должно быть больше, чем наказаний (акцентирование хорошего в поведении ребенка путем поощрений тем самым закрепляет ег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о по времени и спустя такое количество времени, которое несоразмерно возрасту ребенка (чем меньше ребенок, тем ближе наказание должно быть к проступ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екать и поминать былые грехи ребенка, тем самым закрепляя плохое поведение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ужно поощря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бы, оценивая соотношение поощрений и наказаний, мы были уверены в том, что поощрения в количественном отношении больше. Это необходимо для положительного фона 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инимальные вознаграждения, поскольку они оставляют место для тех ощущений радости, которые сопровождают успех и достижения ребенка. Выбирая подарок для поощрения ребенка, необходимо понимать, что подарок – это лишь символ успеха или 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школьного возраста чувствительны к словам значимых для них взрослых (особенно девочки), поэтому поощрением для них могут служить удачно подобранные фразы и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ть особо почетные поручения, когда ребенку доверяется, поручается нечто большее, чем обы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ять не только за результат, но и за попытку ребенком достигнуть результата, за старание сделать хорошо, помочь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е дорогое для нас -это наши дети!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наша задача быть терпеливее с ними ,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ывать  с минимальными психологическими травмами.</a:t>
            </a:r>
            <a:br>
              <a:rPr sz="2000"/>
            </a:br>
            <a:r>
              <a:rPr b="1" lang="ru-RU" sz="2400" spc="-1" strike="noStrike">
                <a:solidFill>
                  <a:srgbClr val="ff5d0d"/>
                </a:solidFill>
                <a:latin typeface="Arial"/>
              </a:rPr>
              <a:t> 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Documents and Settings\Вадим\Мои документы\Ученик7.jpeg"/>
          <p:cNvPicPr/>
          <p:nvPr/>
        </p:nvPicPr>
        <p:blipFill>
          <a:blip r:embed="rId1"/>
          <a:stretch/>
        </p:blipFill>
        <p:spPr>
          <a:xfrm>
            <a:off x="3048120" y="2971800"/>
            <a:ext cx="2819160" cy="3166920"/>
          </a:xfrm>
          <a:prstGeom prst="rect">
            <a:avLst/>
          </a:prstGeom>
          <a:ln w="9360">
            <a:solidFill>
              <a:srgbClr val="0000ff">
                <a:alpha val="88000"/>
              </a:srgbClr>
            </a:solidFill>
            <a:miter/>
          </a:ln>
        </p:spPr>
      </p:pic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е имеет тройное зна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исправляет вред, причинённый дурным пове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ет тому, чтобы такие действия не повторялись, т.е. имеет отпугивающий характе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ти ненавидят уч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которых никогда не дождёшься одобрения или признания того, что хорошо сделано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убивает стремление к совершенств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ы использования наказани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ррекционного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действенно, когда оно понятно ребёнку, и он считает его справедливым. После наказания о нём не вспоминают, а с ребенком сохраняются нормальные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провинился, его можно наказать только один раз. Даже если поступков совершено сразу несколько, наказание может быть суровым, но только одно, за всё сра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я наказание, нельзя оскорблять ребенка. Наказываем не по личной неприязни, а по педагогической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казывайте, если нет полной уверенности в справедливости и полезности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превращения наказания в орудие мести. Воспитывайте убеждение, что ребенка наказывают для его же поль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не должно вредить здоровью ребенка – ни физическому, ни моральному. Если ребенок болен – воздержитесь от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бы то не было наказание, ребенок не должен его бояться. Он должен знать, что в определенных случаях оно неотвратимо. Не наказания он должен бояться не гнева, а вашего огор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.Ю. Гордин, Б. Т. Лихачев и В.Л. Ле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лан Фро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оей работе сформулировал некоторые опасности, таящиеся при наказ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Шлёпая ребенка, вы учите его бояться в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ведение ребенка будет строиться на непредсказуемой основе, а не на понимании и принятии законов мор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являя при детях худшие черты своего характера, вы показываете им плохой 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лесные наказания требуют от родителей меньше всего ума и способностей, чем любые другие воспитатель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Deti smotryt-Deti delaut-lovi.tv.wmv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5852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о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предложил ряд правил – за что не следует хвалить ребёнка. Вот некоторые из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ледует хвал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за то, что дано от природ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то, что достигнуто не своими усилиями, своей работ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двух раз за одно и то ж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жал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за желания  понрав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Документы</cp:lastModifiedBy>
  <dcterms:modified xsi:type="dcterms:W3CDTF">2017-01-21T15:45:19Z</dcterms:modified>
  <cp:revision>121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