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arrow.wav" ContentType="audio/x-wav"/>
  <Override PartName="/ppt/media/image14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90DE-3F8F-4047-A621-2F7B7AB1D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95CE-3BF0-4450-BA14-E7BCE4EE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7442-8854-4083-AD42-B61F14588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BF01-35BE-4453-9D0F-AE59D4745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25BB-20EF-4FE9-AD0D-9DEFFB858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34113-2EDC-4D1E-86BA-B4AAB4F7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7F548-E61C-4858-86DE-1C1C084B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7649-A915-4AB5-AA50-CC1320BA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25C4-1950-4533-9FEF-41CEA5BE2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B43A-A901-4507-AA5F-1A01AB17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8FED-2C8A-4E3A-B878-F29E6BAD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19DF-481C-4EF9-A3B1-ABA5AD04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0E32-7E55-451C-994A-81950DB9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128DA-CF8E-452A-B671-511A351A1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E9928-16D0-40A5-91FE-5EF695B7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B6D1-58B3-46BC-B447-2F22655BC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DF6BB-F756-45E0-A798-57F0A386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D085-50AC-4DB5-9E67-2D6701E8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B9A8-0BD9-45FA-AA54-322CBD8F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034B-CF15-4D3A-AFAD-68B80251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CA18-9AAC-4E00-AD62-73F93BD22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7030-268F-4DD1-83EE-B2836D32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6437-1BA6-4FA6-9BB1-C6F609D6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34B0-C930-4696-9289-28300F36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F13C-38BB-4C7B-BEE0-F6877AB124A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40747-B0DA-429A-9AB2-890FE75A6D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54936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МОУ СОШ №15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95280" y="1628280"/>
            <a:ext cx="813744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Impact"/>
              </a:rPr>
              <a:t>Проект по математике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«Путешествие по городам России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Тема: «Масштаб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ыполнили: Большакова Е. Шабанова 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уководитель: Горохова Л.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остопримечательности Со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1484280"/>
            <a:ext cx="49323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835280" y="3933720"/>
            <a:ext cx="2315880" cy="29242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2124000" y="1125360"/>
            <a:ext cx="2149560" cy="2692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5580000" y="1052640"/>
            <a:ext cx="1976400" cy="266364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5940360" y="3860640"/>
            <a:ext cx="1922400" cy="2997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5" name="arrow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расстояния между городами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628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штаб карт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см-60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местности 402 км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 см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 см – 402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ь х см расстояние  между городами на кар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:60=х:402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=6,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6,7см расстояние между городами на карте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Значит пункт прибытия – город Ростов-на-Дону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2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– 402 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поезда – 9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402:90=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Сочи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о Ростова-на-Дону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ecff"/>
                </a:solidFill>
                <a:latin typeface="Arial"/>
              </a:rPr>
              <a:t>Пункт прибытия – Ростов-на-Дону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Расположен на правом берегу реки Дон, в 46км от его впадения в Азовское мор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Центр Ростовской област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Год основания: 1749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Население: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1107,3 тыс. челове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2" name="arrow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3976560"/>
            <a:ext cx="5219640" cy="2881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Ростова-на-Дону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5105520" y="3789360"/>
            <a:ext cx="4038480" cy="2908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250920" y="1341360"/>
            <a:ext cx="3564000" cy="2684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5148360" y="1557360"/>
            <a:ext cx="2232000" cy="26924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900000" y="6453360"/>
            <a:ext cx="367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Речной вокза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484280"/>
            <a:ext cx="205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Кафедральный собор Рождества Богородиц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24360" y="6308640"/>
            <a:ext cx="288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Академический драматический театр им. Горь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3500280"/>
            <a:ext cx="2160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Памятник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А.С. Пушкин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arrow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отправления: Волгогра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ересадка: Сочи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ункт прибытия: Ростов-на-Дону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расстояние путешествия: 690+402=1092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бщее время путешествия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1,5+ 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4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7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=</a:t>
            </a: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15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/30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ас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тправляемся из города-героя Сталинграда в город проведения Зимних Олимпийских игр 2014 года, и осмотрев его достопримечательности, к северу на 402 км.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считать общее расстояние путешествия, время движения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538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ункт отправления: город Волгоград Пункт пересадки: город Сочи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2097000"/>
            <a:ext cx="500364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ункт отправления- Волгоград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од основания:1589 г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589 по 1925 г назывался Царицын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925 по 1961 г назывался Сталинград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В 1965 г получил звание город-гер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 1961 и по настоящее время называется Волгоградом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селение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025, 9 тыс. человек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4032360" cy="42051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   Волгогра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3195720" cy="4530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3276720" y="1484280"/>
            <a:ext cx="3095640" cy="2521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564000" y="4149720"/>
            <a:ext cx="2663640" cy="25192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6300720" y="1484280"/>
            <a:ext cx="2843280" cy="4033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516720" y="4797360"/>
            <a:ext cx="262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Монумент  на Мамаевом  курган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80000" y="620568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Здание планетар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08360" y="3573360"/>
            <a:ext cx="19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Дом Павло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5" name="arrow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 Волгограда до Соч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-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карте 11,5 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  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1,5см – х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ь х км расстояние между городами на м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:11,5=60: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 = 690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от Волгограда до Сочи 690 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– 690 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е –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690:60= 11,5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Волгограда до Сочи 11,5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arrow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ункт пересадки: город Со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Место проведения Зимних Олимпийских игр 2014 года – город Соч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1268280"/>
            <a:ext cx="3898800" cy="518508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           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род Соч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00360" y="1341360"/>
            <a:ext cx="41749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Историческая справка: Герб города курорта был принят 15 мая 1967 года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Год основания: 1874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лощадь: составляет 3506 кв.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Население: около 329 тыс. человек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3592440" cy="4464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2" name="arrow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7:01:32Z</dcterms:created>
  <dc:creator>User</dc:creator>
  <dc:description/>
  <dc:language>en-US</dc:language>
  <cp:lastModifiedBy>1</cp:lastModifiedBy>
  <dcterms:modified xsi:type="dcterms:W3CDTF">2011-11-04T15:02:36Z</dcterms:modified>
  <cp:revision>26</cp:revision>
  <dc:subject/>
  <dc:title>Задание I уровня.</dc:title>
</cp:coreProperties>
</file>