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7.png" ContentType="image/png"/>
  <Override PartName="/ppt/media/image16.png" ContentType="image/png"/>
  <Override PartName="/ppt/media/arrow.wav" ContentType="audio/x-wav"/>
  <Override PartName="/ppt/media/image14.png" ContentType="image/png"/>
  <Override PartName="/ppt/media/image2.png" ContentType="image/pn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2.jpeg" ContentType="image/jpeg"/>
  <Override PartName="/ppt/media/image13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7ED8-1C1C-43EF-B443-B3105672C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EFE9-F289-4DF6-AFDC-026E84331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8A13-417D-4344-8435-B3BFF2CC8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6295-1D1A-4123-9B41-7C8EEED60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3539F-8805-4253-9FA9-E23A14A95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606E4-1291-4FAC-9E7C-BA4AE11C8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E0FBC-9538-4A42-98D5-5BD618421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C6976-36D6-45E2-9A31-E98408A49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B7A7F-EE67-4536-ADCB-1446E7F26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473D5-7932-451A-B2F4-79DF7BA19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BC2EC-208E-43DC-8370-EDDA5517B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586D-8C4F-4E8F-98D5-03F20C8AB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D30FE-8CEA-4A12-A7C8-9AAB3A489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5E16B-1320-44BB-870B-85F665DB3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2BD3C-37F6-4383-9E9E-FA780297B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3906D-5F39-45F5-9B19-B6F456C61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F2DDA-05F5-4745-BB6E-D6DD62C7B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EB72-2F8E-429B-B959-D7311C8D5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136B-20CE-4264-A623-61506AEDB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5446-4194-4818-8661-00CF3C933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C839-FC94-4960-AF57-9D84FB1E1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51BB-43F7-41C6-9AFD-B5629DDF9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82E5-D6C0-4804-8E36-7035B48CC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1230-E93B-4AED-B901-0B8F7DBE1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AAB0C-CB8C-4044-8B6E-E36D08B84EBD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47697-378A-4E5A-ADAC-7D3123098C90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audio" Target="../media/arrow.wav"/><Relationship Id="rId6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audio" Target="../media/arrow.wav"/><Relationship Id="rId6" Type="http://schemas.openxmlformats.org/officeDocument/2006/relationships/slideLayout" Target="../slideLayouts/slideLayout1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audio" Target="../media/arrow.wav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54936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МОУ СОШ №15</a:t>
            </a:r>
            <a:br>
              <a:rPr sz="4800"/>
            </a:b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95280" y="1628280"/>
            <a:ext cx="81374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Проект по математике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en-US" sz="4000" spc="-1" strike="noStrike">
                <a:solidFill>
                  <a:srgbClr val="ffffff"/>
                </a:solidFill>
                <a:latin typeface="Verdana"/>
              </a:rPr>
              <a:t>«Путешествие по городам России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Тема: «Масштаб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Выполнили: Большакова Е. Шабанова А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Руководитель: Горохова Л.В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random/>
    <p:sndAc>
      <p:stSnd>
        <p:snd r:embed="rId1" name="arrow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Достопримечательности Соч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1484280"/>
            <a:ext cx="4932360" cy="53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835280" y="3933720"/>
            <a:ext cx="2315880" cy="292428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2124000" y="1125360"/>
            <a:ext cx="2149560" cy="2692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5580000" y="1052640"/>
            <a:ext cx="1976400" cy="266364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5940360" y="3860640"/>
            <a:ext cx="1922400" cy="299736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5" name="arrow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Расчет расстояния между городами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3628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Масштаб карты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1 см-60 км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Расстояние между городами на местности 402 км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Составим краткую запись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1 см – 60км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х см – 402 км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Пусть х см расстояние  между городами на карте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Составим пропорцию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1:60=х:402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Х=6,7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6,7см расстояние между городами на карте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Значит пункт прибытия – город Ростов-на-Дону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random/>
    <p:sndAc>
      <p:stSnd>
        <p:snd r:embed="rId1" name="arrow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Расчет времени передвижения 2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сстояние – 402 к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сть поезда – 90 км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/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ремя - ? 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02:90= </a:t>
            </a: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4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7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/15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(ч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вет: время движения от Сочи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 Ростова-на-Дону </a:t>
            </a: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4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7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/15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час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random/>
    <p:sndAc>
      <p:stSnd>
        <p:snd r:embed="rId1" name="arrow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Пункт прибытия – Ростов-на-Дону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457200" y="1600200"/>
            <a:ext cx="4038480" cy="4530600"/>
            <a:chOff x="457200" y="1600200"/>
            <a:chExt cx="4038480" cy="4530600"/>
          </a:xfrm>
        </p:grpSpPr>
        <p:pic>
          <p:nvPicPr>
            <p:cNvPr id="196" name="" descr=""/>
            <p:cNvPicPr/>
            <p:nvPr/>
          </p:nvPicPr>
          <p:blipFill>
            <a:blip r:embed="rId1"/>
            <a:stretch/>
          </p:blipFill>
          <p:spPr>
            <a:xfrm>
              <a:off x="457200" y="1600200"/>
              <a:ext cx="4038480" cy="453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 txBox="1"/>
            <p:nvPr/>
          </p:nvSpPr>
          <p:spPr>
            <a:xfrm>
              <a:off x="457200" y="1600200"/>
              <a:ext cx="4038480" cy="4530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601"/>
                </a:spcBef>
                <a:buClr>
                  <a:srgbClr val="ffffcc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Verdana"/>
              </a:rPr>
              <a:t>Расположен на правом берегу реки Дон, в 46км от его впадения в Азовское море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Verdana"/>
              </a:rPr>
              <a:t>Центр Ростовской област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Verdana"/>
              </a:rPr>
              <a:t>Год основания: 1749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Verdana"/>
              </a:rPr>
              <a:t>Население: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Verdana"/>
              </a:rPr>
              <a:t>1107,3 тыс. человек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random/>
    <p:sndAc>
      <p:stSnd>
        <p:snd r:embed="rId2" name="arrow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0" y="3976560"/>
            <a:ext cx="5219640" cy="288144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Достопримечательности Ростова-на-Дону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5105520" y="3789360"/>
            <a:ext cx="4038480" cy="29084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3"/>
          <a:stretch/>
        </p:blipFill>
        <p:spPr>
          <a:xfrm>
            <a:off x="250920" y="1341360"/>
            <a:ext cx="3564000" cy="268452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4"/>
          <a:stretch/>
        </p:blipFill>
        <p:spPr>
          <a:xfrm>
            <a:off x="5148360" y="1557360"/>
            <a:ext cx="2232000" cy="269244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900000" y="6453360"/>
            <a:ext cx="36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Речной вокза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1484280"/>
            <a:ext cx="2050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Кафедральный собор Рождества Богородиц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724360" y="6308640"/>
            <a:ext cx="288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Академический драматический театр им. Горьког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148360" y="3500280"/>
            <a:ext cx="21603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Памятник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А.С. Пушкину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5" name="arrow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Маршрутный лист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нкт отправления: Волгоград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ресадка: Сочи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нкт прибытия: Ростов-на-Дону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щее расстояние путешествия: 690+402=1092км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щее время путешествия: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1,5+ </a:t>
            </a: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4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7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/15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=</a:t>
            </a: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15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29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/30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аса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random/>
    <p:sndAc>
      <p:stSnd>
        <p:snd r:embed="rId1" name="arrow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Задание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Отправляемся из города-героя Сталинграда в город проведения Зимних Олимпийских игр 2014 года, и осмотрев его достопримечательности, к северу на 402 км.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Рассчитать общее расстояние путешествия, время движения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random/>
    <p:sndAc>
      <p:stSnd>
        <p:snd r:embed="rId1" name="arrow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Карта путешеств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148000" y="1599840"/>
            <a:ext cx="3538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Пункт отправления: город Волгоград Пункт пересадки: город Сочи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0" y="2097000"/>
            <a:ext cx="5003640" cy="357192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2" name="arrow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Пункт отправления- Волгоград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Год основания:1589 г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С 1589 по 1925 г назывался Царицын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С 1925 по 1961 г назывался Сталинград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В 1965 г получил звание город-герой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С 1961 и по настоящее время называется Волгоградом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Население: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      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1025, 9 тыс. человек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395280" y="1557360"/>
            <a:ext cx="4032360" cy="420516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2" name="arrow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Достопримечательности    Волгоград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3195720" cy="453096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3276720" y="1484280"/>
            <a:ext cx="3095640" cy="25210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3564000" y="4149720"/>
            <a:ext cx="2663640" cy="25192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4"/>
          <a:stretch/>
        </p:blipFill>
        <p:spPr>
          <a:xfrm>
            <a:off x="6300720" y="1484280"/>
            <a:ext cx="2843280" cy="40338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6516720" y="4797360"/>
            <a:ext cx="2627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Монумент  на Мамаевом  курган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780000" y="6205680"/>
            <a:ext cx="23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Здание планетар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708360" y="3573360"/>
            <a:ext cx="194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Дом Павлов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5" name="arrow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Расчет расстояния 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от Волгограда до Сочи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Масштаб карты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1см - 60км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Расстояние между городами на карте 11,5 см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Составим краткую запись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1см    – 60км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11,5см – х км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Пусть х км расстояние между городами на местности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Составим пропорцию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1:11,5=60:х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Х = 690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Расстояние от Волгограда до Сочи 690 км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random/>
    <p:sndAc>
      <p:stSnd>
        <p:snd r:embed="rId1" name="arrow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Расчет времени передвижения 1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сстояние – 690 к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сть автобусе – 60 км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/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ремя - ? 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90:60= 11,5 (ч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вет: время движения от Волгограда до Сочи 11,5 час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random/>
    <p:sndAc>
      <p:stSnd>
        <p:snd r:embed="rId1" name="arrow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Пункт пересадки: город Соч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Место проведения Зимних Олимпийских игр 2014 года – город Сочи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7200" y="1268280"/>
            <a:ext cx="3898800" cy="518508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2" name="arrow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           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Город Соч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00360" y="1341360"/>
            <a:ext cx="4174920" cy="41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Историческая справка: Герб города курорта был принят 15 мая 1967 года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Год основания: 1874г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Площадь: составляет 3506 кв.км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Население: около 329 тыс. человек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3592440" cy="446400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2" name="arrow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3T17:01:32Z</dcterms:created>
  <dc:creator>User</dc:creator>
  <dc:description/>
  <dc:language>en-US</dc:language>
  <cp:lastModifiedBy>1</cp:lastModifiedBy>
  <dcterms:modified xsi:type="dcterms:W3CDTF">2011-11-04T15:02:36Z</dcterms:modified>
  <cp:revision>26</cp:revision>
  <dc:subject/>
  <dc:title>Задание I уровня.</dc:title>
</cp:coreProperties>
</file>