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B60A-FA18-4DB6-9421-AA12AD65B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EB98-EA5E-45C6-92FA-5B60FD33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F8B3-70D8-4E20-9743-F0887D005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0683-5183-4AB5-A508-CB6197D1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32F4-7F99-4B16-9314-BD1518F15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0EDD-B7C8-4EF0-9785-DBBF8357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E028-AD5B-467C-ACD4-8705ACF1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103B-0E74-43DB-B1DE-83FE75F3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2B5D-68C3-44F5-993F-0A3A53D3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1945-DAA5-4816-9E2E-2DD53EFA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12F5-9AEE-4D37-A1A3-57672A58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1EE5-32E6-4C1F-8041-932FEB0F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2740-BEDE-4BA4-B3A2-233894C7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6BE98-E1B3-43B8-BC6A-F9135A6C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2835E-2B20-4150-816E-ED9F464C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9475A-8513-436B-85DC-E50DE5537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1523-59F8-433C-8217-80BC597C9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CABC-51F7-4E72-AB2F-D0E9FB19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815D-2FC1-4DB9-BE8D-08D0CF09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2D6F-6144-4872-A957-E098AAA4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0ECB-7698-4449-8371-2302F229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EE3D-E9AD-4FFE-8983-BFD46B41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1F1F-6C4F-44D3-BAFD-8F0E6DC9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8E92-FD1A-4FB3-899B-D70A9AF4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524B-B6AF-48C9-B921-441C371FDD5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1B41-2C85-4948-8DC5-931456DF0A7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МОУ СОШ №15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Проект по математике  </a:t>
            </a: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«Путешествие по городам России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Тема: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Масштаб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Автор: ученица 6б класса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Воронова Ангелин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        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асчёт расстояния от Новгорода до пункта прибыт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Масштаб карты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см-85к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Расстояние между городами на местности 510к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Составим краткую запись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см-85к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Х см- 510 к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усть х см расстояние между городами на карт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Составим пропорцию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:х=85:51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Х =6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Ответ: расстояние между городами на карте 6с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ункт прибытия: город Вологд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а карте на 6см к востоку от Новгорода находится город Вологд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асчет времени передвижения 2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тояние - 510к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сть поезда - 90 км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- ? 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10:90=5,6 (ч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т: время движения от Новгорода до Вологды 5,6час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Город Вологд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Год основания: 1147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Центр Вологодской об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асположен в Присухонской низине в 497 км к северо-востоку от Москв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селение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01,2 тыс. че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57200" y="1600200"/>
            <a:ext cx="4038480" cy="4133880"/>
            <a:chOff x="457200" y="1600200"/>
            <a:chExt cx="4038480" cy="413388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38480" cy="413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 txBox="1"/>
            <p:nvPr/>
          </p:nvSpPr>
          <p:spPr>
            <a:xfrm>
              <a:off x="457200" y="1600200"/>
              <a:ext cx="4038480" cy="413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837360" y="579420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Белый д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Достопримечательности Вологд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72000" y="1844640"/>
            <a:ext cx="4038480" cy="43498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79280" y="3933720"/>
            <a:ext cx="4038840" cy="21891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-64800" y="6154560"/>
            <a:ext cx="25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ряничный дом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37800" y="6154560"/>
            <a:ext cx="239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Софийский соб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3467160" cy="2016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4400" y="3130560"/>
            <a:ext cx="400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пасо - Прилуцкий монастыр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аршрутный лис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ункт отправления: Санкт- Петербург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ересадка: Новгород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ункт прибытия: Вологд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бщее расстояние путешествия: 120+510=630к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бщее время путешествия: 2+5,6=7,6час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уровн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асладившись прекрасной экспозицией Эрмитажа, отправляемся в город, где собиралось народное вече, а затем на 510 км к востоку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Рассчитать общее расстояние путешествия, время движения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арта путешеств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292720" y="1599840"/>
            <a:ext cx="3394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ункт отправления: город Санкт- Петербург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ункт пересадки: город Новгород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5041800" cy="35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ункт отправления- Санкт- Петербург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сторическая справк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Основан Петром Первым. В 1712-1728 и 1732-1918 – столица России. В городе произошли Февральская(1916) и Октябрьская (1917) революции. В годы Великой Отечественной войны город выдержал 900-дневную блокаду. В 1945 году присвоено звание города-героя. В Санкт-Петербурге расположены выдающиеся архитектурные ансамбли 18-19 веков: Петропавловская крепость, Александро-Невская лавра, стрелка Васильевского острова, Дворцовая площадь с Зимним дворцом, Александрийской колонной, памятник Петру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од основания:1703 г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лощадь:605,8 кв.к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селение:4 624тыс.че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Достопримечательности Санкт- Петербург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879480" y="1600200"/>
            <a:ext cx="3192480" cy="4530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949680" y="6154560"/>
            <a:ext cx="23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амятник Петру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17800" y="6154560"/>
            <a:ext cx="34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Александрийская колон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асчет расстояния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от Санкт- Петербурга до Новгород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асштаб карты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см – 60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Расстояние между городами на карте 2с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оставим краткую запись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см    – 60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см – х 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усть х км расстояние между городами на местнос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оставим пропорцию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:2=60: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Х = 120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Расстояние от Санкт- Петербурга до Новгорода 120 к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асчет времени передвижения 1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тояние - 120к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сть автобуса - 60 км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- ? 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20:60=2 (ч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т: время движения от Санкт- Петербурга до Новгорода 2 час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ункт пересадки: город Новгор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Историческая справк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Был расположен на стыке путей «из варяг в греки». Развивались ремесла (обработка дерева, кожи, железа), торговля, культур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Год основани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Впервые упомянут в Новгородской летописи  859 годо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Областной центр Новгородско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област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лощадь: 8829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аселение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30,6 тыс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57200" y="1600200"/>
            <a:ext cx="4038480" cy="4530600"/>
            <a:chOff x="457200" y="1600200"/>
            <a:chExt cx="4038480" cy="453060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38480" cy="45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 txBox="1"/>
            <p:nvPr/>
          </p:nvSpPr>
          <p:spPr>
            <a:xfrm>
              <a:off x="457200" y="1600200"/>
              <a:ext cx="4038480" cy="453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92200" y="59389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Достопримечательности города Новгор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716360" y="1484280"/>
            <a:ext cx="3754440" cy="3722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3024000" cy="22575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1258920" y="4005360"/>
            <a:ext cx="2135160" cy="2376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351440" y="6154560"/>
            <a:ext cx="204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овгородск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крем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8760" y="3284640"/>
            <a:ext cx="419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Церковь Спаса Преображ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а Ильи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36320" y="5291280"/>
            <a:ext cx="330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амятник «Тысячелет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Росси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17:01:32Z</dcterms:created>
  <dc:creator>User</dc:creator>
  <dc:description/>
  <dc:language>en-US</dc:language>
  <cp:lastModifiedBy>1</cp:lastModifiedBy>
  <dcterms:modified xsi:type="dcterms:W3CDTF">2011-11-04T16:00:47Z</dcterms:modified>
  <cp:revision>15</cp:revision>
  <dc:subject/>
  <dc:title>Задание I уровня.</dc:title>
</cp:coreProperties>
</file>