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8623-FAAA-4272-BDF7-31F82EE90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3110-310C-4811-BAF2-ADC239ED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7451-7522-40BF-951B-2587DF076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A976-22A0-48EF-BE67-4FA6C4365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BF3F-F049-4F64-85C0-41A0121EC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D4280-2EAB-434D-A2AB-CE26EC568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10176-3488-4936-A865-B62493B9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3567-ACA2-402C-ABCC-3ED3E47F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E36DB-4E31-48A6-8B1A-77B5EEC8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66777-6B73-48EF-A497-0D0659AF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AAB2-10EF-46E1-8873-8347185EB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BB09-4890-4163-844D-900C02BA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22D15-2190-499E-8EB4-51097DED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DD96C-6D57-462C-B2F2-4C005AC2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DCC3C-FE48-4A48-B28F-431AC67C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4D3A1-C45A-439A-AF4A-29D10E1DA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967B-278F-486D-8630-BD97A3EA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831-1DA4-44CE-9E37-0132D0AD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DE14-4D79-47DB-AA1D-05E91A9E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9F01-4CD8-47A3-B8CA-9998E2CE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057D-69D5-463A-A5BD-C374A10DC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722-9206-4A94-BF2E-960E1B9C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F1A-302D-494A-BB9B-CB8E88FC0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A0D-CA07-4BB8-A916-BC3549BD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0DB90-FDAB-452F-A3E0-E6118EEBEA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66D1-A83B-443B-9DEF-E03222F42E0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МОУ СОШ №15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Проект по математике  </a:t>
            </a:r>
            <a:r>
              <a:rPr b="1" i="1" lang="en-US" sz="3600" spc="-1" strike="noStrike">
                <a:solidFill>
                  <a:srgbClr val="ffffff"/>
                </a:solidFill>
                <a:latin typeface="Verdana"/>
              </a:rPr>
              <a:t>«Путешествие по городам России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Тема: </a:t>
            </a: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Масштаб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втор: ученица 6б класса </a:t>
            </a: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Воронова Ангелин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Verdana"/>
              </a:rPr>
              <a:t>                      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ёт расстояния от Новгорода до пункта прибыт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Масштаб карты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см-85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местности 510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см-85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Х см- 510 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усть х см расстояние между городами на карте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1:х=85:510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Х =6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твет: расстояние между городами на карте 6с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ункт прибытия: город Волог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На карте на 6см к востоку от Новгорода находится город Вологд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2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- 510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поезда - 9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510:90=5,6 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Новгорода до Вологды 5,6час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Город Вологд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Год основания: 1147г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Центр Вологодской об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Расположен в Присухонской низине в 497 км к северо-востоку от Москв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селение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301,2 тыс. чел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457200" y="1600200"/>
            <a:ext cx="4038480" cy="4133880"/>
            <a:chOff x="457200" y="1600200"/>
            <a:chExt cx="4038480" cy="413388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 txBox="1"/>
            <p:nvPr/>
          </p:nvSpPr>
          <p:spPr>
            <a:xfrm>
              <a:off x="457200" y="1600200"/>
              <a:ext cx="4038480" cy="413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8" name=""/>
          <p:cNvSpPr/>
          <p:nvPr/>
        </p:nvSpPr>
        <p:spPr>
          <a:xfrm>
            <a:off x="837360" y="5794200"/>
            <a:ext cx="15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Белый д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стопримечательности Вологд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0" y="1844640"/>
            <a:ext cx="4038480" cy="4349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179280" y="3933720"/>
            <a:ext cx="4038840" cy="2189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-64800" y="6154560"/>
            <a:ext cx="25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ряничный доми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37800" y="6154560"/>
            <a:ext cx="239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Софийский соб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250920" y="1197000"/>
            <a:ext cx="3467160" cy="2016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4400" y="3130560"/>
            <a:ext cx="400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Спасо - Прилуцкий монастыр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аршрутный лист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нкт отправления: Санкт- Петербург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ересадка: Новгород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ункт прибытия: Вологд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щее расстояние путешествия: 120+510=630км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бщее время путешествия: 2+5,6=7,6часов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Задание </a:t>
            </a: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уровня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асладившись прекрасной экспозицией Эрмитажа, отправляемся в город, где собиралось народное вече, а затем на 510 км к востоку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ассчитать общее расстояние путешествия, время движения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Карта путешеств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292720" y="1599840"/>
            <a:ext cx="3394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ункт отправления: город Санкт- Петербург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Пункт пересадки: город Новгород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5041800" cy="35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ункт отправления- Санкт- Петербург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Историческая справ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Основан Петром Первым. В 1712-1728 и 1732-1918 – столица России. В городе произошли Февральская(1916) и Октябрьская (1917) революции. В годы Великой Отечественной войны город выдержал 900-дневную блокаду. В 1945 году присвоено звание города-героя. В Санкт-Петербурге расположены выдающиеся архитектурные ансамбли 18-19 веков: Петропавловская крепость, Александро-Невская лавра, стрелка Васильевского острова, Дворцовая площадь с Зимним дворцом, Александрийской колонной, памятник Петру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i="1" lang="ru-RU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Год основания:1703 г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лощадь:605,8 кв.к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Население:4 624тыс.чел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стопримечательности Санкт- Петербург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879480" y="1600200"/>
            <a:ext cx="3192480" cy="4530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49680" y="6154560"/>
            <a:ext cx="23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Памятник Петру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7800" y="6154560"/>
            <a:ext cx="348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Александрийская колон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расстояния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т Санкт- Петербурга до Новгород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Масштаб карты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см – 6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стояние между городами на карте 2с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краткую запись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см    – 6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2см – х 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Пусть х км расстояние между городами на местност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Составим пропорцию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1:2=60:х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Х = 120к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Расстояние от Санкт- Петербурга до Новгорода 120 км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Расчет времени передвижения 1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Расстояние - 120к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корость автобуса - 60 км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Время - ? 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20:60=2 (ч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твет: время движения от Санкт- Петербурга до Новгорода 2 час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ункт пересадки: город Новго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Историческая справка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Был расположен на стыке путей «из варяг в греки». Развивались ремесла (обработка дерева, кожи, железа), торговля, культур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Год основания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i="1" lang="en-US" sz="2000" spc="-1" strike="noStrike">
                <a:solidFill>
                  <a:srgbClr val="ffffff"/>
                </a:solidFill>
                <a:latin typeface="Verdana"/>
              </a:rPr>
              <a:t>Впервые упомянут в Новгородской летописи  859 годом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ластной центр Новгородской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области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лощадь: 8829га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селение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30,6 тыс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457200" y="1600200"/>
            <a:ext cx="4038480" cy="4530600"/>
            <a:chOff x="457200" y="1600200"/>
            <a:chExt cx="4038480" cy="453060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4038480" cy="453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 txBox="1"/>
            <p:nvPr/>
          </p:nvSpPr>
          <p:spPr>
            <a:xfrm>
              <a:off x="457200" y="1600200"/>
              <a:ext cx="4038480" cy="4530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ffff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92200" y="593892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Достопримечательности города Новгород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716360" y="1484280"/>
            <a:ext cx="3754440" cy="372276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3024000" cy="225756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1258920" y="4005360"/>
            <a:ext cx="2135160" cy="2376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1351440" y="6154560"/>
            <a:ext cx="204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овгородский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кремл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8760" y="3284640"/>
            <a:ext cx="4195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Церковь Спаса Преобра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На Ильин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36320" y="5291280"/>
            <a:ext cx="3301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Памятник «Тысячелети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Росси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17:01:32Z</dcterms:created>
  <dc:creator>User</dc:creator>
  <dc:description/>
  <dc:language>en-US</dc:language>
  <cp:lastModifiedBy>1</cp:lastModifiedBy>
  <dcterms:modified xsi:type="dcterms:W3CDTF">2011-11-04T16:00:47Z</dcterms:modified>
  <cp:revision>15</cp:revision>
  <dc:subject/>
  <dc:title>Задание I уровня.</dc:title>
</cp:coreProperties>
</file>