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9CB9-1CE0-4811-9471-4C62E1C0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6ACF-F3ED-4C66-8A29-E1856201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F45-D959-4105-85E5-A62481E3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604-B7B7-467A-90E4-8216BEC3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A5EC-61D7-44B1-8C9F-A1E20A0F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CFA-DA40-4F51-A7A7-EB3C6ADD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809-1021-4052-9C19-F694667B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29B-1075-43A7-A4E7-98604D70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0AC-3E03-4E9E-B965-7A4505C3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291-2A03-4439-8F91-06FA94A4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D48-B351-46FA-8209-90DEE706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721-9ED8-4902-BCCB-ABABB4C4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1FE6-9646-4601-A707-731429381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завиток.jpg"/>
          <p:cNvPicPr/>
          <p:nvPr/>
        </p:nvPicPr>
        <p:blipFill>
          <a:blip r:embed="rId4"/>
          <a:stretch/>
        </p:blipFill>
        <p:spPr>
          <a:xfrm>
            <a:off x="158760" y="171360"/>
            <a:ext cx="8802720" cy="651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azdnichek.info/uploads/posts/2010-04/1271883550_img219.jpg" TargetMode="External"/><Relationship Id="rId3" Type="http://schemas.openxmlformats.org/officeDocument/2006/relationships/hyperlink" Target="http://www.stihi.ru/2011/07/24/6234" TargetMode="External"/><Relationship Id="rId4" Type="http://schemas.openxmlformats.org/officeDocument/2006/relationships/hyperlink" Target="http://adgustum.ru/products_pictures/04-039.jpg" TargetMode="External"/><Relationship Id="rId5" Type="http://schemas.openxmlformats.org/officeDocument/2006/relationships/hyperlink" Target="http://www.drawinghowtodraw.com/drawing-lessons/drawing-animals-creatures-lessons/images/howto-draw-penguins-tutorials_html_5e15db1a.jpg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011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70c0"/>
                </a:solidFill>
                <a:latin typeface="Monotype Corsiva"/>
                <a:ea typeface="Arial"/>
              </a:rPr>
              <a:t>Пингви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95640" y="270828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2700360" y="333360"/>
            <a:ext cx="38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ОУ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куловская 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рхнеуслон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ског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униципального 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771640" y="5516640"/>
            <a:ext cx="39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Автор - 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хиреева Роза Гильф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6" descr="1271883550_img219.jpg"/>
          <p:cNvPicPr/>
          <p:nvPr/>
        </p:nvPicPr>
        <p:blipFill>
          <a:blip r:embed="rId2"/>
          <a:stretch/>
        </p:blipFill>
        <p:spPr>
          <a:xfrm>
            <a:off x="1979640" y="3068640"/>
            <a:ext cx="53658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Используемые 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prazdnichek.info/uploads/posts/2010-04/1271883550_img219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пингвины с рыб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www.stihi.ru/2011/07/24/6234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загад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4"/>
              </a:rPr>
              <a:t>http://adgustum.ru/products_pictures/04-039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пингв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5"/>
              </a:rPr>
              <a:t>http://www.drawinghowtodraw.com/drawing-lessons/drawing-animals-creatures-lessons/images/howto-draw-penguins-tutorials_html_5e15db1a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пингвин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49800585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28678925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11559490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05453986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40121888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24000" y="404640"/>
            <a:ext cx="531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летающая птиц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ь камней она гнездится.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ыряльщик, и пловец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анчоусов ловец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перевалочку походк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акул она находка –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способленность к вод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гает не везд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рослой ей  не страшен холод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 согреться, те, кто молод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старшим жмутся неспрост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чась в складках живот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ит с гор кататься птица –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стрела на брюхе мчится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т плавать, как дельфин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зовут е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04-039.jpg"/>
          <p:cNvPicPr/>
          <p:nvPr/>
        </p:nvPicPr>
        <p:blipFill>
          <a:blip r:embed="rId2"/>
          <a:stretch/>
        </p:blipFill>
        <p:spPr>
          <a:xfrm>
            <a:off x="4932360" y="1844640"/>
            <a:ext cx="37036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348000" y="549360"/>
            <a:ext cx="554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пингвина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howto-draw-penguins-tutorials_html_5e15db1a.jpg"/>
          <p:cNvPicPr/>
          <p:nvPr/>
        </p:nvPicPr>
        <p:blipFill>
          <a:blip r:embed="rId2"/>
          <a:stretch/>
        </p:blipFill>
        <p:spPr>
          <a:xfrm>
            <a:off x="250920" y="907920"/>
            <a:ext cx="33843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333360"/>
            <a:ext cx="52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Этап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листе бумаги рисуем два овала: большой – это туловище пингвина, маленький – его голов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s49800585.jpg"/>
          <p:cNvPicPr/>
          <p:nvPr/>
        </p:nvPicPr>
        <p:blipFill>
          <a:blip r:embed="rId2"/>
          <a:stretch/>
        </p:blipFill>
        <p:spPr>
          <a:xfrm>
            <a:off x="5508720" y="206280"/>
            <a:ext cx="309564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427640" y="404640"/>
            <a:ext cx="432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Этап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мечаем место расположения клюва, живота и лап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s28678925.jpg"/>
          <p:cNvPicPr/>
          <p:nvPr/>
        </p:nvPicPr>
        <p:blipFill>
          <a:blip r:embed="rId2"/>
          <a:stretch/>
        </p:blipFill>
        <p:spPr>
          <a:xfrm>
            <a:off x="826920" y="333360"/>
            <a:ext cx="360072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643280" y="333360"/>
            <a:ext cx="41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Этап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вными линиями соединяем голову с туловищем. Эта получилась шея нашего пингвина. По бокам рисуем крылья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s11559490.jpg"/>
          <p:cNvPicPr/>
          <p:nvPr/>
        </p:nvPicPr>
        <p:blipFill>
          <a:blip r:embed="rId2"/>
          <a:stretch/>
        </p:blipFill>
        <p:spPr>
          <a:xfrm>
            <a:off x="468360" y="231840"/>
            <a:ext cx="4248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4716360" y="620640"/>
            <a:ext cx="403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Этап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один из наиболее важных. Прорисовываем детали клюва и лапок. Добавляем глаза, брови и хохолок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s05453986.jpg"/>
          <p:cNvPicPr/>
          <p:nvPr/>
        </p:nvPicPr>
        <p:blipFill>
          <a:blip r:embed="rId2"/>
          <a:stretch/>
        </p:blipFill>
        <p:spPr>
          <a:xfrm>
            <a:off x="539640" y="184320"/>
            <a:ext cx="410364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24000" y="26028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Этап 5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ираем все вспомогательные и уже не нужные нам линии. Теперь можно обвести пингвина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s40121888.jpg"/>
          <p:cNvPicPr/>
          <p:nvPr/>
        </p:nvPicPr>
        <p:blipFill>
          <a:blip r:embed="rId2"/>
          <a:stretch/>
        </p:blipFill>
        <p:spPr>
          <a:xfrm>
            <a:off x="2843280" y="1557360"/>
            <a:ext cx="33130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howto-draw-penguins-tutorials_html_5e15db1a.jpg"/>
          <p:cNvPicPr/>
          <p:nvPr/>
        </p:nvPicPr>
        <p:blipFill>
          <a:blip r:embed="rId2"/>
          <a:stretch/>
        </p:blipFill>
        <p:spPr>
          <a:xfrm>
            <a:off x="2700360" y="1268280"/>
            <a:ext cx="3384360" cy="54421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1403280" y="404640"/>
            <a:ext cx="65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ш пингвин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09:24:15Z</dcterms:created>
  <dc:creator>Компас</dc:creator>
  <dc:description/>
  <dc:language>en-US</dc:language>
  <cp:lastModifiedBy>Admin</cp:lastModifiedBy>
  <dcterms:modified xsi:type="dcterms:W3CDTF">2015-01-08T17:01:06Z</dcterms:modified>
  <cp:revision>6</cp:revision>
  <dc:subject/>
  <dc:title>Пингвин</dc:title>
</cp:coreProperties>
</file>