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4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1F1-E1F3-4325-84DD-F254CE73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2C5-9729-41F6-B70D-AE6BEE4C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A9D-5E7D-4D15-94C0-5AFA07B1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4BC-EC53-48D3-83D0-5F669367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68C-62DE-412E-9786-305B21E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C1F-5599-4D3F-8353-D4042611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C3E-6740-43CD-8F68-043AF57A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D44-9A23-4D23-AA0D-2B756FCE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FF7-B5C7-483F-A460-72A51729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872-9C54-402B-9449-8F43D0C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D9A-DD08-40E1-8197-6812EFE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E58-5C8D-4430-8B4A-2069276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F6DC-3192-4FA7-A728-FDF2B15BEA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39D3-2E19-4BD6-B976-1E59940FA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2000" y="1989000"/>
            <a:ext cx="77151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класс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.С. Тургенев «Воробей»</a:t>
            </a:r>
            <a:br>
              <a:rPr sz="40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гимназии №33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. Краснода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ова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6D0-6AF4-4D1B-88AE-3788B40A6D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32D9-04EC-4E60-9F86-97A9816CA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5351-7E44-4753-9F84-DEF106D3EB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A66F-8B92-4B3F-9163-3D55E4657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1\Documents\zapiski-ohotnika.jpg"/>
          <p:cNvPicPr/>
          <p:nvPr/>
        </p:nvPicPr>
        <p:blipFill>
          <a:blip r:embed="rId1"/>
          <a:stretch/>
        </p:blipFill>
        <p:spPr>
          <a:xfrm>
            <a:off x="324000" y="836640"/>
            <a:ext cx="2438280" cy="30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1\Documents\15906.jpg"/>
          <p:cNvPicPr/>
          <p:nvPr/>
        </p:nvPicPr>
        <p:blipFill>
          <a:blip r:embed="rId2"/>
          <a:stretch/>
        </p:blipFill>
        <p:spPr>
          <a:xfrm>
            <a:off x="2762280" y="592200"/>
            <a:ext cx="2170080" cy="326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1\Documents\бежий_луг.jpg"/>
          <p:cNvPicPr/>
          <p:nvPr/>
        </p:nvPicPr>
        <p:blipFill>
          <a:blip r:embed="rId3"/>
          <a:stretch/>
        </p:blipFill>
        <p:spPr>
          <a:xfrm>
            <a:off x="4716360" y="592200"/>
            <a:ext cx="2427480" cy="3263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1\Documents\images (1).jpg"/>
          <p:cNvPicPr/>
          <p:nvPr/>
        </p:nvPicPr>
        <p:blipFill>
          <a:blip r:embed="rId4"/>
          <a:stretch/>
        </p:blipFill>
        <p:spPr>
          <a:xfrm>
            <a:off x="7143840" y="592200"/>
            <a:ext cx="1820880" cy="32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артинки по запросу картинки произведения  тургенева"/>
          <p:cNvPicPr/>
          <p:nvPr/>
        </p:nvPicPr>
        <p:blipFill>
          <a:blip r:embed="rId5"/>
          <a:stretch/>
        </p:blipFill>
        <p:spPr>
          <a:xfrm>
            <a:off x="324000" y="3843360"/>
            <a:ext cx="2438280" cy="291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Картинки по запросу картинки произведения  тургенева"/>
          <p:cNvPicPr/>
          <p:nvPr/>
        </p:nvPicPr>
        <p:blipFill>
          <a:blip r:embed="rId6"/>
          <a:stretch/>
        </p:blipFill>
        <p:spPr>
          <a:xfrm>
            <a:off x="2784600" y="3860640"/>
            <a:ext cx="2147760" cy="299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Картинки по запросу картинки произведения  тургенева"/>
          <p:cNvPicPr/>
          <p:nvPr/>
        </p:nvPicPr>
        <p:blipFill>
          <a:blip r:embed="rId7"/>
          <a:stretch/>
        </p:blipFill>
        <p:spPr>
          <a:xfrm>
            <a:off x="4932360" y="3900600"/>
            <a:ext cx="2211480" cy="29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Картинки по запросу картинки произведения  тургенева"/>
          <p:cNvPicPr/>
          <p:nvPr/>
        </p:nvPicPr>
        <p:blipFill>
          <a:blip r:embed="rId8"/>
          <a:stretch/>
        </p:blipFill>
        <p:spPr>
          <a:xfrm>
            <a:off x="7143840" y="3860640"/>
            <a:ext cx="18208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ЛЕ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ТИЩЕ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РТВОВАТЬ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ЛАГОГОВЕ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ЛЕЯ – дорога с рядами деревьев, посаженными по обеим ее сторо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ЩЕ – то же, что и ребенок (сын или дочь) (уста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РТВОВАТЬ – подвергать опасности; поступаться кем-, чем-нибудь, ради кого-, чего-нибу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ГОВЕТЬ – относиться с глубочайшим почтением; очень сильно люб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1\Documents\domovoj-vorobej-opisanie-foto-i-video-animalreader.ru-001.jpg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россвор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7D4-0EBA-43B9-8235-E47B8BF620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637-F44A-425B-AE33-9D89B4B38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личка собаки охо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003F-2C14-4670-9EA2-4EF7D8EDF0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DF28-B788-44F1-BC33-6E2BE7C31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тичка-невеличк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жки имеет, а ходить не уме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6913-B857-4B90-AD78-FAEB724D87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43C4-A023-4B35-A858-2D4D8605D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увство, заставившее воробь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ртвовать соб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1B33-0E4F-48DF-BB86-86C0CA194A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28CE-BBCD-4110-A36C-E7744AB0E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амилия охот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E2A6-C270-460B-9E1A-C8F5263291A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16AD-9129-413F-A204-07ED04F01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8E53-1D28-4BEF-A57F-BACFD96D80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EC20-9810-462C-A81B-76DF45F0D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97D3-E057-4D3C-8289-95B9A23F4A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37C0-7E8C-483C-9B56-59401567C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1\Documents\zimuyushhie-i-perelyotnye-pticy-10.jpg"/>
          <p:cNvPicPr/>
          <p:nvPr/>
        </p:nvPicPr>
        <p:blipFill>
          <a:blip r:embed="rId1"/>
          <a:stretch/>
        </p:blipFill>
        <p:spPr>
          <a:xfrm>
            <a:off x="1911240" y="1413000"/>
            <a:ext cx="5654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обрать пословицы, подтверждаю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ие основную мысль рассказ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 Выполнить рисунок к произведен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691920"/>
            <a:ext cx="8218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- она для всех од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оробья и для сл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раба и для пта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рошечной бука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 у каждого св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 есть к матери, есть к детя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к женщине и есть к мужчин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только та любовь силь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жизнью управлять воль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быть заставит  сильный стр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ересилит смерти ужас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ь за любимого велит отдать 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грозит ему ужасная бе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78FA-7A57-4E95-8BBD-F4367BE393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32BC-65F1-49EE-898F-D54820AC2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211B-49F3-4F36-90B6-1B6593D1DA9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23C7-CA0E-4539-8CBE-28267D852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1\Documents\obrazovanie2_clip.jpg"/>
          <p:cNvPicPr/>
          <p:nvPr/>
        </p:nvPicPr>
        <p:blipFill>
          <a:blip r:embed="rId1"/>
          <a:stretch/>
        </p:blipFill>
        <p:spPr>
          <a:xfrm>
            <a:off x="1332000" y="1101600"/>
            <a:ext cx="619272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бияка и воришка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шу я серое пальтишко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лету хватаю крош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ропущу и мелкой мош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весь день ловлю жуч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летаю червяч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плый край не улета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под крышей обита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к-чирик! Не робей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бывалый….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834-12AF-4E90-A36F-84873652C7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96DD-340C-42ED-B1F6-A3819EB82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1\Documents\vorobej-na-dereve.jpg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Воробей"/>
          <p:cNvPicPr/>
          <p:nvPr/>
        </p:nvPicPr>
        <p:blipFill>
          <a:blip r:embed="rId1"/>
          <a:stretch/>
        </p:blipFill>
        <p:spPr>
          <a:xfrm>
            <a:off x="468360" y="1916280"/>
            <a:ext cx="4219560" cy="35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Обои картинки фото птицы, воробей, ветка"/>
          <p:cNvPicPr/>
          <p:nvPr/>
        </p:nvPicPr>
        <p:blipFill>
          <a:blip r:embed="rId2"/>
          <a:stretch/>
        </p:blipFill>
        <p:spPr>
          <a:xfrm>
            <a:off x="4788000" y="1916280"/>
            <a:ext cx="4032000" cy="3592440"/>
          </a:xfrm>
          <a:prstGeom prst="rect">
            <a:avLst/>
          </a:prstGeom>
          <a:ln w="0">
            <a:noFill/>
          </a:ln>
        </p:spPr>
      </p:pic>
      <p:pic>
        <p:nvPicPr>
          <p:cNvPr id="59" name="Golosa_ptic_-_Vorobej_domovyj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274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ound sparrow, sparrows, sparrow cry - Звук воробья, чириканье воробья, крик воробья.mp4" descr=""/>
          <p:cNvPicPr/>
          <p:nvPr/>
        </p:nvPicPr>
        <p:blipFill>
          <a:blip r:embed="rId1"/>
          <a:stretch/>
        </p:blipFill>
        <p:spPr>
          <a:xfrm>
            <a:off x="947880" y="981000"/>
            <a:ext cx="729612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13164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1320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250px-Turgenev-1914"/>
          <p:cNvPicPr/>
          <p:nvPr/>
        </p:nvPicPr>
        <p:blipFill>
          <a:blip r:embed="rId1"/>
          <a:stretch/>
        </p:blipFill>
        <p:spPr>
          <a:xfrm>
            <a:off x="468360" y="1071720"/>
            <a:ext cx="3583080" cy="46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2286000" y="28288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Тургене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18 – 1883 г.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86000" y="28288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Тургене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18 – 1883 г.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3" descr=""/>
          <p:cNvPicPr/>
          <p:nvPr/>
        </p:nvPicPr>
        <p:blipFill>
          <a:blip r:embed="rId2"/>
          <a:stretch/>
        </p:blipFill>
        <p:spPr>
          <a:xfrm>
            <a:off x="4054320" y="1627200"/>
            <a:ext cx="4619880" cy="2554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4572000" y="4583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12745"/>
                </a:solidFill>
                <a:latin typeface="Trebuchet MS"/>
              </a:rPr>
              <a:t>«ВОРОБЕ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B657-7FEC-46DB-B780-D77E0DC048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D38E-2A19-494E-AD79-A7F39079D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ser\Desktop\усадьба\0003-003-Spasskoe-Lutovinovo.jpg"/>
          <p:cNvPicPr/>
          <p:nvPr/>
        </p:nvPicPr>
        <p:blipFill>
          <a:blip r:embed="rId1"/>
          <a:stretch/>
        </p:blipFill>
        <p:spPr>
          <a:xfrm>
            <a:off x="1116000" y="99540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55:14Z</dcterms:created>
  <dc:creator>Sergey</dc:creator>
  <dc:description>http://aida.ucoz.ru</dc:description>
  <dc:language>en-US</dc:language>
  <cp:lastModifiedBy>Олег</cp:lastModifiedBy>
  <dcterms:modified xsi:type="dcterms:W3CDTF">2018-07-23T13:10:56Z</dcterms:modified>
  <cp:revision>41</cp:revision>
  <dc:subject/>
  <dc:title>Совершенствование техники чтения у младших школьников.</dc:title>
</cp:coreProperties>
</file>