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9.png" ContentType="image/png"/>
  <Override PartName="/ppt/media/image5.gif" ContentType="image/gif"/>
  <Override PartName="/ppt/media/image14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4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D09-03B9-4BE0-A59A-EE8D967D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13B-1B42-4C2E-BED1-D359F76D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DFD-27EE-4264-8DA6-DFC5B3FD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59BB-C554-40D7-AB2F-79BBE5AD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397-FD9B-487F-B744-297C992D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169-8251-44F0-AFB1-0D76BA2F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E2B-D1DA-46C2-B25A-C7AC4B55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1EC-4916-472F-BAC4-29EC27EA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75E-7527-4BAB-87DE-FB279D61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5C7-D30A-4C0A-8D03-DBCFB53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743-8469-4E6D-BD03-C6D00CAE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8A8-819A-4DA1-8C08-7BB0B1F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FBE1-4D60-44F5-8F34-E5D4D444B47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B201-C912-4724-8407-D83894204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2000" y="1989000"/>
            <a:ext cx="77151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литературного чт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класс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.С. Тургенев «Воробей»</a:t>
            </a:r>
            <a:br>
              <a:rPr sz="40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гимназии №33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. Краснода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ова В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1298-4F1C-4448-A077-BB6ABD36C2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A530-F747-4F59-99C2-02ACE173CC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41B8-24E1-4B60-8BF5-6E57F02E22D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AE13-F38B-494E-9CA7-968436E72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Users\1\Documents\zapiski-ohotnika.jpg"/>
          <p:cNvPicPr/>
          <p:nvPr/>
        </p:nvPicPr>
        <p:blipFill>
          <a:blip r:embed="rId1"/>
          <a:stretch/>
        </p:blipFill>
        <p:spPr>
          <a:xfrm>
            <a:off x="324000" y="836640"/>
            <a:ext cx="2438280" cy="3024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1\Documents\15906.jpg"/>
          <p:cNvPicPr/>
          <p:nvPr/>
        </p:nvPicPr>
        <p:blipFill>
          <a:blip r:embed="rId2"/>
          <a:stretch/>
        </p:blipFill>
        <p:spPr>
          <a:xfrm>
            <a:off x="2762280" y="592200"/>
            <a:ext cx="2170080" cy="326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C:\Users\1\Documents\бежий_луг.jpg"/>
          <p:cNvPicPr/>
          <p:nvPr/>
        </p:nvPicPr>
        <p:blipFill>
          <a:blip r:embed="rId3"/>
          <a:stretch/>
        </p:blipFill>
        <p:spPr>
          <a:xfrm>
            <a:off x="4716360" y="592200"/>
            <a:ext cx="2427480" cy="3263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C:\Users\1\Documents\images (1).jpg"/>
          <p:cNvPicPr/>
          <p:nvPr/>
        </p:nvPicPr>
        <p:blipFill>
          <a:blip r:embed="rId4"/>
          <a:stretch/>
        </p:blipFill>
        <p:spPr>
          <a:xfrm>
            <a:off x="7143840" y="592200"/>
            <a:ext cx="1820880" cy="32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Картинки по запросу картинки произведения  тургенева"/>
          <p:cNvPicPr/>
          <p:nvPr/>
        </p:nvPicPr>
        <p:blipFill>
          <a:blip r:embed="rId5"/>
          <a:stretch/>
        </p:blipFill>
        <p:spPr>
          <a:xfrm>
            <a:off x="324000" y="3843360"/>
            <a:ext cx="2438280" cy="291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Картинки по запросу картинки произведения  тургенева"/>
          <p:cNvPicPr/>
          <p:nvPr/>
        </p:nvPicPr>
        <p:blipFill>
          <a:blip r:embed="rId6"/>
          <a:stretch/>
        </p:blipFill>
        <p:spPr>
          <a:xfrm>
            <a:off x="2784600" y="3860640"/>
            <a:ext cx="2147760" cy="299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Картинки по запросу картинки произведения  тургенева"/>
          <p:cNvPicPr/>
          <p:nvPr/>
        </p:nvPicPr>
        <p:blipFill>
          <a:blip r:embed="rId7"/>
          <a:stretch/>
        </p:blipFill>
        <p:spPr>
          <a:xfrm>
            <a:off x="4932360" y="3900600"/>
            <a:ext cx="2211480" cy="295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Картинки по запросу картинки произведения  тургенева"/>
          <p:cNvPicPr/>
          <p:nvPr/>
        </p:nvPicPr>
        <p:blipFill>
          <a:blip r:embed="rId8"/>
          <a:stretch/>
        </p:blipFill>
        <p:spPr>
          <a:xfrm>
            <a:off x="7143840" y="3860640"/>
            <a:ext cx="18208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ЛЕЯ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ТИЩЕ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РТВОВАТЬ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ЛАГОГОВЕ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ЛЕЯ – дорога с рядами деревьев, посаженными по обеим ее сторон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ИЩЕ – то же, что и ребенок (сын или дочь) (уста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РТВОВАТЬ – подвергать опасности; поступаться кем-, чем-нибудь, ради кого-, чего-нибуд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ЛАГОГОВЕТЬ – относиться с глубочайшим почтением; очень сильно люб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1\Documents\domovoj-vorobej-opisanie-foto-i-video-animalreader.ru-001.jpg"/>
          <p:cNvPicPr/>
          <p:nvPr/>
        </p:nvPicPr>
        <p:blipFill>
          <a:blip r:embed="rId1"/>
          <a:stretch/>
        </p:blipFill>
        <p:spPr>
          <a:xfrm>
            <a:off x="1042920" y="1341360"/>
            <a:ext cx="676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россвор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0281-3341-4D45-BFAD-4496A24D50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8C15-8050-4384-8757-40F1F78A5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личка собаки охо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2CD0-FEB6-4470-B104-EAC7743F17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1A7F-4F3D-4336-ABC5-CAB40CD5F0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Птичка-невеличк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жки имеет, а ходить не уме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4FAB-B808-45D4-A3C4-D04A8B0FAF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D8D6-25D6-4619-B563-10851D2191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Чувство, заставившее воробь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ртвовать соб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9D52-5632-4DCC-8CB3-E99538827F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5D8B-4E4C-4ADD-B274-30573EE0A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Фамилия охот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D054-FB70-4BD7-A747-4526CF1D42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C6FC-FEDE-4837-9BDA-4E09E9D3C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165-3B02-4274-8589-161EC247EF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E281-F129-446E-A057-3F89EDC10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Содержимое 6"/>
          <p:cNvGraphicFramePr/>
          <p:nvPr/>
        </p:nvGraphicFramePr>
        <p:xfrm>
          <a:off x="1965240" y="1876320"/>
          <a:ext cx="527076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876320"/>
                    <a:ext cx="527076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354C-E57D-44BD-A682-48C223EBC52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83F9-9373-49DE-9C8D-A49EB4B14A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1\Documents\zimuyushhie-i-perelyotnye-pticy-10.jpg"/>
          <p:cNvPicPr/>
          <p:nvPr/>
        </p:nvPicPr>
        <p:blipFill>
          <a:blip r:embed="rId1"/>
          <a:stretch/>
        </p:blipFill>
        <p:spPr>
          <a:xfrm>
            <a:off x="1911240" y="1413000"/>
            <a:ext cx="5654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обрать пословицы, подтверждаю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ие основную мысль рассказ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 Выполнить рисунок к произведен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6840" y="691920"/>
            <a:ext cx="8218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вь- она для всех од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воробья и для сл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раба и для пта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рошечной бука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вь у каждого св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юбовь есть к матери, есть к детя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ть к женщине и есть к мужчин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только та любовь силь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жизнью управлять воль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быть заставит  сильный стра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ересилит смерти ужас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знь за любимого велит отдать тог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грозит ему ужасная бе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DF6D-BE98-45C8-9AC7-97E6D8641F1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B1E2-30BC-48D7-B88F-F30B6F12AE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имующие п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D3BD-CBEE-48FE-9EE3-83FB0664289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6675-04F0-4C6F-9E52-2707BB0889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1\Documents\obrazovanie2_clip.jpg"/>
          <p:cNvPicPr/>
          <p:nvPr/>
        </p:nvPicPr>
        <p:blipFill>
          <a:blip r:embed="rId1"/>
          <a:stretch/>
        </p:blipFill>
        <p:spPr>
          <a:xfrm>
            <a:off x="1332000" y="1101600"/>
            <a:ext cx="619272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55700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бияка и воришка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шу я серое пальтишко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лету хватаю крош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ропущу и мелкой мош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весь день ловлю жуч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летаю червяч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плый край не улета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под крышей обита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к-чирик! Не робей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 бывалый….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109-147A-4A68-B0D5-1F83DB6C10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40CE-E581-4751-8BA8-D89F70578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1\Documents\vorobej-na-dereve.jpg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Воробей"/>
          <p:cNvPicPr/>
          <p:nvPr/>
        </p:nvPicPr>
        <p:blipFill>
          <a:blip r:embed="rId1"/>
          <a:stretch/>
        </p:blipFill>
        <p:spPr>
          <a:xfrm>
            <a:off x="468360" y="1916280"/>
            <a:ext cx="4219560" cy="35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Обои картинки фото птицы, воробей, ветка"/>
          <p:cNvPicPr/>
          <p:nvPr/>
        </p:nvPicPr>
        <p:blipFill>
          <a:blip r:embed="rId2"/>
          <a:stretch/>
        </p:blipFill>
        <p:spPr>
          <a:xfrm>
            <a:off x="4788000" y="1916280"/>
            <a:ext cx="4032000" cy="3592440"/>
          </a:xfrm>
          <a:prstGeom prst="rect">
            <a:avLst/>
          </a:prstGeom>
          <a:ln w="0">
            <a:noFill/>
          </a:ln>
        </p:spPr>
      </p:pic>
      <p:pic>
        <p:nvPicPr>
          <p:cNvPr id="59" name="Golosa_ptic_-_Vorobej_domovyj.mp3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274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ound sparrow, sparrows, sparrow cry - Звук воробья, чириканье воробья, крик воробья.mp4" descr=""/>
          <p:cNvPicPr/>
          <p:nvPr/>
        </p:nvPicPr>
        <p:blipFill>
          <a:blip r:embed="rId1"/>
          <a:stretch/>
        </p:blipFill>
        <p:spPr>
          <a:xfrm>
            <a:off x="947880" y="981000"/>
            <a:ext cx="7296120" cy="54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13164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1320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250px-Turgenev-1914"/>
          <p:cNvPicPr/>
          <p:nvPr/>
        </p:nvPicPr>
        <p:blipFill>
          <a:blip r:embed="rId1"/>
          <a:stretch/>
        </p:blipFill>
        <p:spPr>
          <a:xfrm>
            <a:off x="468360" y="1071720"/>
            <a:ext cx="3583080" cy="4643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2286000" y="282888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Тургене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18 – 1883 г.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286000" y="282888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Тургене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18 – 1883 г.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3" descr=""/>
          <p:cNvPicPr/>
          <p:nvPr/>
        </p:nvPicPr>
        <p:blipFill>
          <a:blip r:embed="rId2"/>
          <a:stretch/>
        </p:blipFill>
        <p:spPr>
          <a:xfrm>
            <a:off x="4054320" y="1627200"/>
            <a:ext cx="4619880" cy="2554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4572000" y="45831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12745"/>
                </a:solidFill>
                <a:latin typeface="Trebuchet MS"/>
              </a:rPr>
              <a:t>«ВОРОБЕЙ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EBB4-4925-4503-A844-EE03481E6F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D186-2715-4B3E-9868-60F8969AA8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user\Desktop\усадьба\0003-003-Spasskoe-Lutovinovo.jpg"/>
          <p:cNvPicPr/>
          <p:nvPr/>
        </p:nvPicPr>
        <p:blipFill>
          <a:blip r:embed="rId1"/>
          <a:stretch/>
        </p:blipFill>
        <p:spPr>
          <a:xfrm>
            <a:off x="1116000" y="99540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55:14Z</dcterms:created>
  <dc:creator>Sergey</dc:creator>
  <dc:description>http://aida.ucoz.ru</dc:description>
  <dc:language>en-US</dc:language>
  <cp:lastModifiedBy>Олег</cp:lastModifiedBy>
  <dcterms:modified xsi:type="dcterms:W3CDTF">2018-07-23T13:10:56Z</dcterms:modified>
  <cp:revision>41</cp:revision>
  <dc:subject/>
  <dc:title>Совершенствование техники чтения у младших школьников.</dc:title>
</cp:coreProperties>
</file>