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4DF-D137-43A9-9D84-93606FCD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663-8EAA-450E-9964-09860548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264-373F-42BA-BC46-2CB7EC0A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4AE-A0C3-4BCC-B8E7-C8998683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1044-E0E5-48E0-9ACD-11BD686D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8C2E-DADB-4991-8524-869DCDE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1ECF-4FF0-4684-94C0-6C9F8F0C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4F0-D858-486D-BC25-60F1A67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EC2-1BF4-425C-B82A-156F954F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06E-AF84-4F01-B19A-AC1E1A9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8112-D0A8-4010-B0AB-906B8E9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AAC-6549-4929-8FA8-6CED2D1E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AE6-266D-43EA-BF0F-C16B4440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CA39-B6D6-435D-9016-F7B79DD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7902-FBF9-4F29-9F46-6CF291F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1F82-56A5-4478-9A2D-299F48AF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1B46-BF14-470F-9618-BB31ADDE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C13-DDA6-4F1F-B72F-591ECC07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22D-8F39-45F2-B764-39A6249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F94-4B26-4BBD-803B-3144CA82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0B8-B24F-48AF-ACDA-1982DC1F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CAA-434D-4A1E-8DAB-B43FBF7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B9D-5247-4A97-BDEF-613847B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2B1-6766-4B6B-A9A5-D5D96A2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361-7EBD-4286-8AFB-8F92E409FAB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3DF3-59D0-4647-938B-3AE1B32114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«Гимназия №33 г. Краснодар»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рок по кубановедению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«Имена героев Великой Отечественной войны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Учитель начальных классов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Попова Виктория Александровна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ревня Альвиди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untitled"/>
          <p:cNvPicPr/>
          <p:nvPr/>
        </p:nvPicPr>
        <p:blipFill>
          <a:blip r:embed="rId1"/>
          <a:stretch/>
        </p:blipFill>
        <p:spPr>
          <a:xfrm>
            <a:off x="755640" y="1125360"/>
            <a:ext cx="73627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1918 г. вступил добровольцем в Красную Арм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ентябре 1925 г. окончил Владикавказскую пехотную шко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39 г. окончил Военную академию имени Фрунз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 Советско-финской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ае 1941 г. его полк переводят в Бр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орона Брестской креп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Рисунок 2" descr="БРЕСТ, ИЮНЬ 41-ГО: НЕМЕЦКИЕ СОЛДАТЫ ВЕДУТ БОЙ. Фото с сайта Victory.rusarchives.ru "/>
          <p:cNvPicPr/>
          <p:nvPr/>
        </p:nvPicPr>
        <p:blipFill>
          <a:blip r:embed="rId1"/>
          <a:stretch/>
        </p:blipFill>
        <p:spPr>
          <a:xfrm>
            <a:off x="755640" y="1252440"/>
            <a:ext cx="7848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орона Брестской креп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Рисунок 5" descr="НЕМЕЦКИЕ ВОЙСКА ВЕДУТ БОЙ У СТЕН БРЕСТСКОЙ КРЕПОСТИ, ИЮНЬ 1941-ОГО, фото сайта victory.rusarchives.ru 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УИНЫ ТЕРЕСПОЛЬСКИХ ВОРОТ,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Рисунок 2" descr="РУИНЫ ТЕРЕСПОЛЬСКИХ ВОРОТ, фото сайта www.brest.by "/>
          <p:cNvPicPr/>
          <p:nvPr/>
        </p:nvPicPr>
        <p:blipFill>
          <a:blip r:embed="rId1"/>
          <a:stretch/>
        </p:blipFill>
        <p:spPr>
          <a:xfrm>
            <a:off x="928800" y="1620720"/>
            <a:ext cx="72151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ГЛАВНЫЙ МОНУМЕНТ МУЗЕЙНОГО КОМПЛЕКСА БРЕСТСКОЙ КРЕПОСТИ, фото сайта www.brest.by "/>
          <p:cNvPicPr/>
          <p:nvPr/>
        </p:nvPicPr>
        <p:blipFill>
          <a:blip r:embed="rId1"/>
          <a:stretch/>
        </p:blipFill>
        <p:spPr>
          <a:xfrm>
            <a:off x="539640" y="909720"/>
            <a:ext cx="7632720" cy="580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472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ГЛАВНЫЙ МОНУМЕНТ МУЗЕЙНОГО КОМПЛЕКСА БРЕСТСКОЙ КРЕПОС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амятник П.М.Гаврилову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Установлен в городе Бресте (Белоруссия) на гарнизонном (мемориальном) кладбище. Установлен в 1981 году. Скульптор В.Летун, архитектор Ю.Казаков. Фото Андрея Мурылева, май 2009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Рисунок 2" descr="Надгробный памятник"/>
          <p:cNvPicPr/>
          <p:nvPr/>
        </p:nvPicPr>
        <p:blipFill>
          <a:blip r:embed="rId1"/>
          <a:stretch/>
        </p:blipFill>
        <p:spPr>
          <a:xfrm>
            <a:off x="1785960" y="1428840"/>
            <a:ext cx="4714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46-1947г. Проживал на родине, затем переехал в Краснод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января 1957 года за образцовое выполнение воинского долга при обороне Брестской крепости в 1941 году и проявленное при этом мужество и героизм присвоено звание Героя Советского Союза с вручением ордена Ленина и медали «Золотая звез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лица названа в честь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.М. Гаврил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i0005rp"/>
          <p:cNvPicPr/>
          <p:nvPr/>
        </p:nvPicPr>
        <p:blipFill>
          <a:blip r:embed="rId1"/>
          <a:stretch/>
        </p:blipFill>
        <p:spPr>
          <a:xfrm>
            <a:off x="1214280" y="1714680"/>
            <a:ext cx="7000920" cy="49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крытие сте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2009 года  средней школе села Конь Пестречинского района Республики Татарстан присвоили имя Героя Петра Михайловича Гаврилова, а в его родном селе открыли ст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стоящее время в школе готовится к открытию школьный муз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. П.М. Гаври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лицы Екатеринода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5" descr="Ул"/>
          <p:cNvPicPr/>
          <p:nvPr/>
        </p:nvPicPr>
        <p:blipFill>
          <a:blip r:embed="rId1"/>
          <a:stretch/>
        </p:blipFill>
        <p:spPr>
          <a:xfrm>
            <a:off x="395280" y="1844640"/>
            <a:ext cx="8280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untitled2"/>
          <p:cNvPicPr/>
          <p:nvPr/>
        </p:nvPicPr>
        <p:blipFill>
          <a:blip r:embed="rId1"/>
          <a:stretch/>
        </p:blipFill>
        <p:spPr>
          <a:xfrm>
            <a:off x="1116000" y="1122480"/>
            <a:ext cx="7166160" cy="5460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700360" y="260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крытие сте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3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untitled4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untitled5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Ул"/>
          <p:cNvPicPr/>
          <p:nvPr/>
        </p:nvPicPr>
        <p:blipFill>
          <a:blip r:embed="rId1"/>
          <a:stretch/>
        </p:blipFill>
        <p:spPr>
          <a:xfrm>
            <a:off x="684360" y="1700280"/>
            <a:ext cx="7705440" cy="473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. Екатерининск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гол ул. Красной и Екатерининс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Угол улиц Красной и Екатерининской (Мира)"/>
          <p:cNvPicPr/>
          <p:nvPr/>
        </p:nvPicPr>
        <p:blipFill>
          <a:blip r:embed="rId1"/>
          <a:stretch/>
        </p:blipFill>
        <p:spPr>
          <a:xfrm>
            <a:off x="611280" y="1619280"/>
            <a:ext cx="78483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. Штабн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Ул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. Краснод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Центр Краснодара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ица Красн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P1050531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Пётр Миха́йлович Гаври́л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00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79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) — советский офицер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майор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герой обороны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Брестской крепост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Герой Советского Союза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57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)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Рисунок 2" descr="Gawrilowbrest.jpg"/>
          <p:cNvPicPr/>
          <p:nvPr/>
        </p:nvPicPr>
        <p:blipFill>
          <a:blip r:embed="rId1"/>
          <a:stretch/>
        </p:blipFill>
        <p:spPr>
          <a:xfrm>
            <a:off x="2411280" y="1268280"/>
            <a:ext cx="4714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лся 17 июня 1900 г в деревне Альвидино Казанской губер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5 лет ушёл в Казань и поступил чернорабоч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4:02:11Z</dcterms:created>
  <dc:creator>л</dc:creator>
  <dc:description/>
  <dc:language>en-US</dc:language>
  <cp:lastModifiedBy>Олег</cp:lastModifiedBy>
  <dcterms:modified xsi:type="dcterms:W3CDTF">2018-07-23T16:27:37Z</dcterms:modified>
  <cp:revision>24</cp:revision>
  <dc:subject/>
  <dc:title>Гаврилов  Пётр Михайлович</dc:title>
</cp:coreProperties>
</file>