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739-9D2E-4C61-8669-12E12449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6BC-3995-4334-8EE2-60E64A82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0E4-44B8-4688-B118-EA1B32A6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0B1-D05B-4282-87E5-7CB9687E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37AB-3CCF-487F-ABDB-0CB1B59A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4A40-EDCB-4493-9BCF-316C052D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489F-DACF-4507-8FC9-9A68F21F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7566-9124-496A-9912-EBA0E264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81BC-9625-4993-A513-02424A1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0C12-8919-446A-8113-9E34B405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0556-EB45-4395-A53C-15CB193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567-0381-48F8-8862-49794B03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E59D-91E4-4CEB-A4C9-33606B5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C5CD-1F50-4138-8F06-2ACE22D4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BF62-74A8-4698-AA70-02364E61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8A54-8D5E-44D9-8B7D-678BF894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8686-E20A-4163-A0E6-D168B0D8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DC3-290A-4BF1-A70A-C98F2844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88B-7899-48CC-B348-7F11C06B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68C-D8D9-4395-A131-16FDD36C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DB6-297E-427A-B468-5DF6617F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2D5-5F33-445A-95D9-EB06A991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8F6-3E10-459C-8F0F-C62356E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BCB-CFA6-41F6-A190-945DAC16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1E84-519C-4781-9A23-BC5CCC1A72C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5B3D-F47E-4DA6-9873-D477D436812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796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«Гимназия №33 г. Краснодар»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рок по кубановедению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«Имена героев Великой Отечественной войны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       Учитель начальных классов</a:t>
            </a: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Попова Виктория Александровна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еревня Альвидин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untitled"/>
          <p:cNvPicPr/>
          <p:nvPr/>
        </p:nvPicPr>
        <p:blipFill>
          <a:blip r:embed="rId1"/>
          <a:stretch/>
        </p:blipFill>
        <p:spPr>
          <a:xfrm>
            <a:off x="755640" y="1125360"/>
            <a:ext cx="736272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ной 1918 г. вступил добровольцем в Красную Арм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ентябре 1925 г. окончил Владикавказскую пехотную шко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39 г. окончил Военную академию имени Фрунз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стник Советско-финской вой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мае 1941 г. его полк переводят в Бр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орона Брестской креп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Рисунок 2" descr="БРЕСТ, ИЮНЬ 41-ГО: НЕМЕЦКИЕ СОЛДАТЫ ВЕДУТ БОЙ. Фото с сайта Victory.rusarchives.ru "/>
          <p:cNvPicPr/>
          <p:nvPr/>
        </p:nvPicPr>
        <p:blipFill>
          <a:blip r:embed="rId1"/>
          <a:stretch/>
        </p:blipFill>
        <p:spPr>
          <a:xfrm>
            <a:off x="755640" y="1252440"/>
            <a:ext cx="7848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борона Брестской креп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Рисунок 5" descr="НЕМЕЦКИЕ ВОЙСКА ВЕДУТ БОЙ У СТЕН БРЕСТСКОЙ КРЕПОСТИ, ИЮНЬ 1941-ОГО, фото сайта victory.rusarchives.ru 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УИНЫ ТЕРЕСПОЛЬСКИХ ВОРОТ,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Рисунок 2" descr="РУИНЫ ТЕРЕСПОЛЬСКИХ ВОРОТ, фото сайта www.brest.by "/>
          <p:cNvPicPr/>
          <p:nvPr/>
        </p:nvPicPr>
        <p:blipFill>
          <a:blip r:embed="rId1"/>
          <a:stretch/>
        </p:blipFill>
        <p:spPr>
          <a:xfrm>
            <a:off x="928800" y="1620720"/>
            <a:ext cx="72151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ГЛАВНЫЙ МОНУМЕНТ МУЗЕЙНОГО КОМПЛЕКСА БРЕСТСКОЙ КРЕПОСТИ, фото сайта www.brest.by "/>
          <p:cNvPicPr/>
          <p:nvPr/>
        </p:nvPicPr>
        <p:blipFill>
          <a:blip r:embed="rId1"/>
          <a:stretch/>
        </p:blipFill>
        <p:spPr>
          <a:xfrm>
            <a:off x="539640" y="909720"/>
            <a:ext cx="7632720" cy="5805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472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ГЛАВНЫЙ МОНУМЕНТ МУЗЕЙНОГО КОМПЛЕКСА БРЕСТСКОЙ КРЕПОС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амятник П.М.Гаврилову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Установлен в городе Бресте (Белоруссия) на гарнизонном (мемориальном) кладбище. Установлен в 1981 году. Скульптор В.Летун, архитектор Ю.Казаков. Фото Андрея Мурылева, май 2009.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Рисунок 2" descr="Надгробный памятник"/>
          <p:cNvPicPr/>
          <p:nvPr/>
        </p:nvPicPr>
        <p:blipFill>
          <a:blip r:embed="rId1"/>
          <a:stretch/>
        </p:blipFill>
        <p:spPr>
          <a:xfrm>
            <a:off x="1785960" y="1428840"/>
            <a:ext cx="47149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46-1947г. Проживал на родине, затем переехал в Краснод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0 января 1957 года за образцовое выполнение воинского долга при обороне Брестской крепости в 1941 году и проявленное при этом мужество и героизм присвоено звание Героя Советского Союза с вручением ордена Ленина и медали «Золотая звезд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лица названа в честь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.М. Гаврило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Picture 5" descr="i0005rp"/>
          <p:cNvPicPr/>
          <p:nvPr/>
        </p:nvPicPr>
        <p:blipFill>
          <a:blip r:embed="rId1"/>
          <a:stretch/>
        </p:blipFill>
        <p:spPr>
          <a:xfrm>
            <a:off x="1214280" y="1714680"/>
            <a:ext cx="7000920" cy="491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крытие сте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ной 2009 года  средней школе села Конь Пестречинского района Республики Татарстан присвоили имя Героя Петра Михайловича Гаврилова, а в его родном селе открыли ст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стоящее время в школе готовится к открытию школьный муз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. П.М. Гаврил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лицы Екатеринодар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Picture 5" descr="Ул"/>
          <p:cNvPicPr/>
          <p:nvPr/>
        </p:nvPicPr>
        <p:blipFill>
          <a:blip r:embed="rId1"/>
          <a:stretch/>
        </p:blipFill>
        <p:spPr>
          <a:xfrm>
            <a:off x="395280" y="1844640"/>
            <a:ext cx="82803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untitled2"/>
          <p:cNvPicPr/>
          <p:nvPr/>
        </p:nvPicPr>
        <p:blipFill>
          <a:blip r:embed="rId1"/>
          <a:stretch/>
        </p:blipFill>
        <p:spPr>
          <a:xfrm>
            <a:off x="1116000" y="1122480"/>
            <a:ext cx="7166160" cy="5460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2700360" y="260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ткрытие сте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3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untitled4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untitled5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Ул"/>
          <p:cNvPicPr/>
          <p:nvPr/>
        </p:nvPicPr>
        <p:blipFill>
          <a:blip r:embed="rId1"/>
          <a:stretch/>
        </p:blipFill>
        <p:spPr>
          <a:xfrm>
            <a:off x="684360" y="1700280"/>
            <a:ext cx="7705440" cy="473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л. Екатерининска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гол ул. Красной и Екатерининско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4" descr="Угол улиц Красной и Екатерининской (Мира)"/>
          <p:cNvPicPr/>
          <p:nvPr/>
        </p:nvPicPr>
        <p:blipFill>
          <a:blip r:embed="rId1"/>
          <a:stretch/>
        </p:blipFill>
        <p:spPr>
          <a:xfrm>
            <a:off x="611280" y="1619280"/>
            <a:ext cx="78483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л. Штабна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4" descr="Ул"/>
          <p:cNvPicPr/>
          <p:nvPr/>
        </p:nvPicPr>
        <p:blipFill>
          <a:blip r:embed="rId1"/>
          <a:stretch/>
        </p:blipFill>
        <p:spPr>
          <a:xfrm>
            <a:off x="684360" y="1628640"/>
            <a:ext cx="770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. Краснода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Центр Краснодара"/>
          <p:cNvPicPr/>
          <p:nvPr/>
        </p:nvPicPr>
        <p:blipFill>
          <a:blip r:embed="rId1"/>
          <a:stretch/>
        </p:blipFill>
        <p:spPr>
          <a:xfrm>
            <a:off x="468360" y="1484280"/>
            <a:ext cx="8280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лица Красна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4" descr="P1050531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Пётр Миха́йлович Гаври́лов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1900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—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1979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) — советский офицер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майор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, герой обороны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Брестской крепости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Герой Советского Союза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</a:rPr>
              <a:t>1957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)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Рисунок 2" descr="Gawrilowbrest.jpg"/>
          <p:cNvPicPr/>
          <p:nvPr/>
        </p:nvPicPr>
        <p:blipFill>
          <a:blip r:embed="rId1"/>
          <a:stretch/>
        </p:blipFill>
        <p:spPr>
          <a:xfrm>
            <a:off x="2411280" y="1268280"/>
            <a:ext cx="4714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лся 17 июня 1900 г в деревне Альвидино Казанской губер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5 лет ушёл в Казань и поступил чернорабоч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4:02:11Z</dcterms:created>
  <dc:creator>л</dc:creator>
  <dc:description/>
  <dc:language>en-US</dc:language>
  <cp:lastModifiedBy>Олег</cp:lastModifiedBy>
  <dcterms:modified xsi:type="dcterms:W3CDTF">2018-07-23T16:27:37Z</dcterms:modified>
  <cp:revision>24</cp:revision>
  <dc:subject/>
  <dc:title>Гаврилов  Пётр Михайлович</dc:title>
</cp:coreProperties>
</file>