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8A13-0350-414B-85EA-C469C555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3D00-5FD3-446D-B84B-B0E12FBC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67F-F665-44F7-9379-907412673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D95-D85D-4D2C-988A-60774714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E2A8F-08ED-4822-AD66-9C69E590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95AB-A28F-4038-8E2B-3FE48F399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89F5-B98C-4A92-BF72-06CBCAED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D646-BFA3-4EBC-ABA3-69E77553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BAC4-D4D6-46F7-A091-4FA56D83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857EB-25C2-41A5-A79E-7BEE8313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3D077-E525-4C9F-9CDE-A78AB6711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7BF-AE52-4E4E-8E2B-FDBA617D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D120-4441-40D0-87C6-CC3BA4B0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26710-36D2-4C1B-9004-1B406FB7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DEE3-327D-4A92-BBF5-75387169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6D726-633A-4056-8FA5-3A3E7A4C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086F-51DA-4BA4-A7B5-36DF372D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EABF-2044-4B76-992D-9C912585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04A3-991A-4DFC-B99A-AADA39CA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4688-D640-420B-AFE6-613F17BD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56DA-CF3F-4FBB-A65A-A3A51BCA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1033-A9BA-45D1-A6DB-F0227AD1F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811-B331-4CE9-8581-5609ADE2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6C7D-ACC6-4E2A-8DC5-7A925306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EAAA-2CCD-4A13-AF26-40CDC56217CC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A03F9-5C27-491D-8077-DE70FBF6839B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рок по математик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6 клас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Путешествуем по карте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Тема: «Масштаб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ункт прибытия: город Каза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карте на 11 см к востоку от Москвы находится город Казан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Scan10056"/>
          <p:cNvPicPr/>
          <p:nvPr/>
        </p:nvPicPr>
        <p:blipFill>
          <a:blip r:embed="rId1"/>
          <a:stretch/>
        </p:blipFill>
        <p:spPr>
          <a:xfrm>
            <a:off x="611280" y="1413000"/>
            <a:ext cx="300492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асчет времени передвижения 2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ояние - 715к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сть автобуса - 60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- ? 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15:60=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1\1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ч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: время движения от Москвы до Казани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1\1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род Каза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торическая справк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д основания: 1005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олица Татарста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6" descr="k01186i"/>
          <p:cNvPicPr/>
          <p:nvPr/>
        </p:nvPicPr>
        <p:blipFill>
          <a:blip r:embed="rId1"/>
          <a:stretch/>
        </p:blipFill>
        <p:spPr>
          <a:xfrm>
            <a:off x="527040" y="1413000"/>
            <a:ext cx="3559320" cy="3960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 rot="10800000">
            <a:off x="610560" y="1483560"/>
            <a:ext cx="7308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стопримечательности Казан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6" descr="k01183i"/>
          <p:cNvPicPr/>
          <p:nvPr/>
        </p:nvPicPr>
        <p:blipFill>
          <a:blip r:embed="rId1"/>
          <a:stretch/>
        </p:blipFill>
        <p:spPr>
          <a:xfrm>
            <a:off x="3059280" y="4149720"/>
            <a:ext cx="3240000" cy="2462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k_804i"/>
          <p:cNvPicPr/>
          <p:nvPr/>
        </p:nvPicPr>
        <p:blipFill>
          <a:blip r:embed="rId2"/>
          <a:stretch/>
        </p:blipFill>
        <p:spPr>
          <a:xfrm>
            <a:off x="1403280" y="1125360"/>
            <a:ext cx="2592360" cy="2808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k01187i"/>
          <p:cNvPicPr/>
          <p:nvPr/>
        </p:nvPicPr>
        <p:blipFill>
          <a:blip r:embed="rId3"/>
          <a:stretch/>
        </p:blipFill>
        <p:spPr>
          <a:xfrm>
            <a:off x="5003640" y="1125360"/>
            <a:ext cx="3168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ршрутный лис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нкт отправления: Тул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адка: Моск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нкт прибытия: Казан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е расстояние путешествия: 182+715=897к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е время путешествия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+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1\1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14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7\60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правляемся из города оружейников в столицу нашей Родины, а затем, осмотрев достопримечательности этого города,   отправляемся на 715 километров к восто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читать общее расстояние путешествия, время движени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рта путешеств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нкт отправления: город Тул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нкт пересадки: город Москв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7" descr="Scan10012"/>
          <p:cNvPicPr/>
          <p:nvPr/>
        </p:nvPicPr>
        <p:blipFill>
          <a:blip r:embed="rId1"/>
          <a:stretch/>
        </p:blipFill>
        <p:spPr>
          <a:xfrm>
            <a:off x="609480" y="1628640"/>
            <a:ext cx="3608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стопримечательности города Тул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Picture 3" descr="Scan10009"/>
          <p:cNvPicPr/>
          <p:nvPr/>
        </p:nvPicPr>
        <p:blipFill>
          <a:blip r:embed="rId1"/>
          <a:stretch/>
        </p:blipFill>
        <p:spPr>
          <a:xfrm>
            <a:off x="900000" y="4149720"/>
            <a:ext cx="3097440" cy="220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Scan10005"/>
          <p:cNvPicPr/>
          <p:nvPr/>
        </p:nvPicPr>
        <p:blipFill>
          <a:blip r:embed="rId2"/>
          <a:stretch/>
        </p:blipFill>
        <p:spPr>
          <a:xfrm>
            <a:off x="5899320" y="3941640"/>
            <a:ext cx="1536480" cy="2189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Scan10008"/>
          <p:cNvPicPr/>
          <p:nvPr/>
        </p:nvPicPr>
        <p:blipFill>
          <a:blip r:embed="rId3"/>
          <a:stretch/>
        </p:blipFill>
        <p:spPr>
          <a:xfrm>
            <a:off x="1547640" y="1628640"/>
            <a:ext cx="1535400" cy="2189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can10010"/>
          <p:cNvPicPr/>
          <p:nvPr/>
        </p:nvPicPr>
        <p:blipFill>
          <a:blip r:embed="rId4"/>
          <a:stretch/>
        </p:blipFill>
        <p:spPr>
          <a:xfrm>
            <a:off x="4716360" y="1557360"/>
            <a:ext cx="3111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асчет расстояния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 Тулы до Москв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асштаб карт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см - 65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сстояние между городами на карте 2,8с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ставим краткую запис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см    – 65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,8см – х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усть х км расстояние между городами на мест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ставим пропорцию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:2,8=65: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 = 18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сстояние от Тулы до Москвы 182к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асчет времени передвижения 1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ояние - 182к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сть автобуса - 60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- ? 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82:60=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(ч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: время движения от Тулы до Москвы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ча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ункт пересадки: город Моск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торическая справк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д основания: 1147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олица Росс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лощадь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000кв.к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селение: 11млн. Че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p42_3_2"/>
          <p:cNvPicPr/>
          <p:nvPr/>
        </p:nvPicPr>
        <p:blipFill>
          <a:blip r:embed="rId1"/>
          <a:stretch/>
        </p:blipFill>
        <p:spPr>
          <a:xfrm>
            <a:off x="395280" y="1989000"/>
            <a:ext cx="403848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стопримечательности Москв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Picture 3" descr="478953[1]"/>
          <p:cNvPicPr/>
          <p:nvPr/>
        </p:nvPicPr>
        <p:blipFill>
          <a:blip r:embed="rId1"/>
          <a:stretch/>
        </p:blipFill>
        <p:spPr>
          <a:xfrm>
            <a:off x="539640" y="1268280"/>
            <a:ext cx="3313080" cy="246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478949[1]"/>
          <p:cNvPicPr/>
          <p:nvPr/>
        </p:nvPicPr>
        <p:blipFill>
          <a:blip r:embed="rId2"/>
          <a:stretch/>
        </p:blipFill>
        <p:spPr>
          <a:xfrm>
            <a:off x="4788000" y="1268280"/>
            <a:ext cx="3673440" cy="2414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478955[1]"/>
          <p:cNvPicPr/>
          <p:nvPr/>
        </p:nvPicPr>
        <p:blipFill>
          <a:blip r:embed="rId3"/>
          <a:stretch/>
        </p:blipFill>
        <p:spPr>
          <a:xfrm>
            <a:off x="2700360" y="4005360"/>
            <a:ext cx="3456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асчет расстояния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карте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асштаб карты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см - 65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сстояние между городами на местности 715 к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ставим краткую запись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см    – 65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Х см – 715 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усть х см расстояние между городами на карт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ставим пропорцию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:х =65:71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Х = 11с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вет: Расстояние между городами на карте 11с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7:01:32Z</dcterms:created>
  <dc:creator>User</dc:creator>
  <dc:description/>
  <dc:language>en-US</dc:language>
  <cp:lastModifiedBy>Admin</cp:lastModifiedBy>
  <dcterms:modified xsi:type="dcterms:W3CDTF">2013-01-20T05:32:17Z</dcterms:modified>
  <cp:revision>16</cp:revision>
  <dc:subject/>
  <dc:title>Задание I уровня.</dc:title>
</cp:coreProperties>
</file>