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948-AF59-4629-946A-A83CE5EA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A7C-4EE9-4397-9CEE-9C227A94E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CBC7-DC47-4116-8A1C-3F1E3EC3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AB87-0A54-4BB5-B7B2-FD5A0E73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50DDB-E0F1-4CF6-A9BA-AAAE560ED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A9DF-1ECE-4DD0-BBF8-7C6456DF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6302-503F-4C82-BC51-FD67DEC6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9736-9337-4279-A29E-44EF904D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0CF8-8C94-478B-838C-982162D6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5257F-4568-4A74-86CE-961FDF12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F6CB-4F95-46FF-ADBC-765CE465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C07C-8BDC-4206-8726-085A1D6B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1086-5DD7-4948-A251-DED1A23E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0656-E5AC-4D98-BB8D-9B091E3E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662F-BC21-4ECD-925C-EB7DD6C0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9633-4BC8-4827-B6FB-86E11E02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44D27-AEAF-4F73-A78F-F6FC81CAD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95DE-7367-4DB3-A89C-B64F9F2C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AC3-B016-4754-AB7C-79A4E8C4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13C-D5AC-469B-93B9-7EAACF46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F96-CCD1-472B-B437-74A27C69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8F4D-D344-4CA1-ABCE-30BBF6C1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BEF-5175-4E26-9E26-FCA9B242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AA4B-D991-42BC-AC44-D4958398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32C7-6F76-47EE-90CE-ABF0AD32C9A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D8FDF-3AA9-4619-BAA6-F22D0BA34F7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ест по творчеству А.С.Пушкина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итературное чтение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 класс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4279680"/>
            <a:ext cx="81788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Учитель  начальных классов МБОУ «Макуловская СОШ»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Верхнеуслонского муниципального района Республики Татарстан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Архиреева Роза Гильфано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10. С чего начинается  стихотворение </a:t>
            </a:r>
            <a:br>
              <a:rPr sz="3000"/>
            </a:b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« Зимний вечер»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Буря мглою…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Под голубыми небесами…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ечор, ты помнишь, вьюга…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11.  В каком году Пушкин получил анонимное письмо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836 г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837 г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835 г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01560" y="320040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12.  Через сколько дней после ранения Пушкина не стало?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дин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Тр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Шест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66"/>
                </a:solidFill>
                <a:latin typeface="Arial"/>
              </a:rPr>
              <a:t>Использованная литература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1.  Кутявина С.В. Тесты.  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2. Тесты. Литературное чтение. 1-4   классы. М.: «Дрофа», 200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1. Назовите годы жизни А.С.Пушкина: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. 1802-1841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2. 1789-1829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3. 1799-1837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4. 1805-1840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974520"/>
            <a:ext cx="7777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2. В каком городе родился А.С.Пушкин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9720" y="2490840"/>
            <a:ext cx="74772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Петербург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Киев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Москв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рл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898200"/>
            <a:ext cx="77770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Кто автор надписи, адресованной А.С. Пушкину: «Победителю-ученику от побежденного учителя…»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9720" y="2362320"/>
            <a:ext cx="7477200" cy="35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.А. Жуковск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.Ф. Одоевск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. Тропинину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4.  На каком языке говорили в семье Пушкина?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Русском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Французском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Немецком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buClr>
                <a:srgbClr val="0066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то учил  Пушкина писать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 -русски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Бабушк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яня Арина Родионовн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Дядька Никит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6.  Кто Пушкину рассказывал сказки?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Бабушка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Няня Арина Родионовна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Дядька Никита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7. Из какого стихотворения взяты строки:</a:t>
            </a:r>
            <a:br>
              <a:rPr sz="2700"/>
            </a:b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  Мороз и солнце; день чудесный!..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« Зимнее утро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« Зимний вечер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« В тот год осенняя погода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806040"/>
            <a:ext cx="76946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9. Сколько  лет провел поэт в ссылке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Шесть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емь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Пят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Четыре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19T16:37:4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