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D9E6-68D6-40D5-A378-A8AD5D91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2ADB-77F9-4086-8259-D59634C2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14CA-67CC-4774-ABAD-831F9FCB4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78A9-BCFB-4A7E-A17F-6822B7F9C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6D07-80F6-4FE7-A1B1-5EEDA12D0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26FBE-8191-4C57-8B23-C0C3072C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9F09-3C32-4D42-B7C9-C499FE67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EDDA-AA26-4E10-997D-7E0BE691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090DF-5A6C-4A45-9C38-8BAACBDA8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8304-7E4F-4D18-AC1B-356C4494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0D4C-ABDE-428A-B407-0AF19A83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9447-CE31-401E-A423-065D01DB3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FDC73-7D08-40B6-BC3A-503575CE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CD0DB-FFCC-43AA-B1E7-2D5CE0DE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6FAF-0D2A-4222-8D2B-433E5133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BA23-B93D-4600-AA02-486A1A3D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20A7-ADA9-496C-9D4E-9D65272F5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7B3-E01A-4594-9189-AA45C117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70E-84EF-42EB-BEF0-63B6B0F6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F78-289E-4BDD-84A5-DF3D52A8C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0269-5390-4422-BE78-802E5DB66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80F0-ADEC-4AFC-8F7C-FBEC34B1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50A1-75DA-42AC-A04B-660C0D753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2672-67FD-4A42-ADAC-4C6E2B20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2EBFF-A75C-45EF-87B4-B3D82BD44A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B836-2C95-4734-8D66-9BFF3D1A9178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Тест по творчеству А.С.Пушкина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Литературное чтение </a:t>
            </a:r>
            <a:br>
              <a:rPr sz="3200"/>
            </a:b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3 класс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6840" y="4279680"/>
            <a:ext cx="817884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Учитель  начальных классов МБОУ «Макуловская СОШ»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Верхнеуслонского муниципального района Республики Татарстан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006666"/>
                </a:solidFill>
                <a:latin typeface="Arial"/>
              </a:rPr>
              <a:t>Архиреева Роза Гильфановна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10. С чего начинается  стихотворение </a:t>
            </a:r>
            <a:br>
              <a:rPr sz="3000"/>
            </a:b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« Зимний вечер»?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Буря мглою…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Под голубыми небесами…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Вечор, ты помнишь, вьюга…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11.  В каком году Пушкин получил анонимное письмо?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1836 г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1837 г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1835 г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401560" y="3200400"/>
            <a:ext cx="93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66"/>
                </a:solidFill>
                <a:latin typeface="Arial"/>
              </a:rPr>
              <a:t>12.  Через сколько дней после ранения Пушкина не стало?</a:t>
            </a:r>
            <a:endParaRPr b="1" lang="en-US" sz="3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дин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Три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Шест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6666"/>
                </a:solidFill>
                <a:latin typeface="Arial"/>
              </a:rPr>
              <a:t>Использованная литература</a:t>
            </a:r>
            <a:endParaRPr b="1" lang="en-US" sz="1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1.  Кутявина С.В. Тесты.    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Arial"/>
              </a:rPr>
              <a:t>2. Тесты. Литературное чтение. 1-4   классы. М.: «Дрофа», 2007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1. Назовите годы жизни А.С.Пушкина: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1. 1802-1841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2. 1789-1829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3. 1799-1837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4. 1805-1840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974520"/>
            <a:ext cx="77770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2. В каком городе родился А.С.Пушкин?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09720" y="2490840"/>
            <a:ext cx="7477200" cy="35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Петербурге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Киеве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Москве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рле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898200"/>
            <a:ext cx="777708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3. </a:t>
            </a:r>
            <a:r>
              <a:rPr b="0" lang="en-US" sz="3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6666"/>
                </a:solidFill>
                <a:latin typeface="Arial"/>
              </a:rPr>
              <a:t>Кто автор надписи, адресованной А.С. Пушкину: «Победителю-ученику от побежденного учителя…»?</a:t>
            </a:r>
            <a:endParaRPr b="1" lang="en-US" sz="3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09720" y="2362320"/>
            <a:ext cx="7477200" cy="35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В.А. Жуковский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В.Ф. Одоевский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В. Тропинину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66"/>
                </a:solidFill>
                <a:latin typeface="Arial"/>
              </a:rPr>
              <a:t>4.  На каком языке говорили в семье Пушкина?</a:t>
            </a:r>
            <a:endParaRPr b="1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Русском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Французском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Немецком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685800" indent="-685800">
              <a:lnSpc>
                <a:spcPct val="90000"/>
              </a:lnSpc>
              <a:buClr>
                <a:srgbClr val="0066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Кто учил  Пушкина писать 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о -русски 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Бабушк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Няня Арина Родионовн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Дядька Никита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66"/>
                </a:solidFill>
                <a:latin typeface="Arial"/>
              </a:rPr>
              <a:t>6.  Кто Пушкину рассказывал сказки?</a:t>
            </a:r>
            <a:endParaRPr b="1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Бабушка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Няня Арина Родионовна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Дядька Никита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6666"/>
                </a:solidFill>
                <a:latin typeface="Arial"/>
              </a:rPr>
              <a:t>7. Из какого стихотворения взяты строки:</a:t>
            </a:r>
            <a:br>
              <a:rPr sz="2700"/>
            </a:br>
            <a:r>
              <a:rPr b="0" lang="en-US" sz="2700" spc="-1" strike="noStrike">
                <a:solidFill>
                  <a:srgbClr val="006666"/>
                </a:solidFill>
                <a:latin typeface="Arial"/>
              </a:rPr>
              <a:t>  Мороз и солнце; день чудесный!..</a:t>
            </a:r>
            <a:endParaRPr b="1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8001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60160" indent="-56016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« Зимнее утро»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60160" indent="-56016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« Зимний вечер»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60160" indent="-56016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« В тот год осенняя погода»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74720" y="806040"/>
            <a:ext cx="7694640" cy="10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9. Сколько  лет провел поэт в ссылке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Шесть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емь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Пят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71680" indent="-57168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Четыре 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1-19T16:37:48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