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15.gif" ContentType="image/gif"/>
  <Override PartName="/ppt/media/image1.gif" ContentType="image/gif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11.jpeg" ContentType="image/jpeg"/>
  <Override PartName="/ppt/media/image6.gif" ContentType="image/gif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EED-B2D1-419A-BF46-7CA73AE7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9B3-9AFF-4552-A4DF-B94ADC7A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1F8-4C38-4BFB-A1E4-2F185A5C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D15-5337-4462-B072-FF04700F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E6A5-1696-41AA-9F54-9F310170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71F3-49D1-4A64-9417-0002FD17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9899-4483-461F-83F8-60ADA26B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ADB7-B84A-47BB-A881-7FB9D430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CEF3-4373-413B-A1F2-A017F8D5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AE2B-C82C-4892-BEC5-E7785C1B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AFAD-1553-457F-80A2-E4DF6FDC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840-ECAF-4A82-A635-208AA569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BA8D-2927-41A2-BD17-28D58855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1D2D-89A0-49A1-B4C6-FB83304E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89F6-D6CC-45CD-A561-9DEFAC0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7420-E72E-4FB9-8A89-A8A2E23E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E07F-DDEB-441E-AB00-5D1EB4C6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2F7-3730-4F4D-A170-65F6B81B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3A0-180E-4E31-BCAF-FAAD518F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1A4-7F8F-4FAE-BC99-E58E2C33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599-E2E6-4E57-8D3C-596BA6A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7FD-88C9-4571-BBE4-0AF9BD18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860-BD96-4CCD-94C4-A0F4E847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F43-0A37-4511-886A-146AEED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410C-E598-4B02-BF06-133C6EE019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9A9D-9326-4439-B8B5-BCE54616C1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antasyflash.ru/" TargetMode="External"/><Relationship Id="rId2" Type="http://schemas.openxmlformats.org/officeDocument/2006/relationships/hyperlink" Target="http://www.glitters.r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икторина  по сказкам для малышей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537372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1441440" cy="172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11280" y="3789360"/>
            <a:ext cx="43927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МОУ«Маку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Верхнеуслонский райо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оставила учитель начальных классов первой квалификационной категории Архиреева Роза  Гильф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2665440" cy="2519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124000" y="393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Молодцы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4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300720" y="515772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omic Sans MS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fantasyflash.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2320920"/>
            <a:ext cx="29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detiam.blog.ru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3760" y="3283560"/>
            <a:ext cx="78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www.liveinternet.ru/ users/natathe3/post10085457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520" y="3933720"/>
            <a:ext cx="3798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glitter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94608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4773600">
            <a:off x="6123240" y="-449640"/>
            <a:ext cx="4590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907920"/>
            <a:ext cx="35276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С Пяточком он ходит в г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Любит мёд, варенье прос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Это кто скажите вслу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Медвёжонок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27640" y="3860640"/>
            <a:ext cx="1860840" cy="223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580000" y="1773360"/>
            <a:ext cx="2664000" cy="2160360"/>
          </a:xfrm>
          <a:prstGeom prst="cloudCallout">
            <a:avLst>
              <a:gd name="adj1" fmla="val -52981"/>
              <a:gd name="adj2" fmla="val 566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34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Винни - П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907920"/>
            <a:ext cx="496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Подарит новое коры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И новый дом, и слуг в при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Но если уж она серди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С ней вместе уплывет удач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Исчезнет всё, и в море зыб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Растает золотая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20025000">
            <a:off x="5435280" y="4076280"/>
            <a:ext cx="2232000" cy="17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 flipV="1">
            <a:off x="2123280" y="4365720"/>
            <a:ext cx="2592360" cy="1224000"/>
          </a:xfrm>
          <a:custGeom>
            <a:avLst/>
            <a:gdLst>
              <a:gd name="textAreaLeft" fmla="*/ 0 w 2592360"/>
              <a:gd name="textAreaRight" fmla="*/ 2592360 w 2592360"/>
              <a:gd name="textAreaTop" fmla="*/ 328320 h 1224000"/>
              <a:gd name="textAreaBottom" fmla="*/ 8956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898"/>
                </a:moveTo>
                <a:cubicBezTo>
                  <a:pt x="7200" y="-7368"/>
                  <a:pt x="14400" y="13164"/>
                  <a:pt x="21600" y="2898"/>
                </a:cubicBezTo>
                <a:lnTo>
                  <a:pt x="21600" y="18702"/>
                </a:lnTo>
                <a:cubicBezTo>
                  <a:pt x="14400" y="28968"/>
                  <a:pt x="7200" y="8436"/>
                  <a:pt x="0" y="18702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47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Ры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836640"/>
            <a:ext cx="504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сех грязнуль отчистит быст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сех нерях умоет чи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Умывальников нача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И мочалок команди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Знаменитый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ubBanner"/>
          <p:cNvSpPr/>
          <p:nvPr/>
        </p:nvSpPr>
        <p:spPr>
          <a:xfrm>
            <a:off x="324000" y="3860640"/>
            <a:ext cx="2879640" cy="1943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365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Мойдоды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32360" y="3290760"/>
            <a:ext cx="2952720" cy="2928960"/>
          </a:xfrm>
          <a:prstGeom prst="rect">
            <a:avLst/>
          </a:prstGeom>
          <a:ln w="28440">
            <a:solidFill>
              <a:srgbClr val="703dff"/>
            </a:solidFill>
            <a:miter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765000"/>
            <a:ext cx="511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Лечит всех зверей подря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Лечит взрослых и ре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К вам спешит когда бол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Добрый докто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ubCross"/>
          <p:cNvSpPr/>
          <p:nvPr/>
        </p:nvSpPr>
        <p:spPr>
          <a:xfrm>
            <a:off x="2050920" y="3573360"/>
            <a:ext cx="2087640" cy="1828800"/>
          </a:xfrm>
          <a:custGeom>
            <a:avLst/>
            <a:gdLst>
              <a:gd name="textAreaLeft" fmla="*/ 522000 w 2087640"/>
              <a:gd name="textAreaRight" fmla="*/ 1566000 w 208764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</a:path>
              <a:path w="21600" h="21600">
                <a:moveTo>
                  <a:pt x="5400" y="5400"/>
                </a:moveTo>
                <a:lnTo>
                  <a:pt x="0" y="5400"/>
                </a:lnTo>
                <a:lnTo>
                  <a:pt x="0" y="16200"/>
                </a:lnTo>
              </a:path>
              <a:path w="21600" h="21600">
                <a:moveTo>
                  <a:pt x="5400" y="16200"/>
                </a:moveTo>
                <a:lnTo>
                  <a:pt x="5400" y="21600"/>
                </a:lnTo>
                <a:lnTo>
                  <a:pt x="16200" y="21600"/>
                </a:lnTo>
              </a:path>
              <a:path w="21600" h="21600">
                <a:moveTo>
                  <a:pt x="16200" y="16200"/>
                </a:move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40053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Айбо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843280" y="5445000"/>
            <a:ext cx="2016000" cy="1244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1787760" cy="2160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240000" cy="24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6" descr="J0303338"/>
          <p:cNvPicPr/>
          <p:nvPr/>
        </p:nvPicPr>
        <p:blipFill>
          <a:blip r:embed="rId1"/>
          <a:stretch/>
        </p:blipFill>
        <p:spPr>
          <a:xfrm rot="673200">
            <a:off x="323640" y="260280"/>
            <a:ext cx="1420560" cy="2089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79640" y="404640"/>
            <a:ext cx="4464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В этой книжке – имен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Много было там г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А на этих имени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Появился вдруг зло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Он хотел убить хозяй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Чуть её не погуби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Но коварному злод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Кто – то голову срубил. (Па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867280" y="3141720"/>
            <a:ext cx="2570400" cy="3338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3889440" cy="3225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692280"/>
            <a:ext cx="3456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Понедельник и Сре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Вторник и Суббо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Гномов этих им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Верю, помнит кто – 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С этой сказкою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Вы давно знако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Называется о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80000" y="5013360"/>
            <a:ext cx="4608360" cy="792000"/>
          </a:xfrm>
          <a:custGeom>
            <a:avLst/>
            <a:gdLst>
              <a:gd name="textAreaLeft" fmla="*/ 0 w 4608360"/>
              <a:gd name="textAreaRight" fmla="*/ 4608720 w 4608360"/>
              <a:gd name="textAreaTop" fmla="*/ 102600 h 792000"/>
              <a:gd name="textAreaBottom" fmla="*/ 6894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7280" y="5157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Белоснежка и семь гно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1557360"/>
            <a:ext cx="4392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Он всегда живёт всех вы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У него есть дом на кры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Если ляжешь быстро сп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Ты с ним сможешь побол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Прилетит к тебе в твой 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Живой весёлы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333600" cy="2781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076720" y="1413000"/>
            <a:ext cx="2808360" cy="1368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35640" y="177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рл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79280" y="-316080"/>
            <a:ext cx="846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907920"/>
            <a:ext cx="4176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Укатился он из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По дороге незнаком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Ты узнал его друж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Это самый непослуш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Говорливый, простодуш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И румяны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6720" y="1700280"/>
            <a:ext cx="2808360" cy="1297080"/>
          </a:xfrm>
          <a:prstGeom prst="cloudCallout">
            <a:avLst>
              <a:gd name="adj1" fmla="val -45194"/>
              <a:gd name="adj2" fmla="val 699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Коло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857680" cy="28479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27:54Z</dcterms:created>
  <dc:creator>SamLab.ws</dc:creator>
  <dc:description/>
  <dc:language>en-US</dc:language>
  <cp:lastModifiedBy>Discovery</cp:lastModifiedBy>
  <dcterms:modified xsi:type="dcterms:W3CDTF">2010-10-27T15:21:32Z</dcterms:modified>
  <cp:revision>16</cp:revision>
  <dc:subject/>
  <dc:title>Викторина по сказкам</dc:title>
</cp:coreProperties>
</file>