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15.gif" ContentType="image/gif"/>
  <Override PartName="/ppt/media/image1.gif" ContentType="image/gif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11.jpeg" ContentType="image/jpeg"/>
  <Override PartName="/ppt/media/image6.gif" ContentType="image/gif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853-C599-4E68-A811-2D2F1A48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ADA-1A5E-4ED8-BD2F-AB3A7AA8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267-FA28-48E4-87BC-C37CC423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DB6-98C8-4FDF-88B7-3F7F83A2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3D88-9DAB-45F5-A5C0-A475063D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3DB0-0A75-47A2-8E18-E68425DA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639D-B1AA-4BBB-8551-037D1A42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DEA8-3BE2-42B1-B3E9-05B3B4CC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36FF-96D6-4979-9357-0A3CC3FE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BA12-CFC2-48BB-A9FA-3F5A4EF7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B3E4-F6F5-4DC3-8E90-C2231F40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98D-836C-4D18-8147-B05B0825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F09F-2D38-4719-BF2F-C17FE2D1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E782-3C23-4102-90C3-0831563A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E406-7897-41C2-A1B7-AFC5B743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081C-96FB-4C22-9ADE-A5930581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890E-E7CD-4673-A45E-C83593C7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8EF-5B18-4E73-B036-F319D0CF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6E7-8E9A-4DB7-B301-7C7BCD87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4B1-CFBC-4957-8EAA-FDEDB2F0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D5F-5C9B-4DBB-B0EC-F50568DD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00A-67CC-4E0B-85E8-76C44F91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009-6D2F-4928-8C89-1333771E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AF4-D119-4EBE-8073-C64D70A4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6845-8D2C-4514-B141-989C674299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0F08-FFBE-47EC-98C2-68A8FD9C61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antasyflash.ru/" TargetMode="External"/><Relationship Id="rId2" Type="http://schemas.openxmlformats.org/officeDocument/2006/relationships/hyperlink" Target="http://www.glitters.ru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икторина  по сказкам для малышей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537372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524720" y="4941720"/>
            <a:ext cx="1441440" cy="1729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11280" y="3789360"/>
            <a:ext cx="43927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МОУ«Маку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Верхнеуслонский район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Составила учитель начальных классов первой квалификационной категории Архиреева Роза  Гильф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2665440" cy="2519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124000" y="393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3600" spc="-1" strike="noStrike">
                <a:solidFill>
                  <a:srgbClr val="cc0099"/>
                </a:solidFill>
                <a:latin typeface="Comic Sans MS"/>
              </a:rPr>
              <a:t>Молодцы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411280" y="522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6300720" y="515772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Comic Sans MS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fantasyflash.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2320920"/>
            <a:ext cx="297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detiam.blog.ru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3760" y="3283560"/>
            <a:ext cx="78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www.liveinternet.ru/ users/natathe3/post10085457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4520" y="3933720"/>
            <a:ext cx="3798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glitter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94608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4773600">
            <a:off x="6123240" y="-449640"/>
            <a:ext cx="4590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907920"/>
            <a:ext cx="35276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С Пяточком он ходит в г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Любит мёд, варенье прос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Это кто скажите вслу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Медвёжонок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27640" y="3860640"/>
            <a:ext cx="1860840" cy="2232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580000" y="1773360"/>
            <a:ext cx="2664000" cy="2160360"/>
          </a:xfrm>
          <a:prstGeom prst="cloudCallout">
            <a:avLst>
              <a:gd name="adj1" fmla="val -52981"/>
              <a:gd name="adj2" fmla="val 566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234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Винни - П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907920"/>
            <a:ext cx="4969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Подарит новое коры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И новый дом, и слуг в при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Но если уж она серди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С ней вместе уплывет удач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Исчезнет всё, и в море зыб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Растает золотая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 rot="20025000">
            <a:off x="5435280" y="4076280"/>
            <a:ext cx="2232000" cy="176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 flipV="1">
            <a:off x="2123280" y="4365720"/>
            <a:ext cx="2592360" cy="1224000"/>
          </a:xfrm>
          <a:custGeom>
            <a:avLst/>
            <a:gdLst>
              <a:gd name="textAreaLeft" fmla="*/ 0 w 2592360"/>
              <a:gd name="textAreaRight" fmla="*/ 2592360 w 2592360"/>
              <a:gd name="textAreaTop" fmla="*/ 328320 h 1224000"/>
              <a:gd name="textAreaBottom" fmla="*/ 8956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898"/>
                </a:moveTo>
                <a:cubicBezTo>
                  <a:pt x="7200" y="-7368"/>
                  <a:pt x="14400" y="13164"/>
                  <a:pt x="21600" y="2898"/>
                </a:cubicBezTo>
                <a:lnTo>
                  <a:pt x="21600" y="18702"/>
                </a:lnTo>
                <a:cubicBezTo>
                  <a:pt x="14400" y="28968"/>
                  <a:pt x="7200" y="8436"/>
                  <a:pt x="0" y="18702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47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Ры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836640"/>
            <a:ext cx="504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сех грязнуль отчистит быст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сех нерях умоет чи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Умывальников нача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И мочалок командир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Знаменитый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ubBanner"/>
          <p:cNvSpPr/>
          <p:nvPr/>
        </p:nvSpPr>
        <p:spPr>
          <a:xfrm>
            <a:off x="324000" y="3860640"/>
            <a:ext cx="2879640" cy="1943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365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Мойдоды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32360" y="3290760"/>
            <a:ext cx="2952720" cy="2928960"/>
          </a:xfrm>
          <a:prstGeom prst="rect">
            <a:avLst/>
          </a:prstGeom>
          <a:ln w="28440">
            <a:solidFill>
              <a:srgbClr val="703dff"/>
            </a:solidFill>
            <a:miter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765000"/>
            <a:ext cx="511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Лечит всех зверей подря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Лечит взрослых и реб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К вам спешит когда бол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Добрый докто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ubCross"/>
          <p:cNvSpPr/>
          <p:nvPr/>
        </p:nvSpPr>
        <p:spPr>
          <a:xfrm>
            <a:off x="2050920" y="3573360"/>
            <a:ext cx="2087640" cy="1828800"/>
          </a:xfrm>
          <a:custGeom>
            <a:avLst/>
            <a:gdLst>
              <a:gd name="textAreaLeft" fmla="*/ 522000 w 2087640"/>
              <a:gd name="textAreaRight" fmla="*/ 1566000 w 208764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</a:path>
              <a:path w="21600" h="21600">
                <a:moveTo>
                  <a:pt x="5400" y="5400"/>
                </a:moveTo>
                <a:lnTo>
                  <a:pt x="0" y="5400"/>
                </a:lnTo>
                <a:lnTo>
                  <a:pt x="0" y="16200"/>
                </a:lnTo>
              </a:path>
              <a:path w="21600" h="21600">
                <a:moveTo>
                  <a:pt x="5400" y="16200"/>
                </a:moveTo>
                <a:lnTo>
                  <a:pt x="5400" y="21600"/>
                </a:lnTo>
                <a:lnTo>
                  <a:pt x="16200" y="21600"/>
                </a:lnTo>
              </a:path>
              <a:path w="21600" h="21600">
                <a:moveTo>
                  <a:pt x="16200" y="16200"/>
                </a:move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40053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Айбо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843280" y="5445000"/>
            <a:ext cx="2016000" cy="1244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1787760" cy="2160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240000" cy="24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6" descr="J0303338"/>
          <p:cNvPicPr/>
          <p:nvPr/>
        </p:nvPicPr>
        <p:blipFill>
          <a:blip r:embed="rId1"/>
          <a:stretch/>
        </p:blipFill>
        <p:spPr>
          <a:xfrm rot="673200">
            <a:off x="323640" y="260280"/>
            <a:ext cx="1420560" cy="2089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79640" y="404640"/>
            <a:ext cx="4464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В этой книжке – имен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Много было там г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А на этих имени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Появился вдруг зло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Он хотел убить хозяй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Чуть её не погуби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Но коварному злод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Кто – то голову срубил. (Пау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867280" y="3141720"/>
            <a:ext cx="2570400" cy="3338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3889440" cy="3225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692280"/>
            <a:ext cx="3456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Понедельник и Сре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Вторник и Суббо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Гномов этих им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Верю, помнит кто – 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С этой сказкою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Вы давно знако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Называется о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80000" y="5013360"/>
            <a:ext cx="4608360" cy="792000"/>
          </a:xfrm>
          <a:custGeom>
            <a:avLst/>
            <a:gdLst>
              <a:gd name="textAreaLeft" fmla="*/ 0 w 4608360"/>
              <a:gd name="textAreaRight" fmla="*/ 4608720 w 4608360"/>
              <a:gd name="textAreaTop" fmla="*/ 102600 h 792000"/>
              <a:gd name="textAreaBottom" fmla="*/ 6894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67280" y="5157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Белоснежка и семь гно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1557360"/>
            <a:ext cx="4392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Он всегда живёт всех вы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У него есть дом на кры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Если ляжешь быстро сп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Ты с ним сможешь побол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Прилетит к тебе в твой 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Живой весёлы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3333600" cy="2781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076720" y="1413000"/>
            <a:ext cx="2808360" cy="1368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35640" y="177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Карл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79280" y="-316080"/>
            <a:ext cx="846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907920"/>
            <a:ext cx="4176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Укатился он из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По дороге незнакомо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Ты узнал его друж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Это самый непослуш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Говорливый, простодуш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И румяны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6720" y="1700280"/>
            <a:ext cx="2808360" cy="1297080"/>
          </a:xfrm>
          <a:prstGeom prst="cloudCallout">
            <a:avLst>
              <a:gd name="adj1" fmla="val -45194"/>
              <a:gd name="adj2" fmla="val 699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Коло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857680" cy="28479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27:54Z</dcterms:created>
  <dc:creator>SamLab.ws</dc:creator>
  <dc:description/>
  <dc:language>en-US</dc:language>
  <cp:lastModifiedBy>Discovery</cp:lastModifiedBy>
  <dcterms:modified xsi:type="dcterms:W3CDTF">2010-10-27T15:21:32Z</dcterms:modified>
  <cp:revision>16</cp:revision>
  <dc:subject/>
  <dc:title>Викторина по сказкам</dc:title>
</cp:coreProperties>
</file>