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F08-B6DF-4F89-A62D-6B861670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BCE1-7182-4D55-9DB8-6A8E8C7B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7A7-B833-42DD-8BCE-966AB526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7EE1-FB6F-4B3D-9297-F5537770A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0148-05A7-44C2-B6B8-480BE3EF7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F95E-4F0E-482B-82B9-44745E07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DE94-E3E8-4FFC-94BC-B4D68F2D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4C62-ED86-41F6-9127-EBBE8D10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6949-9824-4147-AA7F-B3386774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3936-3F0C-4A6C-AB8C-69327821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DA07-E56F-495B-BDB3-6FC5F44E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4216-2D95-4811-A308-54FBADD0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26518-4512-4547-85BC-FA1BD0080A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404280"/>
            <a:ext cx="7777080" cy="107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20000"/>
                </a:solidFill>
                <a:latin typeface="Times New Roman"/>
              </a:rPr>
              <a:t>Закономерности изменчив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77756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менчивость: определение, типы. Значение разных форм изменчивости для жизни организма и эволюции. Модификационная изменчивость. Причины модификационной изменчивости. Норма реакции, ее генетические основ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Определение изменчив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Изменчив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- это способность организма приобретать новые признаки и св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Различают 2 типа изменчивос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1) Ненаследственная (фенотипическая) 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2) Наследственная (генотипическая</a:t>
            </a:r>
            <a:r>
              <a:rPr b="0" lang="ru-RU" sz="3200" spc="-1" strike="noStrike">
                <a:solidFill>
                  <a:srgbClr val="b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Определение модификационной изменчив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1571400"/>
            <a:ext cx="59007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Модификационная изменчивость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– это изменчивость организмов, возникающая под влиянием факторов внешней среды и не затрагивающая генотип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</a:rPr>
              <a:t>Рисунок.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менение размеров одуванчика под влиянием условий среды: 1 – выросший на равнине; 2 – выросший в гора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6572160" y="1571760"/>
            <a:ext cx="1957320" cy="468144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00000"/>
                </a:solidFill>
                <a:latin typeface="Times New Roman"/>
              </a:rPr>
              <a:t>Разнолистность у стрелолиста – классический пример модификационной изменчивост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Содержимое 3" descr="http://www.supersadovnik.ru/site_images/00000003/00030646.jpg"/>
          <p:cNvPicPr/>
          <p:nvPr/>
        </p:nvPicPr>
        <p:blipFill>
          <a:blip r:embed="rId1"/>
          <a:stretch/>
        </p:blipFill>
        <p:spPr>
          <a:xfrm>
            <a:off x="1143000" y="1714680"/>
            <a:ext cx="7072200" cy="457200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Пример модификационной изменчив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Содержимое 3" descr="http://svkuznesova.ucoz.ru/genetika/Chelovek/modifikacii3.jpg"/>
          <p:cNvPicPr/>
          <p:nvPr/>
        </p:nvPicPr>
        <p:blipFill>
          <a:blip r:embed="rId1"/>
          <a:stretch/>
        </p:blipFill>
        <p:spPr>
          <a:xfrm>
            <a:off x="1357200" y="1600200"/>
            <a:ext cx="6572520" cy="46864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00000"/>
                </a:solidFill>
                <a:latin typeface="Times New Roman"/>
              </a:rPr>
              <a:t>Норма реа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енотип определяет границы, в пределах которых может происходить изменение признака. </a:t>
            </a:r>
            <a:r>
              <a:rPr b="0" lang="ru-RU" sz="2800" spc="-1" strike="noStrike">
                <a:solidFill>
                  <a:srgbClr val="800000"/>
                </a:solidFill>
                <a:latin typeface="Times New Roman"/>
              </a:rPr>
              <a:t>Норма реакции – это степень варьирования признака  или пределы модификационной изменчив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личественные признаки (урожайность, размер листьев, удойность коров, яйценоскость кур) имеют более широкую норму реакции, чем качественные признаки (цвет шерсти, жирность молока, строение цветка, группа кров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Times New Roman"/>
              </a:rPr>
              <a:t>Закономерности модификационной изменчив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Варианта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– численное значение признака </a:t>
            </a: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i="1" lang="en-US" sz="3000" spc="-1" strike="noStrike">
                <a:solidFill>
                  <a:srgbClr val="800000"/>
                </a:solidFill>
                <a:latin typeface="Times New Roman"/>
              </a:rPr>
              <a:t>v</a:t>
            </a: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)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Частота встречаемости отдельных вариант</a:t>
            </a: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800000"/>
                </a:solidFill>
                <a:latin typeface="Times New Roman"/>
              </a:rPr>
              <a:t>p</a:t>
            </a:r>
            <a:r>
              <a:rPr b="0" lang="en-US" sz="3000" spc="-1" strike="noStrike">
                <a:solidFill>
                  <a:srgbClr val="800000"/>
                </a:solidFill>
                <a:latin typeface="Times New Roman"/>
              </a:rPr>
              <a:t>)</a:t>
            </a: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Вариационный ряд 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– особи располагаются по возрастанию показателя изучаемого признак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800000"/>
                </a:solidFill>
                <a:latin typeface="Times New Roman"/>
              </a:rPr>
              <a:t>Вариационная кривая</a:t>
            </a:r>
            <a:r>
              <a:rPr b="0" lang="ru-RU" sz="3000" spc="-1" strike="noStrike">
                <a:solidFill>
                  <a:srgbClr val="000000"/>
                </a:solidFill>
                <a:latin typeface="Times New Roman"/>
              </a:rPr>
              <a:t> – графическое отображение частоты встречаемости каждой варианты; строится на основе вариационного ряда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b00000"/>
                </a:solidFill>
                <a:latin typeface="Times New Roman"/>
              </a:rPr>
              <a:t>Пример вариационного ряда и вариационной криво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сли взять 100 колосьев пшеницы </a:t>
            </a: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</a:rPr>
              <a:t>n</a:t>
            </a:r>
            <a:r>
              <a:rPr b="0" i="1" lang="ru-RU" sz="1800" spc="-1" strike="noStrike">
                <a:solidFill>
                  <a:srgbClr val="800000"/>
                </a:solidFill>
                <a:latin typeface="Times New Roman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подсчитать число колосков в колосе, то это количество будет от 14 – 20 </a:t>
            </a:r>
            <a:r>
              <a:rPr b="0" i="1" lang="en-US" sz="1800" spc="-1" strike="noStrike">
                <a:solidFill>
                  <a:srgbClr val="800000"/>
                </a:solidFill>
                <a:latin typeface="Times New Roman"/>
              </a:rPr>
              <a:t>(v)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8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Вариационный ряд модификационной изменчивости  пшеницы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нание закономерностей модификационной изменчивости имеет практическое значение , так как позволяет заранее предвидеть степень варьирования признаков организма в зависимости от условий внешней сред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Содержимое 3" descr="https://upload.wikimedia.org/wikipedia/commons/8/82/Hubbdert-curve.png"/>
          <p:cNvPicPr/>
          <p:nvPr/>
        </p:nvPicPr>
        <p:blipFill>
          <a:blip r:embed="rId1"/>
          <a:stretch/>
        </p:blipFill>
        <p:spPr>
          <a:xfrm>
            <a:off x="3571920" y="3714840"/>
            <a:ext cx="2428920" cy="171432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  <p:pic>
        <p:nvPicPr>
          <p:cNvPr id="59" name="Picture 2" descr=""/>
          <p:cNvPicPr/>
          <p:nvPr/>
        </p:nvPicPr>
        <p:blipFill>
          <a:blip r:embed="rId2"/>
          <a:stretch/>
        </p:blipFill>
        <p:spPr>
          <a:xfrm>
            <a:off x="928800" y="2571840"/>
            <a:ext cx="7586640" cy="1000080"/>
          </a:xfrm>
          <a:prstGeom prst="rect">
            <a:avLst/>
          </a:prstGeom>
          <a:ln w="936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Admin</cp:lastModifiedBy>
  <dcterms:modified xsi:type="dcterms:W3CDTF">2015-09-28T15:52:03Z</dcterms:modified>
  <cp:revision>38</cp:revision>
  <dc:subject/>
  <dc:title>Слайд 1</dc:title>
</cp:coreProperties>
</file>