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DE8-773F-4769-B84B-0EE30BAB8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4427-A055-4622-B390-956549BD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A35-65F8-4342-A38E-944FBB40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7140-6FDA-4D7D-AE92-F6A7DDD6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90DF-6218-4E1E-8657-2F705752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2C13-72BA-4EFA-AE40-8D9C582D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92EA-E525-4644-AC7D-21589B4C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33A-1B77-4DF8-9F39-AA223A0D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9328-6549-4E84-B5AB-8E055DF6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67AD-EADE-4049-8B63-AD51882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A5A4-2C86-4C3E-8F77-1FFAFD89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0F9-6C55-4B8A-A5E9-A4938772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C9B60-E19D-4223-BF41-C894ED3873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7708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Закономерности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чивость: определение, типы. Значение разных форм изменчивости для жизни организма и эволюции. Модификационная изменчивость. Причины модификационной изменчивости. Норма реакции, ее генетические осно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пределение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Изменчив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- это способность организма приобретать новые признаки и св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азличают 2 типа изменчив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1) Ненаследственная (фенотипическая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2) Наследственная (генотипическая</a:t>
            </a: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пределение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71400"/>
            <a:ext cx="59007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Модификационная изменчив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изменчивость организмов, возникающая под влиянием факторов внешней среды и не затрагивающая генотип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Рисунок.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размеров одуванчика под влиянием условий среды: 1 – выросший на равнине; 2 – выросший в гор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572160" y="1571760"/>
            <a:ext cx="1957320" cy="46814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Разнолистность у стрелолиста – классический пример модификационной изменчив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http://www.supersadovnik.ru/site_images/00000003/00030646.jpg"/>
          <p:cNvPicPr/>
          <p:nvPr/>
        </p:nvPicPr>
        <p:blipFill>
          <a:blip r:embed="rId1"/>
          <a:stretch/>
        </p:blipFill>
        <p:spPr>
          <a:xfrm>
            <a:off x="1143000" y="1714680"/>
            <a:ext cx="7072200" cy="4572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Пример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3" descr="http://svkuznesova.ucoz.ru/genetika/Chelovek/modifikacii3.jpg"/>
          <p:cNvPicPr/>
          <p:nvPr/>
        </p:nvPicPr>
        <p:blipFill>
          <a:blip r:embed="rId1"/>
          <a:stretch/>
        </p:blipFill>
        <p:spPr>
          <a:xfrm>
            <a:off x="1357200" y="1600200"/>
            <a:ext cx="6572520" cy="4686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Норма реа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отип определяет границы, в пределах которых может происходить изменение признака.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Норма реакции – это степень варьирования признака  или пределы модификационной изменчив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ризнаки (урожайность, размер листьев, удойность коров, яйценоскость кур) имеют более широкую норму реакции, чем качественные признаки (цвет шерсти, жирность молока, строение цветка, группа кров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Закономерности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н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численное значение признака 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v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Частота встречаемости отдельных вариант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ционный ряд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особи располагаются по возрастанию показателя изучаемого призна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ционная крива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графическое отображение частоты встречаемости каждой варианты; строится на основе вариационного ря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Пример вариационного ряда и вариационной кри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зять 100 колосьев пшеницы 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дсчитать число колосков в колосе, то это количество будет от 14 – 20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(v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ариационный ряд модификационной изменчивости  пшениц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ние закономерностей модификационной изменчивости имеет практическое значение , так как позволяет заранее предвидеть степень варьирования признаков организма в зависимости от условий внешн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одержимое 3" descr="https://upload.wikimedia.org/wikipedia/commons/8/82/Hubbdert-curve.png"/>
          <p:cNvPicPr/>
          <p:nvPr/>
        </p:nvPicPr>
        <p:blipFill>
          <a:blip r:embed="rId1"/>
          <a:stretch/>
        </p:blipFill>
        <p:spPr>
          <a:xfrm>
            <a:off x="3571920" y="3714840"/>
            <a:ext cx="2428920" cy="17143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928800" y="2571840"/>
            <a:ext cx="7586640" cy="100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5-09-28T15:52:03Z</dcterms:modified>
  <cp:revision>38</cp:revision>
  <dc:subject/>
  <dc:title>Слайд 1</dc:title>
</cp:coreProperties>
</file>