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E41-8939-40DB-811E-3C0A218D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F31-FA64-451B-B112-5B1689B7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D51-197B-40E3-8C6B-668487A6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234-1395-42C3-B993-06772D5C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FB6F-54BF-4A2C-BD6F-8D3A758A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3510-E6B6-4722-AC8D-121C37B2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0E65-F128-4B6E-B8DD-01C36630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AEA-E27B-40E0-BA75-22ADFE37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E024-791C-4914-8A02-9D0D063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2788-B46E-4C6C-AE12-969BBCB5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A42C-7BB9-48F3-8303-35D3DBC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C85-F7E4-4CA2-9307-D42E481C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D0A6-A5C3-4CD8-A22F-FC5A2A2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C96-C221-4C83-BC2F-0BC05643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38A6-CC3E-490E-921D-2EC3002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0BF5-4190-426F-B171-63C7F2C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4D9-CC30-442A-B34F-2A0177D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1AC-9E51-4850-B40C-71AF4DD8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82E-0553-483F-B5A4-ECD4A8E8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94F-EF55-4A4A-A64B-8AFDED7D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6AC-0FF0-4C84-9F91-C18BE536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E89-DAA4-4222-B25B-E2DB7AA9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D14-D37C-4A2A-9977-8C86CE8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48B-5897-4777-B8E1-2AC8EF3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B891-BB87-4CEF-BC78-3942AB07D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CC22-7A5B-4357-BCFD-41EF1423E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онастыри в императорский пери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начал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ым видом монастырского общежития являлас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усты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усты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начала небольшой монастырь или просто уединенная келья в отдаленных, безлюдны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конц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многие из них превратились в крупные обители, но продолжали именоваться пустын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веденская Оптина пустынь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Калужская губерния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2662200"/>
            <a:ext cx="4038480" cy="275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62440" y="275760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в русских монастырях получило распростран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старч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рч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руководство через советы и наставления опытного в духовной жизни старца внутренней жизнью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чество подразумевает безусловное послушание ученика наставн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146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идел в институте монашества противника своих преобразо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абрь 1724 г. – «Объявление о монашестве» - содержался проект, как сделать монашество полезным для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32673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038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одтвердила все указы, касавшиеся монастыр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жесточились меры по пресечению бегства из монастыр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19040" y="1844640"/>
            <a:ext cx="2337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1539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ление Анны Иоанновны было особенно тяжелым для монаш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30 г. – указ о строгом соблюдении запрета монастырям приобретать зем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ленность монашествующих сократилась на 4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171468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2920" y="476280"/>
            <a:ext cx="40388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абления наступили в царствование Елизаветы Петро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44 г. – Троице-Сергиев монастырь получил статус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ав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ав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рупный монастырь, имеющий для церкви особое зна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6480" y="1044720"/>
            <a:ext cx="3556080" cy="3987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 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XIX –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начале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XX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века стату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авры имели 4 монастыр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16480" y="1981080"/>
            <a:ext cx="270216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523880" y="4390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572080" y="4152960"/>
            <a:ext cx="2190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авры являлись наиболее крупными духовными центрами РП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ая лавра имела издательскую базу, печатала духовную литературу, публиковала документы и свои периодические из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мь крупных монастырей являлис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тавропигиальны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от греч. «крест» и «вбиваю»)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ропигиальный монастыр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на месте, где закладывался монастырь, предстоятелем вбивался крес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астырю, получающему статус ставропигиального, от патриарха передается крест, который хранится в алт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ловецкий монастырь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ставропигиальный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2585880"/>
            <a:ext cx="4038480" cy="290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763720"/>
            <a:ext cx="40384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57:31Z</dcterms:created>
  <dc:creator>Света</dc:creator>
  <dc:description/>
  <dc:language>en-US</dc:language>
  <cp:lastModifiedBy>Света</cp:lastModifiedBy>
  <dcterms:modified xsi:type="dcterms:W3CDTF">2009-11-15T15:28:19Z</dcterms:modified>
  <cp:revision>5</cp:revision>
  <dc:subject/>
  <dc:title>Монастыри в императорский период</dc:title>
</cp:coreProperties>
</file>