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CEC-0F95-4276-B461-97B7E3EE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619-F92D-4184-8C0E-010B14F3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B29-A644-4155-92CA-077D2E56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FAB-536E-4D06-BFB5-25E218A9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00E8-BC1A-4A78-AB06-19CC2B33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70A9-E675-41FA-86A9-334CB8AA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DDE2-4E17-4E1D-9978-06EB9FC3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AEB0-A789-4A72-8BC8-931DA3D3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7C07-D4AC-4441-9836-301F1E2D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C4BC-7282-48E8-A668-A9B11704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6BAA-CAF2-40F1-A740-5A69A65C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E18-FDF0-4252-A5DA-891AE37A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F68C-7CD9-451C-AFAA-84F3233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36CF-5180-46E8-91B0-7274FB8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2235-9167-4631-ACF5-3586FFF3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111E-40F3-44F5-BFE8-38D5F620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7EE9-C641-4494-A24F-034DA81B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BB1-F8EE-49EC-A9F7-3DAB5748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9EA-4821-47CA-AE41-F97D3EF0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BF3-9AB9-430B-A6D3-94640859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FB5-3B7F-4D36-957F-8585122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342-A05C-4E5D-9A3C-8D0EE49C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0FA-116A-44A0-AA37-5E5CF42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072-0465-4B02-BE8F-D0CB2EF1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40CD-9482-430C-B790-8EFB11291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7AE4-37CA-4827-91BF-B4A212733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настыри в императорский перио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чал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бым видом монастырского общежития являлас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усты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усты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начала небольшой монастырь или просто уединенная келья в отдаленных, безлюдны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конц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 многие из них превратились в крупные обители, но продолжали именоваться пустын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веденская Оптина пустынь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Калужская губерния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2662200"/>
            <a:ext cx="4038480" cy="2751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62440" y="275760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 в русских монастырях получило распростране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старче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рч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руководство через советы и наставления опытного в духовной жизни старца внутренней жизнью уче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чество подразумевает безусловное послушание ученика наставни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-146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т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идел в институте монашества противника своих преобразов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кабрь 1724 г. – «Объявление о монашестве» - содержался проект, как сделать монашество полезным для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326736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1539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дтвердила все указы, касавшиеся монастыр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жесточились меры по пресечению бегства из монастыр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19040" y="1844640"/>
            <a:ext cx="2337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1539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0" y="764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авление Анны Иоанновны было особенно тяжелым для монаш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30 г. – указ о строгом соблюдении запрета монастырям приобретать зем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сленность монашествующих сократилась на 4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17146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2920" y="476280"/>
            <a:ext cx="40388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абления наступили в царствование Елизаветы Петров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744 г. – Троице-Сергиев монастырь получил статус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ав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_______________________________________________________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ав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рупный монастырь, имеющий для церкви особое зна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6480" y="1044720"/>
            <a:ext cx="3556080" cy="3987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XIX –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начале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XX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века стату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лавры имели 4 монастыр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16480" y="1981080"/>
            <a:ext cx="270216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523880" y="4390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572080" y="4152960"/>
            <a:ext cx="2190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авры являлись наиболее крупными духовными центрами РП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ая лавра имела издательскую базу, печатала духовную литературу, публиковала документы и свои периодические из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мь крупных монастырей являлис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тавропигиальны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от греч. «крест» и «вбиваю»)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ропигиальный монастыр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 месте, где закладывался монастырь, предстоятелем вбивался крес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астырю, получающему статус ставропигиального, от патриарха передается крест, который хранится в алт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оловецкий монастырь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ставропигиальный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2585880"/>
            <a:ext cx="4038480" cy="290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2763720"/>
            <a:ext cx="4038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3:57:31Z</dcterms:created>
  <dc:creator>Света</dc:creator>
  <dc:description/>
  <dc:language>en-US</dc:language>
  <cp:lastModifiedBy>Света</cp:lastModifiedBy>
  <dcterms:modified xsi:type="dcterms:W3CDTF">2009-11-15T15:28:19Z</dcterms:modified>
  <cp:revision>5</cp:revision>
  <dc:subject/>
  <dc:title>Монастыри в императорский период</dc:title>
</cp:coreProperties>
</file>