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325-A026-4660-9F5F-7CA5C57A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3F0-1E5D-45B0-BCBE-8F4151A0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1F8-10EA-4C5B-9383-55B032E7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FD0-0C0B-40E7-B970-F5579F5A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79C0F-2DA5-43FD-8FA4-BD7D5C1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577F2-3937-497E-94B7-9B127E26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26DE5-26D1-4188-85D6-744E24E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08E88-EF9B-4294-A893-E031A8B6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C415-1EEA-408A-9242-14D9CB8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96208-0D34-4158-88DF-69A4124B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6C03C-76BA-45E8-BC8F-91FCE4E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027-C6E1-455C-99EC-84B7BDDF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D0305-2D62-47A2-A9BB-76324E1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3DB1E-E130-4C42-81D4-5140994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DFE17-7C00-424E-AE36-C59AD4A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F6C7-B057-48E0-84E1-9FE40CB5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3D6F-B661-464A-ACCD-CA509B16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A22-A297-46EC-A014-221B8B01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4CF-9556-4818-A403-37F01CC5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F45-3CA3-478E-9CF6-7DD878AA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EE3-8C22-4C9E-BED6-A9E26D68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9D6-1EB5-441E-B5D4-7996BF4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108-E483-4BA4-BF63-7BC39211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B1B-132B-4324-85CC-261FA1F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F1D3-FA08-440F-B00C-D57B33673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5CF-B5FB-4A4A-87B7-1CD248320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Православные монастыри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40000" y="3645000"/>
            <a:ext cx="425772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2540160" cy="4132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же огромную роль в развитии русских монастырей сыграл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л Сорск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желал насадить и утвердить в России особый вид монашеского жития – житие скитск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дним из наиболее известных в этот период монастырей был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патьевский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он упоминается на страницах летописей в 1432 г., но создан был значительно раньше. Монастырская легенда, записанная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е, относит время создания его ко второй четвер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олет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патьевский монастырь (Костром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816360" cy="2823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88000" y="2657520"/>
            <a:ext cx="35290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674800"/>
            <a:ext cx="4038480" cy="2573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64280" y="1905120"/>
            <a:ext cx="280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патьевский монастырь у впадения реки Костромы в Вол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1680" y="2673360"/>
            <a:ext cx="3809880" cy="25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оице-Сергиева лав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-1755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038480" cy="30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роице-Сергиева лав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1680" y="259092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49840" y="2952720"/>
            <a:ext cx="3835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астыри в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-XVII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век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телями первого большого монастыря Древней Руси, Киево-Печерского, были прп. Антоний и прп. Феодосий Печерс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ые монастыри были основаны князьями или другими богатыми людьми, которые создавали их на свои средства, обеспечивали всем необходимым и назначали настоя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о-Печерский монастырь начал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конструк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400" y="1125360"/>
            <a:ext cx="384840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настыри в начальный период располагались в городах или вблизи городов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 известно 19 монастырей. Создавались они в этот период в основном в Южной Руси: в Киеве, Чернигове, Тмутаракани, Переяславле, Владимире-Волынском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 были монастыри и в северо-восточных пределах: в Муроме, Суздале, Рост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6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Монгольское нашествие прервало мирное течение монастырской жизни: многие монастыри были разрушены и не все впоследствии восстановились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15000" y="789120"/>
            <a:ext cx="36939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рождение монашества началось лишь со второй половины – конц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 в результате деятельности свт. Алексия Московского и прп. Сергия Радонеж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34040" y="1179360"/>
            <a:ext cx="28573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V-XVI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в. особую роль в организации монастырской жизни сыграл прп. Иосиф, основатель Волоколамского монастыря, названного его именем. Он ввел общежительный устав, когда число монахов возросло до 100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п. Иоси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33640" y="2205000"/>
            <a:ext cx="270504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2766960"/>
            <a:ext cx="34560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осифо-Волоколамский монастыр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2035080" cy="309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648400" y="2421000"/>
            <a:ext cx="2000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1:24Z</dcterms:created>
  <dc:creator>Света</dc:creator>
  <dc:description/>
  <dc:language>en-US</dc:language>
  <cp:lastModifiedBy>Светлана</cp:lastModifiedBy>
  <dcterms:modified xsi:type="dcterms:W3CDTF">2013-11-21T12:31:44Z</dcterms:modified>
  <cp:revision>14</cp:revision>
  <dc:subject/>
  <dc:title>  Монастыри.  Монашество.</dc:title>
</cp:coreProperties>
</file>