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22A0-9350-446F-9E2E-967F3497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E6B-1631-4209-BA4A-52FABEFB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3D2-6D22-4BBC-8693-0CC4E773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605-20BD-4632-B7D2-B4D40805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77345-D6A3-456B-BAC2-CC67031E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93F74-88BD-49BD-B3B4-5B02FEE8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EDA2D-0FC9-4B94-BA7E-8DD8ADD2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ECFEC-A768-4DDA-B412-D925F30E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43DFD-B290-420B-BF32-6703129B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329D4-171B-445E-8810-E5B8ECC6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8A841-81E6-4B40-A9EB-07DD7241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5482-06C5-4262-BF42-E65934F7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F4A1E-1F7B-4F65-B090-123AB36A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EFC34-9313-4928-8528-33B66DF6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F4E56-8C3F-4B35-9E8D-CA5F46BE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7859E-F92F-44CB-A7C9-73341523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17FC5-1D91-4332-94B2-EA2F8EF3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E7D-BC5F-44ED-98E3-79C635E4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21B-6CEF-448A-87AE-91CCD99B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4B9-611E-442D-81F5-B594E0A3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5D1-4614-4738-8FC3-9F120E30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F13-9D34-41B7-8DEE-B47A52DC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00A-3A4C-46FD-9EA9-5EAE4223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345-8D5F-4B6C-BFE0-0D43D6E9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98D7-EB13-454E-A690-FCC3F9838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BDD4-6098-4DEC-A044-C8FAB6AA1D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Православные монастыри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340000" y="3645000"/>
            <a:ext cx="425772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2540160" cy="4132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48320" y="1125360"/>
            <a:ext cx="403848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же огромную роль в развитии русских монастырей сыграл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ил Сорски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желал насадить и утвердить в России особый вид монашеского жития – житие скитск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дним из наиболее известных в этот период монастырей был 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Ипатьевский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ервые он упоминается на страницах летописей в 1432 г., но создан был значительно раньше. Монастырская легенда, записанная 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еке, относит время создания его ко второй четверт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олет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патьевский монастырь (Костром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2637000"/>
            <a:ext cx="3816360" cy="2823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788000" y="2657520"/>
            <a:ext cx="35290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2674800"/>
            <a:ext cx="4038480" cy="2573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264280" y="1905120"/>
            <a:ext cx="280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патьевский монастырь у впадения реки Костромы в Волг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71680" y="2673360"/>
            <a:ext cx="3809880" cy="2577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48320" y="261612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роице-Сергиева лав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-1755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4038480" cy="30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16360" y="12682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роице-Сергиева лав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1680" y="259092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749840" y="2952720"/>
            <a:ext cx="3835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настыри в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X-XVII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века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телями первого большого монастыря Древней Руси, Киево-Печерского, были прп. Антоний и прп. Феодосий Печерск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ые монастыри были основаны князьями или другими богатыми людьми, которые создавали их на свои средства, обеспечивали всем необходимым и назначали настоя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48320" y="47592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ево-Печерский монастырь начал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конструкц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3400" y="1125360"/>
            <a:ext cx="3848400" cy="42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онастыри в начальный период располагались в городах или вблизи городов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 известно 19 монастырей. Создавались они в этот период в основном в Южной Руси: в Киеве, Чернигове, Тмутаракани, Переяславле, Владимире-Волынском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ако были монастыри и в северо-восточных пределах: в Муроме, Суздале, Рост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038480" cy="56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Монгольское нашествие прервало мирное течение монастырской жизни: многие монастыри были разрушены и не все впоследствии восстановились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15000" y="789120"/>
            <a:ext cx="369396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40384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рождение монашества началось лишь со второй половины – конц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ека в результате деятельности свт. Алексия Московского и прп. Сергия Радонежск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34040" y="1179360"/>
            <a:ext cx="285732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XV-XVI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в. особую роль в организации монастырской жизни сыграл прп. Иосиф, основатель Волоколамского монастыря, названного его именем. Он ввел общежительный устав, когда число монахов возросло до 100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п. Иоси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33640" y="2205000"/>
            <a:ext cx="2705040" cy="352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03640" y="2766960"/>
            <a:ext cx="34560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осифо-Волоколамский монастырь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76360" y="2349360"/>
            <a:ext cx="2035080" cy="3095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648400" y="2421000"/>
            <a:ext cx="2000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8:31:24Z</dcterms:created>
  <dc:creator>Света</dc:creator>
  <dc:description/>
  <dc:language>en-US</dc:language>
  <cp:lastModifiedBy>Светлана</cp:lastModifiedBy>
  <dcterms:modified xsi:type="dcterms:W3CDTF">2013-11-21T12:31:44Z</dcterms:modified>
  <cp:revision>14</cp:revision>
  <dc:subject/>
  <dc:title>  Монастыри.  Монашество.</dc:title>
</cp:coreProperties>
</file>