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0AC-834E-4B35-B7B0-55F7D87D5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6373-9938-44D5-886B-DDBF8DEF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800-2F06-48D6-8DBA-57E7156C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E53A-094E-476E-8FC0-197B442B7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936D-D29E-4DB8-B7D6-D1AEBD32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020F-00D0-46E1-91A7-5EC6A1FE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C40E-6D62-4CDB-AE72-50F16B16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9990-55BC-4146-A101-13FE2B816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7DE6-2355-428A-BBEE-251950914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2ED4-9DB2-41CC-8E72-02FFF0F6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73F6-DED1-4D88-879E-D5D7209F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5D8-F783-4559-8299-06EB52BE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F077-25B5-4AD2-830A-C0F6F9EA35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476360" y="2349360"/>
            <a:ext cx="6340320" cy="179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11280" y="549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УББОТА - «золовкины посидел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2124000" y="1268280"/>
            <a:ext cx="4808520" cy="36007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50920" y="5084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сжигают чучело Масленицы и окончательно прощаются с зи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672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Заканчивается гулянье, на ледяных горках разводят костры, чтобы лед растопить, холод уничтожить. Прощения прося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11280" y="333360"/>
            <a:ext cx="7916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ОСКРЕСЕНЬЕ - «прощеный день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211640" y="1054080"/>
            <a:ext cx="45784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Русская маслен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56000" y="1484280"/>
            <a:ext cx="39528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10105 L 0 4.62428E-006 E">
                                      <p:cBhvr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46800" bIns="46800" anchor="ctr" anchorCtr="1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Масленица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- один из праздников проводов зимы. Она приходится на неделю предшествующему Великому посту. Масленица - это праздник обильной и сытной пищи (кроме мяса), а молочные продукты ещё можно  употреблять - вот и пекут блины масленые. По этой же причине Масленицу называют Сырной нед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11280" y="551664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Масленица - самый весёлый, шумный народный праздник. Каждый день недели имеет своё название и говорит о том, что  в этот день полагается дел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648000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5734080"/>
            <a:ext cx="3457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ряжают куклу-чуче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12598" r="21044" b="0"/>
          <a:stretch/>
        </p:blipFill>
        <p:spPr>
          <a:xfrm>
            <a:off x="900000" y="1268280"/>
            <a:ext cx="2919600" cy="4318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11280" y="404640"/>
            <a:ext cx="79167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ОНЕДЕЛЬНИК - «встреча» масленицы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11640" y="4221000"/>
            <a:ext cx="39592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 marL="246960" indent="-24696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чинают печь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403236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В этот день начинаются весёлые игры, а за потеху и веселье угощают бли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79640" y="404640"/>
            <a:ext cx="539892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ВТОРНИК - «заигрыш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3994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24000" y="53006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На первом месте в ряду угощений, конечно, б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906560" y="476280"/>
            <a:ext cx="5399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СРЕДА - «лакомка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54338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250920" y="5516280"/>
            <a:ext cx="8229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Это время называется Широкой Маслениц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908000" y="477720"/>
            <a:ext cx="53992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ЧЕТВЕРГ - «разгуляй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916360" y="1125360"/>
            <a:ext cx="3267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332000" y="260280"/>
            <a:ext cx="6478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ТНИЦА - «тёщины вечерки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960480"/>
            <a:ext cx="8790120" cy="56815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2989440" y="3152880"/>
            <a:ext cx="1385640" cy="2201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133800" y="20001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3781440" y="3944880"/>
            <a:ext cx="2438280" cy="1544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3565440" y="1208160"/>
            <a:ext cx="115092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7:34:41Z</dcterms:created>
  <dc:creator>Customer</dc:creator>
  <dc:description/>
  <dc:language>en-US</dc:language>
  <cp:lastModifiedBy>Customer</cp:lastModifiedBy>
  <dcterms:modified xsi:type="dcterms:W3CDTF">2010-06-29T21:01:32Z</dcterms:modified>
  <cp:revision>12</cp:revision>
  <dc:subject/>
  <dc:title>Слайд 1</dc:title>
</cp:coreProperties>
</file>