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260-AE40-4B81-A5A8-499879663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38A5-E400-4DA6-B58B-379D7010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3007-F038-4408-B81F-D5CAB60C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4988-19C8-44C6-A3DD-F54619CA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DF9-D2D9-411E-9A60-4AA9110F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244-AA5E-46DA-9D6C-CB089C1D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6586-8222-4A85-A700-6680DE771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063-72FA-4A0F-9E90-A78AB7F61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E338-BC60-4E68-BC8D-05F4D3F3D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6AB2-91FB-4A45-AC97-AA8BF92E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7018-C431-413C-A6DB-BB972364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E848-ACE0-4C13-B954-C1E09F15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850-C883-49C8-B680-02CA54F60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349360"/>
            <a:ext cx="63403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слени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один из праздников проводов зимы. Она приходится на неделю предшествующему Великому посту. Масленица - это праздник обильной и сытной пищи (кроме мяса), а молочные продукты ещё можно  употреблять - вот и пекут блины масленые. По этой же причине Масленицу называют Сырной нед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Масленица - самый весёлый, шумный народный праздник. Каждый день недели имеет своё название и говорит о том, что  в этот день полагается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648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Customer</cp:lastModifiedBy>
  <dcterms:modified xsi:type="dcterms:W3CDTF">2010-06-29T21:01:32Z</dcterms:modified>
  <cp:revision>12</cp:revision>
  <dc:subject/>
  <dc:title>Слайд 1</dc:title>
</cp:coreProperties>
</file>