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25.gif" ContentType="image/gif"/>
  <Override PartName="/ppt/media/image9.jpeg" ContentType="image/jpeg"/>
  <Override PartName="/ppt/media/image11.jpeg" ContentType="image/jpeg"/>
  <Override PartName="/ppt/media/image5.gif" ContentType="image/gif"/>
  <Override PartName="/ppt/media/image4.gif" ContentType="image/gif"/>
  <Override PartName="/ppt/media/image1.jpeg" ContentType="image/jpeg"/>
  <Override PartName="/ppt/media/image24.gif" ContentType="image/gif"/>
  <Override PartName="/ppt/media/image23.gif" ContentType="image/gif"/>
  <Override PartName="/ppt/media/image22.png" ContentType="image/png"/>
  <Override PartName="/ppt/media/image19.gif" ContentType="image/gif"/>
  <Override PartName="/ppt/media/image21.png" ContentType="image/png"/>
  <Override PartName="/ppt/media/image18.gif" ContentType="image/gif"/>
  <Override PartName="/ppt/media/image20.jpeg" ContentType="image/jpeg"/>
  <Override PartName="/ppt/media/image14.gif" ContentType="image/gif"/>
  <Override PartName="/ppt/media/image17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DFA8-3D89-43D3-9A6E-306BEC13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E933-8FCF-48C4-9151-F2E20C7E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5E9B-1DFB-4D9D-9E48-494B3C721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96A7-C1C5-48FA-8CE4-0C5AB5E70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F54-FC8C-46F7-AE59-DFA3E813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23B1-0DE7-466D-B840-81F47E7F9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F45-91AF-4E49-8795-2151FD35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30E8-6A89-4439-96E3-A796C207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24B3-6DB5-4D52-ABB8-42AAE766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EC07-7FEE-4D45-AC66-63B45EC5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5FDE-BA48-4172-AF51-839C1558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A26-2702-4E9C-B536-7531F81E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BE16-D02D-4CE0-9EDB-38996EBE8C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071720" y="4996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Monotype Corsiva"/>
              </a:rPr>
              <a:t>День матери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Текст 2"/>
          <p:cNvSpPr/>
          <p:nvPr/>
        </p:nvSpPr>
        <p:spPr>
          <a:xfrm>
            <a:off x="324000" y="4797360"/>
            <a:ext cx="899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Отшумит и умчится любая б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Как весенней порою грохочущий г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Если с вами она, если рядом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Человек, на котором держится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rogizobilija"/>
          <p:cNvPicPr/>
          <p:nvPr/>
        </p:nvPicPr>
        <p:blipFill>
          <a:blip r:embed="rId1"/>
          <a:stretch/>
        </p:blipFill>
        <p:spPr>
          <a:xfrm>
            <a:off x="6588000" y="3652920"/>
            <a:ext cx="2603520" cy="2998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0" y="4762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с баюкала, кормила, у кровати пела 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ым нас она учила добрым, радостным слов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олько ночек не спалось ей, если вдруг болели 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олько плакать довелось ей в комнатушке среди ть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к кручинится, когда мы опечалены под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олько радости у мамы, если кто-то хвалит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олько мук ей было с нами, и наград не надо 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 одном мечтают мамы, - о любви свои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Читают"/>
          <p:cNvPicPr/>
          <p:nvPr/>
        </p:nvPicPr>
        <p:blipFill>
          <a:blip r:embed="rId1"/>
          <a:stretch/>
        </p:blipFill>
        <p:spPr>
          <a:xfrm flipH="1">
            <a:off x="323640" y="5308560"/>
            <a:ext cx="1152360" cy="1519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мальчик думает"/>
          <p:cNvPicPr/>
          <p:nvPr/>
        </p:nvPicPr>
        <p:blipFill>
          <a:blip r:embed="rId2"/>
          <a:stretch/>
        </p:blipFill>
        <p:spPr>
          <a:xfrm flipH="1">
            <a:off x="7740720" y="5308560"/>
            <a:ext cx="1149120" cy="1470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905120" y="189000"/>
            <a:ext cx="529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Песня для наших м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D:\мама\первоклашки\DSC04565.JPG"/>
          <p:cNvPicPr/>
          <p:nvPr/>
        </p:nvPicPr>
        <p:blipFill>
          <a:blip r:embed="rId1"/>
          <a:stretch/>
        </p:blipFill>
        <p:spPr>
          <a:xfrm>
            <a:off x="531720" y="961920"/>
            <a:ext cx="7464600" cy="5597640"/>
          </a:xfrm>
          <a:prstGeom prst="rect">
            <a:avLst/>
          </a:prstGeom>
          <a:ln w="0">
            <a:noFill/>
          </a:ln>
        </p:spPr>
      </p:pic>
      <p:pic>
        <p:nvPicPr>
          <p:cNvPr id="87" name="песня про маму.wma" descr=""/>
          <p:cNvPicPr/>
          <p:nvPr/>
        </p:nvPicPr>
        <p:blipFill>
          <a:blip r:embed="rId2"/>
          <a:stretch/>
        </p:blipFill>
        <p:spPr>
          <a:xfrm>
            <a:off x="25092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3546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684360" y="189000"/>
            <a:ext cx="70498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к это бывает, сама не пой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 солнышко в небе, что мама в д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облако солнышко  скроется вд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ё станет пустым и печальным вокр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йдёт не надолго мама моя,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кой не весёлой сделаюсь 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граю, смеюсь, кувыркаюсь, п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юблю я голубку родную мо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ма, мама, словно ф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ы красива и м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ы всегда мне всё подскаже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ы всегда мне скажешь, 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любой вопрос ответи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ма, милая мо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у скажи мне, ну скажи м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к же не любить теб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020"/>
          <p:cNvPicPr/>
          <p:nvPr/>
        </p:nvPicPr>
        <p:blipFill>
          <a:blip r:embed="rId1"/>
          <a:stretch/>
        </p:blipFill>
        <p:spPr>
          <a:xfrm>
            <a:off x="7740720" y="0"/>
            <a:ext cx="115092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sinichkafeol13"/>
          <p:cNvPicPr/>
          <p:nvPr/>
        </p:nvPicPr>
        <p:blipFill>
          <a:blip r:embed="rId2"/>
          <a:stretch/>
        </p:blipFill>
        <p:spPr>
          <a:xfrm>
            <a:off x="395280" y="5710320"/>
            <a:ext cx="1008000" cy="836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sinichkafeol13"/>
          <p:cNvPicPr/>
          <p:nvPr/>
        </p:nvPicPr>
        <p:blipFill>
          <a:blip r:embed="rId3"/>
          <a:stretch/>
        </p:blipFill>
        <p:spPr>
          <a:xfrm flipH="1">
            <a:off x="6588000" y="620640"/>
            <a:ext cx="936720" cy="836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sinichkafeol13"/>
          <p:cNvPicPr/>
          <p:nvPr/>
        </p:nvPicPr>
        <p:blipFill>
          <a:blip r:embed="rId4"/>
          <a:stretch/>
        </p:blipFill>
        <p:spPr>
          <a:xfrm flipH="1">
            <a:off x="7272360" y="5877000"/>
            <a:ext cx="936720" cy="836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08720" y="249660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Танец </a:t>
            </a:r>
            <a:br>
              <a:rPr sz="4800"/>
            </a:br>
            <a:r>
              <a:rPr b="1" i="1" lang="ru-RU" sz="4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«Кадрил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I:\кадриль 2.jpg"/>
          <p:cNvPicPr/>
          <p:nvPr/>
        </p:nvPicPr>
        <p:blipFill>
          <a:blip r:embed="rId1"/>
          <a:stretch/>
        </p:blipFill>
        <p:spPr>
          <a:xfrm>
            <a:off x="539640" y="765000"/>
            <a:ext cx="498312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598320" y="3429000"/>
            <a:ext cx="82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сценирование стихотворения А.Бар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Две бабушки на лавочке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полнители ролей: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1.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чканцева Анаста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Боркун Алекса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Фалько Елизав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2271600" y="765000"/>
            <a:ext cx="49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гда мамы, бабушки улыбаю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учи сразу разбегаю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ждик лить переста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лнце лучиком игр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 привет свой щедрый шл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орнамент6"/>
          <p:cNvPicPr/>
          <p:nvPr/>
        </p:nvPicPr>
        <p:blipFill>
          <a:blip r:embed="rId1"/>
          <a:stretch/>
        </p:blipFill>
        <p:spPr>
          <a:xfrm>
            <a:off x="422280" y="6362640"/>
            <a:ext cx="8245440" cy="38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орнамент6"/>
          <p:cNvPicPr/>
          <p:nvPr/>
        </p:nvPicPr>
        <p:blipFill>
          <a:blip r:embed="rId2"/>
          <a:stretch/>
        </p:blipFill>
        <p:spPr>
          <a:xfrm>
            <a:off x="209520" y="298440"/>
            <a:ext cx="388800" cy="626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орнамент6"/>
          <p:cNvPicPr/>
          <p:nvPr/>
        </p:nvPicPr>
        <p:blipFill>
          <a:blip r:embed="rId3"/>
          <a:stretch/>
        </p:blipFill>
        <p:spPr>
          <a:xfrm>
            <a:off x="403200" y="182520"/>
            <a:ext cx="8264520" cy="38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орнамент6"/>
          <p:cNvPicPr/>
          <p:nvPr/>
        </p:nvPicPr>
        <p:blipFill>
          <a:blip r:embed="rId4"/>
          <a:stretch/>
        </p:blipFill>
        <p:spPr>
          <a:xfrm>
            <a:off x="8561520" y="380880"/>
            <a:ext cx="388800" cy="6178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34920" y="404640"/>
            <a:ext cx="8858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ихотворение   Эдуарда Успенског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Если бы был я девчонкой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Если бы был бы я девчонкой, я бы время не теря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Я б на улице не прыгал, я б рубашку постир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Я бы вымыл в кухне пол, я бы комнату подмё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Перемыл бы чашки, ложки, сам начистил бы карто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Все свои игрушки сам я б расставил по мес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Если бы был бы я девчонкой, я б куда умнее бы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Я тогда не только руки, я б и шею тоже мы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Сам бы вычистил дорожки, пыль бы вытер на окош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Я вставал бы на заре и не дрался б во дв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Отчего ж я не девчонка – я бы маме так помо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Мама сразу бы сказала – «Молодчина ты сынок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9"/>
          <p:cNvPicPr/>
          <p:nvPr/>
        </p:nvPicPr>
        <p:blipFill>
          <a:blip r:embed="rId1"/>
          <a:stretch/>
        </p:blipFill>
        <p:spPr>
          <a:xfrm>
            <a:off x="41400" y="3365640"/>
            <a:ext cx="900000" cy="787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9"/>
          <p:cNvPicPr/>
          <p:nvPr/>
        </p:nvPicPr>
        <p:blipFill>
          <a:blip r:embed="rId2"/>
          <a:stretch/>
        </p:blipFill>
        <p:spPr>
          <a:xfrm>
            <a:off x="7989840" y="4878360"/>
            <a:ext cx="814320" cy="711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9"/>
          <p:cNvPicPr/>
          <p:nvPr/>
        </p:nvPicPr>
        <p:blipFill>
          <a:blip r:embed="rId3"/>
          <a:stretch/>
        </p:blipFill>
        <p:spPr>
          <a:xfrm>
            <a:off x="7596360" y="258840"/>
            <a:ext cx="1207800" cy="105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468360" y="333360"/>
            <a:ext cx="8280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ма учит нас быть мудрыми, дает советы, оберегае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играем в игру «Мамочка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задаю вопросы, а вы отвечаете хором «Мамочка!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олько дружно и гром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colec118"/>
          <p:cNvPicPr/>
          <p:nvPr/>
        </p:nvPicPr>
        <p:blipFill>
          <a:blip r:embed="rId1"/>
          <a:stretch/>
        </p:blipFill>
        <p:spPr>
          <a:xfrm>
            <a:off x="395280" y="4653000"/>
            <a:ext cx="172872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Дети"/>
          <p:cNvPicPr/>
          <p:nvPr/>
        </p:nvPicPr>
        <p:blipFill>
          <a:blip r:embed="rId2"/>
          <a:stretch/>
        </p:blipFill>
        <p:spPr>
          <a:xfrm>
            <a:off x="5724360" y="4869000"/>
            <a:ext cx="243396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5"/>
          <p:cNvSpPr txBox="1"/>
          <p:nvPr/>
        </p:nvSpPr>
        <p:spPr>
          <a:xfrm>
            <a:off x="468360" y="620640"/>
            <a:ext cx="79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пришел ко мне с утра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99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7"/>
          <p:cNvSpPr txBox="1"/>
          <p:nvPr/>
        </p:nvSpPr>
        <p:spPr>
          <a:xfrm>
            <a:off x="539640" y="3068640"/>
            <a:ext cx="806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сказал: «Вставать пора?»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5"/>
          <p:cNvSpPr txBox="1"/>
          <p:nvPr/>
        </p:nvSpPr>
        <p:spPr>
          <a:xfrm>
            <a:off x="684360" y="404640"/>
            <a:ext cx="748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шу кто успел сварить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WordArt 7"/>
          <p:cNvSpPr txBox="1"/>
          <p:nvPr/>
        </p:nvSpPr>
        <p:spPr>
          <a:xfrm>
            <a:off x="611280" y="2924280"/>
            <a:ext cx="7561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аю в чашку кто налил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5"/>
          <p:cNvSpPr txBox="1"/>
          <p:nvPr/>
        </p:nvSpPr>
        <p:spPr>
          <a:xfrm>
            <a:off x="755640" y="476280"/>
            <a:ext cx="7561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косичку мне заплел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826920" y="2997360"/>
            <a:ext cx="749016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ый дом один подмел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476360" y="692280"/>
            <a:ext cx="614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Указ президента РФ от 30 января 1998 года определил: </a:t>
            </a:r>
            <a:r>
              <a:rPr b="1" i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ень матери следует отмечать ежегодно в последнее воскресенье ноябр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B_Fly2Бабочка"/>
          <p:cNvPicPr/>
          <p:nvPr/>
        </p:nvPicPr>
        <p:blipFill>
          <a:blip r:embed="rId1"/>
          <a:stretch/>
        </p:blipFill>
        <p:spPr>
          <a:xfrm rot="1628400">
            <a:off x="2374560" y="54972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B_Fly07"/>
          <p:cNvPicPr/>
          <p:nvPr/>
        </p:nvPicPr>
        <p:blipFill>
          <a:blip r:embed="rId2"/>
          <a:stretch/>
        </p:blipFill>
        <p:spPr>
          <a:xfrm rot="19371000">
            <a:off x="7380360" y="0"/>
            <a:ext cx="159048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B_Fly07"/>
          <p:cNvPicPr/>
          <p:nvPr/>
        </p:nvPicPr>
        <p:blipFill>
          <a:blip r:embed="rId3"/>
          <a:stretch/>
        </p:blipFill>
        <p:spPr>
          <a:xfrm rot="1932000">
            <a:off x="0" y="0"/>
            <a:ext cx="1590840" cy="1428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B_Fly2Бабочка"/>
          <p:cNvPicPr/>
          <p:nvPr/>
        </p:nvPicPr>
        <p:blipFill>
          <a:blip r:embed="rId4"/>
          <a:stretch/>
        </p:blipFill>
        <p:spPr>
          <a:xfrm rot="2746800">
            <a:off x="358560" y="364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B_Fly2Бабочка"/>
          <p:cNvPicPr/>
          <p:nvPr/>
        </p:nvPicPr>
        <p:blipFill>
          <a:blip r:embed="rId5"/>
          <a:stretch/>
        </p:blipFill>
        <p:spPr>
          <a:xfrm rot="18703800">
            <a:off x="7121160" y="440712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5"/>
          <p:cNvSpPr txBox="1"/>
          <p:nvPr/>
        </p:nvSpPr>
        <p:spPr>
          <a:xfrm>
            <a:off x="755640" y="620640"/>
            <a:ext cx="7345440" cy="12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ребячий любит смех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WordArt 7"/>
          <p:cNvSpPr txBox="1"/>
          <p:nvPr/>
        </p:nvSpPr>
        <p:spPr>
          <a:xfrm>
            <a:off x="755640" y="285264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на свете лучше всех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863640" y="351000"/>
            <a:ext cx="82803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Милые мамы, спасибо Вам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 пусть каждой из вас чаще говор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плые слова ваши любимые де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усть на их лицах светится улыб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 радостные искорки сверк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глазах,  когда вы вмест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662032"/>
          <p:cNvPicPr/>
          <p:nvPr/>
        </p:nvPicPr>
        <p:blipFill>
          <a:blip r:embed="rId1"/>
          <a:stretch/>
        </p:blipFill>
        <p:spPr>
          <a:xfrm flipH="1">
            <a:off x="0" y="2565360"/>
            <a:ext cx="213048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863640" y="351000"/>
            <a:ext cx="82803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МБОУ «Луговская СОШ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втор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геева Лин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662032"/>
          <p:cNvPicPr/>
          <p:nvPr/>
        </p:nvPicPr>
        <p:blipFill>
          <a:blip r:embed="rId1"/>
          <a:stretch/>
        </p:blipFill>
        <p:spPr>
          <a:xfrm flipH="1">
            <a:off x="0" y="2565360"/>
            <a:ext cx="213048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39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Мама — первое слово,</a:t>
            </a:r>
            <a:br>
              <a:rPr sz="4400"/>
            </a:br>
            <a:r>
              <a:rPr b="1" i="1" lang="ru-RU" sz="4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Главное слово в каждой судьбе.</a:t>
            </a:r>
            <a:br>
              <a:rPr sz="4400"/>
            </a:br>
            <a:r>
              <a:rPr b="1" i="1" lang="ru-RU" sz="4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Мама жизнь подарила,</a:t>
            </a:r>
            <a:br>
              <a:rPr sz="4400"/>
            </a:br>
            <a:r>
              <a:rPr b="1" i="1" lang="ru-RU" sz="4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Мир подарила мне и теб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Дети"/>
          <p:cNvPicPr/>
          <p:nvPr/>
        </p:nvPicPr>
        <p:blipFill>
          <a:blip r:embed="rId1"/>
          <a:stretch/>
        </p:blipFill>
        <p:spPr>
          <a:xfrm>
            <a:off x="1187280" y="4076640"/>
            <a:ext cx="27385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684360" y="912240"/>
            <a:ext cx="748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Сделать на свете мы многое сможем – </a:t>
            </a:r>
            <a:br>
              <a:rPr sz="2800"/>
            </a:br>
            <a:r>
              <a:rPr b="1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В глубинах морских и в космических тоже.</a:t>
            </a:r>
            <a:br>
              <a:rPr sz="2800"/>
            </a:br>
            <a:r>
              <a:rPr b="1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К тундре придем, и пустыням горячим.</a:t>
            </a:r>
            <a:br>
              <a:rPr sz="2800"/>
            </a:br>
            <a:r>
              <a:rPr b="1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Даже погоду переинач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Дел и дорог будет в жизни не мало.</a:t>
            </a:r>
            <a:br>
              <a:rPr sz="2800"/>
            </a:br>
            <a:r>
              <a:rPr b="1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Спросим себя: «Ну а где их начало?»</a:t>
            </a:r>
            <a:br>
              <a:rPr sz="2800"/>
            </a:br>
            <a:r>
              <a:rPr b="1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Вот он ответ наш правильный самый:</a:t>
            </a:r>
            <a:br>
              <a:rPr sz="2800"/>
            </a:br>
            <a:r>
              <a:rPr b="1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Все начинается с МАМЫ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rogizobilija"/>
          <p:cNvPicPr/>
          <p:nvPr/>
        </p:nvPicPr>
        <p:blipFill>
          <a:blip r:embed="rId1"/>
          <a:stretch/>
        </p:blipFill>
        <p:spPr>
          <a:xfrm>
            <a:off x="6732720" y="4076640"/>
            <a:ext cx="2239920" cy="2579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6"/>
          <p:cNvSpPr txBox="1"/>
          <p:nvPr/>
        </p:nvSpPr>
        <p:spPr>
          <a:xfrm>
            <a:off x="1403280" y="907920"/>
            <a:ext cx="547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свете добрых слов немало,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о всех добрее и важней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7"/>
          <p:cNvSpPr txBox="1"/>
          <p:nvPr/>
        </p:nvSpPr>
        <p:spPr>
          <a:xfrm>
            <a:off x="6588000" y="1844640"/>
            <a:ext cx="93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дно: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8"/>
          <p:cNvSpPr txBox="1"/>
          <p:nvPr/>
        </p:nvSpPr>
        <p:spPr>
          <a:xfrm>
            <a:off x="1403280" y="2492280"/>
            <a:ext cx="55450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 двух слогов простое слово: “мама”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нет слов дороже,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9"/>
          <p:cNvSpPr txBox="1"/>
          <p:nvPr/>
        </p:nvSpPr>
        <p:spPr>
          <a:xfrm>
            <a:off x="5940360" y="3429000"/>
            <a:ext cx="1368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м оно.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Picture 10" descr="OE_93F7663B49CF447CBEF8A20D44C569FE"/>
          <p:cNvPicPr/>
          <p:nvPr/>
        </p:nvPicPr>
        <p:blipFill>
          <a:blip r:embed="rId1"/>
          <a:stretch/>
        </p:blipFill>
        <p:spPr>
          <a:xfrm>
            <a:off x="5160960" y="4292640"/>
            <a:ext cx="398304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1600" y="2184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Танец </a:t>
            </a:r>
            <a:br>
              <a:rPr sz="4800"/>
            </a:br>
            <a:r>
              <a:rPr b="1" i="1" lang="ru-RU" sz="4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«Куклы и Гусар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http://t1.gstatic.com/images?q=tbn:ANd9GcQwskqgHCJd9kXH7ai-alxqX5LWgT8YRs1r5VwBq3lwRN2d0V0XJY46FFEH7Q"/>
          <p:cNvPicPr/>
          <p:nvPr/>
        </p:nvPicPr>
        <p:blipFill>
          <a:blip r:embed="rId1"/>
          <a:stretch/>
        </p:blipFill>
        <p:spPr>
          <a:xfrm>
            <a:off x="4003560" y="206280"/>
            <a:ext cx="1222560" cy="1720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http://syw-cwg.narod.ru/img/rus_hus/rh012.jpg"/>
          <p:cNvPicPr/>
          <p:nvPr/>
        </p:nvPicPr>
        <p:blipFill>
          <a:blip r:embed="rId2"/>
          <a:stretch/>
        </p:blipFill>
        <p:spPr>
          <a:xfrm>
            <a:off x="6896160" y="3635280"/>
            <a:ext cx="2016000" cy="3002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http://votanr.narod.ru/state/gallery/gs00032.jpg"/>
          <p:cNvPicPr/>
          <p:nvPr/>
        </p:nvPicPr>
        <p:blipFill>
          <a:blip r:embed="rId3"/>
          <a:stretch/>
        </p:blipFill>
        <p:spPr>
          <a:xfrm>
            <a:off x="361800" y="3648240"/>
            <a:ext cx="2030400" cy="2836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http://unsveta.com/pics/2/9279.jpg"/>
          <p:cNvPicPr/>
          <p:nvPr/>
        </p:nvPicPr>
        <p:blipFill>
          <a:blip r:embed="rId4"/>
          <a:stretch/>
        </p:blipFill>
        <p:spPr>
          <a:xfrm>
            <a:off x="6848640" y="747720"/>
            <a:ext cx="1800000" cy="22082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9"/>
          <p:cNvSpPr/>
          <p:nvPr/>
        </p:nvSpPr>
        <p:spPr>
          <a:xfrm>
            <a:off x="4538520" y="-166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4691160" y="-14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>
            <a:off x="4843440" y="1382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/>
          <p:cNvSpPr/>
          <p:nvPr/>
        </p:nvSpPr>
        <p:spPr>
          <a:xfrm>
            <a:off x="4995720" y="290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7"/>
          <p:cNvSpPr/>
          <p:nvPr/>
        </p:nvSpPr>
        <p:spPr>
          <a:xfrm>
            <a:off x="5148360" y="4428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9"/>
          <p:cNvSpPr/>
          <p:nvPr/>
        </p:nvSpPr>
        <p:spPr>
          <a:xfrm>
            <a:off x="5300640" y="595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/>
          <p:cNvSpPr/>
          <p:nvPr/>
        </p:nvSpPr>
        <p:spPr>
          <a:xfrm>
            <a:off x="5452920" y="7477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3"/>
          <p:cNvSpPr/>
          <p:nvPr/>
        </p:nvSpPr>
        <p:spPr>
          <a:xfrm>
            <a:off x="5605560" y="9000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6" descr="http://club-3t.ru/uploads/posts/2010-02/1265526982_barbi_1.jpg"/>
          <p:cNvPicPr/>
          <p:nvPr/>
        </p:nvPicPr>
        <p:blipFill>
          <a:blip r:embed="rId5"/>
          <a:stretch/>
        </p:blipFill>
        <p:spPr>
          <a:xfrm>
            <a:off x="382680" y="595440"/>
            <a:ext cx="1812960" cy="2165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C:\Users\дом\Desktop\barbie.jpg"/>
          <p:cNvPicPr/>
          <p:nvPr/>
        </p:nvPicPr>
        <p:blipFill>
          <a:blip r:embed="rId6"/>
          <a:stretch/>
        </p:blipFill>
        <p:spPr>
          <a:xfrm>
            <a:off x="3787920" y="3824280"/>
            <a:ext cx="1966680" cy="2622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395280" y="549360"/>
            <a:ext cx="864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Мама!  Вслушайтесь, как гордо звучит это слово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В народе живёт много хороших, добрых слов о матер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Они передаются от поколения к поколе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Мишки"/>
          <p:cNvPicPr/>
          <p:nvPr/>
        </p:nvPicPr>
        <p:blipFill>
          <a:blip r:embed="rId1"/>
          <a:stretch/>
        </p:blipFill>
        <p:spPr>
          <a:xfrm>
            <a:off x="6084720" y="3716280"/>
            <a:ext cx="2664000" cy="2867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1858680" y="260280"/>
            <a:ext cx="501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словицы о ма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179280" y="1197000"/>
            <a:ext cx="8840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Матушкин гнев, что весенний снег: и много его выпадает, и скоро раст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Птица рада весне, а младенец матер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Нет милее дружка, чем родная матуш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При солнышке тепло, при матери добр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Мать кормит детей, как земля люд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rogizobilija"/>
          <p:cNvPicPr/>
          <p:nvPr/>
        </p:nvPicPr>
        <p:blipFill>
          <a:blip r:embed="rId1"/>
          <a:stretch/>
        </p:blipFill>
        <p:spPr>
          <a:xfrm>
            <a:off x="7954920" y="31680"/>
            <a:ext cx="1065240" cy="1227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0" y="336600"/>
            <a:ext cx="8675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юблю, тебя, мама, за что, я не зн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верно за то, что дышу и мечт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 радуюсь солнцу, и светлому дню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это тебя я. Родная люб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небо, за ветер, за воздух вокруг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юблю тебя, мама, ты, лучший мой друг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и усталости не зная, ни покоя каждый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нь и ночь родная мама всё тревожится о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Читают"/>
          <p:cNvPicPr/>
          <p:nvPr/>
        </p:nvPicPr>
        <p:blipFill>
          <a:blip r:embed="rId1"/>
          <a:stretch/>
        </p:blipFill>
        <p:spPr>
          <a:xfrm>
            <a:off x="7396200" y="5186520"/>
            <a:ext cx="1279440" cy="1519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мальчик думает"/>
          <p:cNvPicPr/>
          <p:nvPr/>
        </p:nvPicPr>
        <p:blipFill>
          <a:blip r:embed="rId2"/>
          <a:stretch/>
        </p:blipFill>
        <p:spPr>
          <a:xfrm>
            <a:off x="419040" y="5186520"/>
            <a:ext cx="1011240" cy="146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0:20:23Z</dcterms:created>
  <dc:creator>Admin</dc:creator>
  <dc:description/>
  <dc:language>en-US</dc:language>
  <cp:lastModifiedBy>Сергей Воронков</cp:lastModifiedBy>
  <dcterms:modified xsi:type="dcterms:W3CDTF">2018-07-23T19:50:09Z</dcterms:modified>
  <cp:revision>40</cp:revision>
  <dc:subject/>
  <dc:title>Слайд 1</dc:title>
</cp:coreProperties>
</file>