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FCD-5181-4820-8790-B774770B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9B9-5AB2-456B-B5C3-8FAD454C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D49-D791-45D8-A761-692FF867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E5C-3814-4DFB-B2B0-8A48207D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505-0AAA-47AA-ABAB-CC3B67C7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696-5419-4CDE-B70C-B8EB7EAD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8CA-7BC6-4F3B-B541-F3E7696D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11B-FB15-4377-BA24-1CC79457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833-B29D-47CB-83F5-B64FA284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8D1-6BAC-4D43-8C89-04A46B4E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3F9-1A82-4053-8B71-575C12CF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B6C-1A3D-456D-B6E2-9961B625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308A-5BC2-4CBE-8F2A-5D2C86DB6B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«Геометрия вокруг нас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00000" y="3429000"/>
            <a:ext cx="481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Автор презента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Агеева Лина Васил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МБОУ «Луговской СОШ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Times New Roman"/>
              </a:rPr>
              <a:t>п.Луговое 2015 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Book Antiqua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6804000" y="3789360"/>
            <a:ext cx="1003320" cy="1255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1322280" cy="1209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1258920" y="2133720"/>
            <a:ext cx="865080" cy="628560"/>
          </a:xfrm>
          <a:prstGeom prst="rect">
            <a:avLst/>
          </a:prstGeom>
          <a:ln w="0">
            <a:noFill/>
          </a:ln>
        </p:spPr>
      </p:pic>
      <p:grpSp>
        <p:nvGrpSpPr>
          <p:cNvPr id="47" name="Группа 15"/>
          <p:cNvGrpSpPr/>
          <p:nvPr/>
        </p:nvGrpSpPr>
        <p:grpSpPr>
          <a:xfrm>
            <a:off x="3419640" y="3938760"/>
            <a:ext cx="2711880" cy="1738080"/>
            <a:chOff x="3419640" y="3938760"/>
            <a:chExt cx="2711880" cy="1738080"/>
          </a:xfrm>
        </p:grpSpPr>
        <p:sp>
          <p:nvSpPr>
            <p:cNvPr id="48" name="Прямоугольник 14"/>
            <p:cNvSpPr/>
            <p:nvPr/>
          </p:nvSpPr>
          <p:spPr>
            <a:xfrm rot="19930200">
              <a:off x="4070160" y="4436640"/>
              <a:ext cx="2160360" cy="1094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5" descr=""/>
            <p:cNvPicPr/>
            <p:nvPr/>
          </p:nvPicPr>
          <p:blipFill>
            <a:blip r:embed="rId4"/>
            <a:stretch/>
          </p:blipFill>
          <p:spPr>
            <a:xfrm>
              <a:off x="3419640" y="4805280"/>
              <a:ext cx="1057320" cy="87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Группа 27"/>
          <p:cNvGrpSpPr/>
          <p:nvPr/>
        </p:nvGrpSpPr>
        <p:grpSpPr>
          <a:xfrm>
            <a:off x="3348000" y="1844640"/>
            <a:ext cx="2222640" cy="1449360"/>
            <a:chOff x="3348000" y="1844640"/>
            <a:chExt cx="2222640" cy="1449360"/>
          </a:xfrm>
        </p:grpSpPr>
        <p:sp>
          <p:nvSpPr>
            <p:cNvPr id="51" name="Овал 22"/>
            <p:cNvSpPr/>
            <p:nvPr/>
          </p:nvSpPr>
          <p:spPr>
            <a:xfrm>
              <a:off x="5293080" y="2565360"/>
              <a:ext cx="71280" cy="712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Группа 26"/>
            <p:cNvGrpSpPr/>
            <p:nvPr/>
          </p:nvGrpSpPr>
          <p:grpSpPr>
            <a:xfrm>
              <a:off x="3348000" y="1844640"/>
              <a:ext cx="2222640" cy="1449360"/>
              <a:chOff x="3348000" y="1844640"/>
              <a:chExt cx="2222640" cy="1449360"/>
            </a:xfrm>
          </p:grpSpPr>
          <p:sp>
            <p:nvSpPr>
              <p:cNvPr id="53" name="Полилиния 20"/>
              <p:cNvSpPr/>
              <p:nvPr/>
            </p:nvSpPr>
            <p:spPr>
              <a:xfrm>
                <a:off x="3348000" y="1844640"/>
                <a:ext cx="2222640" cy="1449360"/>
              </a:xfrm>
              <a:custGeom>
                <a:avLst/>
                <a:gdLst/>
                <a:ahLst/>
                <a:rect l="l" t="t" r="r" b="b"/>
                <a:pathLst>
                  <a:path w="2222695" h="1448973">
                    <a:moveTo>
                      <a:pt x="0" y="637736"/>
                    </a:moveTo>
                    <a:cubicBezTo>
                      <a:pt x="141849" y="318868"/>
                      <a:pt x="283699" y="0"/>
                      <a:pt x="506437" y="117231"/>
                    </a:cubicBezTo>
                    <a:cubicBezTo>
                      <a:pt x="729175" y="234462"/>
                      <a:pt x="1092591" y="1233269"/>
                      <a:pt x="1336431" y="1341121"/>
                    </a:cubicBezTo>
                    <a:cubicBezTo>
                      <a:pt x="1580271" y="1448973"/>
                      <a:pt x="1821766" y="855785"/>
                      <a:pt x="1969477" y="764345"/>
                    </a:cubicBezTo>
                    <a:cubicBezTo>
                      <a:pt x="2117188" y="672905"/>
                      <a:pt x="2169941" y="732693"/>
                      <a:pt x="2222695" y="79248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Овал 24"/>
              <p:cNvSpPr/>
              <p:nvPr/>
            </p:nvSpPr>
            <p:spPr>
              <a:xfrm>
                <a:off x="3708360" y="1915920"/>
                <a:ext cx="71280" cy="727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Овал 25"/>
              <p:cNvSpPr/>
              <p:nvPr/>
            </p:nvSpPr>
            <p:spPr>
              <a:xfrm>
                <a:off x="4716720" y="314172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" name="Группа 26" descr=""/>
          <p:cNvPicPr/>
          <p:nvPr/>
        </p:nvPicPr>
        <p:blipFill>
          <a:blip r:embed="rId5"/>
          <a:stretch/>
        </p:blipFill>
        <p:spPr>
          <a:xfrm>
            <a:off x="6151680" y="1798560"/>
            <a:ext cx="21081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7"/>
          <p:cNvSpPr/>
          <p:nvPr/>
        </p:nvSpPr>
        <p:spPr>
          <a:xfrm>
            <a:off x="468360" y="1700280"/>
            <a:ext cx="7561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10"/>
          <p:cNvSpPr/>
          <p:nvPr/>
        </p:nvSpPr>
        <p:spPr>
          <a:xfrm>
            <a:off x="4427640" y="3286080"/>
            <a:ext cx="144360" cy="144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11"/>
          <p:cNvSpPr/>
          <p:nvPr/>
        </p:nvSpPr>
        <p:spPr>
          <a:xfrm>
            <a:off x="2411280" y="3357720"/>
            <a:ext cx="4321440" cy="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12"/>
          <p:cNvSpPr/>
          <p:nvPr/>
        </p:nvSpPr>
        <p:spPr>
          <a:xfrm>
            <a:off x="4551480" y="3409920"/>
            <a:ext cx="841320" cy="74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13"/>
          <p:cNvSpPr/>
          <p:nvPr/>
        </p:nvSpPr>
        <p:spPr>
          <a:xfrm flipV="1">
            <a:off x="4500720" y="2854440"/>
            <a:ext cx="1655640" cy="503280"/>
          </a:xfrm>
          <a:prstGeom prst="line">
            <a:avLst/>
          </a:prstGeom>
          <a:ln w="25560">
            <a:solidFill>
              <a:srgbClr val="00b05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851280" y="333360"/>
            <a:ext cx="5030640" cy="30830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6"/>
          <p:cNvSpPr/>
          <p:nvPr/>
        </p:nvSpPr>
        <p:spPr>
          <a:xfrm>
            <a:off x="5076720" y="2205000"/>
            <a:ext cx="1727280" cy="79236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Группа 23"/>
          <p:cNvGrpSpPr/>
          <p:nvPr/>
        </p:nvGrpSpPr>
        <p:grpSpPr>
          <a:xfrm>
            <a:off x="4356000" y="981000"/>
            <a:ext cx="3095280" cy="1079640"/>
            <a:chOff x="4356000" y="981000"/>
            <a:chExt cx="3095280" cy="1079640"/>
          </a:xfrm>
        </p:grpSpPr>
        <p:sp>
          <p:nvSpPr>
            <p:cNvPr id="65" name="Равнобедренный треугольник 17"/>
            <p:cNvSpPr/>
            <p:nvPr/>
          </p:nvSpPr>
          <p:spPr>
            <a:xfrm>
              <a:off x="4356000" y="1629000"/>
              <a:ext cx="647640" cy="43164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Группа 22"/>
            <p:cNvGrpSpPr/>
            <p:nvPr/>
          </p:nvGrpSpPr>
          <p:grpSpPr>
            <a:xfrm>
              <a:off x="5435640" y="981000"/>
              <a:ext cx="2015640" cy="1007640"/>
              <a:chOff x="5435640" y="981000"/>
              <a:chExt cx="2015640" cy="1007640"/>
            </a:xfrm>
          </p:grpSpPr>
          <p:sp>
            <p:nvSpPr>
              <p:cNvPr id="67" name="Равнобедренный треугольник 18"/>
              <p:cNvSpPr/>
              <p:nvPr/>
            </p:nvSpPr>
            <p:spPr>
              <a:xfrm>
                <a:off x="6803640" y="1557000"/>
                <a:ext cx="647640" cy="43164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Равнобедренный треугольник 19"/>
              <p:cNvSpPr/>
              <p:nvPr/>
            </p:nvSpPr>
            <p:spPr>
              <a:xfrm>
                <a:off x="5435640" y="981000"/>
                <a:ext cx="720360" cy="64764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Группа 24"/>
          <p:cNvGrpSpPr/>
          <p:nvPr/>
        </p:nvGrpSpPr>
        <p:grpSpPr>
          <a:xfrm>
            <a:off x="4500720" y="2060640"/>
            <a:ext cx="2879640" cy="936720"/>
            <a:chOff x="4500720" y="2060640"/>
            <a:chExt cx="2879640" cy="936720"/>
          </a:xfrm>
        </p:grpSpPr>
        <p:sp>
          <p:nvSpPr>
            <p:cNvPr id="70" name="Цилиндр 20"/>
            <p:cNvSpPr/>
            <p:nvPr/>
          </p:nvSpPr>
          <p:spPr>
            <a:xfrm>
              <a:off x="4500720" y="2131920"/>
              <a:ext cx="503280" cy="865440"/>
            </a:xfrm>
            <a:prstGeom prst="can">
              <a:avLst>
                <a:gd name="adj" fmla="val 14550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Цилиндр 21"/>
            <p:cNvSpPr/>
            <p:nvPr/>
          </p:nvSpPr>
          <p:spPr>
            <a:xfrm>
              <a:off x="6877080" y="2060640"/>
              <a:ext cx="503280" cy="865440"/>
            </a:xfrm>
            <a:prstGeom prst="can">
              <a:avLst>
                <a:gd name="adj" fmla="val 14550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Picture 9" descr="http://cilindrshop.ru/wp-content/themes/edegree/uploads/cilindr.png"/>
          <p:cNvPicPr/>
          <p:nvPr/>
        </p:nvPicPr>
        <p:blipFill>
          <a:blip r:embed="rId2"/>
          <a:stretch/>
        </p:blipFill>
        <p:spPr>
          <a:xfrm rot="360000">
            <a:off x="482760" y="3379680"/>
            <a:ext cx="1904760" cy="1752840"/>
          </a:xfrm>
          <a:prstGeom prst="rect">
            <a:avLst/>
          </a:prstGeom>
          <a:ln w="0">
            <a:noFill/>
          </a:ln>
        </p:spPr>
      </p:pic>
      <p:grpSp>
        <p:nvGrpSpPr>
          <p:cNvPr id="73" name="Группа 35"/>
          <p:cNvGrpSpPr/>
          <p:nvPr/>
        </p:nvGrpSpPr>
        <p:grpSpPr>
          <a:xfrm>
            <a:off x="5580000" y="2852640"/>
            <a:ext cx="3168720" cy="1108080"/>
            <a:chOff x="5580000" y="2852640"/>
            <a:chExt cx="3168720" cy="1108080"/>
          </a:xfrm>
        </p:grpSpPr>
        <p:cxnSp>
          <p:nvCxnSpPr>
            <p:cNvPr id="74" name="Прямая со стрелкой 32"/>
            <p:cNvCxnSpPr/>
            <p:nvPr/>
          </p:nvCxnSpPr>
          <p:spPr>
            <a:xfrm>
              <a:off x="6227280" y="2852640"/>
              <a:ext cx="361080" cy="64836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tailEnd len="med" type="arrow" w="med"/>
            </a:ln>
          </p:spPr>
        </p:cxnSp>
        <p:sp>
          <p:nvSpPr>
            <p:cNvPr id="75" name="TextBox 33"/>
            <p:cNvSpPr/>
            <p:nvPr/>
          </p:nvSpPr>
          <p:spPr>
            <a:xfrm>
              <a:off x="5580000" y="350100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imes New Roman"/>
                </a:rPr>
                <a:t>P = </a:t>
              </a: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2060"/>
                  </a:solidFill>
                  <a:latin typeface="Times New Roman"/>
                </a:rPr>
                <a:t>+</a:t>
              </a: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2060"/>
                  </a:solidFill>
                  <a:latin typeface="Times New Roman"/>
                </a:rPr>
                <a:t>+</a:t>
              </a: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2060"/>
                  </a:solidFill>
                  <a:latin typeface="Times New Roman"/>
                </a:rPr>
                <a:t>+4 = 12 </a:t>
              </a: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Группа 47"/>
          <p:cNvGrpSpPr/>
          <p:nvPr/>
        </p:nvGrpSpPr>
        <p:grpSpPr>
          <a:xfrm>
            <a:off x="3924360" y="3860640"/>
            <a:ext cx="4895640" cy="2745720"/>
            <a:chOff x="3924360" y="3860640"/>
            <a:chExt cx="4895640" cy="2745720"/>
          </a:xfrm>
        </p:grpSpPr>
        <p:grpSp>
          <p:nvGrpSpPr>
            <p:cNvPr id="77" name="Группа 43"/>
            <p:cNvGrpSpPr/>
            <p:nvPr/>
          </p:nvGrpSpPr>
          <p:grpSpPr>
            <a:xfrm>
              <a:off x="3924360" y="3860640"/>
              <a:ext cx="4895640" cy="2745720"/>
              <a:chOff x="3924360" y="3860640"/>
              <a:chExt cx="4895640" cy="2745720"/>
            </a:xfrm>
          </p:grpSpPr>
          <p:sp>
            <p:nvSpPr>
              <p:cNvPr id="78" name="Овал 24"/>
              <p:cNvSpPr/>
              <p:nvPr/>
            </p:nvSpPr>
            <p:spPr>
              <a:xfrm>
                <a:off x="3924360" y="6021360"/>
                <a:ext cx="1295280" cy="360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Группа 42"/>
              <p:cNvGrpSpPr/>
              <p:nvPr/>
            </p:nvGrpSpPr>
            <p:grpSpPr>
              <a:xfrm>
                <a:off x="3924360" y="3860640"/>
                <a:ext cx="4895640" cy="2745720"/>
                <a:chOff x="3924360" y="3860640"/>
                <a:chExt cx="4895640" cy="2745720"/>
              </a:xfrm>
            </p:grpSpPr>
            <p:pic>
              <p:nvPicPr>
                <p:cNvPr id="80" name="Группа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3860640"/>
                  <a:ext cx="1313640" cy="25344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81" name="Прямая со стрелкой 31"/>
                <p:cNvCxnSpPr/>
                <p:nvPr/>
              </p:nvCxnSpPr>
              <p:spPr>
                <a:xfrm flipH="1">
                  <a:off x="4939920" y="5229720"/>
                  <a:ext cx="2443320" cy="1080"/>
                </a:xfrm>
                <a:prstGeom prst="straightConnector1">
                  <a:avLst/>
                </a:prstGeom>
                <a:ln w="9360">
                  <a:solidFill>
                    <a:srgbClr val="2f2f98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2" name="Прямая со стрелкой 33"/>
                <p:cNvCxnSpPr/>
                <p:nvPr/>
              </p:nvCxnSpPr>
              <p:spPr>
                <a:xfrm flipH="1" flipV="1">
                  <a:off x="4580640" y="6237360"/>
                  <a:ext cx="1006560" cy="73440"/>
                </a:xfrm>
                <a:prstGeom prst="straightConnector1">
                  <a:avLst/>
                </a:prstGeom>
                <a:ln w="9360">
                  <a:solidFill>
                    <a:srgbClr val="2f2f98"/>
                  </a:solidFill>
                  <a:miter/>
                  <a:tailEnd len="med" type="triangle" w="med"/>
                </a:ln>
              </p:spPr>
            </p:cxnSp>
            <p:sp>
              <p:nvSpPr>
                <p:cNvPr id="83" name="TextBox 34"/>
                <p:cNvSpPr/>
                <p:nvPr/>
              </p:nvSpPr>
              <p:spPr>
                <a:xfrm>
                  <a:off x="5371560" y="4150440"/>
                  <a:ext cx="265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2060"/>
                      </a:solidFill>
                      <a:latin typeface="Times New Roman"/>
                    </a:rPr>
                    <a:t>Верхнее основа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Box 37"/>
                <p:cNvSpPr/>
                <p:nvPr/>
              </p:nvSpPr>
              <p:spPr>
                <a:xfrm>
                  <a:off x="4868640" y="6238080"/>
                  <a:ext cx="395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2060"/>
                      </a:solidFill>
                      <a:latin typeface="Times New Roman"/>
                    </a:rPr>
                    <a:t>Нижнее основа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Box 41"/>
                <p:cNvSpPr/>
                <p:nvPr/>
              </p:nvSpPr>
              <p:spPr>
                <a:xfrm>
                  <a:off x="5299920" y="4942440"/>
                  <a:ext cx="265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2060"/>
                      </a:solidFill>
                      <a:latin typeface="Times New Roman"/>
                    </a:rPr>
                    <a:t>Боковая поверх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86" name="Прямая со стрелкой 45"/>
            <p:cNvCxnSpPr/>
            <p:nvPr/>
          </p:nvCxnSpPr>
          <p:spPr>
            <a:xfrm flipH="1">
              <a:off x="4787280" y="4436280"/>
              <a:ext cx="2521440" cy="1080"/>
            </a:xfrm>
            <a:prstGeom prst="straightConnector1">
              <a:avLst/>
            </a:prstGeom>
            <a:ln w="9360">
              <a:solidFill>
                <a:srgbClr val="00206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89 -0.01574 L -0.19289 0.17315 E">
                                      <p:cBhvr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5280" y="1341360"/>
          <a:ext cx="8209080" cy="266400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  <a:gridCol w="2050920"/>
                <a:gridCol w="2052720"/>
              </a:tblGrid>
              <a:tr h="266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62673"/>
                      </a:solidFill>
                    </a:lnL>
                    <a:lnR w="5760">
                      <a:solidFill>
                        <a:srgbClr val="262673"/>
                      </a:solidFill>
                    </a:lnR>
                    <a:lnT w="5760">
                      <a:solidFill>
                        <a:srgbClr val="262673"/>
                      </a:solidFill>
                    </a:lnT>
                    <a:lnB w="5760">
                      <a:solidFill>
                        <a:srgbClr val="26267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62673"/>
                      </a:solidFill>
                    </a:lnL>
                    <a:lnR w="5760">
                      <a:solidFill>
                        <a:srgbClr val="262673"/>
                      </a:solidFill>
                    </a:lnR>
                    <a:lnT w="5760">
                      <a:solidFill>
                        <a:srgbClr val="262673"/>
                      </a:solidFill>
                    </a:lnT>
                    <a:lnB w="5760">
                      <a:solidFill>
                        <a:srgbClr val="26267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62673"/>
                      </a:solidFill>
                    </a:lnL>
                    <a:lnR w="5760">
                      <a:solidFill>
                        <a:srgbClr val="262673"/>
                      </a:solidFill>
                    </a:lnR>
                    <a:lnT w="5760">
                      <a:solidFill>
                        <a:srgbClr val="262673"/>
                      </a:solidFill>
                    </a:lnT>
                    <a:lnB w="5760">
                      <a:solidFill>
                        <a:srgbClr val="26267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62673"/>
                      </a:solidFill>
                    </a:lnL>
                    <a:lnR w="5760">
                      <a:solidFill>
                        <a:srgbClr val="262673"/>
                      </a:solidFill>
                    </a:lnR>
                    <a:lnT w="5760">
                      <a:solidFill>
                        <a:srgbClr val="262673"/>
                      </a:solidFill>
                    </a:lnT>
                    <a:lnB w="5760">
                      <a:solidFill>
                        <a:srgbClr val="26267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Овал 2"/>
          <p:cNvSpPr/>
          <p:nvPr/>
        </p:nvSpPr>
        <p:spPr>
          <a:xfrm>
            <a:off x="611280" y="1989000"/>
            <a:ext cx="1512720" cy="1440000"/>
          </a:xfrm>
          <a:prstGeom prst="ellipse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Равнобедренный треугольник 3"/>
          <p:cNvSpPr/>
          <p:nvPr/>
        </p:nvSpPr>
        <p:spPr>
          <a:xfrm>
            <a:off x="2700360" y="1989000"/>
            <a:ext cx="1511280" cy="1295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4932360" y="1989000"/>
            <a:ext cx="1368360" cy="129564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6732720" y="2133720"/>
            <a:ext cx="1726920" cy="1008000"/>
          </a:xfrm>
          <a:prstGeom prst="ellipse">
            <a:avLst/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Посуд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это обобщённое название предметов быта, используемых для приготовления, приёма и хранения пищ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Группа 12"/>
          <p:cNvGrpSpPr/>
          <p:nvPr/>
        </p:nvGrpSpPr>
        <p:grpSpPr>
          <a:xfrm>
            <a:off x="0" y="1773360"/>
            <a:ext cx="9144000" cy="5084640"/>
            <a:chOff x="0" y="1773360"/>
            <a:chExt cx="9144000" cy="5084640"/>
          </a:xfrm>
        </p:grpSpPr>
        <p:pic>
          <p:nvPicPr>
            <p:cNvPr id="94" name="Picture 2" descr="http://www.mdk-arbat.ru/store2/Image/gifts_img_2.jpg"/>
            <p:cNvPicPr/>
            <p:nvPr/>
          </p:nvPicPr>
          <p:blipFill>
            <a:blip r:embed="rId1"/>
            <a:stretch/>
          </p:blipFill>
          <p:spPr>
            <a:xfrm>
              <a:off x="827280" y="2205360"/>
              <a:ext cx="176580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" descr="http://idealdom.biz/wp-content/uploads/2011/01/posuda.jpg"/>
            <p:cNvPicPr/>
            <p:nvPr/>
          </p:nvPicPr>
          <p:blipFill>
            <a:blip r:embed="rId2"/>
            <a:stretch/>
          </p:blipFill>
          <p:spPr>
            <a:xfrm>
              <a:off x="4169160" y="4725360"/>
              <a:ext cx="2654280" cy="18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Содержимое 2"/>
            <p:cNvSpPr/>
            <p:nvPr/>
          </p:nvSpPr>
          <p:spPr>
            <a:xfrm>
              <a:off x="0" y="1773360"/>
              <a:ext cx="40622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</a:rPr>
                <a:t>Деревянная посуд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Содержимое 2"/>
            <p:cNvSpPr/>
            <p:nvPr/>
          </p:nvSpPr>
          <p:spPr>
            <a:xfrm>
              <a:off x="4859280" y="4221360"/>
              <a:ext cx="40622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</a:rPr>
                <a:t>Металлическая посуд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Содержимое 2"/>
            <p:cNvSpPr/>
            <p:nvPr/>
          </p:nvSpPr>
          <p:spPr>
            <a:xfrm>
              <a:off x="5081760" y="1773360"/>
              <a:ext cx="40622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</a:rPr>
                <a:t>Фарфоровая посуд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Содержимое 2"/>
            <p:cNvSpPr/>
            <p:nvPr/>
          </p:nvSpPr>
          <p:spPr>
            <a:xfrm>
              <a:off x="395280" y="4005360"/>
              <a:ext cx="331308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</a:rPr>
                <a:t>Глиняная посуд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Picture 4" descr="http://cha-i.com.ua/__files/16.63417126654056.bw_set1_270.jpg"/>
            <p:cNvPicPr/>
            <p:nvPr/>
          </p:nvPicPr>
          <p:blipFill>
            <a:blip r:embed="rId3"/>
            <a:stretch/>
          </p:blipFill>
          <p:spPr>
            <a:xfrm>
              <a:off x="6084360" y="2277360"/>
              <a:ext cx="2170800" cy="19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" descr="http://shkolazhizni.ru/img/content/i70/70598.jpg"/>
            <p:cNvPicPr/>
            <p:nvPr/>
          </p:nvPicPr>
          <p:blipFill>
            <a:blip r:embed="rId4"/>
            <a:stretch/>
          </p:blipFill>
          <p:spPr>
            <a:xfrm>
              <a:off x="0" y="4437360"/>
              <a:ext cx="3631320" cy="24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" descr="http://cs1.livemaster.ru/storage/d7/9d/4631efa46705b02d721187924dgn--russkij-stil-tues-tuesok-iz-beresty-grifon.jpg"/>
            <p:cNvPicPr/>
            <p:nvPr/>
          </p:nvPicPr>
          <p:blipFill>
            <a:blip r:embed="rId5"/>
            <a:srcRect l="16082" t="10565" r="13519" b="7994"/>
            <a:stretch/>
          </p:blipFill>
          <p:spPr>
            <a:xfrm>
              <a:off x="3924000" y="2781360"/>
              <a:ext cx="939960" cy="14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Содержимое 2"/>
            <p:cNvSpPr/>
            <p:nvPr/>
          </p:nvSpPr>
          <p:spPr>
            <a:xfrm>
              <a:off x="3419280" y="2205000"/>
              <a:ext cx="201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00000"/>
                  </a:solidFill>
                  <a:latin typeface="Times New Roman"/>
                </a:rPr>
                <a:t>Берест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179280" y="765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суда имеет форму геометрических фиг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3000600" cy="2786040"/>
          </a:xfrm>
          <a:prstGeom prst="rect">
            <a:avLst/>
          </a:prstGeom>
          <a:ln w="0">
            <a:noFill/>
          </a:ln>
        </p:spPr>
      </p:pic>
      <p:sp>
        <p:nvSpPr>
          <p:cNvPr id="106" name="Овал 4"/>
          <p:cNvSpPr/>
          <p:nvPr/>
        </p:nvSpPr>
        <p:spPr>
          <a:xfrm>
            <a:off x="4572000" y="2857680"/>
            <a:ext cx="1071720" cy="100008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6918480" y="4071960"/>
            <a:ext cx="725400" cy="7254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5214960" y="4214880"/>
            <a:ext cx="500040" cy="4284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ая соединительная линия 7"/>
          <p:cNvSpPr/>
          <p:nvPr/>
        </p:nvSpPr>
        <p:spPr>
          <a:xfrm>
            <a:off x="6357960" y="3214800"/>
            <a:ext cx="357120" cy="71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6571800" y="3286080"/>
            <a:ext cx="142920" cy="64296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Дуга 9"/>
          <p:cNvSpPr/>
          <p:nvPr/>
        </p:nvSpPr>
        <p:spPr>
          <a:xfrm>
            <a:off x="7143840" y="2786040"/>
            <a:ext cx="285840" cy="1285920"/>
          </a:xfrm>
          <a:custGeom>
            <a:avLst/>
            <a:gdLst/>
            <a:ahLst/>
            <a:rect l="l" t="t" r="r" b="b"/>
            <a:pathLst>
              <a:path stroke="0" w="285750" h="1285875">
                <a:moveTo>
                  <a:pt x="142875" y="0"/>
                </a:moveTo>
                <a:cubicBezTo>
                  <a:pt x="221783" y="0"/>
                  <a:pt x="285750" y="287853"/>
                  <a:pt x="285750" y="642938"/>
                </a:cubicBezTo>
                <a:lnTo>
                  <a:pt x="142875" y="642938"/>
                </a:lnTo>
                <a:lnTo>
                  <a:pt x="142875" y="0"/>
                </a:lnTo>
                <a:close/>
              </a:path>
              <a:path fill="none" w="285750" h="1285875">
                <a:moveTo>
                  <a:pt x="142875" y="0"/>
                </a:moveTo>
                <a:cubicBezTo>
                  <a:pt x="221783" y="0"/>
                  <a:pt x="285750" y="287853"/>
                  <a:pt x="285750" y="64293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34783E-007 L -0.29479 0.07331 E">
                                      <p:cBhvr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10731E-006 L -0.33385 -0.18756 E">
                                      <p:cBhvr>
                                        <p:cTn id="134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9362E-006 L -0.39375 -0.0525 E">
                                      <p:cBhvr>
                                        <p:cTn id="137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75301E-007 L -0.39201 -0.05758 E">
                                      <p:cBhvr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7428E-006 L -0.52916 -0.25578 E">
                                      <p:cBhvr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3469E-006 L -0.59619 0.0104 E">
                                      <p:cBhvr>
                                        <p:cTn id="145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50920" y="62064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рнамент</a:t>
            </a:r>
            <a:r>
              <a:rPr b="0" i="1" lang="ru-RU" sz="2000" spc="-1" strike="noStrike">
                <a:solidFill>
                  <a:srgbClr val="002060"/>
                </a:solidFill>
                <a:latin typeface="Times New Roman"/>
              </a:rPr>
              <a:t>  - это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украшение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, которое состоит из рисунков и они повторяются через определенные расстояния или интерва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4643280" y="62064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Узор</a:t>
            </a:r>
            <a:r>
              <a:rPr b="1" lang="ru-RU" sz="2000" spc="-1" strike="noStrike">
                <a:solidFill>
                  <a:srgbClr val="558ed5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это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рисунок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, созданный при помощи сочетаний линий, красок и тен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http://www.maam.ru/upload/blogs/detsad-71535-1396031973.jpg"/>
          <p:cNvPicPr/>
          <p:nvPr/>
        </p:nvPicPr>
        <p:blipFill>
          <a:blip r:embed="rId1"/>
          <a:stretch/>
        </p:blipFill>
        <p:spPr>
          <a:xfrm>
            <a:off x="179280" y="4508640"/>
            <a:ext cx="2960640" cy="216036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4" descr="Изображение 088.jpg"/>
          <p:cNvPicPr/>
          <p:nvPr/>
        </p:nvPicPr>
        <p:blipFill>
          <a:blip r:embed="rId2"/>
          <a:srcRect l="11901" t="2928" r="9527" b="53113"/>
          <a:stretch/>
        </p:blipFill>
        <p:spPr>
          <a:xfrm>
            <a:off x="250920" y="1773360"/>
            <a:ext cx="269388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http://garnett.ru/wp-content/uploads/media/%D0%9F%D1%80%D0%BE%D0%B5%D0%BA%D1%82-%D0%9E%D1%80%D0%BD%D0%B0%D0%BC%D0%B5%D0%BD%D1%82%D1%8B-%D0%B8-%D1%83%D0%B7%D0%BE%D1%80%D1%8B-%D0%BD%D0%B0-%D0%BF%D0%BE%D1%81%D1%83%D0%B4%D0%B5/image2.jpeg"/>
          <p:cNvPicPr/>
          <p:nvPr/>
        </p:nvPicPr>
        <p:blipFill>
          <a:blip r:embed="rId3"/>
          <a:stretch/>
        </p:blipFill>
        <p:spPr>
          <a:xfrm>
            <a:off x="2987640" y="1719360"/>
            <a:ext cx="2779920" cy="2212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ttp://giftex.ru/images/9820.jpg"/>
          <p:cNvPicPr/>
          <p:nvPr/>
        </p:nvPicPr>
        <p:blipFill>
          <a:blip r:embed="rId4"/>
          <a:stretch/>
        </p:blipFill>
        <p:spPr>
          <a:xfrm>
            <a:off x="3060720" y="4290840"/>
            <a:ext cx="2517840" cy="2256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detskij-sad.ru/images/38.jpg"/>
          <p:cNvPicPr/>
          <p:nvPr/>
        </p:nvPicPr>
        <p:blipFill>
          <a:blip r:embed="rId5"/>
          <a:srcRect l="34770" t="0" r="4439" b="55698"/>
          <a:stretch/>
        </p:blipFill>
        <p:spPr>
          <a:xfrm>
            <a:off x="5867280" y="1700280"/>
            <a:ext cx="2789280" cy="23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ttp://www.maam.ru/upload/blogs/detsad-217532-1404503898.jpg"/>
          <p:cNvPicPr/>
          <p:nvPr/>
        </p:nvPicPr>
        <p:blipFill>
          <a:blip r:embed="rId6"/>
          <a:stretch/>
        </p:blipFill>
        <p:spPr>
          <a:xfrm>
            <a:off x="5651640" y="4365720"/>
            <a:ext cx="3105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1011600" y="1989000"/>
            <a:ext cx="67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-Я узнал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buClr>
                <a:srgbClr val="00206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Мне запомнилось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buClr>
                <a:srgbClr val="00206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У меня получилось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Book Antiqua"/>
              </a:rPr>
              <a:t>Продолжите фраз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Сергей Воронков</cp:lastModifiedBy>
  <dcterms:modified xsi:type="dcterms:W3CDTF">2018-07-23T20:05:55Z</dcterms:modified>
  <cp:revision>92</cp:revision>
  <dc:subject/>
  <dc:title>Слайд 1</dc:title>
</cp:coreProperties>
</file>