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wmf" ContentType="image/x-wmf"/>
  <Override PartName="/ppt/media/image23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E47-A6BD-44CB-914D-76573939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18A-96D2-4A4D-AE73-EFEEC726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BA6-191F-412A-81B3-C53A46BC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7B2-2CE1-41F0-BF17-4DE84678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BD38-26B4-4B10-AB95-23601034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18EB-FEA3-4F7F-A880-B8F6AC44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8272-6575-4B19-A21E-7910A09B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F4CC-67A6-405C-A8F3-C5336325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A5D5-378D-48FF-9920-E6BF658E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6A9D-A9C5-44AF-A417-E789F8E9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8048-7D83-4763-91F5-CC1E729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E02-252F-4184-B553-7F202FEC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E2A3-37CB-4ED8-ABF1-D23183A7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A7A6-84B8-47F6-9F50-734EF9E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A22C-B422-4B56-9566-C8C3257C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0600-2D9A-4C13-BCB8-33A3484E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8CA3-9BCD-43AB-8FA7-43E19DA8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0A6-38B2-40D2-9FBD-A1A9930D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36B-04C7-4F6E-9454-F9778483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9EB-34F8-4B7A-B852-DCB7CC31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CB7-6697-4E5A-894D-9906408A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DFE-79DD-43E5-9053-172E212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58B-7264-49EE-AC0A-5358DDE7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88C-455B-4DA3-8956-B8B8F5A4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92BE-90DD-4464-A012-B63B26F5F7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D0FC-87A1-4073-B1EB-4771E47DE4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8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Правило первое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асается каждого, правило первое самое важное! На улице, и в комнате о нем ребята помните: Спички не тронь – в спичках огонь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Picture 5" descr="Рисунок12"/>
          <p:cNvPicPr/>
          <p:nvPr/>
        </p:nvPicPr>
        <p:blipFill>
          <a:blip r:embed="rId1"/>
          <a:stretch/>
        </p:blipFill>
        <p:spPr>
          <a:xfrm>
            <a:off x="1219320" y="1828800"/>
            <a:ext cx="67896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Правило второе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легко запомнить можно: с электроприборами, будьте осторожны, с утюгом и чайником, с плитой и паяльником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Picture 7" descr="Рисунок11 (копия)"/>
          <p:cNvPicPr/>
          <p:nvPr/>
        </p:nvPicPr>
        <p:blipFill>
          <a:blip r:embed="rId1"/>
          <a:stretch/>
        </p:blipFill>
        <p:spPr>
          <a:xfrm>
            <a:off x="914400" y="1676520"/>
            <a:ext cx="7201080" cy="500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Правило третье: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е оставляйте горящий газ, за газом нужен глаз да глаз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9" descr="Рисунок10"/>
          <p:cNvPicPr/>
          <p:nvPr/>
        </p:nvPicPr>
        <p:blipFill>
          <a:blip r:embed="rId1"/>
          <a:stretch/>
        </p:blipFill>
        <p:spPr>
          <a:xfrm>
            <a:off x="838080" y="1523880"/>
            <a:ext cx="731520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Правило четвертое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Хотим тебя предостеречь, не разжигай без взрослых печь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5" descr="110"/>
          <p:cNvPicPr/>
          <p:nvPr/>
        </p:nvPicPr>
        <p:blipFill>
          <a:blip r:embed="rId1"/>
          <a:stretch/>
        </p:blipFill>
        <p:spPr>
          <a:xfrm>
            <a:off x="1476360" y="1447920"/>
            <a:ext cx="685800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Правило пятое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ятно в лесу посидеть у костра, когда же домой возвращаться пора, перед уходом не жалей костер, землей забросай и водою залей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Picture 5" descr="1346624575_ogon"/>
          <p:cNvPicPr/>
          <p:nvPr/>
        </p:nvPicPr>
        <p:blipFill>
          <a:blip r:embed="rId1"/>
          <a:stretch/>
        </p:blipFill>
        <p:spPr>
          <a:xfrm>
            <a:off x="1406520" y="1828800"/>
            <a:ext cx="66261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, грозя спалить наш дом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явится огонь с дымам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скажем папе или маме -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миг на улицу уйдё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ймут пожар песок, вода -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колодца, речки и пруд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озгорания душител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рец с огнём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29929107-Cartoon-Character-of-fire-extinguisher-is-pointing--Stock-Photo"/>
          <p:cNvPicPr/>
          <p:nvPr/>
        </p:nvPicPr>
        <p:blipFill>
          <a:blip r:embed="rId1"/>
          <a:stretch/>
        </p:blipFill>
        <p:spPr>
          <a:xfrm>
            <a:off x="5181480" y="914400"/>
            <a:ext cx="372744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тановка: «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Экспериментальная лаборатор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6" descr="Рисунок2"/>
          <p:cNvPicPr/>
          <p:nvPr/>
        </p:nvPicPr>
        <p:blipFill>
          <a:blip r:embed="rId1"/>
          <a:stretch/>
        </p:blipFill>
        <p:spPr>
          <a:xfrm>
            <a:off x="457200" y="1828800"/>
            <a:ext cx="8480520" cy="4778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Миллионы лет назад люди научились добывать огонь. В руках человека он давал свет и тепло. На огне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люди готовили себе пищу, защищались от диких зверей, которые могли напасть на человека. Но стоило давать волю, оставить его без контроля, как добрые действия огня превращались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 зло. Пожары происходят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и по сей день. И очень часто они возникают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там, где неосторожно и небрежно обращаться с огнем. При неосторожности люди получают ожоги и отравления. Вот сейчас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мы с вами проведем несколько экспериментов с огнем</a:t>
            </a: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9" descr="Рисунок4"/>
          <p:cNvPicPr/>
          <p:nvPr/>
        </p:nvPicPr>
        <p:blipFill>
          <a:blip r:embed="rId1"/>
          <a:stretch/>
        </p:blipFill>
        <p:spPr>
          <a:xfrm>
            <a:off x="4724280" y="2743200"/>
            <a:ext cx="43164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Рисунок5"/>
          <p:cNvPicPr/>
          <p:nvPr/>
        </p:nvPicPr>
        <p:blipFill>
          <a:blip r:embed="rId2"/>
          <a:stretch/>
        </p:blipFill>
        <p:spPr>
          <a:xfrm>
            <a:off x="0" y="2744640"/>
            <a:ext cx="471636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кспери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6" descr="Рисунок3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равствуйте, ребят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инспектор Пожарный, мне нужна ваша помощь. Вы готовы стать юными пожарниками, оказать помощь при тушении пожар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жде чем допустить вас к работе, проверим ваши знания, проведем экзам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Рисунок7"/>
          <p:cNvPicPr/>
          <p:nvPr/>
        </p:nvPicPr>
        <p:blipFill>
          <a:blip r:embed="rId1"/>
          <a:stretch/>
        </p:blipFill>
        <p:spPr>
          <a:xfrm>
            <a:off x="4419720" y="304920"/>
            <a:ext cx="50115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6"/>
          <p:cNvGraphicFramePr/>
          <p:nvPr/>
        </p:nvGraphicFramePr>
        <p:xfrm>
          <a:off x="4648320" y="2130480"/>
          <a:ext cx="365760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0480"/>
                    <a:ext cx="36576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7"/>
          <p:cNvSpPr/>
          <p:nvPr/>
        </p:nvSpPr>
        <p:spPr>
          <a:xfrm>
            <a:off x="3505320" y="1396440"/>
            <a:ext cx="5333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селый шалуниш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анжевый мальчиш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шь вечер наста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церт в печи д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бегался мальчон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щат дровишки звонк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анжевые пря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 хочется погладит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овется он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8" descr="hot-games-icon"/>
          <p:cNvPicPr/>
          <p:nvPr/>
        </p:nvPicPr>
        <p:blipFill>
          <a:blip r:embed="rId3"/>
          <a:stretch/>
        </p:blipFill>
        <p:spPr>
          <a:xfrm>
            <a:off x="380880" y="1371600"/>
            <a:ext cx="317844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кзамен по пожарной безопасно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о какому телефону следует позвонить, если возник пожар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Можно ли пользоваться детям спичкам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Можно ли включать самостоятельно электроприбор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Чем можно потушить пожар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0" y="15235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на прощанье хочу дать вам один со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с огнем неосторож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того пожар возмож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, помните, о 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нельзя шутить с огне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%D1%80%D0%BE%D1%87%D1%81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Страница1"/>
          <p:cNvPicPr/>
          <p:nvPr/>
        </p:nvPicPr>
        <p:blipFill>
          <a:blip r:embed="rId1"/>
          <a:stretch/>
        </p:blipFill>
        <p:spPr>
          <a:xfrm>
            <a:off x="457200" y="1230480"/>
            <a:ext cx="8128080" cy="4152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535640" y="2862360"/>
            <a:ext cx="3904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Ребятам группы №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494240" y="3294000"/>
            <a:ext cx="390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Детский сад № 48 «Пчёл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называется профессия людей, борющихся с огне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знаете о форме пожар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жите, ребята, зачем пожарному кас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почему, пожарная машина красная?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номер мы должны набрать по телефону, чтобы вызвать пожарных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тановка «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Рекомендации о безопасном поведени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езы пожара не туша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ички – не игрушка, огонь не заб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т дыма без ог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огня не бережется, тот скоро обожж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ичка – невеличка, огонь – велик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й тушат пожар, а умом предотвращ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50a9b98741caf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80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s://fs00.infourok.ru/images/doc/219/4984/10/img3.jpg"/>
          <p:cNvPicPr/>
          <p:nvPr/>
        </p:nvPicPr>
        <p:blipFill>
          <a:blip r:embed="rId1"/>
          <a:stretch/>
        </p:blipFill>
        <p:spPr>
          <a:xfrm>
            <a:off x="0" y="231840"/>
            <a:ext cx="4443480" cy="33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255920" y="31910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Физкультурная минут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ым и огонь не к добру, так и зна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рослых на помощь скорей призыв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 «01» поскорее звон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очно пожарных! Помогут о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hello_html_m5d0757e"/>
          <p:cNvPicPr/>
          <p:nvPr/>
        </p:nvPicPr>
        <p:blipFill>
          <a:blip r:embed="rId1"/>
          <a:stretch/>
        </p:blipFill>
        <p:spPr>
          <a:xfrm>
            <a:off x="4876920" y="1219320"/>
            <a:ext cx="3514680" cy="533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тановка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Картинная галере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5" descr="%D0%A1%D0%BF%D0%B8%D1%87%D0%BA%D0%B8"/>
          <p:cNvPicPr/>
          <p:nvPr/>
        </p:nvPicPr>
        <p:blipFill>
          <a:blip r:embed="rId1"/>
          <a:stretch/>
        </p:blipFill>
        <p:spPr>
          <a:xfrm>
            <a:off x="228600" y="1600200"/>
            <a:ext cx="3505320" cy="245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stixi-dlya-detej-pravila-pozharnoj-bezopasnosti-5"/>
          <p:cNvPicPr/>
          <p:nvPr/>
        </p:nvPicPr>
        <p:blipFill>
          <a:blip r:embed="rId2"/>
          <a:stretch/>
        </p:blipFill>
        <p:spPr>
          <a:xfrm>
            <a:off x="5334120" y="1600200"/>
            <a:ext cx="3504960" cy="245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pozharnojbezopasnosti1"/>
          <p:cNvPicPr/>
          <p:nvPr/>
        </p:nvPicPr>
        <p:blipFill>
          <a:blip r:embed="rId3"/>
          <a:stretch/>
        </p:blipFill>
        <p:spPr>
          <a:xfrm>
            <a:off x="4648320" y="4137120"/>
            <a:ext cx="3886200" cy="272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346624575_ogon"/>
          <p:cNvPicPr/>
          <p:nvPr/>
        </p:nvPicPr>
        <p:blipFill>
          <a:blip r:embed="rId4"/>
          <a:stretch/>
        </p:blipFill>
        <p:spPr>
          <a:xfrm>
            <a:off x="533520" y="4137120"/>
            <a:ext cx="3886200" cy="2720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3:04:17Z</dcterms:created>
  <dc:creator>Администратор</dc:creator>
  <dc:description/>
  <dc:language>en-US</dc:language>
  <cp:lastModifiedBy>Михаил</cp:lastModifiedBy>
  <dcterms:modified xsi:type="dcterms:W3CDTF">2017-09-16T19:19:0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