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8.jpeg" ContentType="image/jpeg"/>
  <Override PartName="/ppt/media/image2.wmf" ContentType="image/x-wmf"/>
  <Override PartName="/ppt/media/image23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9069-402A-4088-AE98-C8577291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ADC1-152D-470B-9080-9B693A2A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7527-3C9B-4E7C-B6D0-AD86148D5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FFDE-B3C8-4516-B0AA-985B0457C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B9FE-408E-4567-89AA-BE2A8363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603A-2627-48D4-9F03-3E0ACAC0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99EAD-A572-4C56-B8C2-F88D33A3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27CF-EDC8-4D28-962A-84E41995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4D7A-CE8F-442A-9902-1576CF07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CAAE-256F-4B8D-BBBA-44E3091D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5526-FBCE-49A1-B641-081620A5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5830-43D2-4D5A-8F94-65EC748A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6D13-42DB-4820-BCCE-F6155CCE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6EF92-DB55-411E-AC0E-674D6A8C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2E99-5867-43BB-A2A2-75D36A9D2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9EFC-080A-4B65-BFEA-CB4C6DE5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43433-7DF9-4523-9D33-578ED7C6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B12B-320F-4FC7-B65C-1EDBAAAF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5939-E518-4756-A38B-10565E1A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2D77-1078-4470-A9F7-98972F90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E0C6-E2DF-4584-BD6E-80D2B0FB1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347C-55E4-4925-8103-C7510538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C917-C37B-445A-8C40-F69F308F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E568-2E71-48B8-9978-8B9923F4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F79C-E35B-47F7-B75E-3F90391B185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EFD7-61A4-406C-B3D4-7475F708472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" name="Picture 8" descr="img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cc"/>
                </a:solidFill>
                <a:latin typeface="Times New Roman"/>
              </a:rPr>
              <a:t>Правило первое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касается каждого, правило первое самое важное! На улице, и в комнате о нем ребята помните: Спички не тронь – в спичках огонь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4" name="Picture 5" descr="Рисунок12"/>
          <p:cNvPicPr/>
          <p:nvPr/>
        </p:nvPicPr>
        <p:blipFill>
          <a:blip r:embed="rId1"/>
          <a:stretch/>
        </p:blipFill>
        <p:spPr>
          <a:xfrm>
            <a:off x="1219320" y="1828800"/>
            <a:ext cx="6789600" cy="47545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Правило второе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легко запомнить можно: с электроприборами, будьте осторожны, с утюгом и чайником, с плитой и паяльником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6" name="Picture 7" descr="Рисунок11 (копия)"/>
          <p:cNvPicPr/>
          <p:nvPr/>
        </p:nvPicPr>
        <p:blipFill>
          <a:blip r:embed="rId1"/>
          <a:stretch/>
        </p:blipFill>
        <p:spPr>
          <a:xfrm>
            <a:off x="914400" y="1676520"/>
            <a:ext cx="7201080" cy="5006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Правило третье: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Не оставляйте горящий газ, за газом нужен глаз да глаз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Picture 9" descr="Рисунок10"/>
          <p:cNvPicPr/>
          <p:nvPr/>
        </p:nvPicPr>
        <p:blipFill>
          <a:blip r:embed="rId1"/>
          <a:stretch/>
        </p:blipFill>
        <p:spPr>
          <a:xfrm>
            <a:off x="838080" y="1523880"/>
            <a:ext cx="7315200" cy="5121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Правило четвертое: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Хотим тебя предостеречь, не разжигай без взрослых печь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5" descr="110"/>
          <p:cNvPicPr/>
          <p:nvPr/>
        </p:nvPicPr>
        <p:blipFill>
          <a:blip r:embed="rId1"/>
          <a:stretch/>
        </p:blipFill>
        <p:spPr>
          <a:xfrm>
            <a:off x="1476360" y="1447920"/>
            <a:ext cx="6858000" cy="5145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cc"/>
                </a:solidFill>
                <a:latin typeface="Times New Roman"/>
              </a:rPr>
              <a:t>Правило пятое: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Приятно в лесу посидеть у костра, когда же домой возвращаться пора, перед уходом не жалей костер, землей забросай и водою залей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Picture 5" descr="1346624575_ogon"/>
          <p:cNvPicPr/>
          <p:nvPr/>
        </p:nvPicPr>
        <p:blipFill>
          <a:blip r:embed="rId1"/>
          <a:stretch/>
        </p:blipFill>
        <p:spPr>
          <a:xfrm>
            <a:off x="1406520" y="1828800"/>
            <a:ext cx="662616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28600" y="160020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гда, грозя спалить наш дом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явится огонь с дымами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ы скажем папе или маме -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вмиг на улицу уйдём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ймут пожар песок, вода -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колодца, речки и пруда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возгорания душитель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рец с огнём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29929107-Cartoon-Character-of-fire-extinguisher-is-pointing--Stock-Photo"/>
          <p:cNvPicPr/>
          <p:nvPr/>
        </p:nvPicPr>
        <p:blipFill>
          <a:blip r:embed="rId1"/>
          <a:stretch/>
        </p:blipFill>
        <p:spPr>
          <a:xfrm>
            <a:off x="5181480" y="914400"/>
            <a:ext cx="3727440" cy="5143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2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тановка: «</a:t>
            </a: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Экспериментальная лаборатория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».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6" name="Picture 6" descr="Рисунок2"/>
          <p:cNvPicPr/>
          <p:nvPr/>
        </p:nvPicPr>
        <p:blipFill>
          <a:blip r:embed="rId1"/>
          <a:stretch/>
        </p:blipFill>
        <p:spPr>
          <a:xfrm>
            <a:off x="457200" y="1828800"/>
            <a:ext cx="8480520" cy="4778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534520" cy="23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Миллионы лет назад люди научились добывать огонь. В руках человека он давал свет и тепло. На огне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люди готовили себе пищу, защищались от диких зверей, которые могли напасть на человека. Но стоило давать волю, оставить его без контроля, как добрые действия огня превращались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в зло. Пожары происходят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и по сей день. И очень часто они возникают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там, где неосторожно и небрежно обращаться с огнем. При неосторожности люди получают ожоги и отравления. Вот сейчас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ffffcc"/>
                </a:solidFill>
                <a:latin typeface="Times New Roman"/>
              </a:rPr>
              <a:t>мы с вами проведем несколько экспериментов с огнем</a:t>
            </a:r>
            <a:r>
              <a:rPr b="0" i="1" lang="ru-RU" sz="20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8" name="Picture 9" descr="Рисунок4"/>
          <p:cNvPicPr/>
          <p:nvPr/>
        </p:nvPicPr>
        <p:blipFill>
          <a:blip r:embed="rId1"/>
          <a:stretch/>
        </p:blipFill>
        <p:spPr>
          <a:xfrm>
            <a:off x="4724280" y="2743200"/>
            <a:ext cx="4316400" cy="4114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Рисунок5"/>
          <p:cNvPicPr/>
          <p:nvPr/>
        </p:nvPicPr>
        <p:blipFill>
          <a:blip r:embed="rId2"/>
          <a:stretch/>
        </p:blipFill>
        <p:spPr>
          <a:xfrm>
            <a:off x="0" y="2744640"/>
            <a:ext cx="4716360" cy="4113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Эксперимент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1" name="Picture 6" descr="Рисунок3"/>
          <p:cNvPicPr/>
          <p:nvPr/>
        </p:nvPicPr>
        <p:blipFill>
          <a:blip r:embed="rId1"/>
          <a:stretch/>
        </p:blipFill>
        <p:spPr>
          <a:xfrm>
            <a:off x="914400" y="990720"/>
            <a:ext cx="7162920" cy="5638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4920" y="457200"/>
            <a:ext cx="4495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дравствуйте, ребята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Я инспектор Пожарный, мне нужна ваша помощь. Вы готовы стать юными пожарниками, оказать помощь при тушении пожара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жде чем допустить вас к работе, проверим ваши знания, проведем экзаме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6" descr="Рисунок7"/>
          <p:cNvPicPr/>
          <p:nvPr/>
        </p:nvPicPr>
        <p:blipFill>
          <a:blip r:embed="rId1"/>
          <a:stretch/>
        </p:blipFill>
        <p:spPr>
          <a:xfrm>
            <a:off x="4419720" y="304920"/>
            <a:ext cx="5011560" cy="6248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6"/>
          <p:cNvGraphicFramePr/>
          <p:nvPr/>
        </p:nvGraphicFramePr>
        <p:xfrm>
          <a:off x="4648320" y="2130480"/>
          <a:ext cx="3657600" cy="20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130480"/>
                    <a:ext cx="3657600" cy="20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Rectangle 7"/>
          <p:cNvSpPr/>
          <p:nvPr/>
        </p:nvSpPr>
        <p:spPr>
          <a:xfrm>
            <a:off x="3505320" y="1396440"/>
            <a:ext cx="53337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еселый шалунишк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ранжевый мальчишк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ишь вечер настае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нцерт в печи да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бегался мальчонк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ещат дровишки звонко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ранжевые пряд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ак хочется погладить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овется он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8" descr="hot-games-icon"/>
          <p:cNvPicPr/>
          <p:nvPr/>
        </p:nvPicPr>
        <p:blipFill>
          <a:blip r:embed="rId3"/>
          <a:stretch/>
        </p:blipFill>
        <p:spPr>
          <a:xfrm>
            <a:off x="380880" y="1371600"/>
            <a:ext cx="3178440" cy="43434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Экзамен по пожарной безопасности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По какому телефону следует позвонить, если возник пожар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Можно ли пользоваться детям спичками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Можно ли включать самостоятельно электроприборы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Чем можно потушить пожар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l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0"/>
                            </p:stCondLst>
                            <p:childTnLst>
                              <p:par>
                                <p:cTn id="323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7000"/>
                            </p:stCondLst>
                            <p:childTnLst>
                              <p:par>
                                <p:cTn id="329" nodeType="after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0" y="1523520"/>
            <a:ext cx="4572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на прощанье хочу дать вам один сов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то с огнем неостороже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того пожар возможен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бята, помните, о т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то нельзя шутить с огнем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5" descr="%D1%80%D0%BE%D1%87%D1%81"/>
          <p:cNvPicPr/>
          <p:nvPr/>
        </p:nvPicPr>
        <p:blipFill>
          <a:blip r:embed="rId1"/>
          <a:stretch/>
        </p:blipFill>
        <p:spPr>
          <a:xfrm>
            <a:off x="152280" y="1447920"/>
            <a:ext cx="4419720" cy="4762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6" descr="Страница1"/>
          <p:cNvPicPr/>
          <p:nvPr/>
        </p:nvPicPr>
        <p:blipFill>
          <a:blip r:embed="rId1"/>
          <a:stretch/>
        </p:blipFill>
        <p:spPr>
          <a:xfrm>
            <a:off x="457200" y="1230480"/>
            <a:ext cx="8128080" cy="415260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4535640" y="2862360"/>
            <a:ext cx="39049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Tahoma"/>
              </a:rPr>
              <a:t>Ребятам группы № 6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4494240" y="3294000"/>
            <a:ext cx="39052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61616"/>
                </a:solidFill>
                <a:latin typeface="Tahoma"/>
              </a:rPr>
              <a:t>Детский сад № 48 «Пчёлк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ipe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опросы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называется профессия людей, борющихся с огнем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то вы знаете о форме пожарного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кажите, ребята, зачем пожарному каск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 вы думаете, почему, пожарная машина красная?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ой номер мы должны набрать по телефону, чтобы вызвать пожарных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0"/>
                            </p:stCondLst>
                            <p:childTnLst>
                              <p:par>
                                <p:cTn id="49" nodeType="after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тановка «</a:t>
            </a: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Рекомендации о безопасном поведени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»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лезы пожара не туша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ички – не игрушка, огонь не заба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т дыма без огн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то огня не бережется, тот скоро обожж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ичка – невеличка, огонь – велика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дой тушат пожар, а умом предотвращаю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1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1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6000"/>
                            </p:stCondLst>
                            <p:childTnLst>
                              <p:par>
                                <p:cTn id="79" nodeType="afterEffect" fill="hold" presetClass="entr" presetID="14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7" descr="50a9b98741caf"/>
          <p:cNvPicPr/>
          <p:nvPr/>
        </p:nvPicPr>
        <p:blipFill>
          <a:blip r:embed="rId1"/>
          <a:stretch/>
        </p:blipFill>
        <p:spPr>
          <a:xfrm>
            <a:off x="380880" y="457200"/>
            <a:ext cx="8305920" cy="5808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https://fs00.infourok.ru/images/doc/219/4984/10/img3.jpg"/>
          <p:cNvPicPr/>
          <p:nvPr/>
        </p:nvPicPr>
        <p:blipFill>
          <a:blip r:embed="rId1"/>
          <a:stretch/>
        </p:blipFill>
        <p:spPr>
          <a:xfrm>
            <a:off x="0" y="231840"/>
            <a:ext cx="4443480" cy="3328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2"/>
          <a:stretch/>
        </p:blipFill>
        <p:spPr>
          <a:xfrm>
            <a:off x="4255920" y="319104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Физкультурная минут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ым и огонь не к добру, так и зна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зрослых на помощь скорей призыва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в «01» поскорее звон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рочно пожарных! Помогут они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5" descr="hello_html_m5d0757e"/>
          <p:cNvPicPr/>
          <p:nvPr/>
        </p:nvPicPr>
        <p:blipFill>
          <a:blip r:embed="rId1"/>
          <a:stretch/>
        </p:blipFill>
        <p:spPr>
          <a:xfrm>
            <a:off x="4876920" y="1219320"/>
            <a:ext cx="3514680" cy="5333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Остановка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 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Картинная галерея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»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9" name="Picture 5" descr="%D0%A1%D0%BF%D0%B8%D1%87%D0%BA%D0%B8"/>
          <p:cNvPicPr/>
          <p:nvPr/>
        </p:nvPicPr>
        <p:blipFill>
          <a:blip r:embed="rId1"/>
          <a:stretch/>
        </p:blipFill>
        <p:spPr>
          <a:xfrm>
            <a:off x="228600" y="1600200"/>
            <a:ext cx="3505320" cy="24526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stixi-dlya-detej-pravila-pozharnoj-bezopasnosti-5"/>
          <p:cNvPicPr/>
          <p:nvPr/>
        </p:nvPicPr>
        <p:blipFill>
          <a:blip r:embed="rId2"/>
          <a:stretch/>
        </p:blipFill>
        <p:spPr>
          <a:xfrm>
            <a:off x="5334120" y="1600200"/>
            <a:ext cx="3504960" cy="245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3" descr="pozharnojbezopasnosti1"/>
          <p:cNvPicPr/>
          <p:nvPr/>
        </p:nvPicPr>
        <p:blipFill>
          <a:blip r:embed="rId3"/>
          <a:stretch/>
        </p:blipFill>
        <p:spPr>
          <a:xfrm>
            <a:off x="4648320" y="4137120"/>
            <a:ext cx="3886200" cy="2720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1346624575_ogon"/>
          <p:cNvPicPr/>
          <p:nvPr/>
        </p:nvPicPr>
        <p:blipFill>
          <a:blip r:embed="rId4"/>
          <a:stretch/>
        </p:blipFill>
        <p:spPr>
          <a:xfrm>
            <a:off x="533520" y="4137120"/>
            <a:ext cx="3886200" cy="2720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05T13:04:17Z</dcterms:created>
  <dc:creator>Администратор</dc:creator>
  <dc:description/>
  <dc:language>en-US</dc:language>
  <cp:lastModifiedBy>Михаил</cp:lastModifiedBy>
  <dcterms:modified xsi:type="dcterms:W3CDTF">2017-09-16T19:19:06Z</dcterms:modified>
  <cp:revision>5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