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9ADC7-B5E9-4C42-B62C-6BAB6EB1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4AD77-6053-49F2-BB34-176C206A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A8689-4210-4A10-982C-899E6BF5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FD7B0-134E-47E5-A814-68CC5F5B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E796-E91B-4074-A1E8-46DB36CF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71B5-D565-4CDC-9BA2-14656E60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DD9B-D8AF-41B7-802E-42B2A474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F2E7-CB01-4582-BC40-116A789B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9829-3633-4AF7-A739-89C54AC4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426D-42ED-4710-AF68-262BFC13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1FFD-24D2-405B-AFF7-C412EC1E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02110-FCC9-40CF-BFC7-403CB7B9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DF56-893F-4D39-87B8-0D6DC3A4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4E4A-93DD-42DE-9197-AE657B03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6D78-783A-45A0-A01B-97D78E67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4988-4E9A-485D-AA93-7B227583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AD71-DF58-4D8E-8911-2297D405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54B79-E0FE-4ACE-AC01-AB4FBAD1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3BE9B-BEC0-49F6-8F5D-F45B99ED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53B78-1DA9-45C5-B3C5-9902704D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D8F29-E745-445C-97C3-64DAE6FB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A023B-FD2A-4656-92E5-8CDF5888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A428D-8CD6-4E9B-B127-404B5F17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544BC-B033-46D2-A896-236E3153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BEF1-B926-4BD0-8F6B-A48B7A1721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EE4F-5B82-4677-9FB0-DBECC5D4C6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348840"/>
            <a:ext cx="5616360" cy="2257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6633"/>
                </a:solidFill>
                <a:latin typeface="Georgia"/>
              </a:rPr>
              <a:t>Экономика</a:t>
            </a:r>
            <a:r>
              <a:rPr b="0" i="1" lang="ru-RU" sz="4800" spc="-1" strike="noStrike">
                <a:solidFill>
                  <a:srgbClr val="996633"/>
                </a:solidFill>
                <a:latin typeface="Georgia"/>
              </a:rPr>
              <a:t> для</a:t>
            </a:r>
            <a:br>
              <a:rPr sz="4800"/>
            </a:br>
            <a:r>
              <a:rPr b="0" i="1" lang="ru-RU" sz="4800" spc="-1" strike="noStrike">
                <a:solidFill>
                  <a:srgbClr val="996633"/>
                </a:solidFill>
                <a:latin typeface="Georgia"/>
              </a:rPr>
              <a:t> детей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63600" y="4797360"/>
            <a:ext cx="5000760" cy="12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Tahoma"/>
              </a:rPr>
              <a:t>Учитель Агеева Лина Василь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Tahoma"/>
              </a:rPr>
              <a:t>МБОУ Луговская СО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Tahoma"/>
              </a:rPr>
              <a:t>2015 го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18" descr="MCj04046250000[1]"/>
          <p:cNvPicPr/>
          <p:nvPr/>
        </p:nvPicPr>
        <p:blipFill>
          <a:blip r:embed="rId1"/>
          <a:stretch/>
        </p:blipFill>
        <p:spPr>
          <a:xfrm>
            <a:off x="5435640" y="349200"/>
            <a:ext cx="3529080" cy="31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НАЗОВИ СЛОВО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685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.Л. Барто  «Так не так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"/>
          <p:cNvSpPr/>
          <p:nvPr/>
        </p:nvSpPr>
        <p:spPr>
          <a:xfrm>
            <a:off x="457200" y="3951360"/>
            <a:ext cx="82296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к же называется обмен, который пытались совершить два Ивана? 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бартер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Разгадай кроссворд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1" name="Рисунок 8" descr="http://festival.1september.ru/articles/571406/img2.gif"/>
          <p:cNvPicPr/>
          <p:nvPr/>
        </p:nvPicPr>
        <p:blipFill>
          <a:blip r:embed="rId1"/>
          <a:stretch/>
        </p:blipFill>
        <p:spPr>
          <a:xfrm>
            <a:off x="826920" y="1052640"/>
            <a:ext cx="78598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то такое ЭКОНОМИКА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ХОЗЯЙСТВО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Моя семья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юджет семь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зарплата, пенсия, стипендия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хо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хо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4" descr="MCj04078580000[1]"/>
          <p:cNvPicPr/>
          <p:nvPr/>
        </p:nvPicPr>
        <p:blipFill>
          <a:blip r:embed="rId1"/>
          <a:stretch/>
        </p:blipFill>
        <p:spPr>
          <a:xfrm>
            <a:off x="6845400" y="274680"/>
            <a:ext cx="1841400" cy="17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Деньги в детских сказках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Золотой ключик , или Приключение Буратино « А.Толст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Дядя Федор , пес и кот», Э Успен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Заработанный рубль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Семейный бюджет крокодила Гены» ,Э Успен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Сказка о рыбаке и рыбке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Как солдат из топора щи варил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Дюймовочк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Как старик корову продавал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Дудочка и кувшинчик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Мен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Волшебное кольцо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6" descr="MCj04156140000[1]"/>
          <p:cNvPicPr/>
          <p:nvPr/>
        </p:nvPicPr>
        <p:blipFill>
          <a:blip r:embed="rId1"/>
          <a:stretch/>
        </p:blipFill>
        <p:spPr>
          <a:xfrm>
            <a:off x="7380360" y="5133960"/>
            <a:ext cx="1042920" cy="1344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MCj04062740000[1]"/>
          <p:cNvPicPr/>
          <p:nvPr/>
        </p:nvPicPr>
        <p:blipFill>
          <a:blip r:embed="rId2"/>
          <a:stretch/>
        </p:blipFill>
        <p:spPr>
          <a:xfrm>
            <a:off x="5403960" y="4754520"/>
            <a:ext cx="1663560" cy="1724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MCj04156120000[1]"/>
          <p:cNvPicPr/>
          <p:nvPr/>
        </p:nvPicPr>
        <p:blipFill>
          <a:blip r:embed="rId3"/>
          <a:stretch/>
        </p:blipFill>
        <p:spPr>
          <a:xfrm>
            <a:off x="6404040" y="3689280"/>
            <a:ext cx="1326960" cy="14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пользуемая литература: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Воспитание .Первый класс. Издательство ООО “ИНТЕРПРЕССЕРВИС” 2002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6633"/>
                </a:solidFill>
                <a:latin typeface="Tahoma"/>
              </a:rPr>
              <a:t>ЭКОНОМИКА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Он желает всем удачи</a:t>
            </a:r>
            <a:br>
              <a:rPr sz="3200"/>
            </a:br>
            <a:r>
              <a:rPr b="1" i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За работу, в добрый час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6633"/>
                </a:solidFill>
                <a:latin typeface="Tahoma"/>
              </a:rPr>
              <a:t>Что человеку надо?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052280"/>
            <a:ext cx="56275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У солнышка есть правило: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Оно лучи расправило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Раскинуло с утра-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И на земле жара. 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Что человеку надо? (тепло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Содержимое 2"/>
          <p:cNvSpPr/>
          <p:nvPr/>
        </p:nvSpPr>
        <p:spPr>
          <a:xfrm>
            <a:off x="2556000" y="3660840"/>
            <a:ext cx="613080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На Андрейке - телогрейки,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офты, рукавицы,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олосатый шарф Андрейке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ринесли сестрицы.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Что человеку надо? (одежд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6048360" cy="25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Девочки и мальчики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рыгают от радости: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В каждом чемоданчике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Яблоки и сладости.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Что человеку надо? (пища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43280" y="3161880"/>
            <a:ext cx="584352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Жарко, жарко, нету сил!..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ить прохожий попросил: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Вовка - добрая душа,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Дай напиться из ковша.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Что человеку надо? (вод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6633"/>
                </a:solidFill>
                <a:latin typeface="Tahoma"/>
              </a:rPr>
              <a:t>ЭКОНОМИКА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417680"/>
            <a:ext cx="649116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На ковре перед крыльцом.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У него в руках игрушка -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огремушка с бубенцом.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Что человеку надо? (игрушк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33"/>
                </a:solidFill>
                <a:latin typeface="Tahoma"/>
              </a:rPr>
              <a:t>ПОТРЕБНОСТЬ – </a:t>
            </a:r>
            <a:r>
              <a:rPr b="0" lang="ru-RU" sz="4200" spc="-1" strike="noStrike">
                <a:solidFill>
                  <a:srgbClr val="996633"/>
                </a:solidFill>
                <a:latin typeface="Tahoma"/>
              </a:rPr>
              <a:t>это то, в чем нуждается человек.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6633"/>
                </a:solidFill>
                <a:latin typeface="Tahoma"/>
              </a:rPr>
              <a:t>ФИЗМИНУТКА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А теперь, ребята, встали.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Быстро руки вверх подняли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В стороны, вперед, назад.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овернулись вправо, влево,</a:t>
            </a:r>
            <a:br>
              <a:rPr sz="3200"/>
            </a:br>
            <a:r>
              <a:rPr b="1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Тихо сели - вновь за дел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Загадки Гнома Эконома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417320"/>
            <a:ext cx="620244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то в дни болезней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Всех полезней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И лечит нас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От всех болезней? (доктор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4211640" y="3811680"/>
            <a:ext cx="447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Учит он читать, писать,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Быстро, правильно считать (учитель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76500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Ночью, в полдень, на рассвете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Службу я несу в секрете,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На тропе, на берегу,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Преграждая путь врагу (пограничник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Содержимое 2"/>
          <p:cNvSpPr/>
          <p:nvPr/>
        </p:nvSpPr>
        <p:spPr>
          <a:xfrm>
            <a:off x="2484360" y="3357720"/>
            <a:ext cx="620244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Я профессию свою,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Если нужно пропою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Или воплощу в балете,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В жестах, в гриме, в силуэте.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Трагик я и юморист,</a:t>
            </a:r>
            <a:br>
              <a:rPr sz="3200"/>
            </a:br>
            <a:r>
              <a:rPr b="0" lang="ru-RU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Все зовут меня...( артист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2:46:41Z</dcterms:created>
  <dc:creator>User</dc:creator>
  <dc:description/>
  <dc:language>en-US</dc:language>
  <cp:lastModifiedBy>Лина</cp:lastModifiedBy>
  <dcterms:modified xsi:type="dcterms:W3CDTF">2015-01-26T23:04:18Z</dcterms:modified>
  <cp:revision>48</cp:revision>
  <dc:subject/>
  <dc:title>Слайд 1</dc:title>
</cp:coreProperties>
</file>