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0782-E4E4-42D3-ADC2-FB3ACD53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4336-BA7B-4B61-8A88-93C4352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19A4-A577-4FA9-A0CC-E6339778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2305-7FB2-40FC-A3C5-8545A1EC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8552-17FF-4061-9040-A3E4775E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3745-D303-4ED4-9877-8FCDB520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F227-7022-4ADF-A2BD-49E1AC9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64D9-58AB-4E1E-89B1-4716222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BA2-F900-4CD8-A8A5-D759194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309F-95B0-406B-9DAE-8DD9C7C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F23-F0F5-4D19-8026-3E8BD7B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6A01-88F2-4DF3-8A48-3F1C006E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D5E8-9D4C-4370-8074-1C6111EE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FDDD-CA1B-41E2-B929-1BDDBB4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91C-5813-455D-9197-D087F3F4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C8B8-631D-47CE-85BB-AC909151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79C-01FF-4D13-88F3-8D921274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1518-5C46-4DD4-9975-4A7257B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D1EE-570F-4693-86A5-78975A1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A61B-C632-48A2-8BEC-3994D97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4425-AF37-4895-9B1D-BA16F837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54BC-3ADE-4857-AC93-3DFDAD8F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F926-B683-42AE-9027-5A7E1E82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1AD2-98E2-4E57-A82F-7AD7CA3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1FAD-E8DC-4AB5-A014-F33CB1B0C0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250-D416-48E8-9490-392D0E8840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348840"/>
            <a:ext cx="5616360" cy="225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33"/>
                </a:solidFill>
                <a:latin typeface="Georgia"/>
              </a:rPr>
              <a:t>Экономика</a:t>
            </a:r>
            <a:r>
              <a:rPr b="0" i="1" lang="ru-RU" sz="4800" spc="-1" strike="noStrike">
                <a:solidFill>
                  <a:srgbClr val="996633"/>
                </a:solidFill>
                <a:latin typeface="Georgia"/>
              </a:rPr>
              <a:t> для</a:t>
            </a:r>
            <a:br>
              <a:rPr sz="4800"/>
            </a:br>
            <a:r>
              <a:rPr b="0" i="1" lang="ru-RU" sz="4800" spc="-1" strike="noStrike">
                <a:solidFill>
                  <a:srgbClr val="996633"/>
                </a:solidFill>
                <a:latin typeface="Georgia"/>
              </a:rPr>
              <a:t> детей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63600" y="4797360"/>
            <a:ext cx="5000760" cy="12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ahoma"/>
              </a:rPr>
              <a:t>Учитель Агеева Лина Василь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ahoma"/>
              </a:rPr>
              <a:t>МБОУ Луговская СО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ahoma"/>
              </a:rPr>
              <a:t>2015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18" descr="MCj04046250000[1]"/>
          <p:cNvPicPr/>
          <p:nvPr/>
        </p:nvPicPr>
        <p:blipFill>
          <a:blip r:embed="rId1"/>
          <a:stretch/>
        </p:blipFill>
        <p:spPr>
          <a:xfrm>
            <a:off x="5435640" y="349200"/>
            <a:ext cx="352908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ЗОВИ СЛОВ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685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.Л. Барто  «Так не так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457200" y="395136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к же называется обмен, который пытались совершить два Ивана? 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бартер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азгадай кроссворд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Рисунок 8" descr="http://festival.1september.ru/articles/571406/img2.gif"/>
          <p:cNvPicPr/>
          <p:nvPr/>
        </p:nvPicPr>
        <p:blipFill>
          <a:blip r:embed="rId1"/>
          <a:stretch/>
        </p:blipFill>
        <p:spPr>
          <a:xfrm>
            <a:off x="826920" y="1052640"/>
            <a:ext cx="7859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ОЗЯЙСТВО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Моя семья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юджет семь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зарплата, пенсия, стипендия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хо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хо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MCj04078580000[1]"/>
          <p:cNvPicPr/>
          <p:nvPr/>
        </p:nvPicPr>
        <p:blipFill>
          <a:blip r:embed="rId1"/>
          <a:stretch/>
        </p:blipFill>
        <p:spPr>
          <a:xfrm>
            <a:off x="6845400" y="274680"/>
            <a:ext cx="184140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Деньги в детских сказках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олотой ключик , или Приключение Буратино « А.Толст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ядя Федор , пес и кот», Э Успе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аработанный руб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Семейный бюджет крокодила Гены» ,Э Успе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Сказка о рыбаке и рыбк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ак солдат из топора щи вари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юймовочк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ак старик корову продава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удочка и кувшинчи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Ме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Волшебное кольцо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6" descr="MCj04156140000[1]"/>
          <p:cNvPicPr/>
          <p:nvPr/>
        </p:nvPicPr>
        <p:blipFill>
          <a:blip r:embed="rId1"/>
          <a:stretch/>
        </p:blipFill>
        <p:spPr>
          <a:xfrm>
            <a:off x="7380360" y="5133960"/>
            <a:ext cx="1042920" cy="1344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Cj04062740000[1]"/>
          <p:cNvPicPr/>
          <p:nvPr/>
        </p:nvPicPr>
        <p:blipFill>
          <a:blip r:embed="rId2"/>
          <a:stretch/>
        </p:blipFill>
        <p:spPr>
          <a:xfrm>
            <a:off x="5403960" y="4754520"/>
            <a:ext cx="1663560" cy="1724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MCj04156120000[1]"/>
          <p:cNvPicPr/>
          <p:nvPr/>
        </p:nvPicPr>
        <p:blipFill>
          <a:blip r:embed="rId3"/>
          <a:stretch/>
        </p:blipFill>
        <p:spPr>
          <a:xfrm>
            <a:off x="6404040" y="3689280"/>
            <a:ext cx="132696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уемая литература: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Воспитание .Первый класс. Издательство ООО “ИНТЕРПРЕССЕРВИС” 2002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ЭКОНОМИ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н желает всем удачи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За работу, в добрый час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Что человеку надо?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52280"/>
            <a:ext cx="56275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 солнышка есть правило: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но лучи расправило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Раскинуло с утра-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 на земле жара. 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тепл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2556000" y="3660840"/>
            <a:ext cx="613080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Андрейке - телогрейки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фты, рукавицы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лосатый шарф Андрейке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инесли сестрицы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одежд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6048360" cy="25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евочки и мальчики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ыгают от радости: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 каждом чемоданчике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Яблоки и сладости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пищ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3280" y="3161880"/>
            <a:ext cx="58435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Жарко, жарко, нету сил!.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ить прохожий попросил: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овка - добрая душа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ай напиться из ковша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вод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ЭКОНОМИ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417680"/>
            <a:ext cx="64911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ковре перед крыльцом.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 него в руках игрушка -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гремушка с бубенцом.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игрушк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33"/>
                </a:solidFill>
                <a:latin typeface="Tahoma"/>
              </a:rPr>
              <a:t>ПОТРЕБНОСТЬ – </a:t>
            </a: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это то, в чем нуждается человек.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33"/>
                </a:solidFill>
                <a:latin typeface="Tahoma"/>
              </a:rPr>
              <a:t>ФИЗМИНУТ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теперь, ребята, встали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Быстро руки вверх подняли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 стороны, вперед, назад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вернулись вправо, влево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ихо сели - вновь за де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агадки Гнома Эконом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417320"/>
            <a:ext cx="62024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то в дни болезней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сех полезней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 лечит нас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т всех болезней? (доктор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211640" y="3811680"/>
            <a:ext cx="447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чит он читать, писать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Быстро, правильно считать (учитель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765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очью, в полдень, на рассвете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лужбу я несу в секрете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тропе, на берегу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еграждая путь врагу (пограничн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2484360" y="3357720"/>
            <a:ext cx="62024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Я профессию свою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Если нужно пропою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ли воплощу в балете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 жестах, в гриме, в силуэте.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рагик я и юморист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се зовут меня...( артис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2:46:41Z</dcterms:created>
  <dc:creator>User</dc:creator>
  <dc:description/>
  <dc:language>en-US</dc:language>
  <cp:lastModifiedBy>Лина</cp:lastModifiedBy>
  <dcterms:modified xsi:type="dcterms:W3CDTF">2015-01-26T23:04:18Z</dcterms:modified>
  <cp:revision>48</cp:revision>
  <dc:subject/>
  <dc:title>Слайд 1</dc:title>
</cp:coreProperties>
</file>