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97D8-1B1F-4FBA-96FE-209D050A5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9D9D-17E0-4668-BB12-B8F7E0CE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C3FE-473B-4DE2-970A-852C3ED7A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530A-0678-4C0C-AB1D-6094BA568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ECC7F-125D-425B-B400-933323BB9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26FD-F351-4491-B81E-086BEEFF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F3CF-B6D8-4D60-BE4D-EC23A3AE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2252-38B8-4260-A5C5-B068695D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1509-EE84-4723-AA0E-1301A4F4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831D-93A6-44EF-8917-D59A8C0F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49CF-1D71-4932-94F4-B10FFD18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F17F-0511-4F00-8D3E-F7D9525F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0C6D-CE8C-449C-B2CB-9E0B003F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2635-C9B3-4707-90F0-DA0CF5CE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9270-A0E7-4550-BCF0-3EC2851C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F0E4-CCF0-4059-BEA5-68AFE171B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226B3-5AF7-4BDA-807C-5E4CD6DF8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7916-88EE-46BA-AD2E-FE300030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F079-CAA0-43F0-A74F-0F046A38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3B3A-F9B9-418D-A689-D4EBD70C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06C6-0E3F-4B19-BB8C-4AA5F20E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1874-6F7C-482F-B47B-9BEB2735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2772-B8D5-4411-BC02-8C773B3C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66AA-EF06-49FD-8300-7A65D3BB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5AA3-96AA-4FE3-8AA7-99319304F2A9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50000">
                  <a:srgbClr val="009900"/>
                </a:gs>
                <a:gs pos="100000">
                  <a:srgbClr val="cc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100000">
                  <a:srgbClr val="eff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fbf0"/>
                </a:gs>
                <a:gs pos="100000">
                  <a:srgbClr val="cc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F1AF-C273-4432-A2C3-F6C093F5FE41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Прямоугольник 2" descr=""/>
          <p:cNvPicPr/>
          <p:nvPr/>
        </p:nvPicPr>
        <p:blipFill>
          <a:blip r:embed="rId1"/>
          <a:stretch/>
        </p:blipFill>
        <p:spPr>
          <a:xfrm>
            <a:off x="762120" y="530280"/>
            <a:ext cx="7839000" cy="5578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3049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фессиональное развитие руководителя является одним из направлений его жизненного пути, который есть отражение и выражение процессов, происходящих в современном обществе. Разрабатывая программу развития своего образовательной организации, руководитель формирует и свою стратегию развития. Профессиональная социализация включает процесс активной реализации накапливаемого профессионального опыта, выбор оптимального поведенческого решения, предполагающего не- прерывное профессиональное развити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-30492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ahoma"/>
              </a:rPr>
              <a:t>Модель функциональных обязанностей  руководителя ДОО</a:t>
            </a:r>
            <a:endParaRPr b="1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208200" y="2127960"/>
            <a:ext cx="2822760" cy="1764000"/>
          </a:xfrm>
          <a:prstGeom prst="rect">
            <a:avLst/>
          </a:prstGeom>
          <a:solidFill>
            <a:srgbClr val="ff7c80"/>
          </a:solidFill>
          <a:ln w="25560">
            <a:solidFill>
              <a:srgbClr val="a2a2a2"/>
            </a:solidFill>
            <a:miter/>
          </a:ln>
        </p:spPr>
        <p:txBody>
          <a:bodyPr anchor="ctr">
            <a:normAutofit fontScale="97000"/>
          </a:bodyPr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ahoma"/>
              </a:rPr>
              <a:t>организовывать работу своих заместителей, создавать структуру, которая смогла бы наилучшим  образом соответствовать целям ОО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Блок-схема: альтернативный процесс 5"/>
          <p:cNvSpPr/>
          <p:nvPr/>
        </p:nvSpPr>
        <p:spPr>
          <a:xfrm>
            <a:off x="5562720" y="4572000"/>
            <a:ext cx="2971800" cy="1905120"/>
          </a:xfrm>
          <a:prstGeom prst="flowChartAlternateProcess">
            <a:avLst/>
          </a:prstGeom>
          <a:solidFill>
            <a:srgbClr val="dddddd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ahoma"/>
              </a:rPr>
              <a:t>Контролировать работу всей ОО и своих заместителе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Блок-схема: альтернативный процесс 6"/>
          <p:cNvSpPr/>
          <p:nvPr/>
        </p:nvSpPr>
        <p:spPr>
          <a:xfrm>
            <a:off x="0" y="4419720"/>
            <a:ext cx="3352680" cy="1904760"/>
          </a:xfrm>
          <a:prstGeom prst="flowChartAlternateProcess">
            <a:avLst/>
          </a:prstGeom>
          <a:solidFill>
            <a:srgbClr val="92d05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ahoma"/>
              </a:rPr>
              <a:t>Руководить деятельностью своих заместителей, всего педагогического коллектива, выступая для них примеро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Блок-схема: альтернативный процесс 7"/>
          <p:cNvSpPr/>
          <p:nvPr/>
        </p:nvSpPr>
        <p:spPr>
          <a:xfrm>
            <a:off x="228600" y="2286000"/>
            <a:ext cx="2438280" cy="1600200"/>
          </a:xfrm>
          <a:prstGeom prst="flowChartAlternateProcess">
            <a:avLst/>
          </a:prstGeom>
          <a:solidFill>
            <a:srgbClr val="ffc0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ahoma"/>
              </a:rPr>
              <a:t>Планировать работу ОО на будуще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Блок-схема: альтернативный процесс 8"/>
          <p:cNvSpPr/>
          <p:nvPr/>
        </p:nvSpPr>
        <p:spPr>
          <a:xfrm>
            <a:off x="2590920" y="838080"/>
            <a:ext cx="3962160" cy="1524240"/>
          </a:xfrm>
          <a:prstGeom prst="flowChartAlternateProcess">
            <a:avLst/>
          </a:prstGeom>
          <a:solidFill>
            <a:srgbClr val="00b05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ahoma"/>
              </a:rPr>
              <a:t>Координировать работу сотрудников внутри ОО, согласовывать с общим  (стратегическим) планом организац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Блок-схема: альтернативный процесс 3"/>
          <p:cNvSpPr/>
          <p:nvPr/>
        </p:nvSpPr>
        <p:spPr>
          <a:xfrm>
            <a:off x="2895480" y="2666880"/>
            <a:ext cx="3048120" cy="1828800"/>
          </a:xfrm>
          <a:prstGeom prst="flowChartAlternateProcess">
            <a:avLst/>
          </a:prstGeom>
          <a:solidFill>
            <a:srgbClr val="ffff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ahoma"/>
              </a:rPr>
              <a:t>Функциональная обязанность руководителя современного ОО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38" name="Содержимое 3" descr="http://player.myshared.ru/17/1177040/slides/slide_8.jpg"/>
          <p:cNvPicPr/>
          <p:nvPr/>
        </p:nvPicPr>
        <p:blipFill>
          <a:blip r:embed="rId1"/>
          <a:stretch/>
        </p:blipFill>
        <p:spPr>
          <a:xfrm>
            <a:off x="380880" y="228600"/>
            <a:ext cx="8763120" cy="6172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38052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ез формирования профессиональных компетенций невозможно профессиональное развитие, ведь руководитель должен не просто обладать знаниями, а стремиться к их обновлению. Обязательные качества современного руководителя  - это гибкость и критичность мышления, подразумевающая способность выбирать наиболее оптимальные и эффективные решения и отвергать ложны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с двумя скругленными противолежащими углами 2"/>
          <p:cNvSpPr/>
          <p:nvPr/>
        </p:nvSpPr>
        <p:spPr>
          <a:xfrm>
            <a:off x="0" y="1676520"/>
            <a:ext cx="9144000" cy="4114800"/>
          </a:xfrm>
          <a:custGeom>
            <a:avLst/>
            <a:gdLst>
              <a:gd name="textAreaLeft" fmla="*/ 200520 w 9144000"/>
              <a:gd name="textAreaRight" fmla="*/ 8943480 w 9144000"/>
              <a:gd name="textAreaTop" fmla="*/ 200880 h 4114800"/>
              <a:gd name="textAreaBottom" fmla="*/ 3913920 h 4114800"/>
            </a:gdLst>
            <a:ahLst/>
            <a:rect l="textAreaLeft" t="textAreaTop" r="textAreaRight" b="textAreaBottom"/>
            <a:pathLst>
              <a:path w="9144000" h="4114800">
                <a:moveTo>
                  <a:pt x="685814" y="0"/>
                </a:moveTo>
                <a:lnTo>
                  <a:pt x="9144000" y="0"/>
                </a:lnTo>
                <a:lnTo>
                  <a:pt x="9144000" y="3428986"/>
                </a:lnTo>
                <a:lnTo>
                  <a:pt x="9144000" y="3428986"/>
                </a:lnTo>
                <a:arcTo wR="685814" hR="685814" stAng="0" swAng="5400000"/>
                <a:lnTo>
                  <a:pt x="0" y="4114800"/>
                </a:lnTo>
                <a:lnTo>
                  <a:pt x="0" y="685814"/>
                </a:lnTo>
                <a:lnTo>
                  <a:pt x="0" y="685814"/>
                </a:lnTo>
                <a:arcTo wR="685814" hR="685814" stAng="-10799995" swAng="5400000"/>
                <a:close/>
              </a:path>
            </a:pathLst>
          </a:custGeom>
          <a:solidFill>
            <a:srgbClr val="92d050"/>
          </a:solidFill>
          <a:ln w="25560">
            <a:solidFill>
              <a:srgbClr val="a2a2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Прямоугольник 1"/>
          <p:cNvSpPr/>
          <p:nvPr/>
        </p:nvSpPr>
        <p:spPr>
          <a:xfrm>
            <a:off x="0" y="22860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Формирование профессионализма идет по двум основным направлениям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 Изменение всей системы деятельности, ее функций и иерархического строения. В ходе выработки соответствующих трудовых навыков происходит движение личности по степени профессионального мастерства, развивается специфическая система способов выполнения деятельности - формируется личный стиль деятельн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с двумя скругленными противолежащими углами 2"/>
          <p:cNvSpPr/>
          <p:nvPr/>
        </p:nvSpPr>
        <p:spPr>
          <a:xfrm>
            <a:off x="0" y="1447920"/>
            <a:ext cx="8915400" cy="4038480"/>
          </a:xfrm>
          <a:custGeom>
            <a:avLst/>
            <a:gdLst>
              <a:gd name="textAreaLeft" fmla="*/ 196920 w 8915400"/>
              <a:gd name="textAreaRight" fmla="*/ 8718480 w 8915400"/>
              <a:gd name="textAreaTop" fmla="*/ 196920 h 4038480"/>
              <a:gd name="textAreaBottom" fmla="*/ 3841560 h 4038480"/>
            </a:gdLst>
            <a:ahLst/>
            <a:rect l="textAreaLeft" t="textAreaTop" r="textAreaRight" b="textAreaBottom"/>
            <a:pathLst>
              <a:path w="8915400" h="4038600">
                <a:moveTo>
                  <a:pt x="673114" y="0"/>
                </a:moveTo>
                <a:lnTo>
                  <a:pt x="8915400" y="0"/>
                </a:lnTo>
                <a:lnTo>
                  <a:pt x="8915400" y="3365486"/>
                </a:lnTo>
                <a:lnTo>
                  <a:pt x="8915400" y="3365486"/>
                </a:lnTo>
                <a:arcTo wR="673114" hR="673114" stAng="0" swAng="5400000"/>
                <a:lnTo>
                  <a:pt x="0" y="4038600"/>
                </a:lnTo>
                <a:lnTo>
                  <a:pt x="0" y="673114"/>
                </a:lnTo>
                <a:lnTo>
                  <a:pt x="0" y="673114"/>
                </a:lnTo>
                <a:arcTo wR="673114" hR="673114" stAng="-10799995" swAng="5400000"/>
                <a:close/>
              </a:path>
            </a:pathLst>
          </a:custGeom>
          <a:solidFill>
            <a:srgbClr val="00b050"/>
          </a:solidFill>
          <a:ln w="25560">
            <a:solidFill>
              <a:srgbClr val="a2a2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Прямоугольник 1"/>
          <p:cNvSpPr/>
          <p:nvPr/>
        </p:nvSpPr>
        <p:spPr>
          <a:xfrm>
            <a:off x="228600" y="1582560"/>
            <a:ext cx="8610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. Изменение личности субъекта, проявляющееся как во внешнем облике (моторике, речи, эмоциональности, формах общения), так и в соответствующих элементах профессионального сознания (профессионального внимания, перцепции, памяти, мышления, эмоционально-волевой сферы), что в более широком плане может рассматриваться в качестве становления профессионального мировоззр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Блок-схема: задержка 3"/>
          <p:cNvSpPr/>
          <p:nvPr/>
        </p:nvSpPr>
        <p:spPr>
          <a:xfrm>
            <a:off x="0" y="228600"/>
            <a:ext cx="9144000" cy="990720"/>
          </a:xfrm>
          <a:prstGeom prst="flowChartDelay">
            <a:avLst/>
          </a:prstGeom>
          <a:solidFill>
            <a:srgbClr val="00b0f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52280" y="152280"/>
            <a:ext cx="88394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бор индивидуальной стратег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фессионального развити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фактически является стратегией построения горизонтальной карьеры руководителя — это развитие карьеры в рамках одной должности, отражающее личные достижения, достижения коллектива, находящегося в подчинении, результаты деятельности образовательного учреждения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Важно!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истема образования как отрасль экономики не предусматривает большого количества вариантов реализации вертикальной карьеры, однако у человека, пришедшего в эту систему, не должно возникать ощущения пожизненной неизменности своей деятельност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5331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правление горизонтальной карьерой является средством стимулирования профессионального развития руководителя, включающим и привычную аттестацию, и конкурсы педагогических достижений, требует владения современным средствами самоанализа и самодиагностики, позволяющими вовремя оценить свои достижения и определить дальнейшие личные и профессиональные цели, а также способы их достижения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Блок-схема: задержка 3"/>
          <p:cNvSpPr/>
          <p:nvPr/>
        </p:nvSpPr>
        <p:spPr>
          <a:xfrm>
            <a:off x="228600" y="4038480"/>
            <a:ext cx="9067680" cy="2819520"/>
          </a:xfrm>
          <a:prstGeom prst="flowChartDelay">
            <a:avLst/>
          </a:prstGeom>
          <a:solidFill>
            <a:srgbClr val="92d05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1522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вращение руководителей в активных субъектов развития своей управленческой деятельности (посредством освоения инструментов оценивания качества управления, формирования адекватной оценки собственной управленческой деятельности, самостоятельного выявления собственных профессиональных проблем) является необходимым условием, стимулом и источником изменения профессионального самосознания, которое влечет за собой профессиональное развитие руководителей О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51920" y="-360"/>
            <a:ext cx="84582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Принцип выстраивания карьеры руководителя зависит от многих факторов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●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зраста и опыта работы в данной должности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●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жизненного опыта, сквозь призму которого воспринимается и оценивается мир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●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ичностных качеств, которые позволяют «смягчать» проблемы и трудности, определяют взаимоотношения со всеми участниками образовательного процес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51920" y="3805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рьера руководителя очень тесно связана с развитием образовательной организации под его руководством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стратегия профессионального развития должна определяться путями развития ОО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дготовка к участию в конкурсах, работа над формированием портфолио позволяет зачастую провести глубокий анализ собственной управленческой деятельности. </a:t>
            </a: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Важно!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Участие в конкурсном движении не самоцель, а возможность стимулировать свою деятельность, подтолкнуть своих сотрудников к развитию, получить пу- бличную оценку своей деятельност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кументы</cp:lastModifiedBy>
  <dcterms:modified xsi:type="dcterms:W3CDTF">2017-02-18T05:53:33Z</dcterms:modified>
  <cp:revision>2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