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966B0-EBF2-4A92-A49A-D87271A0E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25223-90FC-4CD6-A4C7-8C8759911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461CD-95FB-44DA-84FF-3E76FC2FE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9AA06-BD79-4AF0-8F23-59935ADDB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B4D4F-B1DF-4982-9650-E907702B1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41DC6-6D28-4366-8943-DDE1AEF9A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A5D5E-067E-4B52-AC85-C434C3E3A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12598-F699-444A-962D-32364258B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D7582-7BAA-4EE4-AFF3-DA50718FE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FE507-7074-4C3A-8CF2-E9D65149B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B19D2-8166-4F60-92D3-A20447F4A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B8A22-43A8-4E2B-AF0A-FB1B7B81E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0EBE0-6644-46FD-8609-9EF71B237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DD9A1-6786-4A79-A0AD-7395F9085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088EA-CD72-4CA2-AD3B-2735B5E77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A3E10-926C-4463-9F7B-5030F53B8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25BF3-6FA2-4AF3-9BAC-7C394D00E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BC973-61F6-4312-B02E-15D323ACC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17DBF-D5BB-4DE3-A2DF-63870FB4D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1A48F-7D17-43CA-ACA8-85E9D4270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35CB3-518D-43DE-8CFC-E14638DCE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672BA-89E5-4748-B5A0-7D6F4D5BE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218C3-66EF-4550-926E-7D73C13F3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0BBF3-2F9D-4042-847E-C494F2F69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d6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>
                <a:gd name="textAreaLeft" fmla="*/ 0 w 8254800"/>
                <a:gd name="textAreaRight" fmla="*/ 8255160 w 8254800"/>
                <a:gd name="textAreaTop" fmla="*/ 0 h 5014800"/>
                <a:gd name="textAreaBottom" fmla="*/ 5015160 h 5014800"/>
              </a:gdLst>
              <a:ahLst/>
              <a:rect l="textAreaLeft" t="textAreaTop" r="textAreaRight" b="textAreaBottom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c4d6be"/>
                </a:gs>
                <a:gs pos="100000">
                  <a:srgbClr val="effbf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>
                <a:gd name="textAreaLeft" fmla="*/ 0 w 885960"/>
                <a:gd name="textAreaRight" fmla="*/ 885960 w 885960"/>
                <a:gd name="textAreaTop" fmla="*/ 0 h 5014800"/>
                <a:gd name="textAreaBottom" fmla="*/ 5015160 h 5014800"/>
              </a:gdLst>
              <a:ahLst/>
              <a:rect l="textAreaLeft" t="textAreaTop" r="textAreaRight" b="textAreaBottom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4d6be"/>
                </a:gs>
                <a:gs pos="100000">
                  <a:srgbClr val="effb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1103040"/>
                  <a:gd name="textAreaBottom" fmla="*/ 1103400 h 1103040"/>
                </a:gdLst>
                <a:ahLst/>
                <a:rect l="textAreaLeft" t="textAreaTop" r="textAreaRight" b="textAreaBottom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4d6be"/>
                  </a:gs>
                  <a:gs pos="100000">
                    <a:srgbClr val="effb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281480"/>
                  <a:gd name="textAreaBottom" fmla="*/ 4281840 h 4281480"/>
                </a:gdLst>
                <a:ahLst/>
                <a:rect l="textAreaLeft" t="textAreaTop" r="textAreaRight" b="textAreaBottom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ffbf0"/>
                  </a:gs>
                  <a:gs pos="100000">
                    <a:srgbClr val="c4d6b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>
                  <a:gd name="textAreaLeft" fmla="*/ 0 w 7522920"/>
                  <a:gd name="textAreaRight" fmla="*/ 7523280 w 7522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ffbf0"/>
                  </a:gs>
                  <a:gs pos="100000">
                    <a:srgbClr val="c4d6be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99"/>
                  </a:gs>
                  <a:gs pos="100000">
                    <a:srgbClr val="effb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00320"/>
                  <a:gd name="textAreaBottom" fmla="*/ 400680 h 40032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ffbf0"/>
                  </a:gs>
                  <a:gs pos="100000">
                    <a:srgbClr val="ccff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666720"/>
                  <a:gd name="textAreaBottom" fmla="*/ 667080 h 666720"/>
                </a:gdLst>
                <a:ahLst/>
                <a:rect l="textAreaLeft" t="textAreaTop" r="textAreaRight" b="textAreaBottom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99"/>
                  </a:gs>
                  <a:gs pos="50000">
                    <a:srgbClr val="009900"/>
                  </a:gs>
                  <a:gs pos="100000">
                    <a:srgbClr val="ccff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>
                  <a:gd name="textAreaLeft" fmla="*/ 0 w 557280"/>
                  <a:gd name="textAreaRight" fmla="*/ 557640 w 55728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ffbf0"/>
                  </a:gs>
                  <a:gs pos="100000">
                    <a:srgbClr val="ccff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>
                  <a:gd name="textAreaLeft" fmla="*/ 0 w 400320"/>
                  <a:gd name="textAreaRight" fmla="*/ 400680 w 4003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99"/>
                  </a:gs>
                  <a:gs pos="100000">
                    <a:srgbClr val="effbf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>
                  <a:gd name="textAreaLeft" fmla="*/ 0 w 664920"/>
                  <a:gd name="textAreaRight" fmla="*/ 665280 w 664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99"/>
                  </a:gs>
                  <a:gs pos="50000">
                    <a:srgbClr val="009900"/>
                  </a:gs>
                  <a:gs pos="100000">
                    <a:srgbClr val="ccff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9966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EA67B-B236-4C26-85CF-84333F3D0154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d6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>
                  <a:gd name="textAreaLeft" fmla="*/ 0 w 8254800"/>
                  <a:gd name="textAreaRight" fmla="*/ 8255160 w 8254800"/>
                  <a:gd name="textAreaTop" fmla="*/ 0 h 5014800"/>
                  <a:gd name="textAreaBottom" fmla="*/ 5015160 h 5014800"/>
                </a:gdLst>
                <a:ahLst/>
                <a:rect l="textAreaLeft" t="textAreaTop" r="textAreaRight" b="textAreaBottom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4d6be"/>
                  </a:gs>
                  <a:gs pos="100000">
                    <a:srgbClr val="effbf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>
                  <a:gd name="textAreaLeft" fmla="*/ 0 w 885960"/>
                  <a:gd name="textAreaRight" fmla="*/ 885960 w 885960"/>
                  <a:gd name="textAreaTop" fmla="*/ 0 h 5014800"/>
                  <a:gd name="textAreaBottom" fmla="*/ 5015160 h 5014800"/>
                </a:gdLst>
                <a:ahLst/>
                <a:rect l="textAreaLeft" t="textAreaTop" r="textAreaRight" b="textAreaBottom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4d6be"/>
                  </a:gs>
                  <a:gs pos="100000">
                    <a:srgbClr val="effb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666720"/>
                <a:gd name="textAreaBottom" fmla="*/ 667080 h 666720"/>
              </a:gdLst>
              <a:ahLst/>
              <a:rect l="textAreaLeft" t="textAreaTop" r="textAreaRight" b="textAreaBottom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cff99"/>
                </a:gs>
                <a:gs pos="50000">
                  <a:srgbClr val="009900"/>
                </a:gs>
                <a:gs pos="100000">
                  <a:srgbClr val="ccff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ccff99"/>
                </a:gs>
                <a:gs pos="100000">
                  <a:srgbClr val="effbf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>
                <a:gd name="textAreaLeft" fmla="*/ 0 w 557280"/>
                <a:gd name="textAreaRight" fmla="*/ 557640 w 55728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effbf0"/>
                </a:gs>
                <a:gs pos="100000">
                  <a:srgbClr val="ccff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1103040"/>
                  <a:gd name="textAreaBottom" fmla="*/ 1103400 h 1103040"/>
                </a:gdLst>
                <a:ahLst/>
                <a:rect l="textAreaLeft" t="textAreaTop" r="textAreaRight" b="textAreaBottom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4d6be"/>
                  </a:gs>
                  <a:gs pos="100000">
                    <a:srgbClr val="effb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281480"/>
                  <a:gd name="textAreaBottom" fmla="*/ 4281840 h 4281480"/>
                </a:gdLst>
                <a:ahLst/>
                <a:rect l="textAreaLeft" t="textAreaTop" r="textAreaRight" b="textAreaBottom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ffbf0"/>
                  </a:gs>
                  <a:gs pos="100000">
                    <a:srgbClr val="c4d6b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>
                  <a:gd name="textAreaLeft" fmla="*/ 0 w 7522920"/>
                  <a:gd name="textAreaRight" fmla="*/ 7523280 w 7522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ffbf0"/>
                  </a:gs>
                  <a:gs pos="100000">
                    <a:srgbClr val="c4d6be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99"/>
                  </a:gs>
                  <a:gs pos="100000">
                    <a:srgbClr val="effb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00320"/>
                  <a:gd name="textAreaBottom" fmla="*/ 400680 h 40032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ffbf0"/>
                  </a:gs>
                  <a:gs pos="100000">
                    <a:srgbClr val="ccff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>
                  <a:gd name="textAreaLeft" fmla="*/ 0 w 664920"/>
                  <a:gd name="textAreaRight" fmla="*/ 665280 w 664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99"/>
                  </a:gs>
                  <a:gs pos="50000">
                    <a:srgbClr val="009900"/>
                  </a:gs>
                  <a:gs pos="100000">
                    <a:srgbClr val="ccff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9966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353DF-2D3F-44A1-AAC0-E95EC4B4F009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Прямоугольник 2" descr=""/>
          <p:cNvPicPr/>
          <p:nvPr/>
        </p:nvPicPr>
        <p:blipFill>
          <a:blip r:embed="rId1"/>
          <a:stretch/>
        </p:blipFill>
        <p:spPr>
          <a:xfrm>
            <a:off x="762120" y="530280"/>
            <a:ext cx="7839000" cy="55785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-360" y="304920"/>
            <a:ext cx="89154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рофессиональное развитие руководителя является одним из направлений его жизненного пути, который есть отражение и выражение процессов, происходящих в современном обществе. Разрабатывая программу развития своего образовательной организации, руководитель формирует и свою стратегию развития. Профессиональная социализация включает процесс активной реализации накапливаемого профессионального опыта, выбор оптимального поведенческого решения, предполагающего не- прерывное профессиональное развитие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320" y="-304920"/>
            <a:ext cx="75438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ahoma"/>
              </a:rPr>
              <a:t>Модель функциональных обязанностей  руководителя ДОО</a:t>
            </a:r>
            <a:endParaRPr b="1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6208200" y="2127960"/>
            <a:ext cx="2822760" cy="1764000"/>
          </a:xfrm>
          <a:prstGeom prst="rect">
            <a:avLst/>
          </a:prstGeom>
          <a:solidFill>
            <a:srgbClr val="ff7c80"/>
          </a:solidFill>
          <a:ln w="25560">
            <a:solidFill>
              <a:srgbClr val="a2a2a2"/>
            </a:solidFill>
            <a:miter/>
          </a:ln>
        </p:spPr>
        <p:txBody>
          <a:bodyPr anchor="ctr">
            <a:normAutofit fontScale="97000"/>
          </a:bodyPr>
          <a:p>
            <a:pPr marL="332640" indent="-3326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Tahoma"/>
              </a:rPr>
              <a:t>организовывать работу своих заместителей, создавать структуру, которая смогла бы наилучшим  образом соответствовать целям ОО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Блок-схема: альтернативный процесс 5"/>
          <p:cNvSpPr/>
          <p:nvPr/>
        </p:nvSpPr>
        <p:spPr>
          <a:xfrm>
            <a:off x="5562720" y="4572000"/>
            <a:ext cx="2971800" cy="1905120"/>
          </a:xfrm>
          <a:prstGeom prst="flowChartAlternateProcess">
            <a:avLst/>
          </a:prstGeom>
          <a:solidFill>
            <a:srgbClr val="dddddd"/>
          </a:solidFill>
          <a:ln w="25560">
            <a:solidFill>
              <a:srgbClr val="a2a2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Tahoma"/>
              </a:rPr>
              <a:t>Контролировать работу всей ОО и своих заместителей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Блок-схема: альтернативный процесс 6"/>
          <p:cNvSpPr/>
          <p:nvPr/>
        </p:nvSpPr>
        <p:spPr>
          <a:xfrm>
            <a:off x="0" y="4419720"/>
            <a:ext cx="3352680" cy="1904760"/>
          </a:xfrm>
          <a:prstGeom prst="flowChartAlternateProcess">
            <a:avLst/>
          </a:prstGeom>
          <a:solidFill>
            <a:srgbClr val="92d050"/>
          </a:solidFill>
          <a:ln w="25560">
            <a:solidFill>
              <a:srgbClr val="a2a2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Tahoma"/>
              </a:rPr>
              <a:t>Руководить деятельностью своих заместителей, всего педагогического коллектива, выступая для них примером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Блок-схема: альтернативный процесс 7"/>
          <p:cNvSpPr/>
          <p:nvPr/>
        </p:nvSpPr>
        <p:spPr>
          <a:xfrm>
            <a:off x="228600" y="2286000"/>
            <a:ext cx="2438280" cy="1600200"/>
          </a:xfrm>
          <a:prstGeom prst="flowChartAlternateProcess">
            <a:avLst/>
          </a:prstGeom>
          <a:solidFill>
            <a:srgbClr val="ffc000"/>
          </a:solidFill>
          <a:ln w="25560">
            <a:solidFill>
              <a:srgbClr val="a2a2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Tahoma"/>
              </a:rPr>
              <a:t>Планировать работу ОО на будущее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Блок-схема: альтернативный процесс 8"/>
          <p:cNvSpPr/>
          <p:nvPr/>
        </p:nvSpPr>
        <p:spPr>
          <a:xfrm>
            <a:off x="2590920" y="838080"/>
            <a:ext cx="3962160" cy="1524240"/>
          </a:xfrm>
          <a:prstGeom prst="flowChartAlternateProcess">
            <a:avLst/>
          </a:prstGeom>
          <a:solidFill>
            <a:srgbClr val="00b050"/>
          </a:solidFill>
          <a:ln w="25560">
            <a:solidFill>
              <a:srgbClr val="a2a2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Tahoma"/>
              </a:rPr>
              <a:t>Координировать работу сотрудников внутри ОО, согласовывать с общим  (стратегическим) планом организации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Блок-схема: альтернативный процесс 3"/>
          <p:cNvSpPr/>
          <p:nvPr/>
        </p:nvSpPr>
        <p:spPr>
          <a:xfrm>
            <a:off x="2895480" y="2666880"/>
            <a:ext cx="3048120" cy="1828800"/>
          </a:xfrm>
          <a:prstGeom prst="flowChartAlternateProcess">
            <a:avLst/>
          </a:prstGeom>
          <a:solidFill>
            <a:srgbClr val="ffff00"/>
          </a:solidFill>
          <a:ln w="25560">
            <a:solidFill>
              <a:srgbClr val="a2a2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Tahoma"/>
              </a:rPr>
              <a:t>Функциональная обязанность руководителя современного ОО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339966"/>
              </a:solidFill>
              <a:latin typeface="Tahoma"/>
            </a:endParaRPr>
          </a:p>
        </p:txBody>
      </p:sp>
      <p:pic>
        <p:nvPicPr>
          <p:cNvPr id="138" name="Содержимое 3" descr="http://player.myshared.ru/17/1177040/slides/slide_8.jpg"/>
          <p:cNvPicPr/>
          <p:nvPr/>
        </p:nvPicPr>
        <p:blipFill>
          <a:blip r:embed="rId1"/>
          <a:stretch/>
        </p:blipFill>
        <p:spPr>
          <a:xfrm>
            <a:off x="380880" y="228600"/>
            <a:ext cx="8763120" cy="61722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-360" y="380520"/>
            <a:ext cx="8915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Без формирования профессиональных компетенций невозможно профессиональное развитие, ведь руководитель должен не просто обладать знаниями, а стремиться к их обновлению. Обязательные качества современного руководителя  - это гибкость и критичность мышления, подразумевающая способность выбирать наиболее оптимальные и эффективные решения и отвергать ложны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Прямоугольник с двумя скругленными противолежащими углами 2"/>
          <p:cNvSpPr/>
          <p:nvPr/>
        </p:nvSpPr>
        <p:spPr>
          <a:xfrm>
            <a:off x="0" y="1676520"/>
            <a:ext cx="9144000" cy="4114800"/>
          </a:xfrm>
          <a:custGeom>
            <a:avLst/>
            <a:gdLst>
              <a:gd name="textAreaLeft" fmla="*/ 200520 w 9144000"/>
              <a:gd name="textAreaRight" fmla="*/ 8943480 w 9144000"/>
              <a:gd name="textAreaTop" fmla="*/ 200880 h 4114800"/>
              <a:gd name="textAreaBottom" fmla="*/ 3913920 h 4114800"/>
            </a:gdLst>
            <a:ahLst/>
            <a:rect l="textAreaLeft" t="textAreaTop" r="textAreaRight" b="textAreaBottom"/>
            <a:pathLst>
              <a:path w="9144000" h="4114800">
                <a:moveTo>
                  <a:pt x="685814" y="0"/>
                </a:moveTo>
                <a:lnTo>
                  <a:pt x="9144000" y="0"/>
                </a:lnTo>
                <a:lnTo>
                  <a:pt x="9144000" y="3428986"/>
                </a:lnTo>
                <a:lnTo>
                  <a:pt x="9144000" y="3428986"/>
                </a:lnTo>
                <a:arcTo wR="685814" hR="685814" stAng="0" swAng="5400000"/>
                <a:lnTo>
                  <a:pt x="0" y="4114800"/>
                </a:lnTo>
                <a:lnTo>
                  <a:pt x="0" y="685814"/>
                </a:lnTo>
                <a:lnTo>
                  <a:pt x="0" y="685814"/>
                </a:lnTo>
                <a:arcTo wR="685814" hR="685814" stAng="-10799995" swAng="5400000"/>
                <a:close/>
              </a:path>
            </a:pathLst>
          </a:custGeom>
          <a:solidFill>
            <a:srgbClr val="92d050"/>
          </a:solidFill>
          <a:ln w="25560">
            <a:solidFill>
              <a:srgbClr val="a2a2a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Прямоугольник 1"/>
          <p:cNvSpPr/>
          <p:nvPr/>
        </p:nvSpPr>
        <p:spPr>
          <a:xfrm>
            <a:off x="0" y="228600"/>
            <a:ext cx="91440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ahoma"/>
              </a:rPr>
              <a:t>Формирование профессионализма идет по двум основным направлениям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1. Изменение всей системы деятельности, ее функций и иерархического строения. В ходе выработки соответствующих трудовых навыков происходит движение личности по степени профессионального мастерства, развивается специфическая система способов выполнения деятельности - формируется личный стиль деятельност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Прямоугольник с двумя скругленными противолежащими углами 2"/>
          <p:cNvSpPr/>
          <p:nvPr/>
        </p:nvSpPr>
        <p:spPr>
          <a:xfrm>
            <a:off x="0" y="1447920"/>
            <a:ext cx="8915400" cy="4038480"/>
          </a:xfrm>
          <a:custGeom>
            <a:avLst/>
            <a:gdLst>
              <a:gd name="textAreaLeft" fmla="*/ 196920 w 8915400"/>
              <a:gd name="textAreaRight" fmla="*/ 8718480 w 8915400"/>
              <a:gd name="textAreaTop" fmla="*/ 196920 h 4038480"/>
              <a:gd name="textAreaBottom" fmla="*/ 3841560 h 4038480"/>
            </a:gdLst>
            <a:ahLst/>
            <a:rect l="textAreaLeft" t="textAreaTop" r="textAreaRight" b="textAreaBottom"/>
            <a:pathLst>
              <a:path w="8915400" h="4038600">
                <a:moveTo>
                  <a:pt x="673114" y="0"/>
                </a:moveTo>
                <a:lnTo>
                  <a:pt x="8915400" y="0"/>
                </a:lnTo>
                <a:lnTo>
                  <a:pt x="8915400" y="3365486"/>
                </a:lnTo>
                <a:lnTo>
                  <a:pt x="8915400" y="3365486"/>
                </a:lnTo>
                <a:arcTo wR="673114" hR="673114" stAng="0" swAng="5400000"/>
                <a:lnTo>
                  <a:pt x="0" y="4038600"/>
                </a:lnTo>
                <a:lnTo>
                  <a:pt x="0" y="673114"/>
                </a:lnTo>
                <a:lnTo>
                  <a:pt x="0" y="673114"/>
                </a:lnTo>
                <a:arcTo wR="673114" hR="673114" stAng="-10799995" swAng="5400000"/>
                <a:close/>
              </a:path>
            </a:pathLst>
          </a:custGeom>
          <a:solidFill>
            <a:srgbClr val="00b050"/>
          </a:solidFill>
          <a:ln w="25560">
            <a:solidFill>
              <a:srgbClr val="a2a2a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Прямоугольник 1"/>
          <p:cNvSpPr/>
          <p:nvPr/>
        </p:nvSpPr>
        <p:spPr>
          <a:xfrm>
            <a:off x="228600" y="1582560"/>
            <a:ext cx="86104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2. Изменение личности субъекта, проявляющееся как во внешнем облике (моторике, речи, эмоциональности, формах общения), так и в соответствующих элементах профессионального сознания (профессионального внимания, перцепции, памяти, мышления, эмоционально-волевой сферы), что в более широком плане может рассматриваться в качестве становления профессионального мировоззрения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Блок-схема: задержка 3"/>
          <p:cNvSpPr/>
          <p:nvPr/>
        </p:nvSpPr>
        <p:spPr>
          <a:xfrm>
            <a:off x="0" y="228600"/>
            <a:ext cx="9144000" cy="990720"/>
          </a:xfrm>
          <a:prstGeom prst="flowChartDelay">
            <a:avLst/>
          </a:prstGeom>
          <a:solidFill>
            <a:srgbClr val="00b0f0"/>
          </a:solidFill>
          <a:ln w="25560">
            <a:solidFill>
              <a:srgbClr val="a2a2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52280" y="152280"/>
            <a:ext cx="883944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ыбор индивидуальной стратеги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рофессионального развития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фактически является стратегией построения горизонтальной карьеры руководителя — это развитие карьеры в рамках одной должности, отражающее личные достижения, достижения коллектива, находящегося в подчинении, результаты деятельности образовательного учреждения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Tahoma"/>
              </a:rPr>
              <a:t>Важно!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Система образования как отрасль экономики не предусматривает большого количества вариантов реализации вертикальной карьеры, однако у человека, пришедшего в эту систему, не должно возникать ощущения пожизненной неизменности своей деятельности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0" y="533160"/>
            <a:ext cx="91440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Управление горизонтальной карьерой является средством стимулирования профессионального развития руководителя, включающим и привычную аттестацию, и конкурсы педагогических достижений, требует владения современным средствами самоанализа и самодиагностики, позволяющими вовремя оценить свои достижения и определить дальнейшие личные и профессиональные цели, а также способы их достижения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Блок-схема: задержка 3"/>
          <p:cNvSpPr/>
          <p:nvPr/>
        </p:nvSpPr>
        <p:spPr>
          <a:xfrm>
            <a:off x="228600" y="4038480"/>
            <a:ext cx="9067680" cy="2819520"/>
          </a:xfrm>
          <a:prstGeom prst="flowChartDelay">
            <a:avLst/>
          </a:prstGeom>
          <a:solidFill>
            <a:srgbClr val="92d050"/>
          </a:solidFill>
          <a:ln w="25560">
            <a:solidFill>
              <a:srgbClr val="a2a2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0" y="152280"/>
            <a:ext cx="91440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ревращение руководителей в активных субъектов развития своей управленческой деятельности (посредством освоения инструментов оценивания качества управления, формирования адекватной оценки собственной управленческой деятельности, самостоятельного выявления собственных профессиональных проблем) является необходимым условием, стимулом и источником изменения профессионального самосознания, которое влечет за собой профессиональное развитие руководителей ОО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151920" y="-360"/>
            <a:ext cx="84582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ahoma"/>
              </a:rPr>
              <a:t>Принцип выстраивания карьеры руководителя зависит от многих факторов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●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озраста и опыта работы в данной должности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●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жизненного опыта, сквозь призму которого воспринимается и оценивается мир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●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личностных качеств, которые позволяют «смягчать» проблемы и трудности, определяют взаимоотношения со всеми участниками образовательного процесс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151920" y="380520"/>
            <a:ext cx="84582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Карьера руководителя очень тесно связана с развитием образовательной организации под его руководством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И стратегия профессионального развития должна определяться путями развития ОО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одготовка к участию в конкурсах, работа над формированием портфолио позволяет зачастую провести глубокий анализ собственной управленческой деятельности. </a:t>
            </a:r>
            <a:r>
              <a:rPr b="0" lang="ru-RU" sz="2800" spc="-1" strike="noStrike">
                <a:solidFill>
                  <a:srgbClr val="c00000"/>
                </a:solidFill>
                <a:latin typeface="Tahoma"/>
              </a:rPr>
              <a:t>Важно!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Участие в конкурсном движении не самоцель, а возможность стимулировать свою деятельность, подтолкнуть своих сотрудников к развитию, получить пу- бличную оценку своей деятельности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Документы</cp:lastModifiedBy>
  <dcterms:modified xsi:type="dcterms:W3CDTF">2017-02-18T05:53:33Z</dcterms:modified>
  <cp:revision>2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