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2B4F-A49D-4904-8A6C-8B002D687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442B-B76B-483B-8E70-AEE4590F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4C2C-6266-4E57-8115-C405FA51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2265-0D2F-4323-BAE4-58B4CAD5C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D979-D873-4530-BFD4-B5013A409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182F-BA23-41FE-9F5D-94798798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DA8F-A16F-4D31-8977-DA5C2E65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9EF9-8C17-472A-8369-38730A62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8F0E-5462-4921-A0D8-35246C78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DBA5-55E4-4E93-ACBD-170E888B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74CB-F22C-4B12-9510-DA4B1F13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D69A-460E-42EA-8C25-5C6584D0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2437C-9A6E-42AE-A892-1B4F4572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5219-3389-4BE3-84A2-016C6AF0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1306-A9EB-447C-8965-BB8F77C7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0F4F-6C1F-44F4-9F11-9E35B999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CD95-23B6-4343-A18F-756A14DA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F956-0184-46B6-9516-209FA877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0010-058F-4BE6-A69D-CB46CDB6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5C20-8E13-4564-A548-CFDEE27D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5A24-1024-4598-BB50-38821B11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A195-D0F6-43A8-AF3B-7C942BBE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7486-5CD9-48AE-8188-F89A1D05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2DE7-546E-40B7-A9E7-55E970FF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6448-06BE-4259-B693-DDCA80A403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B4A6-09D1-4911-8BEB-4CAC609DDB22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Счет лет в истории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Хронология –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оследовательность исторических событий во времени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аука об измерении времен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Задание 1. «</a:t>
            </a:r>
            <a:r>
              <a:rPr b="1" i="1" lang="ru-RU" sz="3000" spc="-1" strike="noStrike">
                <a:solidFill>
                  <a:srgbClr val="ffffcc"/>
                </a:solidFill>
                <a:latin typeface="Arial"/>
              </a:rPr>
              <a:t>Расставьте события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».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Расставьте события в хронологическом порядке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Verdana"/>
              </a:rPr>
              <a:t>Куликовская битва (1380)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Verdana"/>
              </a:rPr>
              <a:t>Первый полет человека в космос (1961)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Verdana"/>
              </a:rPr>
              <a:t>Первое упоминание о Москве (1147)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Verdana"/>
              </a:rPr>
              <a:t>Крещение Руси (988)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Verdana"/>
              </a:rPr>
              <a:t>Основание Нижнего Новгорода (1221)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Verdana"/>
              </a:rPr>
              <a:t>Начало правления династии Романовых (1613)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Задание 2. «</a:t>
            </a: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Измеряем время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».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Расположите по возрастанию единицы измерения времени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десятилет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ден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ек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год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месяц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дел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час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тысячелет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ут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8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98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98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98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98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98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98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98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Арабские и римские цифр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2276640"/>
          <a:ext cx="8472600" cy="2452680"/>
        </p:xfrm>
        <a:graphic>
          <a:graphicData uri="http://schemas.openxmlformats.org/drawingml/2006/table">
            <a:tbl>
              <a:tblPr/>
              <a:tblGrid>
                <a:gridCol w="846000"/>
                <a:gridCol w="849600"/>
                <a:gridCol w="846000"/>
                <a:gridCol w="847800"/>
                <a:gridCol w="847800"/>
                <a:gridCol w="807840"/>
                <a:gridCol w="885960"/>
                <a:gridCol w="1100160"/>
                <a:gridCol w="734760"/>
                <a:gridCol w="706680"/>
              </a:tblGrid>
              <a:tr h="12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9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I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V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V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V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VI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VII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 какому веку относятся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998 г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1941 г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1242 г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1147 г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356 г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акой век обозначен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XX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XVI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X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XIX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V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Задание. «</a:t>
            </a: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Составьте дату».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Составьте дату из всех цифр, пропущенных и упомянутых в пословицах, укажите век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___ в поле не воин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_____ раз отмерь, ___ раз отрежь. Конь о ____ ногах, и тот спотыкаетс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___ голова хорошо, а ___ лучше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У ___ нянек дитя без глазу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ошел на все ___ стороны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___ с сошкой, ___ с ложко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За чаем не скучаем, по ___ чашек выпивае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___ раз надо сказать, на ___ только послушает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За ___ зайцами погонишься – ни ___ не поймаеш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У ___ нянек дитя без глазу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3:48:57Z</dcterms:created>
  <dc:creator>Светлана</dc:creator>
  <dc:description/>
  <dc:language>en-US</dc:language>
  <cp:lastModifiedBy>Светлана</cp:lastModifiedBy>
  <dcterms:modified xsi:type="dcterms:W3CDTF">2016-09-27T15:08:41Z</dcterms:modified>
  <cp:revision>22</cp:revision>
  <dc:subject/>
  <dc:title>Счет лет в истории</dc:title>
</cp:coreProperties>
</file>