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015-BEEB-48A4-B2F9-194483F5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883-8CD5-4FD6-AA86-00694653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9EA-1BB2-4F42-9E27-B2D5017C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D96-F7C3-421C-92CC-BE6ECFBD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A53-3910-43DE-BBD0-F3022650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C0B8-750C-4404-ACAD-B0F0AA8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B40F-775F-4364-B6B7-CF2BB16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9ACE-083C-41E4-BFA8-908D77A9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CD8-B44C-4BF9-ABC5-6D956606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3C69-FF46-4076-8459-80EA952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C079-3973-471C-9357-2946629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F54-DB54-42B9-B216-37C8E67D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B4B-6FF1-4FE2-94F3-3E5EF63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9C30-67DF-4C03-88AE-C6E69C3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1673-11C2-48F2-9D16-C78DD44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6FF0-780C-494E-90AE-DE3CA5A5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0A25-4212-4767-B971-6DA7D81D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A23-7AF7-45F0-88AA-8A07EC66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F6B-31C0-438B-B6F0-E9492CB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F29-B097-499C-A543-79132FD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AFB-4C62-4DDB-87CF-5F5B25D2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6C6-9058-458F-9E5F-AA5AD18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EA8-07D9-4776-B88D-0142656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9A3-8FC6-4A2E-B861-1EF675C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D95A-39FB-4D70-9D07-DB9BC072B5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9EC-67CB-49C2-A297-6828CC4C6A2B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чет лет в исто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7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Хронология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следовательность исторических событий во времен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ука об измерении времен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Задание 1. «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Расставьте события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».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ставьте события в хронологическом порядке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Куликовская битва (1380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ервый полет человека в космос (1961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Первое упоминание о Москве (1147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Крещение Руси (988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Основание Нижнего Новгорода (1221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Verdana"/>
              </a:rPr>
              <a:t>Начало правления династии Романовых (1613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Задание 2. «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Измеряем время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асположите по возрастанию единицы измерения времени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сятилет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н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е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г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я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дел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ысячелет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у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Арабские и римские циф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276640"/>
          <a:ext cx="8472600" cy="2452680"/>
        </p:xfrm>
        <a:graphic>
          <a:graphicData uri="http://schemas.openxmlformats.org/drawingml/2006/table">
            <a:tbl>
              <a:tblPr/>
              <a:tblGrid>
                <a:gridCol w="846000"/>
                <a:gridCol w="849600"/>
                <a:gridCol w="846000"/>
                <a:gridCol w="847800"/>
                <a:gridCol w="847800"/>
                <a:gridCol w="807840"/>
                <a:gridCol w="885960"/>
                <a:gridCol w="1100160"/>
                <a:gridCol w="734760"/>
                <a:gridCol w="706680"/>
              </a:tblGrid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V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VII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 какому веку относятся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998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941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242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147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56 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кой век обозначен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X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VI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IX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V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Задание. «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оставьте дату».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ставьте дату из всех цифр, пропущенных и упомянутых в пословицах, укажите век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в поле не воин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__ раз отмерь, ___ раз отрежь. Конь о ____ ногах, и тот спотыкаетс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голова хорошо, а ___ лучш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___ нянек дитя без глаз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шел на все ___ сторон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с сошкой, ___ с лож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 чаем не скучаем, по ___ чашек выпива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___ раз надо сказать, на ___ только послушае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 ___ зайцами погонишься – ни ___ не поймаеш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___ нянек дитя без глаз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3:48:57Z</dcterms:created>
  <dc:creator>Светлана</dc:creator>
  <dc:description/>
  <dc:language>en-US</dc:language>
  <cp:lastModifiedBy>Светлана</cp:lastModifiedBy>
  <dcterms:modified xsi:type="dcterms:W3CDTF">2016-09-27T15:08:41Z</dcterms:modified>
  <cp:revision>22</cp:revision>
  <dc:subject/>
  <dc:title>Счет лет в истории</dc:title>
</cp:coreProperties>
</file>