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6C96-7B06-414F-8F38-B535027CE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BC3C-D5CC-4871-9E74-87CB97CA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2817-090F-4915-8BED-75504FD1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D900-989E-470E-AD67-E7F65BF5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AC01-6A94-4E26-8FB6-308948C31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B503-092F-4038-AE8D-85A94438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1595-CDF6-48C6-BEB1-A657585A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9809-74B6-42E4-A1E9-E1AAF0DB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0FEA-BF3D-4878-9105-94691BAB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45F8-63B8-40BD-A76F-4F2BA55D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B0F1-71E7-47DB-9E9A-C88B0231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3BEA-A670-4F19-B9CE-B4C60BBB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E609-41C5-4D9C-8B64-472A6E94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8472-F15C-482D-AB2E-07FA490B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DBDA-A43B-4DDE-94BE-F2BBFCF0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F850-901D-4A54-903E-148E02F25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AB34-4312-4705-960D-756645F8E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AED6-9658-4894-BBDE-7726E862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D4F6-79E3-44BC-ACC4-6C68E67B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FEDE-9958-4125-8B51-50EC3C99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9226-EFCF-4E5D-B350-7ED9AA20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75D0-816C-4597-84F6-999EE6EB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00A2-9F5F-405E-AF49-0B3718F1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19B4-DE05-4A20-BDEC-1A10F267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A086-8D66-41C2-875C-B2E9DA400E5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F408-F7EC-421A-A6CC-206C4EEC825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Tahoma"/>
              </a:rPr>
              <a:t>Система организации</a:t>
            </a:r>
            <a:br>
              <a:rPr sz="6000"/>
            </a:br>
            <a:r>
              <a:rPr b="0" lang="ru-RU" sz="6000" spc="-1" strike="noStrike">
                <a:solidFill>
                  <a:srgbClr val="ffffcc"/>
                </a:solidFill>
                <a:latin typeface="Tahoma"/>
              </a:rPr>
              <a:t> и управления </a:t>
            </a:r>
            <a:br>
              <a:rPr sz="6000"/>
            </a:br>
            <a:r>
              <a:rPr b="0" lang="ru-RU" sz="6000" spc="-1" strike="noStrike">
                <a:solidFill>
                  <a:srgbClr val="ffffcc"/>
                </a:solidFill>
                <a:latin typeface="Tahoma"/>
              </a:rPr>
              <a:t>РПЦ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ahoma"/>
              </a:rPr>
              <a:t>Священники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(по-гречески </a:t>
            </a:r>
            <a:r>
              <a:rPr b="0" i="1" lang="ru-RU" sz="3200" spc="-1" strike="noStrike">
                <a:solidFill>
                  <a:srgbClr val="ffffcc"/>
                </a:solidFill>
                <a:latin typeface="Tahoma"/>
              </a:rPr>
              <a:t>иереи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ли </a:t>
            </a:r>
            <a:r>
              <a:rPr b="0" i="1" lang="ru-RU" sz="3200" spc="-1" strike="noStrike">
                <a:solidFill>
                  <a:srgbClr val="ffffcc"/>
                </a:solidFill>
                <a:latin typeface="Tahoma"/>
              </a:rPr>
              <a:t>пресвитеры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) составляют второй священный чин после епископа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ни могут совершать, с благословения епископа, все таинства и церковные службы, кроме тех, которые положено совершать только епископу (таинство священства и освящения миро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47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ристианская община, подчиненная священнику, называется его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риходо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лее достойным и заслуженным священникам дается звание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ротоиере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т.е. главного иерея, или первенствующего священника, а главному над ними – звание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ротопресвите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955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священник в то же время является монахом, то он называется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еромонахо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т.е. священномонах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еромонахам по назначению их настоятелями монастырей (а иногда как почетное отличие) дается звание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гумен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ли более высокое звание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архимандри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обенно достойные из архимандритов избираются в епископ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ahoma"/>
              </a:rPr>
              <a:t>Диаконы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составляют третий, низший священный чин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Диакон» - слово греческое и означает «служитель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аконы служат епископу или священнику при богослужении и совершении таинств, но сами совершать их не могу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астие диакона в богослужении не обязатель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Иерархия православного духовенств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329680" cy="4751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8432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ерархическая степ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Белое» (женатое) духовен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Черное» (монашествующее) духовен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иако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иако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тодиако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еродиако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рхидиако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вящен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ерей (священник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тоиер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топресвит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еромон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гум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рхимандри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рхиерей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писко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рхиеписко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итрополи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атриар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81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оме трех священных чинов в церкви существуют низшие служебные должно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подиако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- псаломщики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дьячк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- пономар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ни, принадлежа к числу церковнослужителей, поставляются на свою должность не через таинство священства, а только по архиерейскому на то благословен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955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язанность псаломщиков – читать и петь, как при богослужении в храме на клиросе, так и при совершении священником духовных треб в домах прихожа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номари обязаны созывать верующих к богослужению колокольным звоном, возжигать свечи в храме т.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подиаконы участвуют только в архиерейском служении. Они облачают архиерея в священные одежды, держат светильники и подают их архиерею для благословения ими молящих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В настоящее время в мире насчитывается 15 автокефальных (самостоятельных) церквей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стантинопольс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лександрийс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тиохийская (Сирия, Ливан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ерусалимс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сс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рузинс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ербс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лгарс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ипрс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лладская (греческа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лбанс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ьс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мынс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хословац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мериканс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918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мимо этого имеются 2 автономные православные церкв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нская (с 1957 г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понская (с 1970 г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всех православных церквей общими являются вероучение, культ, но при этом сохраняется каноническая самостоятельн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47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 православия, как и у протестантизма, нет единого центра управления, подобного Ватикан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кефальные церкви возглавляют патриархи (архиепископы, митрополиты), избираемые Поместными соборами пожизнен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патриархах имеются синоды. Например, синод РПЦ состоит из 7 постоянных членов и 5 временны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774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всех православных церквей характерен иерархический принцип управления, то есть принцип последовательного подчинения низшего духовенства высшем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е духовенство в иерархическом отношении делится на высшее, среднее и низше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 православной церкви существует три степени священства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пископ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свитеры (то есть священник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ако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 они называются священнослужителями, потому что через таинства священства получают благодать Святого Духа для священного служения Церкви Христовой, совершать богослужения, учить людей христианской вере, управлять церковными дел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13240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зависимости от отношения к браку и образа жизни духовенство подразделяют на две категори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«белое» (женато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«черное» (монашествующее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аконы и священники могут быть как женатыми (но только первым браком), так и монашествующими, а епископы только монашествующи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Tahoma"/>
              </a:rPr>
              <a:t>Епископы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оставляют высший чин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ни получают высшую степень благода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пископы называются еще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архиереям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т.е. начальниками иереев (священников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гут совершать все таинства и все церковные службы (совершать богослужения, посвящать в священнослужители, освящать миро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955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степени священства все епископы равны между собою, но старейшие и наиболее заслуженные называются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архиепископам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столичные же епископы –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митрополитам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т.к. столица называется по-гречески митрополи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пископы древних столиц: Иерусалима, Константинополя (Царьграда), Рима, Александрии, Антиохии, а с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V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ка и Москвы – называются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атриархами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07:09:04Z</dcterms:created>
  <dc:creator>Света</dc:creator>
  <dc:description/>
  <dc:language>en-US</dc:language>
  <cp:lastModifiedBy>Светлана</cp:lastModifiedBy>
  <dcterms:modified xsi:type="dcterms:W3CDTF">2015-01-13T13:49:37Z</dcterms:modified>
  <cp:revision>11</cp:revision>
  <dc:subject/>
  <dc:title>Система организации и управления РПЦ</dc:title>
</cp:coreProperties>
</file>