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58D9-D03E-49AA-9619-88F0B297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BE51-47CC-4D57-B6E4-C4FD5D13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F09C-7D1A-46CA-A412-80904EB3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C96E-E6CB-44AE-9CCB-579D9289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175A-E71D-4F5F-B92A-CF3FA4AE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D4CF-039F-4FE4-8A97-15296454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C7D7-35C1-4F75-A901-FF1E560C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B2CD-8AB2-48BC-9E54-BD8C0602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C3CB-9AAA-4CFE-9D1F-47EA55F1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4ACB-2AA0-4B69-B4E6-965656C6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B3F1-A5C3-4739-92E3-C6939F15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4318-2616-48A1-886D-7BCF4726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E6A1-9F8B-4584-9211-7C636ADF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B881-C2F1-41F9-ACB2-4E4BF8CA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5334-C0A3-4BDF-BC82-353A85CD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772E-DCC4-434E-B6FB-E1B4CAA0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F4B6-C404-44ED-A181-0AA0E58D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BBF2-CF50-4DFA-BE48-72443EF6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2070-954B-4465-BEF8-08C7697F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7BD9-865B-4D30-9496-4EFB3BF0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F204-231E-4012-9AC1-22E2E829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1C38-A93A-451A-83C7-8CE5DA0F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F80B-F4B3-4EDF-ADE8-95AB4CE3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2905-151B-4729-9EAD-0B94B21F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F477-6244-4373-A385-0F32B76A44E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36F6-8770-46E3-8728-24F7EE2F758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Система организации</a:t>
            </a:r>
            <a:br>
              <a:rPr sz="6000"/>
            </a:b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 и управления </a:t>
            </a:r>
            <a:br>
              <a:rPr sz="6000"/>
            </a:b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РПЦ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ahoma"/>
              </a:rPr>
              <a:t>Священники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по-гречески </a:t>
            </a:r>
            <a:r>
              <a:rPr b="0" i="1" lang="ru-RU" sz="3200" spc="-1" strike="noStrike">
                <a:solidFill>
                  <a:srgbClr val="ffffcc"/>
                </a:solidFill>
                <a:latin typeface="Tahoma"/>
              </a:rPr>
              <a:t>иереи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ли </a:t>
            </a:r>
            <a:r>
              <a:rPr b="0" i="1" lang="ru-RU" sz="3200" spc="-1" strike="noStrike">
                <a:solidFill>
                  <a:srgbClr val="ffffcc"/>
                </a:solidFill>
                <a:latin typeface="Tahoma"/>
              </a:rPr>
              <a:t>пресвитеры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) составляют второй священный чин после епископа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и могут совершать, с благословения епископа, все таинства и церковные службы, кроме тех, которые положено совершать только епископу (таинство священства и освящения миро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47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ристианская община, подчиненная священнику, называется его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иход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лее достойным и заслуженным священникам дается звание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отоиере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т.е. главного иерея, или первенствующего священника, а главному над ними – звание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отопресвите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955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священник в то же время является монахом, то он называется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еромонах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т.е. священномонах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еромонахам по назначению их настоятелями монастырей (а иногда как почетное отличие) дается звание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гумен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ли более высокое звание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архимандри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обенно достойные из архимандритов избираются в епископ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ahoma"/>
              </a:rPr>
              <a:t>Диаконы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составляют третий, низший священный чин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Диакон» - слово греческое и означает «служитель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аконы служат епископу или священнику при богослужении и совершении таинств, но сами совершать их не могу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стие диакона в богослужении не обязатель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Иерархия православного духовенств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329680" cy="4751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8432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ерархическая степ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Белое» (женатое) духовен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Черное» (монашествующее) духовен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ак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ак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тодиак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еродиак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хидиак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вящен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ерей (священник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тоиер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топресвит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еромон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гум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химандр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хиерей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писко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хиеписко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итропол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атриар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81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оме трех священных чинов в церкви существуют низшие служебные должно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подиако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- псаломщики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дьячк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- пономар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и, принадлежа к числу церковнослужителей, поставляются на свою должность не через таинство священства, а только по архиерейскому на то благословен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955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язанность псаломщиков – читать и петь, как при богослужении в храме на клиросе, так и при совершении священником духовных треб в домах прихожа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омари обязаны созывать верующих к богослужению колокольным звоном, возжигать свечи в храме т.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подиаконы участвуют только в архиерейском служении. Они облачают архиерея в священные одежды, держат светильники и подают их архиерею для благословения ими молящих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 настоящее время в мире насчитывается 15 автокефальных (самостоятельных) церквей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стантинопольс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лександрийс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тиохийская (Сирия, Ливан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ерусалимс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сс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рузинс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рбс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гарс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ипрс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лладская (греческа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лбанс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ьс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мынс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хословац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мериканс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918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мимо этого имеются 2 автономные православные церкв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нская (с 1957 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понская (с 1970 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всех православных церквей общими являются вероучение, культ, но при этом сохраняется каноническая самостоятель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47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православия, как и у протестантизма, нет единого центра управления, подобного Ватикан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кефальные церкви возглавляют патриархи (архиепископы, митрополиты), избираемые Поместными соборами пожизнен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патриархах имеются синоды. Например, синод РПЦ состоит из 7 постоянных членов и 5 временн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774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всех православных церквей характерен иерархический принцип управления, то есть принцип последовательного подчинения низшего духовенства высшем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е духовенство в иерархическом отношении делится на высшее, среднее и низше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 православной церкви существует три степени священства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пископ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свитеры (то есть священник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ако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 они называются священнослужителями, потому что через таинства священства получают благодать Святого Духа для священного служения Церкви Христовой, совершать богослужения, учить людей христианской вере, управлять церковными дел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13240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зависимости от отношения к браку и образа жизни духовенство подразделяют на две категори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«белое» (женато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«черное» (монашествующее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аконы и священники могут быть как женатыми (но только первым браком), так и монашествующими, а епископы только монашествующи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ahoma"/>
              </a:rPr>
              <a:t>Епископы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оставляют высший чин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и получают высшую степень благода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пископы называются еще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архиереям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т.е. начальниками иереев (священников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гут совершать все таинства и все церковные службы (совершать богослужения, посвящать в священнослужители, освящать миро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955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степени священства все епископы равны между собою, но старейшие и наиболее заслуженные называются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архиепископам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столичные же епископы –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итрополитам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т.к. столица называется по-гречески митрополи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пископы древних столиц: Иерусалима, Константинополя (Царьграда), Рима, Александрии, Антиохии, а с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V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ка и Москвы – называются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атриархами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07:09:04Z</dcterms:created>
  <dc:creator>Света</dc:creator>
  <dc:description/>
  <dc:language>en-US</dc:language>
  <cp:lastModifiedBy>Светлана</cp:lastModifiedBy>
  <dcterms:modified xsi:type="dcterms:W3CDTF">2015-01-13T13:49:37Z</dcterms:modified>
  <cp:revision>11</cp:revision>
  <dc:subject/>
  <dc:title>Система организации и управления РПЦ</dc:title>
</cp:coreProperties>
</file>