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CEA-FC25-42E7-B469-43889255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E14-2A6A-4BCC-8994-CDF16349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C1BD-B05E-4D3A-AB84-4E42FA3F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B84-29B1-4A0D-A72C-5186E133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00CC-9F6C-45B1-AFA4-B760C92D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776E-E6F5-48C7-90E9-6311E93A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4784-F335-45D3-B4BB-C65D95E6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7942-7BC4-42CB-AAB4-7434206B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35B7-D4B5-4D88-B621-A2FAB703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0E53-CE94-4B60-80E5-2E3664AD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2480-FE33-464F-A413-A043DCA2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074-83BB-407D-80D7-46ABF3E1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9065-79F5-471A-92AC-6035F8D6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B2C0-41E4-46CA-9C48-E1CDD35A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3735-C9A4-42D0-90B7-5C1C7A7D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1F8C-7AED-4736-9D94-79805CBA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4CFB-17CE-4E7C-9124-B17E0ECC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6DFD-B69F-4159-8976-DB591449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107-28D3-431B-92E0-23D5ED28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015-7C7C-4077-9975-E93DF34D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96EB-5D5D-4C9E-A11A-0AEA76CA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EE73-2DFF-4621-AED8-7447159F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7D1-3D36-4334-A802-76CFE1BD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A7E-F0B0-4AD2-8C4B-A7310D73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887E-9350-4439-BB14-0DEE41BD3C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A7DC-0DAD-4CAC-B6F8-EC2490DAF12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ВЯЩЕННЫЕ КНИГИ ИУДЕЕВ. 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СНОВЫ ВЕРОУЧЕНИ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Основные догматы вероучения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а в единого Бога Яхв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г - Творец и Создатель, Отец всех люд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г – Совершенен, Разумен, источник Любви и Справедлив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изнь – диалог Бога и челове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сшее творение Бога - челове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а в пришествие небесного Спасителя -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Мессии («помазанник»)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анца Бог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а в конец света, воздаяние и воскресение из мертв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а в богоизбранность еврейского народа (отношения «союза» между Богом и народом Израиля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15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40384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оучение и основы культа иудаизма изложены в его Священном Писан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точниками вероучения являются священные книги Танах и Талму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8" descr="pic00019_2"/>
          <p:cNvPicPr/>
          <p:nvPr/>
        </p:nvPicPr>
        <p:blipFill>
          <a:blip r:embed="rId1"/>
          <a:stretch/>
        </p:blipFill>
        <p:spPr>
          <a:xfrm>
            <a:off x="4757760" y="210492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27" name="Organization Chart 7"/>
          <p:cNvGrpSpPr/>
          <p:nvPr/>
        </p:nvGrpSpPr>
        <p:grpSpPr>
          <a:xfrm>
            <a:off x="442800" y="620640"/>
            <a:ext cx="8208360" cy="5459400"/>
            <a:chOff x="442800" y="620640"/>
            <a:chExt cx="8208360" cy="5459400"/>
          </a:xfrm>
        </p:grpSpPr>
        <p:cxnSp>
          <p:nvCxnSpPr>
            <p:cNvPr id="128" name="_s1028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437080" y="1913040"/>
              <a:ext cx="1092600" cy="2873520"/>
            </a:xfrm>
            <a:prstGeom prst="bentConnector3">
              <a:avLst>
                <a:gd name="adj1" fmla="val 127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1029"/>
            <p:cNvCxnSpPr>
              <a:stCxn id="132" idx="0"/>
              <a:endCxn id="130" idx="2"/>
            </p:cNvCxnSpPr>
            <p:nvPr/>
          </p:nvCxnSpPr>
          <p:spPr>
            <a:xfrm flipV="1">
              <a:off x="4547160" y="2803680"/>
              <a:ext cx="3600" cy="1092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1030"/>
            <p:cNvCxnSpPr>
              <a:stCxn id="134" idx="0"/>
              <a:endCxn id="130" idx="2"/>
            </p:cNvCxnSpPr>
            <p:nvPr/>
          </p:nvCxnSpPr>
          <p:spPr>
            <a:xfrm flipH="1" flipV="1" rot="5400000">
              <a:off x="2564280" y="1913400"/>
              <a:ext cx="1092600" cy="2873520"/>
            </a:xfrm>
            <a:prstGeom prst="bentConnector3">
              <a:avLst>
                <a:gd name="adj1" fmla="val 127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0" name="_s1031"/>
            <p:cNvSpPr/>
            <p:nvPr/>
          </p:nvSpPr>
          <p:spPr>
            <a:xfrm>
              <a:off x="3315600" y="620640"/>
              <a:ext cx="2462400" cy="2183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</a:rPr>
                <a:t>ТаНаХ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_s1032"/>
            <p:cNvSpPr/>
            <p:nvPr/>
          </p:nvSpPr>
          <p:spPr>
            <a:xfrm>
              <a:off x="442800" y="3896280"/>
              <a:ext cx="2462400" cy="2183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Times New Roman"/>
                </a:rPr>
                <a:t>Тора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(«учение») –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«Пятикнижие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Моисея»,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Закон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_s1033"/>
            <p:cNvSpPr/>
            <p:nvPr/>
          </p:nvSpPr>
          <p:spPr>
            <a:xfrm>
              <a:off x="3315600" y="3896280"/>
              <a:ext cx="2462400" cy="2183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Times New Roman"/>
                </a:rPr>
                <a:t>Пророки </a:t>
              </a: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–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книги,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описывающие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видения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пророков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_s1034"/>
            <p:cNvSpPr/>
            <p:nvPr/>
          </p:nvSpPr>
          <p:spPr>
            <a:xfrm>
              <a:off x="6188760" y="3896280"/>
              <a:ext cx="2462400" cy="2183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Times New Roman"/>
                </a:rPr>
                <a:t>Писания</a:t>
              </a: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исторические,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поэтические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произведения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70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36" name="Organization Chart 7"/>
          <p:cNvGrpSpPr/>
          <p:nvPr/>
        </p:nvGrpSpPr>
        <p:grpSpPr>
          <a:xfrm>
            <a:off x="442800" y="620640"/>
            <a:ext cx="8208000" cy="5459400"/>
            <a:chOff x="442800" y="620640"/>
            <a:chExt cx="8208000" cy="5459400"/>
          </a:xfrm>
        </p:grpSpPr>
        <p:cxnSp>
          <p:nvCxnSpPr>
            <p:cNvPr id="137" name="_s2052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105520" y="2244960"/>
              <a:ext cx="1092600" cy="2210040"/>
            </a:xfrm>
            <a:prstGeom prst="bentConnector3">
              <a:avLst>
                <a:gd name="adj1" fmla="val 127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2053"/>
            <p:cNvCxnSpPr>
              <a:stCxn id="141" idx="0"/>
              <a:endCxn id="139" idx="2"/>
            </p:cNvCxnSpPr>
            <p:nvPr/>
          </p:nvCxnSpPr>
          <p:spPr>
            <a:xfrm flipH="1" flipV="1" rot="5400000">
              <a:off x="2895840" y="2244600"/>
              <a:ext cx="1092600" cy="2210760"/>
            </a:xfrm>
            <a:prstGeom prst="bentConnector3">
              <a:avLst>
                <a:gd name="adj1" fmla="val 127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9" name="_s2054"/>
            <p:cNvSpPr/>
            <p:nvPr/>
          </p:nvSpPr>
          <p:spPr>
            <a:xfrm>
              <a:off x="2653200" y="620640"/>
              <a:ext cx="3788280" cy="2183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Талмуд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(«изучение»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2055"/>
            <p:cNvSpPr/>
            <p:nvPr/>
          </p:nvSpPr>
          <p:spPr>
            <a:xfrm>
              <a:off x="442800" y="3896280"/>
              <a:ext cx="3788280" cy="2183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ffff"/>
                  </a:solidFill>
                  <a:latin typeface="Times New Roman"/>
                </a:rPr>
                <a:t>Мишн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(повторение) –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истолкование древними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мудрецами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Священного Писани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_s2056"/>
            <p:cNvSpPr/>
            <p:nvPr/>
          </p:nvSpPr>
          <p:spPr>
            <a:xfrm>
              <a:off x="4862520" y="3896280"/>
              <a:ext cx="3788280" cy="2183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ffff"/>
                  </a:solidFill>
                  <a:latin typeface="Times New Roman"/>
                </a:rPr>
                <a:t>Гемар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(завершение,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олное разъяснение) 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толкование Мишны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екалог – </a:t>
            </a: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десять заповедей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читать единого Бог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создавать себе куми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поминать имени Бога всуе (без необходимости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важать субботу как день почитания Бог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важать родител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убив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прелюбодействов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кра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лжесвидетельствов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желать ничего из того, что принадлежит другому человек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5T16:26:54Z</dcterms:created>
  <dc:creator>Света</dc:creator>
  <dc:description/>
  <dc:language>en-US</dc:language>
  <cp:lastModifiedBy>Светлана</cp:lastModifiedBy>
  <dcterms:modified xsi:type="dcterms:W3CDTF">2016-12-12T14:51:44Z</dcterms:modified>
  <cp:revision>7</cp:revision>
  <dc:subject/>
  <dc:title>СВЯЩЕННЫЕ КНИГИ ИУДЕЕВ.  ВЕРОУЧЕНИЕ.</dc:title>
</cp:coreProperties>
</file>