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9C9-0C33-4757-8FA3-F1042194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293-4F52-46AF-AD77-F398FE04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1B7-697D-4AED-B63A-A0EE76A7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503-CB49-4F54-BABC-BA70460C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EED8-7DA6-48BE-808D-92626605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A5C6-4168-4F98-B028-A3C19AC9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3A1C-5B80-4F5B-9D6D-042EE8C8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6052-01F2-40C8-A442-2C25A1DB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9883-61E7-4283-9908-218A2FB8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590B-1048-464A-84FC-0BDBF4DC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8AD1-EEE4-4066-BA59-415B85CA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59A6-6C7D-42DA-91D2-D0C10D4C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AE07-4DBE-4EA7-B6B2-0D4F061F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374C-E648-4583-A0FC-E0C059AF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A457-A5F0-45AE-9DB3-03585A1F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D733-E0B7-4A1C-803E-5D3F9195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8167-1A38-4E49-A50F-9EAEC894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208-1D7E-42F1-94AA-8F95EB68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4EA-120A-4D05-BC57-0A8FE503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26B-037E-4481-886E-408D6AAB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772-B354-40A0-9DAA-206BB831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BFD-1ED3-4E59-8A4F-9FC0A248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632-EED0-44F7-BC36-BA7C7FEE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2E0-87A1-4CF3-B8EE-63E9A542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D9FB-D4FA-4B9D-9672-BB4201A9E4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B5C5-D018-40BF-8BFB-F9B5F341EE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ВЯЩЕННЫЕ КНИГИ ИУДЕЕВ.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Ы ВЕРОУЧЕН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Основные догматы вероучения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а в единого Бога Яхв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г - Творец и Создатель, Отец всех люд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г – Совершенен, Разумен, источник Любви и Справедлив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изнь – диалог Бога и челове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шее творение Бога - челове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а в пришествие небесного Спасителя -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ессии («помазанник»)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анца Бог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а в конец света, воздаяние и воскресение из мертв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а в богоизбранность еврейского народа (отношения «союза» между Богом и народом Израиля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5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оучение и основы культа иудаизма изложены в его Священном Писа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чниками вероучения являются священные книги Танах и Талму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8" descr="pic00019_2"/>
          <p:cNvPicPr/>
          <p:nvPr/>
        </p:nvPicPr>
        <p:blipFill>
          <a:blip r:embed="rId1"/>
          <a:stretch/>
        </p:blipFill>
        <p:spPr>
          <a:xfrm>
            <a:off x="4757760" y="210492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7" name="Organization Chart 7"/>
          <p:cNvGrpSpPr/>
          <p:nvPr/>
        </p:nvGrpSpPr>
        <p:grpSpPr>
          <a:xfrm>
            <a:off x="442800" y="620640"/>
            <a:ext cx="8208360" cy="5459400"/>
            <a:chOff x="442800" y="620640"/>
            <a:chExt cx="8208360" cy="5459400"/>
          </a:xfrm>
        </p:grpSpPr>
        <p:cxnSp>
          <p:nvCxnSpPr>
            <p:cNvPr id="128" name="_s1028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437080" y="1913040"/>
              <a:ext cx="1092600" cy="2873520"/>
            </a:xfrm>
            <a:prstGeom prst="bentConnector3">
              <a:avLst>
                <a:gd name="adj1" fmla="val 127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0" idx="2"/>
            </p:cNvCxnSpPr>
            <p:nvPr/>
          </p:nvCxnSpPr>
          <p:spPr>
            <a:xfrm flipV="1">
              <a:off x="4547160" y="2803680"/>
              <a:ext cx="3600" cy="1092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30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2564280" y="1913400"/>
              <a:ext cx="1092600" cy="2873520"/>
            </a:xfrm>
            <a:prstGeom prst="bentConnector3">
              <a:avLst>
                <a:gd name="adj1" fmla="val 127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0" name="_s1031"/>
            <p:cNvSpPr/>
            <p:nvPr/>
          </p:nvSpPr>
          <p:spPr>
            <a:xfrm>
              <a:off x="3315600" y="620640"/>
              <a:ext cx="246240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ТаНаХ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_s1032"/>
            <p:cNvSpPr/>
            <p:nvPr/>
          </p:nvSpPr>
          <p:spPr>
            <a:xfrm>
              <a:off x="442800" y="3896280"/>
              <a:ext cx="246240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Тора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(«учение») –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«Пятикнижие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Моисея»,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Закон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_s1033"/>
            <p:cNvSpPr/>
            <p:nvPr/>
          </p:nvSpPr>
          <p:spPr>
            <a:xfrm>
              <a:off x="3315600" y="3896280"/>
              <a:ext cx="246240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Пророки </a:t>
              </a: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–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книги,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описывающие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видения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пророков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1034"/>
            <p:cNvSpPr/>
            <p:nvPr/>
          </p:nvSpPr>
          <p:spPr>
            <a:xfrm>
              <a:off x="6188760" y="3896280"/>
              <a:ext cx="246240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ffffff"/>
                  </a:solidFill>
                  <a:latin typeface="Times New Roman"/>
                </a:rPr>
                <a:t>Писания</a:t>
              </a: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исторические,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поэтические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произведения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70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6" name="Organization Chart 7"/>
          <p:cNvGrpSpPr/>
          <p:nvPr/>
        </p:nvGrpSpPr>
        <p:grpSpPr>
          <a:xfrm>
            <a:off x="442800" y="620640"/>
            <a:ext cx="8208000" cy="5459400"/>
            <a:chOff x="442800" y="620640"/>
            <a:chExt cx="8208000" cy="5459400"/>
          </a:xfrm>
        </p:grpSpPr>
        <p:cxnSp>
          <p:nvCxnSpPr>
            <p:cNvPr id="137" name="_s2052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105520" y="2244960"/>
              <a:ext cx="1092600" cy="2210040"/>
            </a:xfrm>
            <a:prstGeom prst="bentConnector3">
              <a:avLst>
                <a:gd name="adj1" fmla="val 127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2053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2895840" y="2244600"/>
              <a:ext cx="1092600" cy="2210760"/>
            </a:xfrm>
            <a:prstGeom prst="bentConnector3">
              <a:avLst>
                <a:gd name="adj1" fmla="val 127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9" name="_s2054"/>
            <p:cNvSpPr/>
            <p:nvPr/>
          </p:nvSpPr>
          <p:spPr>
            <a:xfrm>
              <a:off x="2653200" y="620640"/>
              <a:ext cx="378828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Талмуд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«изучение»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2055"/>
            <p:cNvSpPr/>
            <p:nvPr/>
          </p:nvSpPr>
          <p:spPr>
            <a:xfrm>
              <a:off x="442800" y="3896280"/>
              <a:ext cx="378828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ffff"/>
                  </a:solidFill>
                  <a:latin typeface="Times New Roman"/>
                </a:rPr>
                <a:t>Мишн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(повторение) –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истолкование древними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удрецами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вященного Писан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2056"/>
            <p:cNvSpPr/>
            <p:nvPr/>
          </p:nvSpPr>
          <p:spPr>
            <a:xfrm>
              <a:off x="4862520" y="3896280"/>
              <a:ext cx="3788280" cy="218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ffffff"/>
                  </a:solidFill>
                  <a:latin typeface="Times New Roman"/>
                </a:rPr>
                <a:t>Гемар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(завершение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полное разъяснение) 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толкование Мишны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екалог – </a:t>
            </a: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десять заповедей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итать единого Бог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создавать себе куми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поминать имени Бога всуе (без необходимости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ажать субботу как день почитания Бог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ажать родител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убив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прелюбодействов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кра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лжесвидетельствов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желать ничего из того, что принадлежит другому человек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16:26:54Z</dcterms:created>
  <dc:creator>Света</dc:creator>
  <dc:description/>
  <dc:language>en-US</dc:language>
  <cp:lastModifiedBy>Светлана</cp:lastModifiedBy>
  <dcterms:modified xsi:type="dcterms:W3CDTF">2016-12-12T14:51:44Z</dcterms:modified>
  <cp:revision>7</cp:revision>
  <dc:subject/>
  <dc:title>СВЯЩЕННЫЕ КНИГИ ИУДЕЕВ.  ВЕРОУЧЕНИЕ.</dc:title>
</cp:coreProperties>
</file>