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1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66F5-3FDD-457F-8484-EAD1F9A5D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F3E-C3A4-40E3-B32B-FB782316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134A3A-1F28-48B9-981D-F268469D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8CA66-7C58-42AE-8595-A9FC14CF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24B66-323B-4661-A1D0-5485BC99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8486D-722D-4887-B880-60329A6C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CB876E-858E-439C-B1F2-2A1708CC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E0147-659B-4DEF-930F-5971D1FE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6030B-4FDA-4B25-9658-A756199EE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537354-5976-4255-9EB7-2474BFE9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D6698-CAA3-492E-964B-357AAE9CC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D643B8-EBC7-4DAB-A8AD-751AC3535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28B-12F1-4BFF-8141-8EE505DAA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5F5DCB-0BEC-4950-850A-D013F30EF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4CA1AC-5155-4ABE-A2AB-E3E95249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35FF3-46BF-45E3-B268-2A2C2CDA2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DD09F-1AB2-4F8B-B218-3469D577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1FA21C-7192-497C-A9AC-FDE9C9B01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5AAFE5-9100-4864-B219-3323FEFE0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4A3FCB-6A91-4210-8297-F713CF3A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DBD41-A575-4450-BFBD-2AE5E938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0BDA1-D8D7-4EB6-8D22-8E1E837ED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0DD00-3B97-4804-92C1-9A1F36AE3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EF2F-BF08-41D8-8C00-4B2ED233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6BE994-414C-4F22-AB25-5C6C2CCC4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239DF8-E366-42D0-84CB-9CDB3CA91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11AFC-F14E-49D1-86B4-12ADE5ECE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B19CC2-9AA0-4704-B474-590B1419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FB908-7E13-4604-8A92-6EF5A0E9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117598-3AD5-4A2E-9075-98EE4B406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2700E0-5AD4-45EF-A001-055328D2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3D2A26-D24C-45E4-84AD-3686C25C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B33FB-06C2-4349-86CC-38357F03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5D00E-A4B5-4930-B10F-BC1AE7673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5AC65-535E-499E-A121-DAE29B58C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2A9D6D-8674-4F8F-9724-DF466FF92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437E4-1B85-4C2A-B9E9-C1891D341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4FCA9-09FE-44E2-A61B-1107D087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B250B-28FB-4649-A601-AFE646CB1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A7B1F9-92C3-408A-B442-9952F9B8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06E30-90ED-4E75-8ABD-6844205E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A9B58A-0E6A-4269-AA00-849CF59D0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BEEC99-6239-4A66-A2AB-59DB5B3D1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F2DD7-3DB5-4657-85BF-406C8AEA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401FF1-D15F-4EA9-A9FD-AD7B8E02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27C82-14F6-4BD8-9CAF-20132F8A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1FDD4-43CD-4E6C-AF4D-0C80759F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F54272-E164-4CB0-9B38-B3098F62D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8A27BE-3C54-4EC7-8253-D8D5662D1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0F3331-BE7C-4BDE-9D6F-1B909D923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5AD5A4-BD43-4762-AEC7-18F00A1D2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AE148-C699-4429-B102-0AAEF9B09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B98B-2230-4769-8AEE-6CBDA22A1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19175-9831-4A60-BA64-519E300B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7CD9-FC6D-4E58-9819-7B626B9C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0B3D1-E062-4921-A71B-471DC713A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92E2-7F2D-49D5-BC53-9BA2D0BE7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6A06-8447-4CD5-8D2C-6E60C374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84EF7-C046-4ED8-9B90-FEB643805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D0FBF-203A-4D97-8C41-66FEA1A46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81BE-700D-4D70-AB33-F0D35434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CC66-B2CC-4C96-B789-298F36CF5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89702C-AA7C-4B2A-BBC8-A6F732189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58F46-3838-4779-B072-278E892C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D42B-25A5-4DC3-95A1-1EE9F007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66281-8AB6-432C-ACBD-FCDBBEF4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8CF17-9B68-46BC-ADE6-087F2BBB8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E38-66A3-4263-B1A4-7C3629911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77E40-9F3A-4D98-9527-D25B0491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18710-5E4B-4C83-9FC6-6FC2F9B55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A984D2-E25E-4FD7-9FB1-7291834F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5E01E-FAAE-456C-9212-AF02B589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4E786-3060-484A-B92C-F5AF8969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B6D0D-282B-43F5-A955-B3F2FA60C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B10DF-7BF1-4C0D-982D-805F0416D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AFC03-C836-43D8-9494-DFE449AEB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D2C408-A53D-45F6-AEB5-0FE5EAD96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6CDE0-E2A1-4FD8-9A9F-710ACDB8F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F40B-553D-4A2D-A07A-2FBDD656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92C57-92D9-4095-8B19-A1F24F54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50D0-D0BF-4C61-887C-341786938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25B0-C88E-4C6D-A9D1-2515E4DEC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0D482-CE3D-4D0D-B5CB-E4195B4D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ED419B-B333-4B78-AE0F-2CBCD698E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5B07-5530-4B73-8E5A-EB4D0719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37349-53A0-45B3-8483-9875E271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E47A4-18CB-48AF-AE00-BEDE3744C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3D331-5FE9-4270-8760-BCE881DB7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88EF4-1823-4632-9D15-AA6D56CA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6726-1375-41F8-8C5A-38B0D67D5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74162-94F1-420B-A1BC-59CDB0979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8F90-C8BB-42D9-A6EE-127ACB05D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70AFE-4AE3-4FC4-90E9-E0A486B6D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09F669-80AC-4E93-B028-C3B6438A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C34A4-5BF7-4542-875E-474CC16E9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8B768-8BE4-429A-9048-888D761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E43B05-D7F2-41AB-83F0-2D67D9D5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AFE95-2445-41F4-B3C9-3EB36FCCC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1DF180-ACF1-4DE9-AE90-28AAFB317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9285E-B39E-426A-B1AB-98045D2E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239F-324A-4864-92BB-D1DFDDC76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8C122-7EA3-4E1F-9C44-5107CDA5E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025D1-CA44-4F34-977D-652B589E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8894B-838A-422B-A9A1-54B173A0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5EA930-E8C6-458F-8CCF-D9CB4C99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3DDD3-4A34-468B-BC76-D9F1D4BB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DA77CF-8129-4B59-B765-F0BABCBC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3A48-85F3-4E14-9107-A9135D24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B24C-3A8D-4CCF-A63E-035B19B08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7A9539-BC06-4CF8-BF66-183E1731B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5ECF5C-33F9-430C-9C9E-40029581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4050-41A9-46AB-82AC-C7B42379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48BA37-9304-493C-A1B0-326EB3DF6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73936-3FA5-4154-BD53-7D505613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FDCC6D-FC93-4525-AF03-ACB12216B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C9B2B9-AB8D-44F1-93FF-25E9179BE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1A3BF-9035-45AC-92B1-15CAA6AD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EA115-A5AE-4946-A295-346EC647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949DD-3C0E-48AB-83E3-02B3B588D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0D913-B44C-4DBF-BF1D-285EAE7E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F398D-7C7A-48D2-AAB6-D7125D3C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42F97-886C-4907-B866-7D05D22B4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CDB3-D97C-4A11-872E-8C8C64759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9A0509-F45C-4190-8621-B315FA3A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A01BE4-AE2C-46BF-A3F0-40110615D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2D19F0-8CE7-4A6A-B70E-5F321AA3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D3D2A-F31E-4925-B6BD-9E207A621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9A6D7A-BE13-46CC-B8CC-CFC7B2749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D3FEC4-F8A7-4232-A0F8-1743EF28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AB1CE-8F44-459D-9955-EC19D0B6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D95CAC-49D0-4F29-BF97-BC6F3B44F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CD58A1-A16D-4FDD-8635-9A462A91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F113DB-250A-4104-8A22-FE75510A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FC86-09E3-4EC3-984F-A696BD6F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CF4522-7CA3-49D3-9E44-192519323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1C4B8-66F7-4272-9644-DE4FCB27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B8EFE-CF04-4C52-979F-3EA0B3D1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D0BD83-235D-44F2-BB21-421D6FE37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D61C8-3409-4279-9407-0BF1F04E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46ADCE-397D-4E86-9436-1D8C764E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743E1F-7118-4530-99FC-1F7FEFF88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9627B-7E6E-4042-9077-0D4AA9595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22B8B-FB8D-417D-ACC5-2EA3B7FF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B92CAC-D3BA-4A84-A8B5-57115645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ogudalova183.jimd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C6B0E-B1BE-4F5C-B331-7AAFEB99FC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BD390-E229-41CD-8892-B77ADE46AB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6B9C-9B26-4BE1-9D86-BA33D4E2F8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4" descr="http://www.taxisolidarnosc.pl/wp-content/uploads/2012/08/komputer.jpg"/>
          <p:cNvPicPr/>
          <p:nvPr/>
        </p:nvPicPr>
        <p:blipFill>
          <a:blip r:embed="rId5"/>
          <a:stretch/>
        </p:blipFill>
        <p:spPr>
          <a:xfrm>
            <a:off x="6429240" y="4071960"/>
            <a:ext cx="2295720" cy="260028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D22E-55A8-48A2-86EE-A3A1C72F7A1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1C25-BE69-4310-AFE0-06A42B1139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3FFB-1795-4AC8-B27F-216A7808CC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8648B-D539-4A46-B613-2511846C244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866E-BD60-40CF-A3EF-C877B1661FF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1034-A027-4406-A729-EA5E4CA38C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40CF7-E3A4-4497-A965-A8087C41896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B953F-5680-4021-A9B4-8C8C5221A2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Скругленный прямоугольник 7"/>
          <p:cNvSpPr/>
          <p:nvPr/>
        </p:nvSpPr>
        <p:spPr>
          <a:xfrm>
            <a:off x="285840" y="285840"/>
            <a:ext cx="8643960" cy="6357960"/>
          </a:xfrm>
          <a:prstGeom prst="roundRect">
            <a:avLst>
              <a:gd name="adj" fmla="val 16667"/>
            </a:avLst>
          </a:prstGeom>
          <a:solidFill>
            <a:srgbClr val="ffffff">
              <a:alpha val="90000"/>
            </a:srgbClr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4" descr="http://www.taxisolidarnosc.pl/wp-content/uploads/2012/08/komputer.jpg"/>
          <p:cNvPicPr/>
          <p:nvPr/>
        </p:nvPicPr>
        <p:blipFill>
          <a:blip r:embed="rId3"/>
          <a:stretch/>
        </p:blipFill>
        <p:spPr>
          <a:xfrm>
            <a:off x="0" y="4257720"/>
            <a:ext cx="2295360" cy="26002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http://s13.radikal.ru/i186/1109/8d/6298d93e1295.png"/>
          <p:cNvPicPr/>
          <p:nvPr/>
        </p:nvPicPr>
        <p:blipFill>
          <a:blip r:embed="rId4"/>
          <a:stretch/>
        </p:blipFill>
        <p:spPr>
          <a:xfrm>
            <a:off x="6643800" y="-285840"/>
            <a:ext cx="2666880" cy="339408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FDDF-8D8F-4A5F-B377-1EC1692064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9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Заголовок 1" descr=""/>
          <p:cNvPicPr/>
          <p:nvPr/>
        </p:nvPicPr>
        <p:blipFill>
          <a:blip r:embed="rId1"/>
          <a:stretch/>
        </p:blipFill>
        <p:spPr>
          <a:xfrm>
            <a:off x="701640" y="1468440"/>
            <a:ext cx="7935840" cy="3249720"/>
          </a:xfrm>
          <a:prstGeom prst="rect">
            <a:avLst/>
          </a:prstGeom>
          <a:ln w="0">
            <a:noFill/>
          </a:ln>
        </p:spPr>
      </p:pic>
      <p:sp>
        <p:nvSpPr>
          <p:cNvPr id="530" name="Прямоугольник 4"/>
          <p:cNvSpPr/>
          <p:nvPr/>
        </p:nvSpPr>
        <p:spPr>
          <a:xfrm>
            <a:off x="1928880" y="285840"/>
            <a:ext cx="4680000" cy="3078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429080" y="4214880"/>
            <a:ext cx="4075200" cy="23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дготовил: Гуляев Тиму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ченик 2 «А» класс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МАОУ «СПШ №33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Классный руководитель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Шеховцова Людмила Дмитриев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Picture 4" descr="https://im0-tub-ru.yandex.net/i?id=8843fcff5c98aa30e6e0688910d82bb4&amp;n=13"/>
          <p:cNvPicPr/>
          <p:nvPr/>
        </p:nvPicPr>
        <p:blipFill>
          <a:blip r:embed="rId1"/>
          <a:stretch/>
        </p:blipFill>
        <p:spPr>
          <a:xfrm>
            <a:off x="428760" y="1338120"/>
            <a:ext cx="4143240" cy="2581560"/>
          </a:xfrm>
          <a:prstGeom prst="rect">
            <a:avLst/>
          </a:prstGeom>
          <a:ln w="0">
            <a:noFill/>
          </a:ln>
        </p:spPr>
      </p:pic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нтернет-этике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171600" y="1571760"/>
            <a:ext cx="5972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приветствовать собеседника в начале письма и прощаться в кон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писать кратко, грамотно и аккуратно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думать, прежде чем что-нибудь напечатать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обходимо не относится критически к другим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356760"/>
            <a:ext cx="822960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ПОМНИТЕ О СОВЕТАХ И ТОГДА ИНТЕРНЕТ СТАНЕТ НАДЕЖНЫМ И ПОЛЕЗНЫМ ДРУГ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6" name="Picture 2" descr="https://im0-tub-ru.yandex.net/i?id=4553621d01a4c5ba84cf5ef9ce0f7d71-l&amp;n=13"/>
          <p:cNvPicPr/>
          <p:nvPr/>
        </p:nvPicPr>
        <p:blipFill>
          <a:blip r:embed="rId1"/>
          <a:stretch/>
        </p:blipFill>
        <p:spPr>
          <a:xfrm>
            <a:off x="3143160" y="2143080"/>
            <a:ext cx="332280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357120" y="785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тевая паутина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лела весь белый свет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 пройти детишкам мимо. 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же эт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(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ɯǝ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ǝɯ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3" name="Picture 2" descr="http://al-taiclub.com/images/computer-globe-clipart-4.jpg"/>
          <p:cNvPicPr/>
          <p:nvPr/>
        </p:nvPicPr>
        <p:blipFill>
          <a:blip r:embed="rId1"/>
          <a:stretch/>
        </p:blipFill>
        <p:spPr>
          <a:xfrm>
            <a:off x="4786200" y="2357280"/>
            <a:ext cx="341640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Интернет - э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14240" y="1356840"/>
            <a:ext cx="707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мпьютерная сеть, связывающая между собой пользователей индивидуальных компьютеров и других средств связи, которые могут подключится к интернету, для обмена информаци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2" descr="https://im0-tub-ru.yandex.net/i?id=3b634dd193b1c0ba7dc28dacc87836b7-l&amp;n=13"/>
          <p:cNvPicPr/>
          <p:nvPr/>
        </p:nvPicPr>
        <p:blipFill>
          <a:blip r:embed="rId1"/>
          <a:stretch/>
        </p:blipFill>
        <p:spPr>
          <a:xfrm>
            <a:off x="4357800" y="3000240"/>
            <a:ext cx="37195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Возможности интернета для детей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85840" y="2428560"/>
            <a:ext cx="5572080" cy="36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-первых, большое количество информации обо всем на свете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Picture 2" descr="https://im0-tub-ru.yandex.net/i?id=bf756b702c25fec253968820c9197064-l&amp;n=13"/>
          <p:cNvPicPr/>
          <p:nvPr/>
        </p:nvPicPr>
        <p:blipFill>
          <a:blip r:embed="rId1"/>
          <a:stretch/>
        </p:blipFill>
        <p:spPr>
          <a:xfrm>
            <a:off x="5715000" y="1500120"/>
            <a:ext cx="2909880" cy="2994120"/>
          </a:xfrm>
          <a:prstGeom prst="rect">
            <a:avLst/>
          </a:prstGeom>
          <a:ln w="0">
            <a:noFill/>
          </a:ln>
        </p:spPr>
      </p:pic>
      <p:sp>
        <p:nvSpPr>
          <p:cNvPr id="540" name="Прямоугольник 4"/>
          <p:cNvSpPr/>
          <p:nvPr/>
        </p:nvSpPr>
        <p:spPr>
          <a:xfrm>
            <a:off x="2500200" y="4572000"/>
            <a:ext cx="61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-вторых, Интернет облегчает общение между людь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пасности которые поджидают детей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57120" y="1857240"/>
            <a:ext cx="492912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5440" indent="-23544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айты, содержащие нежелательную информаци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5440" indent="-235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35440" indent="-2354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3" name="Picture 2" descr="https://im0-tub-ru.yandex.net/i?id=7de0ff2bc83d1f673679fc1e35b54476-l&amp;n=13"/>
          <p:cNvPicPr/>
          <p:nvPr/>
        </p:nvPicPr>
        <p:blipFill>
          <a:blip r:embed="rId2"/>
          <a:stretch/>
        </p:blipFill>
        <p:spPr>
          <a:xfrm>
            <a:off x="5357880" y="1785960"/>
            <a:ext cx="3370320" cy="2179440"/>
          </a:xfrm>
          <a:prstGeom prst="rect">
            <a:avLst/>
          </a:prstGeom>
          <a:ln w="0">
            <a:noFill/>
          </a:ln>
        </p:spPr>
      </p:pic>
      <p:sp>
        <p:nvSpPr>
          <p:cNvPr id="544" name="Прямоугольник 4"/>
          <p:cNvSpPr/>
          <p:nvPr/>
        </p:nvSpPr>
        <p:spPr>
          <a:xfrm>
            <a:off x="5000760" y="48578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зартные иг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6" descr="https://www.colourbox.com/preview/6430495-3d-illustration-gambling-on-the-internet-play-online-laptop-casino-chips-and-cards.jpg"/>
          <p:cNvPicPr/>
          <p:nvPr/>
        </p:nvPicPr>
        <p:blipFill>
          <a:blip r:embed="rId4"/>
          <a:stretch/>
        </p:blipFill>
        <p:spPr>
          <a:xfrm>
            <a:off x="1785960" y="3929040"/>
            <a:ext cx="31906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пасности</a:t>
            </a: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 которые поджидают детей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500040" y="1999800"/>
            <a:ext cx="51436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нтернет-хулиганств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Picture 2" descr="http://moziru.com/images/cyber-clipart-social-bullying-14.jpg"/>
          <p:cNvPicPr/>
          <p:nvPr/>
        </p:nvPicPr>
        <p:blipFill>
          <a:blip r:embed="rId2"/>
          <a:stretch/>
        </p:blipFill>
        <p:spPr>
          <a:xfrm>
            <a:off x="4572000" y="1714680"/>
            <a:ext cx="3722760" cy="249840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5"/>
          <p:cNvSpPr/>
          <p:nvPr/>
        </p:nvSpPr>
        <p:spPr>
          <a:xfrm>
            <a:off x="4786200" y="457200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5"/>
              <a:buBlip>
                <a:blip r:embed="rId3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тернет-мошенни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http://mari112.ru/wp-content/uploads/2017/04/thief_coming_from_monitor_1600_wht_10122.png"/>
          <p:cNvPicPr/>
          <p:nvPr/>
        </p:nvPicPr>
        <p:blipFill>
          <a:blip r:embed="rId4"/>
          <a:stretch/>
        </p:blipFill>
        <p:spPr>
          <a:xfrm>
            <a:off x="2286000" y="4214880"/>
            <a:ext cx="22669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пасности которые поджидают детей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857160" y="1857240"/>
            <a:ext cx="43293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Виру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Прямоугольник 5"/>
          <p:cNvSpPr/>
          <p:nvPr/>
        </p:nvSpPr>
        <p:spPr>
          <a:xfrm>
            <a:off x="5214960" y="485784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65"/>
              <a:buBlip>
                <a:blip r:embed="rId2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п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4" descr="http://3.bp.blogspot.com/-rU2VLXUE4Ro/UcYKxIwUSgI/AAAAAAAACV0/iIXVRvNDAFY/s1600/spam.jpg"/>
          <p:cNvPicPr/>
          <p:nvPr/>
        </p:nvPicPr>
        <p:blipFill>
          <a:blip r:embed="rId3"/>
          <a:stretch/>
        </p:blipFill>
        <p:spPr>
          <a:xfrm>
            <a:off x="2000160" y="3540240"/>
            <a:ext cx="3071880" cy="30319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2" descr="https://ddr5.ru/wp-content/uploads/2017/01/e47b9303ca6ea0214480cc5febf634b061d078a4_original.jpg"/>
          <p:cNvPicPr/>
          <p:nvPr/>
        </p:nvPicPr>
        <p:blipFill>
          <a:blip r:embed="rId4"/>
          <a:stretch/>
        </p:blipFill>
        <p:spPr>
          <a:xfrm>
            <a:off x="5000760" y="1643040"/>
            <a:ext cx="37144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SzPct val="102909"/>
              <a:buBlip>
                <a:blip r:embed="rId1"/>
              </a:buBlip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акты с незнакомыми людьм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8" name="Picture 2" descr="https://im0-tub-ru.yandex.net/i?id=59f88b2b4ffc82df46280df33ec485f0&amp;n=13"/>
          <p:cNvPicPr/>
          <p:nvPr/>
        </p:nvPicPr>
        <p:blipFill>
          <a:blip r:embed="rId2"/>
          <a:srcRect l="0" t="0" r="0" b="7819"/>
          <a:stretch/>
        </p:blipFill>
        <p:spPr>
          <a:xfrm>
            <a:off x="2286000" y="1643040"/>
            <a:ext cx="607212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равила безопасности в интернет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643120" y="1599840"/>
            <a:ext cx="604368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spcBef>
                <a:spcPts val="5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1. Никогда не сообщать свое настоящее имя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2. Никогда не сообщать свой адрес, школу, класс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3. Никогда не давать номер своего домашнего телефон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4. Никогда не давать номер своего мобильного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5. Никогда не давать номера телефонов родителей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6. Никогда не соглашаться встретиться с незнакомым собеседником, «другом» из сети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7. Никогда и никому не пересылать фотографии своих родителей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8. Не отправлять sms на незнакомые номера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9. Не переходить на сайты, которые рекомендуют незнакомцы в электронных письма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1" name="Picture 2" descr="https://ds33himki.edumsko.ru/uploads/3000/2968/section/367586/868511_cartoon-deti-komp_yuter-vektora-devushki-lice.jpg?1484854864053"/>
          <p:cNvPicPr/>
          <p:nvPr/>
        </p:nvPicPr>
        <p:blipFill>
          <a:blip r:embed="rId1"/>
          <a:stretch/>
        </p:blipFill>
        <p:spPr>
          <a:xfrm>
            <a:off x="285840" y="1428840"/>
            <a:ext cx="25718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3T11:01:34Z</dcterms:created>
  <dc:creator>Саня</dc:creator>
  <dc:description/>
  <dc:language>en-US</dc:language>
  <cp:lastModifiedBy>User</cp:lastModifiedBy>
  <dcterms:modified xsi:type="dcterms:W3CDTF">2018-03-17T16:28:00Z</dcterms:modified>
  <cp:revision>31</cp:revision>
  <dc:subject/>
  <dc:title>Слайд 1</dc:title>
</cp:coreProperties>
</file>