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EB2-AD25-48A0-8820-32B3C085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14AE-B5F6-4172-88F4-7169A816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2CA59-B46A-402C-8D02-183C78B7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65394E-6C7E-4D5C-A024-62607A90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70139-A051-4BC7-9510-FD6EB34D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1CADF-CE7C-4157-A26B-860CF168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A6F98-5D13-44D7-B1B8-2DCECB7A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78801-B235-48FC-875D-B6757D5C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F8B5DE-09D7-44A6-987C-4CAEEA1F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2D1CF-0FE4-482B-B9DA-9774C7A9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0F5C4D-9C98-48EA-8B0E-F3D9333AA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CD68B2-6FBE-48CC-B154-977B8B89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8DC-28D4-4155-86BA-06A0763A6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4FFF8A-0014-475E-838D-3BB7DA7A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94E8E9-56FC-4B16-A602-7CE813E1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812B4-9F60-4DFE-9637-B2EFD3A8D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5B07D-FFDF-44C5-9FBF-260DF39B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34BFCB-B83C-4A75-B038-CD4765E3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9FEA2-C07C-4886-A1A2-01619636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A464E-B378-44A4-B68B-FC857854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F2072-15FB-4AD5-B5CB-A75636C9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B0771-422C-49C1-9044-0EA9A8D1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D71235-A175-44AA-BDA3-9BBA7F6D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3B77-4315-4F4C-80E2-6967A395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7E93DF-5DA8-4308-A966-3310B5CDE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2A2622-CCBA-4AB5-8F17-3D0472A4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72675-BE9B-454D-BDC8-8BB4EE1F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6B41D3-4EFC-427A-B932-FD80724C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BA0B37-BF26-4B3C-A805-F268AC2B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E02D6D-7D05-4614-85E2-E17F89FC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357C8-22A0-4D4A-909B-2D0A5CE5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CB66B-087B-4A91-AD35-48078F8F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C7DB6-0B43-4DAD-9605-49334238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CFADF-535F-4EA9-94AA-63D9C7FA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C3E5F-6FB3-4648-835D-DCD17301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D080D-7247-47AA-B2CF-B9D324E2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F05C0-930F-4D1B-9363-3CA7349D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250CC-54F6-48AD-88C0-65B1A709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74C79-FE87-43CA-B013-4C9D571E3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A4953A-C21D-4C09-8ADB-C579DC0D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CE9CC-60A3-4A79-A958-A489303A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C40CE-D742-43E2-A900-2EFC42C7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0D761-E066-4516-A909-30CC6440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3B837-ACE4-4934-93E1-0ADFBEC8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B1DAEC-B444-4ECA-9F06-28394217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61F9-4240-41C0-A07E-7FE91795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C4C1E-12E5-41D7-BC7D-BD18CC6A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37E8D9-0EE7-493F-91AE-0484C747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65C4F-DA63-4DA6-8D52-EAD85D64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18760-9025-4C4E-A036-A4FDFBD2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0F4F92-E851-4D2D-AEC6-652E56A8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10FB-312E-401D-B462-05D4912D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4E4D6-68E8-4D3F-9220-F802053B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24F0-4E08-4C89-8757-94A207FB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2C8C5-CFB9-44C4-B62A-98FD2C0E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46F6-0C85-494C-8300-1EDB3AA8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EBB1-91FF-44C2-825D-3CB1348CA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C6C8-AC80-464D-9B8A-0CF1F456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5153-E878-413F-BF8A-95FDBC50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D382-CA61-4BB5-83DB-AD8C679E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12AB-1245-49D2-BCB0-CEB03B38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716E2-001B-48D1-8C6F-83652A49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E586E-22FF-442C-B1E0-B155530F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67E8B-360C-4E11-9989-3D99D0E6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BA658-4F96-46D6-BA8C-56410FF7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659BF-535D-4180-9470-6E8B4B4B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5DA37-5127-4C5A-A690-5FFCB5CC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BED-3E9F-4E76-93DC-299C5537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0978C-89D1-4E21-A930-C20D5827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9B122-1D2F-4BA1-AA7C-DC90CFAE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4188E-3D99-46CF-85DF-C70ACB7C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2E256-0644-4471-911F-DBD8240E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E1CE0-6FAE-462C-B5E0-005399ED0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CF2E9-BF5C-40D2-A1F2-C3EEF34D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30537-3835-4CE2-AE56-6585724CA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56FC4-E2AF-4E69-9A21-D7A186A8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7772F-D803-4D89-8BAB-A1CF6217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8CEDC-7283-410C-A144-3C4E32E4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6D6-C4C5-47EC-8090-3456C546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7A997-A94D-41F1-B77F-444C1AF3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9D3B2-64B0-4849-BA94-302AAD6E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16CD6-B7A8-497A-AC2E-8F0CB52A1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6D848-6155-49DD-850F-0B897D79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FB877-D882-418A-A091-72C17415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F5EDE-83F0-451B-9CFB-215AAFC9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6C0F1-1250-4440-9D08-B5B536F9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94FA4-56DC-4A33-8FC6-DA5C41914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92A54-282F-457F-A884-7DF466E7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1B5BB-D9C2-4955-8DBE-EC42AB71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3939-0BE2-4777-BB75-A379C3E7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46F9F-2681-4521-A650-285BBA7F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411EA-F797-44F9-99BA-1AE56370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46B14-B0D3-4905-9FFB-0CAEF8B0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6F5B2-F0C7-4AAB-B4B5-475102D4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95FBC-590D-4C3E-992C-D8B7A926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5EB67-9AB9-42AD-BE68-FFAA2A5B3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80444-2519-45BA-B281-CC8813E8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DC1EC-A033-4777-B4BD-95F62B17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8AD70-8DD9-4C74-B67D-F0BD85E8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1C65A-55AF-423F-B523-494C0390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3237-BC4C-4A6F-9435-5BB13670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F67F1-B2EB-4C5E-A67A-799B72BD4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ADEC3-2510-4639-8FD0-40733EDD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E4A28-095A-450E-BF7A-65EC079A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AA72F5-A7CA-44B8-A580-BF8B34E0C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92BCE-260E-4F97-963D-21C4C884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A9C40-D754-49A4-8088-8F22CC3B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3909E-A425-42E1-A6BD-4147A852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84551-5B30-4D44-BD4A-B30A1B9C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5550E5-5943-4D7B-90F5-9B7043E6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428BA-B35B-41AD-858A-DD2F91CD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A0ED-D0CA-44C9-B995-D7369E11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7BDAD-6D75-4F0F-B7E9-739357CA5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5C2AA-7B50-4A26-88F7-B180CE7B4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4CC92-5B31-4671-9E1C-678EC5FF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EF63D-CCF5-4EC9-82A3-863CEF75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D98D0-3D11-4297-B4E0-1FB1D7634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A7C58B-B5EC-4A22-A1A6-0346AAA6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DB1B4-7DF0-4763-B51D-C36CA512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6BA34-3C51-4295-BDA7-6029AA52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85A6A-D5EB-403C-BE01-13FC79E1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B42D2-35E7-4B49-9BBC-10CB9C1A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434C-0BC4-4A86-98CF-23C441C4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5099B-31AD-49B0-88F8-6F2CB533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F3832-3CE1-4249-9816-7E55011E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CBF39-E96D-4C2A-8E66-06564CE1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61EE8-8B17-45A9-915C-F2BA5444D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5E438-F10D-4667-9DB9-8F58DA775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5F3B6-5689-4299-A92B-AD502DDEB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50010-5513-4725-956F-7C2F3AB0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74485-E653-4C1A-BB41-DB341A15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7E50B-C148-4452-B601-A0999A33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6DB1F-D7EB-4890-A7E2-AFC1D73B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2D8D-22F5-4352-8A34-13631D11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47FC9-6890-4C89-AB71-031D83FF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F5CE6-9201-469E-85FD-D036CF8E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4CF95-C08D-4AFB-A1A3-ECA014AC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3B3B0-0AD6-4132-846B-CF4698DF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DA71F-0C7A-41C6-8357-A4622868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3A95D-50BF-4917-86E1-AC91DBDD7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54D1C-96FF-459A-8B18-BCACEBD8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1C615-1BF5-4438-8154-25278B0A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2493DA-10E9-4878-9423-8C519B58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56BB7-21EE-4A1D-B84B-F84B32BC1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ogudalova183.jimd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27EF-821A-4970-AB75-A5934BE931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D64F-0764-4AD4-A07B-221CBE0933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E56C-D11A-45E4-A4B7-EF3B26D251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http://www.taxisolidarnosc.pl/wp-content/uploads/2012/08/komputer.jpg"/>
          <p:cNvPicPr/>
          <p:nvPr/>
        </p:nvPicPr>
        <p:blipFill>
          <a:blip r:embed="rId5"/>
          <a:stretch/>
        </p:blipFill>
        <p:spPr>
          <a:xfrm>
            <a:off x="6429240" y="4071960"/>
            <a:ext cx="2295720" cy="260028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1AC1-27C1-4973-981D-4EA1B621B1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2D25-4939-4F2D-9B4A-FDB5940623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0CA1-699B-48B7-BA0C-654BEA66C1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5EB2-C04E-42E0-9F45-3ADA47326B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5996-0F0D-44E9-A12B-0F0FB89D22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4E37-1DA3-4E70-B9A4-62E965CF68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162D-B753-45EC-8F4C-482398859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72755-F7F3-4402-8C66-905041CA76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ABC56-05B3-47B2-BE60-C510D49F9E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Заголовок 1" descr=""/>
          <p:cNvPicPr/>
          <p:nvPr/>
        </p:nvPicPr>
        <p:blipFill>
          <a:blip r:embed="rId1"/>
          <a:stretch/>
        </p:blipFill>
        <p:spPr>
          <a:xfrm>
            <a:off x="701640" y="1468440"/>
            <a:ext cx="7935840" cy="3249720"/>
          </a:xfrm>
          <a:prstGeom prst="rect">
            <a:avLst/>
          </a:prstGeom>
          <a:ln w="0">
            <a:noFill/>
          </a:ln>
        </p:spPr>
      </p:pic>
      <p:sp>
        <p:nvSpPr>
          <p:cNvPr id="530" name="Прямоугольник 4"/>
          <p:cNvSpPr/>
          <p:nvPr/>
        </p:nvSpPr>
        <p:spPr>
          <a:xfrm>
            <a:off x="1928880" y="285840"/>
            <a:ext cx="4680000" cy="307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429080" y="4214880"/>
            <a:ext cx="4075200" cy="23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дготовил: Гуляев Тиму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Ученик 2 «А»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АОУ «СПШ №33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лассный руководител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Шеховцова Людмила Дмитрие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https://im0-tub-ru.yandex.net/i?id=8843fcff5c98aa30e6e0688910d82bb4&amp;n=13"/>
          <p:cNvPicPr/>
          <p:nvPr/>
        </p:nvPicPr>
        <p:blipFill>
          <a:blip r:embed="rId1"/>
          <a:stretch/>
        </p:blipFill>
        <p:spPr>
          <a:xfrm>
            <a:off x="428760" y="1338120"/>
            <a:ext cx="4143240" cy="25815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нтернет-этик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171600" y="1571760"/>
            <a:ext cx="59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приветствовать собеседника в начале письма и прощаться в кон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писать кратко, грамотно и аккуратно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думать, прежде чем что-нибудь напечатат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не относится критически к друг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ОМНИТЕ О СОВЕТАХ И ТОГДА ИНТЕРНЕТ СТАНЕТ НАДЕЖНЫМ И ПОЛЕЗНЫМ ДРУГ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2" descr="https://im0-tub-ru.yandex.net/i?id=4553621d01a4c5ba84cf5ef9ce0f7d71-l&amp;n=13"/>
          <p:cNvPicPr/>
          <p:nvPr/>
        </p:nvPicPr>
        <p:blipFill>
          <a:blip r:embed="rId1"/>
          <a:stretch/>
        </p:blipFill>
        <p:spPr>
          <a:xfrm>
            <a:off x="3143160" y="2143080"/>
            <a:ext cx="33228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35712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ая паутина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лела весь белый свет.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пройти детишкам мимо.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же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ɯǝ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ǝɯ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2" descr="http://al-taiclub.com/images/computer-globe-clipart-4.jpg"/>
          <p:cNvPicPr/>
          <p:nvPr/>
        </p:nvPicPr>
        <p:blipFill>
          <a:blip r:embed="rId1"/>
          <a:stretch/>
        </p:blipFill>
        <p:spPr>
          <a:xfrm>
            <a:off x="4786200" y="2357280"/>
            <a:ext cx="34164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нтернет - э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14240" y="1356840"/>
            <a:ext cx="7072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ьютерная сеть, связывающая между собой пользователей индивидуальных компьютеров и других средств связи, которые могут подключится к интернету, для обмена информаци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2" descr="https://im0-tub-ru.yandex.net/i?id=3b634dd193b1c0ba7dc28dacc87836b7-l&amp;n=13"/>
          <p:cNvPicPr/>
          <p:nvPr/>
        </p:nvPicPr>
        <p:blipFill>
          <a:blip r:embed="rId1"/>
          <a:stretch/>
        </p:blipFill>
        <p:spPr>
          <a:xfrm>
            <a:off x="4357800" y="3000240"/>
            <a:ext cx="37195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озможности интернета для дет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85840" y="2428560"/>
            <a:ext cx="557208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-первых, большое количество информации обо всем на све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2" descr="https://im0-tub-ru.yandex.net/i?id=bf756b702c25fec253968820c9197064-l&amp;n=13"/>
          <p:cNvPicPr/>
          <p:nvPr/>
        </p:nvPicPr>
        <p:blipFill>
          <a:blip r:embed="rId1"/>
          <a:stretch/>
        </p:blipFill>
        <p:spPr>
          <a:xfrm>
            <a:off x="5715000" y="1500120"/>
            <a:ext cx="2909880" cy="299412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4"/>
          <p:cNvSpPr/>
          <p:nvPr/>
        </p:nvSpPr>
        <p:spPr>
          <a:xfrm>
            <a:off x="2500200" y="457200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-вторых, Интернет облегчает общение между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пасности которые поджидают детей в интерне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57120" y="1857240"/>
            <a:ext cx="492912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5440" indent="-23544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йты, содержащие нежелательную информац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5440" indent="-235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5440" indent="-235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Picture 2" descr="https://im0-tub-ru.yandex.net/i?id=7de0ff2bc83d1f673679fc1e35b54476-l&amp;n=13"/>
          <p:cNvPicPr/>
          <p:nvPr/>
        </p:nvPicPr>
        <p:blipFill>
          <a:blip r:embed="rId2"/>
          <a:stretch/>
        </p:blipFill>
        <p:spPr>
          <a:xfrm>
            <a:off x="5357880" y="1785960"/>
            <a:ext cx="3370320" cy="217944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4"/>
          <p:cNvSpPr/>
          <p:nvPr/>
        </p:nvSpPr>
        <p:spPr>
          <a:xfrm>
            <a:off x="5000760" y="48578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6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зартны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6" descr="https://www.colourbox.com/preview/6430495-3d-illustration-gambling-on-the-internet-play-online-laptop-casino-chips-and-cards.jpg"/>
          <p:cNvPicPr/>
          <p:nvPr/>
        </p:nvPicPr>
        <p:blipFill>
          <a:blip r:embed="rId4"/>
          <a:stretch/>
        </p:blipFill>
        <p:spPr>
          <a:xfrm>
            <a:off x="1785960" y="3929040"/>
            <a:ext cx="3190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пасности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которые поджидают детей в интерне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00040" y="1999800"/>
            <a:ext cx="51436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тернет-хулиган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Picture 2" descr="http://moziru.com/images/cyber-clipart-social-bullying-14.jpg"/>
          <p:cNvPicPr/>
          <p:nvPr/>
        </p:nvPicPr>
        <p:blipFill>
          <a:blip r:embed="rId2"/>
          <a:stretch/>
        </p:blipFill>
        <p:spPr>
          <a:xfrm>
            <a:off x="4572000" y="1714680"/>
            <a:ext cx="3722760" cy="2498400"/>
          </a:xfrm>
          <a:prstGeom prst="rect">
            <a:avLst/>
          </a:prstGeom>
          <a:ln w="0">
            <a:noFill/>
          </a:ln>
        </p:spPr>
      </p:pic>
      <p:sp>
        <p:nvSpPr>
          <p:cNvPr id="550" name="Прямоугольник 5"/>
          <p:cNvSpPr/>
          <p:nvPr/>
        </p:nvSpPr>
        <p:spPr>
          <a:xfrm>
            <a:off x="4786200" y="45720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6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нет-мошенни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http://mari112.ru/wp-content/uploads/2017/04/thief_coming_from_monitor_1600_wht_10122.png"/>
          <p:cNvPicPr/>
          <p:nvPr/>
        </p:nvPicPr>
        <p:blipFill>
          <a:blip r:embed="rId4"/>
          <a:stretch/>
        </p:blipFill>
        <p:spPr>
          <a:xfrm>
            <a:off x="2286000" y="4214880"/>
            <a:ext cx="22669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пасности которые поджидают детей в интерне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857160" y="1857240"/>
            <a:ext cx="43293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ру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Прямоугольник 5"/>
          <p:cNvSpPr/>
          <p:nvPr/>
        </p:nvSpPr>
        <p:spPr>
          <a:xfrm>
            <a:off x="5214960" y="48578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6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4" descr="http://3.bp.blogspot.com/-rU2VLXUE4Ro/UcYKxIwUSgI/AAAAAAAACV0/iIXVRvNDAFY/s1600/spam.jpg"/>
          <p:cNvPicPr/>
          <p:nvPr/>
        </p:nvPicPr>
        <p:blipFill>
          <a:blip r:embed="rId3"/>
          <a:stretch/>
        </p:blipFill>
        <p:spPr>
          <a:xfrm>
            <a:off x="2000160" y="3540240"/>
            <a:ext cx="3071880" cy="30319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" descr="https://ddr5.ru/wp-content/uploads/2017/01/e47b9303ca6ea0214480cc5febf634b061d078a4_original.jpg"/>
          <p:cNvPicPr/>
          <p:nvPr/>
        </p:nvPicPr>
        <p:blipFill>
          <a:blip r:embed="rId4"/>
          <a:stretch/>
        </p:blipFill>
        <p:spPr>
          <a:xfrm>
            <a:off x="5000760" y="1643040"/>
            <a:ext cx="37144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SzPct val="102909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акты с незнакомыми людь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2" descr="https://im0-tub-ru.yandex.net/i?id=59f88b2b4ffc82df46280df33ec485f0&amp;n=13"/>
          <p:cNvPicPr/>
          <p:nvPr/>
        </p:nvPicPr>
        <p:blipFill>
          <a:blip r:embed="rId2"/>
          <a:srcRect l="0" t="0" r="0" b="7819"/>
          <a:stretch/>
        </p:blipFill>
        <p:spPr>
          <a:xfrm>
            <a:off x="2286000" y="1643040"/>
            <a:ext cx="60721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авила безопасности в интерне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643120" y="1599840"/>
            <a:ext cx="6043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1. Никогда не сообщать свое настоящее имя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2. Никогда не сообщать свой адрес, школу, класс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3. Никогда не давать номер своего домашнего телефона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4. Никогда не давать номер своего мобильного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5. Никогда не давать номера телефонов родителей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6. Никогда не соглашаться встретиться с незнакомым собеседником, «другом» из сети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7. Никогда и никому не пересылать фотографии своих родителей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8. Не отправлять sms на незнакомые номера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9. Не переходить на сайты, которые рекомендуют незнакомцы в электронных письма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Picture 2" descr="https://ds33himki.edumsko.ru/uploads/3000/2968/section/367586/868511_cartoon-deti-komp_yuter-vektora-devushki-lice.jpg?1484854864053"/>
          <p:cNvPicPr/>
          <p:nvPr/>
        </p:nvPicPr>
        <p:blipFill>
          <a:blip r:embed="rId1"/>
          <a:stretch/>
        </p:blipFill>
        <p:spPr>
          <a:xfrm>
            <a:off x="285840" y="1428840"/>
            <a:ext cx="2571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11:01:34Z</dcterms:created>
  <dc:creator>Саня</dc:creator>
  <dc:description/>
  <dc:language>en-US</dc:language>
  <cp:lastModifiedBy>User</cp:lastModifiedBy>
  <dcterms:modified xsi:type="dcterms:W3CDTF">2018-03-17T16:28:00Z</dcterms:modified>
  <cp:revision>31</cp:revision>
  <dc:subject/>
  <dc:title>Слайд 1</dc:title>
</cp:coreProperties>
</file>