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F78-F39F-4705-A614-E7D722DB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4708-B426-493E-A504-060950AE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0975-341F-48A3-A61B-4C095C9ED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050-776D-42C7-8BF4-41B82D823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89C7-FC58-4F3C-808B-D5CC0361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6B97-D8DB-43D0-AAE7-9907613A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824BB-95E0-4233-9C5B-FE9586D8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10CC-5203-43D3-9D60-13A9C828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9342-7DA0-445A-B7C8-3E79589B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62258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857C-0FF6-4AD6-ABF3-C600AC463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77F0-1F33-4C4E-9E9B-8062A82A1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61C7-99DD-4E93-81CC-2A99F98A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2661A-355C-409E-895B-E4F603D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FE70-DEA7-42B9-84C3-E89E9368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A066E-AC95-4414-BDBE-839BBD417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BAB2-BF08-408A-A8BF-FF0B50A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92E05-B301-4975-AB5E-E9530695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EB26-B363-4318-AE05-A36E24A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CC1C-D7F0-4A21-9C38-6DEA4E64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8C5-6BFA-4F6E-9399-D3E10A86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62258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8DC-B4A5-4F87-918A-46A6867C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04B5-D37D-4051-B1D0-C62E7C19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4F7F-42AB-43C4-83CC-A3D01A7F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DD48-241A-4511-9363-B28288C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E3AF8-8FCF-4570-BE9B-5D214996CCB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375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5375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53751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BFE41-A158-4DA8-A3A6-441DBFB90C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000" y="1511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6000" y="360000"/>
            <a:ext cx="90709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Коррекционная работа с детьми, имеющими третий уровень речевого развит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лешкина М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440" y="73080"/>
            <a:ext cx="992520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Развитие фонетико-фонематических процессов на основе звукового и слогового анализа и син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ие заданного звука из ряда звуков, слога с заданным       звуком из ряда других с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ет повторяющихся звуков в сло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есение количества слогов с количеством гласных звуков, подсчет и отхлопывание слогов в сло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нение недостающих слогов в сло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ация звуков и слогов при восполнении состав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920" y="144360"/>
            <a:ext cx="9847080" cy="73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Развитие тонкой моторики р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овая гимнастика, самостоятельный массаж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 со вкладышами, конструкторы, нанизывание предметов, шнуровки и проч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едение рисунков по контуру, дорисовка деталей рисунков, проведение прямых и извилистых линий для соединения объектов, прорисовка «ходов» в лабиринте, штриховка и закрашивание крупных и мелких деталей рису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ка и печатание букв в про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360" y="112680"/>
            <a:ext cx="9791640" cy="73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400" y="-117360"/>
            <a:ext cx="9936000" cy="82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В итоге логопедической работы дети должны на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етически правильно оформлять звуковую сторону речи; правильно передавать слоговую структуру слов, используемых в самостоятельн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в самостоятельной речи простыми распространенными и сложными предложениями, владеть навыками объединения их в расск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 навыками словообразования: продуцировать названия существительных от глаголов, прилагательных от существительных и глаголов, уменьшительно-ласкательных и увеличенных форм существительных и проч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чески правильно оформлять самостоятельную речь в соответствии с нормами языка. Падежные, родовидовые окончания слов должны проговариваться четко; простые и почти все сложные предлоги употребляться адеква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 элементами грамоты: навыками чтения и печатания некоторых букв, слогов, слов и коротких предложений в пределах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80" y="71280"/>
            <a:ext cx="9864720" cy="80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кова, Е.А. Дошкольный логопедический пункт: планирование работы логопеда и воспитателей / Е.А. Сенкова // Логопед — 2007. - № 6. - с. 66-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чарова, В.А. Логопедическая работа по коррекции нарушений лексикона у детей с общим недоразвитием речи / В.А. Гончарова // Логопед в детском саду — 2008. - № 2. - с.25 - 2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ичева, Т.Б. Основы дошкольной логопедии / Т.Б. Филичева, О.О. Орлова, Т.В. Туманова. - М.: ЭКСМО, 2015. - 32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ница, Т.В. Логопедия в таблицах, схемах, цифрах / Т.В. Пятница.- Изд. 6-е — Ростов н/Д: Феникс, 2015.- 173 ,[1] с.: ил. - (Библиотека логопе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фименкова, Л.Н. Формирование речи у дошкольников: (Дети с общим недоразвитием речи). Кн. для логопеда. - 2-е изд., перераб. - М.: Просвещение, 1985. - 112с.,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кова, Л.С. Логопедия. Методическое наследие: Пособие для логопедов и студ. дефектол. фак. пед. вузов / под ред. Л.С. Волковой: В 5 кн. - М.: Гуманит. изд. центр ВЛАДОС, 2003. - Кн. V: Фонетико-фонематическое и общее недоразвитие речи: Нарушения речи у детей с сенсорной и интеллектуальной недостаточностью. - 480с. - (Библиотека учителя-дефектоло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t">
            <a:normAutofit fontScale="97000"/>
          </a:bodyPr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5e11a6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5e11a6"/>
                </a:solidFill>
                <a:latin typeface="Arial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5e11a6"/>
                </a:solidFill>
                <a:latin typeface="Arial"/>
              </a:rPr>
              <a:t>внимани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5e11a6"/>
                </a:solidFill>
                <a:latin typeface="Arial"/>
                <a:ea typeface="Microsoft YaHei"/>
              </a:rPr>
              <a:t>Третий уровень общего недоразвития речи (ОНР </a:t>
            </a:r>
            <a:r>
              <a:rPr b="1" i="1" lang="en-US" sz="4400" spc="-1" strike="noStrike">
                <a:solidFill>
                  <a:srgbClr val="5e11a6"/>
                </a:solidFill>
                <a:latin typeface="Arial"/>
                <a:ea typeface="Microsoft YaHei"/>
              </a:rPr>
              <a:t>III</a:t>
            </a:r>
            <a:r>
              <a:rPr b="1" i="1" lang="ru-RU" sz="4400" spc="-1" strike="noStrike">
                <a:solidFill>
                  <a:srgbClr val="5e11a6"/>
                </a:solidFill>
                <a:latin typeface="Arial"/>
                <a:ea typeface="Microsoft YaHei"/>
              </a:rPr>
              <a:t>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0360" y="1944720"/>
            <a:ext cx="9360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ивная реч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ется наличием развернутой фразовой речи с элементами лексико-фонематического недоразвития. Наблюдается неточное употребление многих лексических значений («кружка» - «чашка», «стакан», «кружка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я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ые навыки слов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стол» - «столик»); но дети не могут производить прилагательные от существительных («сок из яблок» - «яблочный сок»); затрудняются образовывать глаголы приставочным способом («красил» - «покрасил», «выкрасил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ки произношения выражаются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мешении, замене и искажении зву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чем замены могут быть нестой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10116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5e11a6"/>
                </a:solidFill>
                <a:latin typeface="Arial"/>
                <a:ea typeface="Arial Unicode MS"/>
              </a:rPr>
              <a:t>Цель коррекционной рабо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448000"/>
            <a:ext cx="9575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системы средств и условий для устранения речевых недостатков у детей с III уровнем речев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своевременного и полноценного личност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возможных трудностей в усвоении программы массовой школы, обусловленных недоразвитием речевой системы старших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24000" y="2232000"/>
            <a:ext cx="42843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8000"/>
          </a:bodyPr>
          <a:p>
            <a:pPr marL="3358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  <a:ea typeface="Arial Unicode MS"/>
              </a:rPr>
              <a:t>Основные задачи коррек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420000">
            <a:off x="2477880" y="1943280"/>
            <a:ext cx="5508360" cy="2995560"/>
          </a:xfrm>
          <a:custGeom>
            <a:avLst/>
            <a:gdLst>
              <a:gd name="textAreaLeft" fmla="*/ 765000 w 5508360"/>
              <a:gd name="textAreaRight" fmla="*/ 4363560 w 5508360"/>
              <a:gd name="textAreaTop" fmla="*/ 460440 h 2995560"/>
              <a:gd name="textAreaBottom" fmla="*/ 2403360 h 299556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f5">
              <a:alpha val="5000"/>
            </a:srgbClr>
          </a:solidFill>
          <a:ln w="36000">
            <a:solidFill>
              <a:srgbClr val="808080"/>
            </a:solidFill>
            <a:round/>
          </a:ln>
          <a:effectLst>
            <a:outerShdw dist="0" dir="0" blurRad="0" rotWithShape="0">
              <a:srgbClr val="80808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360" y="457200"/>
            <a:ext cx="51199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дефектов звукопроизношения и развитие фонематического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92360"/>
            <a:ext cx="234792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навыков звуков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4807080"/>
            <a:ext cx="38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, расширение и обогащение лексического зап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00640" y="531720"/>
            <a:ext cx="27687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грамматического строя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99360" y="2430360"/>
            <a:ext cx="1663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75280" y="4784760"/>
            <a:ext cx="391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коммуникативности, успешность в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57960" y="1652760"/>
            <a:ext cx="677880" cy="653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625480" y="1582560"/>
            <a:ext cx="687240" cy="65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78200" y="3419640"/>
            <a:ext cx="7236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38200" y="4176720"/>
            <a:ext cx="79524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1280" y="4248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812000" y="3238560"/>
            <a:ext cx="720720" cy="147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24360" y="2879640"/>
            <a:ext cx="35636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Основные направления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55920" y="2170080"/>
            <a:ext cx="4600440" cy="3193920"/>
          </a:xfrm>
          <a:prstGeom prst="diamond">
            <a:avLst/>
          </a:prstGeom>
          <a:solidFill>
            <a:srgbClr val="cfe7f5">
              <a:alpha val="10000"/>
            </a:srgbClr>
          </a:solidFill>
          <a:ln w="72000">
            <a:solidFill>
              <a:srgbClr val="333333"/>
            </a:solidFill>
            <a:round/>
          </a:ln>
          <a:effectLst>
            <a:outerShdw dist="0" dir="0" blurRad="0" rotWithShape="0">
              <a:srgbClr val="80808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2840" y="290520"/>
            <a:ext cx="443376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альнейшее совершенствование связной речи, практическое усвоение лексических и грамматических средств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4360" y="312840"/>
            <a:ext cx="568800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формирование правильного произношения: воспитание артикуляционных навыков, фонетической стороны речи, слоговой структуры и фонематического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" y="5040360"/>
            <a:ext cx="3895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элементарных навыков звукового анализа и 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6480" y="5111640"/>
            <a:ext cx="406224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дготовка к обучению грамоте и овладение элементами грам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3800000">
            <a:off x="2450520" y="2509200"/>
            <a:ext cx="868680" cy="880920"/>
          </a:xfrm>
          <a:custGeom>
            <a:avLst/>
            <a:gdLst>
              <a:gd name="textAreaLeft" fmla="*/ 73800 w 868680"/>
              <a:gd name="textAreaRight" fmla="*/ 794880 w 868680"/>
              <a:gd name="textAreaTop" fmla="*/ 289440 h 880920"/>
              <a:gd name="textAreaBottom" fmla="*/ 591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500000">
            <a:off x="2376360" y="4093920"/>
            <a:ext cx="868320" cy="880920"/>
          </a:xfrm>
          <a:custGeom>
            <a:avLst/>
            <a:gdLst>
              <a:gd name="textAreaLeft" fmla="*/ 73800 w 868320"/>
              <a:gd name="textAreaRight" fmla="*/ 794520 w 868320"/>
              <a:gd name="textAreaTop" fmla="*/ 289440 h 880920"/>
              <a:gd name="textAreaBottom" fmla="*/ 591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420000">
            <a:off x="6153120" y="2476440"/>
            <a:ext cx="868320" cy="881280"/>
          </a:xfrm>
          <a:custGeom>
            <a:avLst/>
            <a:gdLst>
              <a:gd name="textAreaLeft" fmla="*/ 73800 w 868320"/>
              <a:gd name="textAreaRight" fmla="*/ 794520 w 868320"/>
              <a:gd name="textAreaTop" fmla="*/ 289440 h 881280"/>
              <a:gd name="textAreaBottom" fmla="*/ 5918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3060000">
            <a:off x="6231600" y="4091040"/>
            <a:ext cx="868680" cy="880920"/>
          </a:xfrm>
          <a:custGeom>
            <a:avLst/>
            <a:gdLst>
              <a:gd name="textAreaLeft" fmla="*/ 73800 w 868680"/>
              <a:gd name="textAreaRight" fmla="*/ 794880 w 868680"/>
              <a:gd name="textAreaTop" fmla="*/ 289440 h 880920"/>
              <a:gd name="textAreaBottom" fmla="*/ 591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44360" y="144360"/>
            <a:ext cx="10080360" cy="74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Совершенствование связной речи (диалогической и монологическо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ернутые ответы на вопросы взрослого, участие в беседах, формулирование вопросов в контексте бытовых и игровых ситуаций, бесед, обсу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казы о себе, каком-либо предмете, явлении, живот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остоятельные рассказы и пересказы по опорным картинкам, по серии картин, по схеме или сюжетной кар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720" y="587520"/>
            <a:ext cx="9576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Практическое усвоение лексических средств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беседы, с целью расширения объема            словаря (лексические темы: «одежда», «продукты               питания», «домашние и дикие животные», «части                  тела», «времена года»,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яснение ребенком значения слов и их применение в контексте предложения, загадки или стихотво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слов (или картинок) по тематическим          групп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ловосочетаний, предложений и рассказов по опорным словам или картин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000" y="576360"/>
            <a:ext cx="9504360" cy="1368360"/>
          </a:xfrm>
          <a:prstGeom prst="rect">
            <a:avLst/>
          </a:prstGeom>
          <a:noFill/>
          <a:ln w="72000">
            <a:solidFill>
              <a:srgbClr val="000000"/>
            </a:solidFill>
            <a:round/>
          </a:ln>
          <a:effectLst>
            <a:outerShdw dist="0" dir="0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640" y="1979640"/>
            <a:ext cx="1800" cy="439272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284720"/>
            <a:ext cx="576360" cy="14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310360"/>
            <a:ext cx="576360" cy="14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1640" y="2879640"/>
            <a:ext cx="576360" cy="180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6335640"/>
            <a:ext cx="576360" cy="180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216000"/>
            <a:ext cx="957600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Совершенствование грамматического строя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актических навыков словоизменения и словообразования (игры на словоизменение приставочным и суффиксальным способом; игры на изменение существительных и прилагательных по родам, числам и падежам; образование субстантивированных прилагательных; изменение глаголов по временам и лица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е простых и сложных пред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предлогов в ответах на вопросы взрослого по картинкам или в контексте игров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ловосочетаний и предложений с заданными предл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ание слов в словосочета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и распространени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00" y="144360"/>
            <a:ext cx="992664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Формирование правильного произ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языка, выполняемый взросл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артикуляционны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тельные упражнения, направленные на усиление и                     удлинение воздушной стру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и воспроизведение правильных способов                           произношения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9T18:52:04Z</dcterms:created>
  <dc:creator/>
  <dc:description/>
  <dc:language>en-US</dc:language>
  <cp:lastModifiedBy/>
  <dcterms:modified xsi:type="dcterms:W3CDTF">2016-10-05T12:03:06Z</dcterms:modified>
  <cp:revision>21</cp:revision>
  <dc:subject/>
  <dc:title/>
</cp:coreProperties>
</file>