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E34F-48A5-4499-829D-4B911D4E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8160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59E9-A0FA-4F12-979B-2B8EC6408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81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81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CC2E-2413-48C7-9C96-C2C91CE5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7920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816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816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816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5B49-D67E-40C9-9AFB-4F6DE7BA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A1B7-620C-4F4A-909E-1C6792A9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79200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C4C3C-4B9B-49A8-9921-019A9432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6A50D-15D4-4D83-807B-50045815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79200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83AB-B386-4B3E-8592-DF8E5FD3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724AE-AB85-45F2-AA42-D08C87E8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2920" y="62258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A7BBA-A58E-46A9-AAC0-A48643568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79200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3081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370A8-C168-49D0-80ED-50ADEDA65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79200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CAF3-A593-46CC-A586-E5E486C3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3081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53955-EABC-4C21-B016-828DFDA5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308160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B94A-ADE4-4E21-84C6-E89C41EBF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308160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9E15-9990-48B3-8A3B-C086405F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3081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3081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6B58-857F-4669-8138-A067D723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7920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7920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30816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30816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308160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B4E1-55D4-4214-8667-546FC68A9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4014-8D79-4843-8E65-7D4224F0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79200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CCED-22BE-4EF1-B9A8-A57BF9867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0A21-F6D6-4F3C-B8DA-384EEA7B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622584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3BC9-6595-49A3-8D88-B07BD0E3F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79200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81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BA32-B703-441E-BD91-52023D74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816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E59E-6E5E-4F86-8753-3B17B7D9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79200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8160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5D4F-7DFE-40B2-92E2-C1DD9DE8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678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FB30E5-EA8E-4C20-9224-682D709F8B3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622584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79200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53751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537516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53751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5B523B-157C-4DE8-81B3-A647AD9D2C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6000" y="15112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6000" y="360000"/>
            <a:ext cx="907092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58320" bIns="0" anchor="t">
            <a:normAutofit/>
          </a:bodyPr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600" spc="-1" strike="noStrike">
                <a:solidFill>
                  <a:srgbClr val="ff0000"/>
                </a:solidFill>
                <a:latin typeface="Arial"/>
              </a:rPr>
              <a:t>Коррекционная работа с детьми, имеющими третий уровень речевого развити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одготовила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31640" indent="0" algn="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Мелешкина М.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440" y="73080"/>
            <a:ext cx="9925200" cy="74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e11a6"/>
                </a:solidFill>
                <a:latin typeface="Arial"/>
              </a:rPr>
              <a:t>Развитие фонетико-фонематических процессов на основе звукового и слогового анализа и синте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ление заданного звука из ряда звуков, слога с заданным       звуком из ряда других слог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счет повторяющихся звуков в слов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отнесение количества слогов с количеством гласных звуков, подсчет и отхлопывание слогов в слов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сполнение недостающих слогов в слов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фференциация звуков и слогов при восполнении состава с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8920" y="144360"/>
            <a:ext cx="9847080" cy="734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e11a6"/>
                </a:solidFill>
                <a:latin typeface="Arial"/>
              </a:rPr>
              <a:t>Развитие тонкой моторики р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льчиковая гимнастика, самостоятельный массаж ру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ы со вкладышами, конструкторы, нанизывание предметов, шнуровки и проч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ведение рисунков по контуру, дорисовка деталей рисунков, проведение прямых и извилистых линий для соединения объектов, прорисовка «ходов» в лабиринте, штриховка и закрашивание крупных и мелких деталей рису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водка и печатание букв в пропи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360" y="112680"/>
            <a:ext cx="9791640" cy="73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5400" y="-117360"/>
            <a:ext cx="9936000" cy="82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5e11a6"/>
                </a:solidFill>
                <a:latin typeface="Arial"/>
              </a:rPr>
              <a:t>В итоге логопедической работы дети должны научить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нетически правильно оформлять звуковую сторону речи; правильно передавать слоговую структуру слов, используемых в самостоятельной реч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ься в самостоятельной речи простыми распространенными и сложными предложениями, владеть навыками объединения их в расска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еть навыками словообразования: продуцировать названия существительных от глаголов, прилагательных от существительных и глаголов, уменьшительно-ласкательных и увеличенных форм существительных и проч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чески правильно оформлять самостоятельную речь в соответствии с нормами языка. Падежные, родовидовые окончания слов должны проговариваться четко; простые и почти все сложные предлоги употребляться адекватн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деть элементами грамоты: навыками чтения и печатания некоторых букв, слогов, слов и коротких предложений в пределах програм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280" y="71280"/>
            <a:ext cx="9864720" cy="80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5e11a6"/>
                </a:solidFill>
                <a:latin typeface="Arial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нкова, Е.А. Дошкольный логопедический пункт: планирование работы логопеда и воспитателей / Е.А. Сенкова // Логопед — 2007. - № 6. - с. 66-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нчарова, В.А. Логопедическая работа по коррекции нарушений лексикона у детей с общим недоразвитием речи / В.А. Гончарова // Логопед в детском саду — 2008. - № 2. - с.25 - 2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личева, Т.Б. Основы дошкольной логопедии / Т.Б. Филичева, О.О. Орлова, Т.В. Туманова. - М.: ЭКСМО, 2015. - 320 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ница, Т.В. Логопедия в таблицах, схемах, цифрах / Т.В. Пятница.- Изд. 6-е — Ростов н/Д: Феникс, 2015.- 173 ,[1] с.: ил. - (Библиотека логопед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фименкова, Л.Н. Формирование речи у дошкольников: (Дети с общим недоразвитием речи). Кн. для логопеда. - 2-е изд., перераб. - М.: Просвещение, 1985. - 112с., 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кова, Л.С. Логопедия. Методическое наследие: Пособие для логопедов и студ. дефектол. фак. пед. вузов / под ред. Л.С. Волковой: В 5 кн. - М.: Гуманит. изд. центр ВЛАДОС, 2003. - Кн. V: Фонетико-фонематическое и общее недоразвитие речи: Нарушения речи у детей с сенсорной и интеллектуальной недостаточностью. - 480с. - (Библиотека учителя-дефектолог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5081760"/>
          </a:xfrm>
          <a:prstGeom prst="rect">
            <a:avLst/>
          </a:prstGeom>
          <a:noFill/>
          <a:ln w="0">
            <a:noFill/>
          </a:ln>
        </p:spPr>
        <p:txBody>
          <a:bodyPr lIns="0" rIns="0" tIns="70560" bIns="0" anchor="t">
            <a:normAutofit fontScale="97000"/>
          </a:bodyPr>
          <a:p>
            <a:pPr marL="4186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4186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5e11a6"/>
                </a:solidFill>
                <a:latin typeface="Arial"/>
              </a:rPr>
              <a:t>Спасибо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4186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5e11a6"/>
                </a:solidFill>
                <a:latin typeface="Arial"/>
              </a:rPr>
              <a:t>за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4186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8000" spc="-1" strike="noStrike">
                <a:solidFill>
                  <a:srgbClr val="5e11a6"/>
                </a:solidFill>
                <a:latin typeface="Arial"/>
              </a:rPr>
              <a:t>внимание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5e11a6"/>
                </a:solidFill>
                <a:latin typeface="Arial"/>
                <a:ea typeface="Microsoft YaHei"/>
              </a:rPr>
              <a:t>Третий уровень общего недоразвития речи (ОНР </a:t>
            </a:r>
            <a:r>
              <a:rPr b="1" i="1" lang="en-US" sz="4400" spc="-1" strike="noStrike">
                <a:solidFill>
                  <a:srgbClr val="5e11a6"/>
                </a:solidFill>
                <a:latin typeface="Arial"/>
                <a:ea typeface="Microsoft YaHei"/>
              </a:rPr>
              <a:t>III</a:t>
            </a:r>
            <a:r>
              <a:rPr b="1" i="1" lang="ru-RU" sz="4400" spc="-1" strike="noStrike">
                <a:solidFill>
                  <a:srgbClr val="5e11a6"/>
                </a:solidFill>
                <a:latin typeface="Arial"/>
                <a:ea typeface="Microsoft YaHei"/>
              </a:rPr>
              <a:t>)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60360" y="1944720"/>
            <a:ext cx="9360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активная реч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изуется наличием развернутой фразовой речи с элементами лексико-фонематического недоразвития. Наблюдается неточное употребление многих лексических значений («кружка» - «чашка», «стакан», «кружка»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являю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ервые навыки словообраз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«стол» - «столик»); но дети не могут производить прилагательные от существительных («сок из яблок» - «яблочный сок»); затрудняются образовывать глаголы приставочным способом («красил» - «покрасил», «выкрасил»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достатки произношения выражаются в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мешении, замене и искажении звуков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ичем замены могут быть нестойки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101160"/>
            <a:ext cx="907092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5e11a6"/>
                </a:solidFill>
                <a:latin typeface="Arial"/>
                <a:ea typeface="Arial Unicode MS"/>
              </a:rPr>
              <a:t>Цель коррекционной работы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2448000"/>
            <a:ext cx="957564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ение системы средств и условий для устранения речевых недостатков у детей с III уровнем речевого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своевременного и полноценного личностного разви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упреждение возможных трудностей в усвоении программы массовой школы, обусловленных недоразвитием речевой системы старших дошколь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24000" y="2232000"/>
            <a:ext cx="4284360" cy="22687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t">
            <a:normAutofit fontScale="98000"/>
          </a:bodyPr>
          <a:p>
            <a:pPr marL="3358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5e11a6"/>
                </a:solidFill>
                <a:latin typeface="Arial"/>
                <a:ea typeface="Arial Unicode MS"/>
              </a:rPr>
              <a:t>Основные задачи коррекционного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420000">
            <a:off x="2477880" y="1943280"/>
            <a:ext cx="5508360" cy="2995560"/>
          </a:xfrm>
          <a:custGeom>
            <a:avLst/>
            <a:gdLst>
              <a:gd name="textAreaLeft" fmla="*/ 765000 w 5508360"/>
              <a:gd name="textAreaRight" fmla="*/ 4363560 w 5508360"/>
              <a:gd name="textAreaTop" fmla="*/ 460440 h 2995560"/>
              <a:gd name="textAreaBottom" fmla="*/ 2403360 h 2995560"/>
            </a:gdLst>
            <a:ahLst/>
            <a:rect l="textAreaLeft" t="textAreaTop" r="textAreaRight" b="textAreaBottom"/>
            <a:pathLst>
              <a:path w="21600" h="21600">
                <a:moveTo>
                  <a:pt x="1930" y="7160"/>
                </a:moveTo>
                <a:cubicBezTo>
                  <a:pt x="1530" y="4490"/>
                  <a:pt x="3400" y="1970"/>
                  <a:pt x="5270" y="1970"/>
                </a:cubicBezTo>
                <a:cubicBezTo>
                  <a:pt x="5860" y="1950"/>
                  <a:pt x="6470" y="2210"/>
                  <a:pt x="6970" y="2600"/>
                </a:cubicBezTo>
                <a:cubicBezTo>
                  <a:pt x="7450" y="1390"/>
                  <a:pt x="8340" y="650"/>
                  <a:pt x="9340" y="650"/>
                </a:cubicBezTo>
                <a:cubicBezTo>
                  <a:pt x="10004" y="690"/>
                  <a:pt x="10710" y="1050"/>
                  <a:pt x="11210" y="1700"/>
                </a:cubicBezTo>
                <a:cubicBezTo>
                  <a:pt x="11570" y="630"/>
                  <a:pt x="12330" y="0"/>
                  <a:pt x="13150" y="0"/>
                </a:cubicBezTo>
                <a:cubicBezTo>
                  <a:pt x="13840" y="0"/>
                  <a:pt x="14470" y="460"/>
                  <a:pt x="14870" y="1160"/>
                </a:cubicBezTo>
                <a:cubicBezTo>
                  <a:pt x="15330" y="440"/>
                  <a:pt x="16020" y="0"/>
                  <a:pt x="16740" y="0"/>
                </a:cubicBezTo>
                <a:cubicBezTo>
                  <a:pt x="17910" y="0"/>
                  <a:pt x="18900" y="1130"/>
                  <a:pt x="19110" y="2710"/>
                </a:cubicBezTo>
                <a:cubicBezTo>
                  <a:pt x="20240" y="3150"/>
                  <a:pt x="21060" y="4580"/>
                  <a:pt x="21060" y="6220"/>
                </a:cubicBezTo>
                <a:cubicBezTo>
                  <a:pt x="21060" y="6720"/>
                  <a:pt x="21000" y="7200"/>
                  <a:pt x="20830" y="7660"/>
                </a:cubicBezTo>
                <a:cubicBezTo>
                  <a:pt x="21310" y="8460"/>
                  <a:pt x="21600" y="9450"/>
                  <a:pt x="21600" y="10460"/>
                </a:cubicBezTo>
                <a:cubicBezTo>
                  <a:pt x="21600" y="12750"/>
                  <a:pt x="20310" y="14680"/>
                  <a:pt x="18650" y="15010"/>
                </a:cubicBezTo>
                <a:cubicBezTo>
                  <a:pt x="18650" y="17200"/>
                  <a:pt x="17370" y="18920"/>
                  <a:pt x="15770" y="18920"/>
                </a:cubicBezTo>
                <a:cubicBezTo>
                  <a:pt x="15220" y="18920"/>
                  <a:pt x="14700" y="18710"/>
                  <a:pt x="14240" y="18310"/>
                </a:cubicBezTo>
                <a:cubicBezTo>
                  <a:pt x="13820" y="20240"/>
                  <a:pt x="12490" y="21600"/>
                  <a:pt x="11000" y="21600"/>
                </a:cubicBezTo>
                <a:cubicBezTo>
                  <a:pt x="9890" y="21600"/>
                  <a:pt x="8840" y="20790"/>
                  <a:pt x="8210" y="19510"/>
                </a:cubicBezTo>
                <a:cubicBezTo>
                  <a:pt x="7620" y="20000"/>
                  <a:pt x="7930" y="20290"/>
                  <a:pt x="6240" y="20290"/>
                </a:cubicBezTo>
                <a:cubicBezTo>
                  <a:pt x="4850" y="20290"/>
                  <a:pt x="3570" y="19280"/>
                  <a:pt x="2900" y="17640"/>
                </a:cubicBezTo>
                <a:cubicBezTo>
                  <a:pt x="1300" y="17600"/>
                  <a:pt x="480" y="16300"/>
                  <a:pt x="480" y="14660"/>
                </a:cubicBezTo>
                <a:cubicBezTo>
                  <a:pt x="480" y="13900"/>
                  <a:pt x="690" y="13210"/>
                  <a:pt x="1070" y="12640"/>
                </a:cubicBezTo>
                <a:cubicBezTo>
                  <a:pt x="380" y="12160"/>
                  <a:pt x="0" y="11210"/>
                  <a:pt x="0" y="10120"/>
                </a:cubicBezTo>
                <a:cubicBezTo>
                  <a:pt x="0" y="8590"/>
                  <a:pt x="840" y="7330"/>
                  <a:pt x="1930" y="7160"/>
                </a:cubicBezTo>
                <a:close/>
              </a:path>
              <a:path fill="none" w="21600" h="21600">
                <a:moveTo>
                  <a:pt x="1930" y="7160"/>
                </a:moveTo>
                <a:cubicBezTo>
                  <a:pt x="1950" y="7410"/>
                  <a:pt x="2040" y="7690"/>
                  <a:pt x="2090" y="7920"/>
                </a:cubicBezTo>
              </a:path>
              <a:path fill="none" w="21600" h="21600">
                <a:moveTo>
                  <a:pt x="6970" y="2600"/>
                </a:moveTo>
                <a:cubicBezTo>
                  <a:pt x="7200" y="2790"/>
                  <a:pt x="7480" y="3050"/>
                  <a:pt x="7670" y="3310"/>
                </a:cubicBezTo>
              </a:path>
              <a:path fill="none" w="21600" h="21600">
                <a:moveTo>
                  <a:pt x="11210" y="1700"/>
                </a:moveTo>
                <a:cubicBezTo>
                  <a:pt x="11130" y="1910"/>
                  <a:pt x="11080" y="2160"/>
                  <a:pt x="11030" y="2400"/>
                </a:cubicBezTo>
              </a:path>
              <a:path fill="none" w="21600" h="21600">
                <a:moveTo>
                  <a:pt x="14870" y="1160"/>
                </a:moveTo>
                <a:cubicBezTo>
                  <a:pt x="14720" y="1400"/>
                  <a:pt x="14640" y="1720"/>
                  <a:pt x="14540" y="2010"/>
                </a:cubicBezTo>
              </a:path>
              <a:path fill="none" w="21600" h="21600">
                <a:moveTo>
                  <a:pt x="19110" y="2710"/>
                </a:moveTo>
                <a:cubicBezTo>
                  <a:pt x="19130" y="2890"/>
                  <a:pt x="19230" y="3290"/>
                  <a:pt x="19190" y="3380"/>
                </a:cubicBezTo>
              </a:path>
              <a:path fill="none" w="21600" h="21600">
                <a:moveTo>
                  <a:pt x="20830" y="7660"/>
                </a:moveTo>
                <a:cubicBezTo>
                  <a:pt x="20660" y="8170"/>
                  <a:pt x="20430" y="8620"/>
                  <a:pt x="20110" y="8990"/>
                </a:cubicBezTo>
              </a:path>
              <a:path fill="none" w="21600" h="21600">
                <a:moveTo>
                  <a:pt x="18660" y="15010"/>
                </a:moveTo>
                <a:cubicBezTo>
                  <a:pt x="18740" y="14200"/>
                  <a:pt x="18280" y="12200"/>
                  <a:pt x="17000" y="11450"/>
                </a:cubicBezTo>
              </a:path>
              <a:path fill="none" w="21600" h="21600">
                <a:moveTo>
                  <a:pt x="14240" y="18310"/>
                </a:moveTo>
                <a:cubicBezTo>
                  <a:pt x="14320" y="17980"/>
                  <a:pt x="14350" y="17680"/>
                  <a:pt x="14370" y="17360"/>
                </a:cubicBezTo>
              </a:path>
              <a:path fill="none" w="21600" h="21600">
                <a:moveTo>
                  <a:pt x="8220" y="19510"/>
                </a:moveTo>
                <a:cubicBezTo>
                  <a:pt x="8060" y="19250"/>
                  <a:pt x="7960" y="18950"/>
                  <a:pt x="7860" y="18640"/>
                </a:cubicBezTo>
              </a:path>
              <a:path fill="none" w="21600" h="21600">
                <a:moveTo>
                  <a:pt x="2900" y="17640"/>
                </a:moveTo>
                <a:cubicBezTo>
                  <a:pt x="3090" y="17600"/>
                  <a:pt x="3280" y="17540"/>
                  <a:pt x="3460" y="17450"/>
                </a:cubicBezTo>
              </a:path>
              <a:path fill="none" w="21600" h="21600">
                <a:moveTo>
                  <a:pt x="1070" y="12640"/>
                </a:moveTo>
                <a:cubicBezTo>
                  <a:pt x="1400" y="12900"/>
                  <a:pt x="1780" y="13130"/>
                  <a:pt x="2330" y="13040"/>
                </a:cubicBezTo>
              </a:path>
            </a:pathLst>
          </a:custGeom>
          <a:solidFill>
            <a:srgbClr val="cfe7f5">
              <a:alpha val="5000"/>
            </a:srgbClr>
          </a:solidFill>
          <a:ln w="36000">
            <a:solidFill>
              <a:srgbClr val="808080"/>
            </a:solidFill>
            <a:round/>
          </a:ln>
          <a:effectLst>
            <a:outerShdw dist="0" dir="0" blurRad="0" rotWithShape="0">
              <a:srgbClr val="808080">
                <a:alpha val="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44360" y="457200"/>
            <a:ext cx="511992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анение дефектов звукопроизношения и развитие фонематического слух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2592360"/>
            <a:ext cx="2347920" cy="19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навыков звукового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0720" y="4807080"/>
            <a:ext cx="3887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очнение, расширение и обогащение лексического запа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200640" y="531720"/>
            <a:ext cx="27687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грамматического строя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199360" y="2430360"/>
            <a:ext cx="16639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связной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75280" y="4784760"/>
            <a:ext cx="3913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тие коммуникативности, успешность в общ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357960" y="1652760"/>
            <a:ext cx="677880" cy="653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2625480" y="1582560"/>
            <a:ext cx="687240" cy="6508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978200" y="3419640"/>
            <a:ext cx="72360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338200" y="4176720"/>
            <a:ext cx="795240" cy="647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91280" y="424800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812000" y="3238560"/>
            <a:ext cx="720720" cy="147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600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024360" y="2879640"/>
            <a:ext cx="356364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5e11a6"/>
                </a:solidFill>
                <a:latin typeface="Arial"/>
              </a:rPr>
              <a:t>Основные направления работ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55920" y="2170080"/>
            <a:ext cx="4600440" cy="3193920"/>
          </a:xfrm>
          <a:prstGeom prst="diamond">
            <a:avLst/>
          </a:prstGeom>
          <a:solidFill>
            <a:srgbClr val="cfe7f5">
              <a:alpha val="10000"/>
            </a:srgbClr>
          </a:solidFill>
          <a:ln w="72000">
            <a:solidFill>
              <a:srgbClr val="333333"/>
            </a:solidFill>
            <a:round/>
          </a:ln>
          <a:effectLst>
            <a:outerShdw dist="0" dir="0" blurRad="0" rotWithShape="0">
              <a:srgbClr val="808080">
                <a:alpha val="1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42840" y="290520"/>
            <a:ext cx="443376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дальнейшее совершенствование связной речи, практическое усвоение лексических и грамматических средств язы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24360" y="312840"/>
            <a:ext cx="5688000" cy="26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формирование правильного произношения: воспитание артикуляционных навыков, фонетической стороны речи, слоговой структуры и фонематического вос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280" y="5040360"/>
            <a:ext cx="38959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развитие элементарных навыков звукового анализа и синте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586480" y="5111640"/>
            <a:ext cx="4062240" cy="16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 подготовка к обучению грамоте и овладение элементами грамо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3800000">
            <a:off x="2450520" y="2509200"/>
            <a:ext cx="868680" cy="880920"/>
          </a:xfrm>
          <a:custGeom>
            <a:avLst/>
            <a:gdLst>
              <a:gd name="textAreaLeft" fmla="*/ 73800 w 868680"/>
              <a:gd name="textAreaRight" fmla="*/ 794880 w 868680"/>
              <a:gd name="textAreaTop" fmla="*/ 289440 h 880920"/>
              <a:gd name="textAreaBottom" fmla="*/ 591480 h 880920"/>
            </a:gdLst>
            <a:ahLst/>
            <a:rect l="textAreaLeft" t="textAreaTop" r="textAreaRight" b="textAreaBottom"/>
            <a:pathLst>
              <a:path w="21600" h="21600">
                <a:moveTo>
                  <a:pt x="0" y="7099"/>
                </a:moveTo>
                <a:lnTo>
                  <a:pt x="16232" y="7099"/>
                </a:lnTo>
                <a:lnTo>
                  <a:pt x="16232" y="0"/>
                </a:lnTo>
                <a:lnTo>
                  <a:pt x="21600" y="10800"/>
                </a:lnTo>
                <a:lnTo>
                  <a:pt x="16232" y="21600"/>
                </a:lnTo>
                <a:lnTo>
                  <a:pt x="16232" y="14501"/>
                </a:lnTo>
                <a:lnTo>
                  <a:pt x="0" y="14501"/>
                </a:lnTo>
                <a:lnTo>
                  <a:pt x="1840" y="10800"/>
                </a:lnTo>
                <a:lnTo>
                  <a:pt x="0" y="7099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7500000">
            <a:off x="2376360" y="4093920"/>
            <a:ext cx="868320" cy="880920"/>
          </a:xfrm>
          <a:custGeom>
            <a:avLst/>
            <a:gdLst>
              <a:gd name="textAreaLeft" fmla="*/ 73800 w 868320"/>
              <a:gd name="textAreaRight" fmla="*/ 794520 w 868320"/>
              <a:gd name="textAreaTop" fmla="*/ 289440 h 880920"/>
              <a:gd name="textAreaBottom" fmla="*/ 591480 h 880920"/>
            </a:gdLst>
            <a:ahLst/>
            <a:rect l="textAreaLeft" t="textAreaTop" r="textAreaRight" b="textAreaBottom"/>
            <a:pathLst>
              <a:path w="21600" h="21600">
                <a:moveTo>
                  <a:pt x="0" y="7099"/>
                </a:moveTo>
                <a:lnTo>
                  <a:pt x="16232" y="7099"/>
                </a:lnTo>
                <a:lnTo>
                  <a:pt x="16232" y="0"/>
                </a:lnTo>
                <a:lnTo>
                  <a:pt x="21600" y="10800"/>
                </a:lnTo>
                <a:lnTo>
                  <a:pt x="16232" y="21600"/>
                </a:lnTo>
                <a:lnTo>
                  <a:pt x="16232" y="14501"/>
                </a:lnTo>
                <a:lnTo>
                  <a:pt x="0" y="14501"/>
                </a:lnTo>
                <a:lnTo>
                  <a:pt x="1840" y="10800"/>
                </a:lnTo>
                <a:lnTo>
                  <a:pt x="0" y="7099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8420000">
            <a:off x="6153120" y="2476440"/>
            <a:ext cx="868320" cy="881280"/>
          </a:xfrm>
          <a:custGeom>
            <a:avLst/>
            <a:gdLst>
              <a:gd name="textAreaLeft" fmla="*/ 73800 w 868320"/>
              <a:gd name="textAreaRight" fmla="*/ 794520 w 868320"/>
              <a:gd name="textAreaTop" fmla="*/ 289440 h 881280"/>
              <a:gd name="textAreaBottom" fmla="*/ 591840 h 881280"/>
            </a:gdLst>
            <a:ahLst/>
            <a:rect l="textAreaLeft" t="textAreaTop" r="textAreaRight" b="textAreaBottom"/>
            <a:pathLst>
              <a:path w="21600" h="21600">
                <a:moveTo>
                  <a:pt x="0" y="7099"/>
                </a:moveTo>
                <a:lnTo>
                  <a:pt x="16232" y="7099"/>
                </a:lnTo>
                <a:lnTo>
                  <a:pt x="16232" y="0"/>
                </a:lnTo>
                <a:lnTo>
                  <a:pt x="21600" y="10800"/>
                </a:lnTo>
                <a:lnTo>
                  <a:pt x="16232" y="21600"/>
                </a:lnTo>
                <a:lnTo>
                  <a:pt x="16232" y="14501"/>
                </a:lnTo>
                <a:lnTo>
                  <a:pt x="0" y="14501"/>
                </a:lnTo>
                <a:lnTo>
                  <a:pt x="1840" y="10800"/>
                </a:lnTo>
                <a:lnTo>
                  <a:pt x="0" y="7099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3060000">
            <a:off x="6231600" y="4091040"/>
            <a:ext cx="868680" cy="880920"/>
          </a:xfrm>
          <a:custGeom>
            <a:avLst/>
            <a:gdLst>
              <a:gd name="textAreaLeft" fmla="*/ 73800 w 868680"/>
              <a:gd name="textAreaRight" fmla="*/ 794880 w 868680"/>
              <a:gd name="textAreaTop" fmla="*/ 289440 h 880920"/>
              <a:gd name="textAreaBottom" fmla="*/ 591480 h 880920"/>
            </a:gdLst>
            <a:ahLst/>
            <a:rect l="textAreaLeft" t="textAreaTop" r="textAreaRight" b="textAreaBottom"/>
            <a:pathLst>
              <a:path w="21600" h="21600">
                <a:moveTo>
                  <a:pt x="0" y="7099"/>
                </a:moveTo>
                <a:lnTo>
                  <a:pt x="16232" y="7099"/>
                </a:lnTo>
                <a:lnTo>
                  <a:pt x="16232" y="0"/>
                </a:lnTo>
                <a:lnTo>
                  <a:pt x="21600" y="10800"/>
                </a:lnTo>
                <a:lnTo>
                  <a:pt x="16232" y="21600"/>
                </a:lnTo>
                <a:lnTo>
                  <a:pt x="16232" y="14501"/>
                </a:lnTo>
                <a:lnTo>
                  <a:pt x="0" y="14501"/>
                </a:lnTo>
                <a:lnTo>
                  <a:pt x="1840" y="10800"/>
                </a:lnTo>
                <a:lnTo>
                  <a:pt x="0" y="7099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44360" y="144360"/>
            <a:ext cx="10080360" cy="74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624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5e11a6"/>
                </a:solidFill>
                <a:latin typeface="Arial"/>
              </a:rPr>
              <a:t>Совершенствование связной речи (диалогической и монологическо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звернутые ответы на вопросы взрослого, участие в беседах, формулирование вопросов в контексте бытовых и игровых ситуаций, бесед, обсужд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рассказы о себе, каком-либо предмете, явлении, животн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самостоятельные рассказы и пересказы по опорным картинкам, по серии картин, по схеме или сюжетной карт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1720" y="587520"/>
            <a:ext cx="9576000" cy="60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5e11a6"/>
                </a:solidFill>
                <a:latin typeface="Arial"/>
              </a:rPr>
              <a:t>Практическое усвоение лексических средств язы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тические беседы, с целью расширения объема            словаря (лексические темы: «одежда», «продукты               питания», «домашние и дикие животные», «части                  тела», «времена года»,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ъяснение ребенком значения слов и их применение в контексте предложения, загадки или стихотвор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лассификация слов (или картинок) по тематическим          групп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словосочетаний, предложений и рассказов по опорным словам или картинк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6000" y="576360"/>
            <a:ext cx="9504360" cy="1368360"/>
          </a:xfrm>
          <a:prstGeom prst="rect">
            <a:avLst/>
          </a:prstGeom>
          <a:noFill/>
          <a:ln w="72000">
            <a:solidFill>
              <a:srgbClr val="000000"/>
            </a:solidFill>
            <a:round/>
          </a:ln>
          <a:effectLst>
            <a:outerShdw dist="0" dir="0" blurRad="0" rotWithShape="0">
              <a:srgbClr val="80808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1640" y="1979640"/>
            <a:ext cx="1800" cy="4392720"/>
          </a:xfrm>
          <a:prstGeom prst="line">
            <a:avLst/>
          </a:prstGeom>
          <a:ln w="72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1640" y="4284720"/>
            <a:ext cx="576360" cy="1440"/>
          </a:xfrm>
          <a:prstGeom prst="line">
            <a:avLst/>
          </a:prstGeom>
          <a:ln w="72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310360"/>
            <a:ext cx="576360" cy="1440"/>
          </a:xfrm>
          <a:prstGeom prst="line">
            <a:avLst/>
          </a:prstGeom>
          <a:ln w="72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1640" y="2879640"/>
            <a:ext cx="576360" cy="1800"/>
          </a:xfrm>
          <a:prstGeom prst="line">
            <a:avLst/>
          </a:prstGeom>
          <a:ln w="72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1640" y="6335640"/>
            <a:ext cx="576360" cy="1800"/>
          </a:xfrm>
          <a:prstGeom prst="line">
            <a:avLst/>
          </a:prstGeom>
          <a:ln w="72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7280" y="216000"/>
            <a:ext cx="9576000" cy="68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5e11a6"/>
                </a:solidFill>
                <a:latin typeface="Arial"/>
              </a:rPr>
              <a:t>Совершенствование грамматического строя ре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ирование практических навыков словоизменения и словообразования (игры на словоизменение приставочным и суффиксальным способом; игры на изменение существительных и прилагательных по родам, числам и падежам; образование субстантивированных прилагательных; изменение глаголов по временам и лицам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ичие простых и сложных предлог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предлогов в ответах на вопросы взрослого по картинкам или в контексте игров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словосочетаний и предложений с заданными предлога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ование слов в словосочетан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ставление и распространение предлож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2920" y="79200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000" y="144360"/>
            <a:ext cx="9926640" cy="72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5e11a6"/>
                </a:solidFill>
                <a:latin typeface="Arial"/>
              </a:rPr>
              <a:t>Формирование правильного произнош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ссаж языка, выполняемый взрослы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ьные артикуляционные упраж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ыхательные упражнения, направленные на усиление и                     удлинение воздушной стру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очнение и воспроизведение правильных способов                           произношения зву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 algn="just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9T18:52:04Z</dcterms:created>
  <dc:creator/>
  <dc:description/>
  <dc:language>en-US</dc:language>
  <cp:lastModifiedBy/>
  <dcterms:modified xsi:type="dcterms:W3CDTF">2016-10-05T12:03:06Z</dcterms:modified>
  <cp:revision>21</cp:revision>
  <dc:subject/>
  <dc:title/>
</cp:coreProperties>
</file>