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teacher18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<Relationship Id="rId23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8-04-26T16:53:26.984000000" idx="1">
    <p:pos x="10" y="10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A80-85CA-461F-9668-7A5BCDA3B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D0D5-A84A-45B9-AB6C-DC01511F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8F0-1A5C-4069-9E16-13A33E2A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217-9460-4EE2-9DDE-6CA2A1736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4B18-B8AB-4EE4-B7F9-B2D3614C8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4B6B-D6CC-4B42-A321-D46A5E20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5518-E1FD-4AF7-A4C3-4051D0482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921A-0BAD-4221-8A63-A2528764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8046-6B35-44FD-B47A-662498844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D1A9D-B7D6-469F-85F1-7C401B06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97C4E-C4B1-4CE8-AA9F-D46DC0E8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488D-0C89-4F03-979B-F592C3CB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09BF-F932-4940-9470-41F51110A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6AE4-DA4D-4331-963E-7672812B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8DEC4-6AD0-41E2-A4EE-45E7FFCD6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22C5-8010-4687-B772-8F6BC0A5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FDB07-F095-419D-B23A-539385E67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C86DC-51F0-4C97-996D-780084B6F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3C4C5-B928-4A1D-A377-F38DD1BD8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ED752-601C-4B10-9014-22405B1BC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4F3E9-CF69-4AB9-8B99-D05FA0E70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D2997-3AC8-4CF4-ADA9-B35B7F5D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7FC2-C043-4484-AB39-24D520EB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63BD5F-CBDF-4B5B-A9C0-49D0A2A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041DC-232C-4969-8F8D-DDEC55AE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54BB1-C2BC-45F3-A576-AC9CB782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51AFB-A4AF-48CB-9BE1-48FC0A0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D3052-A2BF-46F3-A191-E430854A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69801-E88C-4B2C-BA07-767F8B6A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FF7B8-4C9B-4733-9B15-31E5719EA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CF954E-F588-4885-97C0-954A605A8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33922-BB4D-4F7C-B2A1-0A06642D0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72171-A3B3-4A28-934B-231F2AC9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CDE0-76B5-419E-BBB9-07EA11198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D777C-F131-4CA1-9B14-75397EDF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54A0C-1B6A-471D-BC5F-3F48C915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F299CD-0F40-4B41-92E8-7CC3A5DE4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3288B-BEA1-4D0A-9599-F6E3B2507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585CC-234A-49A3-85F3-A98797D6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B2950-4F4B-4607-A05C-EBA46782E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AEAF7F-892A-44BE-B111-CC765F31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1AB2A-F98E-4FA7-8C5C-5D2DF606E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09600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65440" y="205236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82656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09600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365440" y="4244040"/>
            <a:ext cx="2161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6A2B5-D32D-48EA-9D25-CEF4488F6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12B-50D5-4988-85F2-E1FCA0FFC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83840" y="452160"/>
            <a:ext cx="705636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FFAC-7775-426C-908D-F8F15821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05D1-A49E-4CE6-8E9B-32F3F942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66000" y="424404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B37B-D496-4488-9500-338A4239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656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66000" y="2052360"/>
            <a:ext cx="32752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26560" y="4244040"/>
            <a:ext cx="671220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3C53-24C6-489A-BDCF-46FD9D33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4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7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0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3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dt" idx="1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ftr" idx="2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sldNum" idx="3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6F88-FFFA-4F85-BEF8-4333351BC808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58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61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64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67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70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Box 12"/>
          <p:cNvSpPr/>
          <p:nvPr/>
        </p:nvSpPr>
        <p:spPr>
          <a:xfrm>
            <a:off x="674640" y="971640"/>
            <a:ext cx="6001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13"/>
          <p:cNvSpPr/>
          <p:nvPr/>
        </p:nvSpPr>
        <p:spPr>
          <a:xfrm>
            <a:off x="6999120" y="2612880"/>
            <a:ext cx="6019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4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5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6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C67FA-56A2-41D5-97A7-2A200C1E42DA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17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20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23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26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29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Straight Connector 16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Straight Connector 17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7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8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9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F9B72-CD33-4F4D-9760-0D38966A2BDD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Oval 21"/>
          <p:cNvGrpSpPr/>
          <p:nvPr/>
        </p:nvGrpSpPr>
        <p:grpSpPr>
          <a:xfrm>
            <a:off x="6297480" y="1676520"/>
            <a:ext cx="2822760" cy="2822400"/>
            <a:chOff x="6297480" y="1676520"/>
            <a:chExt cx="2822760" cy="2822400"/>
          </a:xfrm>
        </p:grpSpPr>
        <p:pic>
          <p:nvPicPr>
            <p:cNvPr id="176" name="Oval 21" descr=""/>
            <p:cNvPicPr/>
            <p:nvPr/>
          </p:nvPicPr>
          <p:blipFill>
            <a:blip r:embed="rId3"/>
            <a:stretch/>
          </p:blipFill>
          <p:spPr>
            <a:xfrm>
              <a:off x="6297480" y="1676520"/>
              <a:ext cx="282276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671184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8" name="Oval 22"/>
          <p:cNvGrpSpPr/>
          <p:nvPr/>
        </p:nvGrpSpPr>
        <p:grpSpPr>
          <a:xfrm>
            <a:off x="5688000" y="-457200"/>
            <a:ext cx="1603440" cy="1603440"/>
            <a:chOff x="5688000" y="-457200"/>
            <a:chExt cx="1603440" cy="1603440"/>
          </a:xfrm>
        </p:grpSpPr>
        <p:pic>
          <p:nvPicPr>
            <p:cNvPr id="179" name="Oval 22" descr=""/>
            <p:cNvPicPr/>
            <p:nvPr/>
          </p:nvPicPr>
          <p:blipFill>
            <a:blip r:embed="rId4"/>
            <a:stretch/>
          </p:blipFill>
          <p:spPr>
            <a:xfrm>
              <a:off x="5688000" y="-457200"/>
              <a:ext cx="16034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5924520" y="-222120"/>
              <a:ext cx="113184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1" name="Oval 23"/>
          <p:cNvGrpSpPr/>
          <p:nvPr/>
        </p:nvGrpSpPr>
        <p:grpSpPr>
          <a:xfrm>
            <a:off x="6297480" y="6095880"/>
            <a:ext cx="993960" cy="993960"/>
            <a:chOff x="6297480" y="6095880"/>
            <a:chExt cx="993960" cy="993960"/>
          </a:xfrm>
        </p:grpSpPr>
        <p:pic>
          <p:nvPicPr>
            <p:cNvPr id="182" name="Oval 23" descr=""/>
            <p:cNvPicPr/>
            <p:nvPr/>
          </p:nvPicPr>
          <p:blipFill>
            <a:blip r:embed="rId5"/>
            <a:stretch/>
          </p:blipFill>
          <p:spPr>
            <a:xfrm>
              <a:off x="6297480" y="6095880"/>
              <a:ext cx="993960" cy="99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6445080" y="6240600"/>
              <a:ext cx="70020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Oval 19"/>
          <p:cNvGrpSpPr/>
          <p:nvPr/>
        </p:nvGrpSpPr>
        <p:grpSpPr>
          <a:xfrm>
            <a:off x="-152280" y="2670120"/>
            <a:ext cx="4187880" cy="4187880"/>
            <a:chOff x="-152280" y="2670120"/>
            <a:chExt cx="4187880" cy="4187880"/>
          </a:xfrm>
        </p:grpSpPr>
        <p:pic>
          <p:nvPicPr>
            <p:cNvPr id="185" name="Oval 19" descr=""/>
            <p:cNvPicPr/>
            <p:nvPr/>
          </p:nvPicPr>
          <p:blipFill>
            <a:blip r:embed="rId6"/>
            <a:stretch/>
          </p:blipFill>
          <p:spPr>
            <a:xfrm>
              <a:off x="-152280" y="2670120"/>
              <a:ext cx="4187880" cy="418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60440" y="3281400"/>
              <a:ext cx="2962080" cy="29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Oval 20"/>
          <p:cNvGrpSpPr/>
          <p:nvPr/>
        </p:nvGrpSpPr>
        <p:grpSpPr>
          <a:xfrm>
            <a:off x="-841320" y="2895480"/>
            <a:ext cx="2365200" cy="2365560"/>
            <a:chOff x="-841320" y="2895480"/>
            <a:chExt cx="2365200" cy="2365560"/>
          </a:xfrm>
        </p:grpSpPr>
        <p:pic>
          <p:nvPicPr>
            <p:cNvPr id="188" name="Oval 20" descr=""/>
            <p:cNvPicPr/>
            <p:nvPr/>
          </p:nvPicPr>
          <p:blipFill>
            <a:blip r:embed="rId7"/>
            <a:stretch/>
          </p:blipFill>
          <p:spPr>
            <a:xfrm>
              <a:off x="-841320" y="2895480"/>
              <a:ext cx="2365200" cy="23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-493560" y="3241800"/>
              <a:ext cx="1670040" cy="167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0" name="Rectangle 18"/>
          <p:cNvSpPr/>
          <p:nvPr/>
        </p:nvSpPr>
        <p:spPr>
          <a:xfrm>
            <a:off x="7745400" y="0"/>
            <a:ext cx="685800" cy="110016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Straight Connector 18"/>
          <p:cNvSpPr/>
          <p:nvPr/>
        </p:nvSpPr>
        <p:spPr>
          <a:xfrm>
            <a:off x="279576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Straight Connector 19"/>
          <p:cNvSpPr/>
          <p:nvPr/>
        </p:nvSpPr>
        <p:spPr>
          <a:xfrm>
            <a:off x="522288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826560" y="2052360"/>
            <a:ext cx="671220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 rot="5400000">
            <a:off x="7494840" y="1828440"/>
            <a:ext cx="990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 rot="5400000">
            <a:off x="6233040" y="3263040"/>
            <a:ext cx="3859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7765560" y="294840"/>
            <a:ext cx="628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DEF8-78A0-420A-9629-8DCD4367A600}" type="slidenum">
              <a:rPr b="0" lang="ru-RU" sz="2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Тема урока: «Правила безопасности</a:t>
            </a:r>
            <a:br>
              <a:rPr sz="4000"/>
            </a:b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на уроках электротехнологии»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TextBox 3"/>
          <p:cNvSpPr/>
          <p:nvPr/>
        </p:nvSpPr>
        <p:spPr>
          <a:xfrm>
            <a:off x="616320" y="58053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технологии СОШ № 9 Жогло Ю.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6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рганизация рабочего места для электротехнических работ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2636640"/>
            <a:ext cx="9144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выполнения электротехнических работ применяется электро­монтажный инструмент и различные электротехнические материалы (монтажные провода, шнуры, изоляционные ленты, трубки и др.)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лектро­монтажный инструмент при неумелом и неправильном использовании может стать источником механических трав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омонтажные инструменты: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а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кусачки боковые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б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нож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в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круглогуб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г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лоскогуб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д —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ассатижи, е — щипцы, </a:t>
            </a: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ж </a:t>
            </a: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— отвертка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2700360" y="3789360"/>
            <a:ext cx="5975280" cy="25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Кусачки боковые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— инструмент, которым перерезают (откусывают) провод и снимают изоляцию. Кусачки имеют острые режущие кромк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Нож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спользуется для зачистки провод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Круглогубцы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рименяют, когда нужно загнуть проволоку, сделать из нее кольцо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лоскогубцы —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инструмент, которым сгибают, скручивают провода и обжимают места их соединения. Плоскогубцы имеют насечку на внутрен­ней стороне губок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ассатижи —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это комбинированные плоскогубцы. Ими можно как откусывать, так и сгибать, скручивать провода, а также обжимать соединя­емые жилы проводов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Щипцы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лужат для снятия изоляции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Отвертки </a:t>
            </a: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разных размеров применяют для отвинчивания и завинчивания винтов. Металлические части отверток изготовляют из твердой стали, а ручки — из древесины или пластмассы (они не должны иметь трещин и сколов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Монтаж электрических цепей производят на столах, покрытых изоляционным материалом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112392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Для удобства работы электромонтажник должен слева от себя иметь материалы, подготовленные к монтажу (провода, выключатели, лампы, патроны, винты, гайки, шайбы и др.), перед собой — монтажную панель и электрическую схему цепи, справа — электромонтажные инструменты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Ближе к себе надо располагать те инструменты, которые используются чаще (кусачки, плоскогубцы, отвертка)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Правила безопасности</a:t>
            </a:r>
            <a:br>
              <a:rPr sz="4000"/>
            </a:br>
            <a:r>
              <a:rPr b="0" i="1" lang="ru-RU" sz="4000" spc="-1" strike="noStrike">
                <a:solidFill>
                  <a:srgbClr val="ebebeb"/>
                </a:solidFill>
                <a:latin typeface="Century Gothic"/>
              </a:rPr>
              <a:t>при электротехнических работах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Во время работы на монтажной панели должны находиться только</a:t>
            </a:r>
            <a:br>
              <a:rPr sz="2200"/>
            </a:b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те материалы или детали, которые монтируютс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Электромонтажные инструменты должны иметь изолированные ручки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Работать можно только исправным инструментом. Подавать инструмент надо ручкой от себя, а класть на стол — ручкой к себе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еобходимо бережно обращаться с инструментом и материалами, не ронять их на пол. Использовать электромонтажные инструменты следует только по назначению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Лезвие отвертки должно плотно входить в шлиц винта. Работать отверткой на весу запрещается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6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Century Gothic"/>
              </a:rPr>
              <a:t>На рабочем месте надо соблюдать порядок. Инструменты и материалы должны находиться в отведенных для них местах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30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ический ток может быть не только полезен для человека, но и представлять для него серьезную опасность. 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0" y="3428640"/>
            <a:ext cx="9144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ТЕЛО ЧЕЛОВЕКА СПОСОБНО ПРОВОДИТЬ ЭЛЕКТРИЧЕСКИЙ ТОК. И ЕСЛИ ОНО ОКАЗЫВАЕТСЯ ПОД НАПРЯЖЕНИЕМ, ТО ФАКТИЧЕСКИ СТАНОВИТСЯ ЭЛЕМЕНТОМ ЭЛЕКТРИЧЕСКОЙ ЦЕПИ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8ad0d6"/>
                </a:solidFill>
                <a:latin typeface="Century Gothic"/>
              </a:rPr>
              <a:t>ПОРАЖАЮЩЕЕ ДЕЙСТВИЕ ЭЛЕКТРИЧЕСКОГО ТОКА ЗАВИСИТ ОТ ВЕЛИЧИНЫ ТОКА, ПУТИ ЕГО ПРОХОЖДЕНИЯ ЧЕРЕЗ ОРГАНИЗМ И ВРЕМЕНИ ПРОХОЖДЕНИЯ. ПРИ ЭТОМ СИЛА ТОКА ЗАВИСИТ ОТ ВЕЛИЧИНЫ ПРИЛОЖЕННОГО НАПРЯЖЕНИЯ И СОПРОТИВЛЕНИЯ ТЕЛА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Поражающее действие электрического то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0" y="1852560"/>
            <a:ext cx="914400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зависит от величины тока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ути его прохождения через организм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ремени прохождения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и этом сила тока зависит от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еличины приложенного напряжения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сопротивления тела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Разные ткани организма имеют разное сопротивление. Кожа, кости и жировая ткань оказывают большое сопротивление, мышечная ткань, кровь, спинной и головной мозг — малое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Наибольшим сопротивлением обладает кожа человека, особенно ее верхний слой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ebebeb"/>
                </a:solidFill>
                <a:latin typeface="Century Gothic"/>
              </a:rPr>
              <a:t>Электрическое сопротивление тела человека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213336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с сухой и чистой кожей при напряжении 15-20 В может меняться от 3000 до 100 000 Ом. Повреждения кожи в виде царапин, порезов, ушибов, а также потовыделение снижают сопротивление до 300-500 О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Человек начинает ощущать воздействие проходящего через него электричества при переменном токе 0,001-0,0015 А. Этот ток называется </a:t>
            </a:r>
            <a:r>
              <a:rPr b="0" i="1" lang="ru-RU" sz="2000" spc="-1" strike="noStrike">
                <a:solidFill>
                  <a:srgbClr val="ffffff"/>
                </a:solidFill>
                <a:latin typeface="Century Gothic"/>
              </a:rPr>
              <a:t>порогово-ощутимым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ebeb"/>
                </a:solidFill>
                <a:latin typeface="Century Gothic"/>
              </a:rPr>
              <a:t>При токе 0,010-0,015 А (неотпускающий ток) человек не может самостоятельно оторвать руки от электродов.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0" y="2204640"/>
            <a:ext cx="91440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В этом состоянии он нуждается в посторонней помощи. Исход зависит от длительности воздействия тока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При продолжительном действии сила тока, возрастая, может привести к поражению органов дыхания и сердца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Наилучшая помощь в этой ситуации — отключить источник электроэнергии, страхуя при этом пострадавшего от падения на пол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Если выключатель источника питания находится далеко (вне класса), то пострадавшего необходимо оторвать от электродов — с помощью изолятора в виде палки, доски, ремня, шарфа или схватив за одежду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entury Gothic"/>
              </a:rPr>
              <a:t>Дотрагиваться до тела человека, находящегося под напряжением, опасно, так как спасатель сам может оказаться в положении пострадавшего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83840" y="452160"/>
            <a:ext cx="70563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Ток в 0,05 А опасен для жизни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При длительном протекании через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а) руки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человека, через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б) руку и ноги </a:t>
            </a: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или через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entury Gothic"/>
              </a:rPr>
              <a:t>в) ноги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ток приводит к поражению сердца и его остановке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entury Gothic"/>
              </a:rPr>
              <a:t>В этом состоянии пострадавшего необходимо быстро отключить от источника электроэнергии и экстренно оказать ему помощь (массаж сердца, искусственное дыхание), так как через 5-7 минут может наступить смерть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пасное для жизни напряжение — 50 В.</a:t>
            </a:r>
            <a:br>
              <a:rPr sz="4000"/>
            </a:b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1773360"/>
            <a:ext cx="914400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большинстве практических работ по электротехнике школьники используют источники постоянного тока с напряжением 4-4,5 В, которое совершенно безопасно для человека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сли только речь идет о гальванических источниках постоянного тока в виде батареи от карманного фонаря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о вторичными источниками постоянного тока, которые включаются в сеть переменного тока с напряжением 36 или 42 В, следует вести себя более осторожно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4072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bebeb"/>
                </a:solidFill>
                <a:latin typeface="Century Gothic"/>
              </a:rPr>
              <a:t>Особенная бдительность требуется при работе с напряжением 42 В.</a:t>
            </a:r>
            <a:endParaRPr b="0" lang="en-US" sz="4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0" y="2060640"/>
            <a:ext cx="91440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Переменное напряжение 42 В существенно уменьшает, но не ликвидирует опасность поражения электрическим током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Gothic"/>
              </a:rPr>
              <a:t>В теле человека при таком напряжении может возникнуть эффект неотпускающего тока со всеми опасными для жизни последствиями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40720" cy="14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ru-RU" sz="2800" spc="-1" strike="noStrike">
                <a:solidFill>
                  <a:srgbClr val="ebebeb"/>
                </a:solidFill>
                <a:latin typeface="Century Gothic"/>
              </a:rPr>
              <a:t>Правила безопасности при работе с источниками переменного тока с напряжением 42 В</a:t>
            </a:r>
            <a:br>
              <a:rPr sz="3600"/>
            </a:br>
            <a:endParaRPr b="0" lang="en-US" sz="2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онтаж и разборка всех электрических цепей должны проводиться при отключенном источнике электроэнерги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Источник переменного тока можно включать только после того, как учитель проверит электрическую цепь, собранную школьником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Запрещается дотрагиваться руками до элементов собранной электрической цепи после включения источника тока, особенно до электродов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одключаемых к выходам источника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8T14:37:34Z</dcterms:created>
  <dc:creator>toly</dc:creator>
  <dc:description/>
  <dc:language>en-US</dc:language>
  <cp:lastModifiedBy>teacher18</cp:lastModifiedBy>
  <dcterms:modified xsi:type="dcterms:W3CDTF">2018-04-26T06:55:37Z</dcterms:modified>
  <cp:revision>6</cp:revision>
  <dc:subject/>
  <dc:title>Тема урока: «Правила безопасности на уроках электротехнологии»</dc:title>
</cp:coreProperties>
</file>