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eacher18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8-04-26T16:53:26.98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CACA-6E6C-4709-B0AC-C13325FD0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C0E2-CE70-4717-9AAF-2DC5CD4A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A1A4-3961-4759-B404-B20FF4AF0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58AF-241D-42A2-A4B8-C3540251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70469-B5BA-4F2D-9B0E-853AF3281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7407-EA6B-4E60-ACF4-EAF7DBE8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DC0D-F40B-46DB-9B98-5AEA4F9BB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E45F9-EF91-487F-BEFE-C3197D43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8600-E923-4690-953F-5C7E18D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A372-FE77-4BAD-A472-26BF9E6E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044DA-708C-47CD-AECA-6B4E28AD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CA6B-41A6-4A04-B4D6-231A0F53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06CB-DD0E-47FC-B332-0ED8235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4D86-EF09-4E69-9FE1-67C2B2FA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FD56-1D28-4750-AF51-371493F5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DDED-30C6-4FD1-B62A-9F7C4B37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58FB-B46F-494B-8816-D6ACF2F9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49B7D-A666-4A3F-94D2-7A9FAB8A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B467C-3671-4FB8-A1A3-68EC8E3F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FA45A-66D2-4FAA-BE24-6F38A40B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BCC33-3C6E-47C6-8B11-99E39B61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96D8D-36E6-4ABF-95CC-4B1B570F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74D-4681-49D5-B7B7-A67A990D0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8AB1-B811-427E-8306-3A9016B4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B7FA-5940-41D7-89E6-0BFFBAF6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CF229-54EC-4BE0-B697-9B3091BC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B45B5-EC24-44B4-827B-8956CFD70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6C8B0-ADB3-4A1D-9AA9-D3A919F3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329BC-F62D-4C2D-817F-05FE4BB1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6FCFC-4B8D-402D-8489-84450C003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C74F9-10CE-4452-9BD9-F20B25CF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782FB-BEE1-48F7-BB56-F1517A38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96644-630D-41BC-9125-A7A93D44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D4C3-6901-4C33-ACE1-DE8EDD15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A615F-5B8B-4E17-A59C-E6B978DE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7E38D-8F2A-48A2-A46D-E3660215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0D1701-CA19-49DD-86A1-0264CCF5E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0B834-485A-4A55-9278-A3E525DE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DE30-8445-4A52-964B-150A6D03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3E659-725E-41C3-8942-24DBE0DD8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3818A-A097-4883-81BE-0048F7832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C4FB3-5DC0-44E4-9A4B-2BB09911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07F83-5642-4DD9-9E93-4F5D393C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2CB-E975-438C-B465-7154E2E4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AEDE-218F-4E20-A4A2-879E36B1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267-CF4E-4CBA-9FBB-883CCE66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A040-1EB5-406E-A2D1-2EB30252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73B-1F19-4FA8-BAF5-46782ECB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BC28-AF73-4413-8845-CFE3D62B376B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DAB0-CD4E-4FD3-B990-77C52A3C1566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9FE8-14D4-46EA-918C-D7BA53AD0ED1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218F-9473-419C-91DE-C5F6379971C9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Тема урока: «Правила безопасности</a:t>
            </a:r>
            <a:br>
              <a:rPr sz="4000"/>
            </a:b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на уроках электротехнологии»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616320" y="580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технологии СОШ № 9 Жогло Ю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Организация рабочего места для электротехнических работ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ля выполнения электротехнических работ применяется электро­монтажный инструмент и различные электротехнические материалы (монтажные провода, шнуры, изоляционные ленты, трубки и др.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Электро­монтажный инструмент при неумелом и неправильном использовании может стать источником механических трав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Электромонтажные инструменты: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а —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кусачки боковые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б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— нож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в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— круглогубцы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г —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плоскогубцы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д —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пассатижи, е — щипцы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ж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— отвертка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59752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Кусачки боковые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— инструмент, которым перерезают (откусывают) провод и снимают изоляцию. Кусачки имеют острые режущие кромк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Нож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спользуется для зачистки провод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Круглогубцы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меняют, когда нужно загнуть проволоку, сделать из нее кольц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Плоскогубцы —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нструмент, которым сгибают, скручивают провода и обжимают места их соединения. Плоскогубцы имеют насечку на внутрен­ней стороне губок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Пассатижи —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это комбинированные плоскогубцы. Ими можно как откусывать, так и сгибать, скручивать провода, а также обжимать соединя­емые жилы провод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Щипцы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ужат для снятия изоляц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Отвертки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ных размеров применяют для отвинчивания и завинчивания винтов. Металлические части отверток изготовляют из твердой стали, а ручки — из древесины или пластмассы (они не должны иметь трещин и сколов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онтаж электрических цепей производят на столах, покрытых изоляционным материало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112392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ля удобства работы электромонтажник должен слева от себя иметь материалы, подготовленные к монтажу (провода, выключатели, лампы, патроны, винты, гайки, шайбы и др.), перед собой — монтажную панель и электрическую схему цепи, справа — электромонтажные инструменты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лиже к себе надо располагать те инструменты, которые используются чаще (кусачки, плоскогубцы, отвертка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Правила безопасности</a:t>
            </a:r>
            <a:br>
              <a:rPr sz="4000"/>
            </a:b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при электротехнических работах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Во время работы на монтажной панели должны находиться только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те материалы или детали, которые монтируются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Электромонтажные инструменты должны иметь изолированные ручк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Работать можно только исправным инструментом. Подавать инструмент надо ручкой от себя, а класть на стол — ручкой к себе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еобходимо бережно обращаться с инструментом и материалами, не ронять их на пол. Использовать электромонтажные инструменты следует только по назначению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Лезвие отвертки должно плотно входить в шлиц винта. Работать отверткой на весу запрещается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а рабочем месте надо соблюдать порядок. Инструменты и материалы должны находиться в отведенных для них местах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Электрический ток может быть не только полезен для человека, но и представлять для него серьезную опасность. 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ТЕЛО ЧЕЛОВЕКА СПОСОБНО ПРОВОДИТЬ ЭЛЕКТРИЧЕСКИЙ ТОК. И ЕСЛИ ОНО ОКАЗЫВАЕТСЯ ПОД НАПРЯЖЕНИЕМ, ТО ФАКТИЧЕСКИ СТАНОВИТСЯ ЭЛЕМЕНТОМ ЭЛЕКТРИЧЕСКОЙ ЦЕПИ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ПОРАЖАЮЩЕЕ ДЕЙСТВИЕ ЭЛЕКТРИЧЕСКОГО ТОКА ЗАВИСИТ ОТ ВЕЛИЧИНЫ ТОКА, ПУТИ ЕГО ПРОХОЖДЕНИЯ ЧЕРЕЗ ОРГАНИЗМ И ВРЕМЕНИ ПРОХОЖДЕНИЯ. ПРИ ЭТОМ СИЛА ТОКА ЗАВИСИТ ОТ ВЕЛИЧИНЫ ПРИЛОЖЕННОГО НАПРЯЖЕНИЯ И СОПРОТИВЛЕНИЯ ТЕЛА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Поражающее действие электрического тока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8525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зависит от величины тока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ути его прохождения через организм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ремени прохождения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и этом сила тока зависит от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еличины приложенного напряжения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опротивления тела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Разные ткани организма имеют разное сопротивление. Кожа, кости и жировая ткань оказывают большое сопротивление, мышечная ткань, кровь, спинной и головной мозг — малое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Наибольшим сопротивлением обладает кожа человека, особенно ее верхний слой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Электрическое сопротивление тела человека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 сухой и чистой кожей при напряжении 15-20 В может меняться от 3000 до 100 000 Ом. Повреждения кожи в виде царапин, порезов, ушибов, а также потовыделение снижают сопротивление до 300-500 Ом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Человек начинает ощущать воздействие проходящего через него электричества при переменном токе 0,001-0,0015 А. Этот ток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порогово-ощутимы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ebeb"/>
                </a:solidFill>
                <a:latin typeface="Century Gothic"/>
              </a:rPr>
              <a:t>При токе 0,010-0,015 А (неотпускающий ток) человек не может самостоятельно оторвать руки от электродов.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 этом состоянии он нуждается в посторонней помощи. Исход зависит от длительности воздействия тока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ри продолжительном действии сила тока, возрастая, может привести к поражению органов дыхания и сердца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аилучшая помощь в этой ситуации — отключить источник электроэнергии, страхуя при этом пострадавшего от падения на пол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Если выключатель источника питания находится далеко (вне класса), то пострадавшего необходимо оторвать от электродов — с помощью изолятора в виде палки, доски, ремня, шарфа или схватив за одежду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Дотрагиваться до тела человека, находящегося под напряжением, опасно, так как спасатель сам может оказаться в положении пострадавшего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Ток в 0,05 А опасен для жизни.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и длительном протекании чер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Century Gothic"/>
              </a:rPr>
              <a:t>а) руки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человека, через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entury Gothic"/>
              </a:rPr>
              <a:t>б) руку и ноги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или через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entury Gothic"/>
              </a:rPr>
              <a:t>в) ноги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ок приводит к поражению сердца и его остановке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этом состоянии пострадавшего необходимо быстро отключить от источника электроэнергии и экстренно оказать ему помощь (массаж сердца, искусственное дыхание), так как через 5-7 минут может наступить смерть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Опасное для жизни напряжение — 50 В.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большинстве практических работ по электротехнике школьники используют источники постоянного тока с напряжением 4-4,5 В, которое совершенно безопасно для человека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сли только речь идет о гальванических источниках постоянного тока в виде батареи от карманного фонар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о вторичными источниками постоянного тока, которые включаются в сеть переменного тока с напряжением 36 или 42 В, следует вести себя более осторожн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Особенная бдительность требуется при работе с напряжением 42 В.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еременное напряжение 42 В существенно уменьшает, но не ликвидирует опасность поражения электрическим током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теле человека при таком напряжении может возникнуть эффект неотпускающего тока со всеми опасными для жизни последствия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ebebeb"/>
                </a:solidFill>
                <a:latin typeface="Century Gothic"/>
              </a:rPr>
              <a:t>Правила безопасности при работе с источниками переменного тока с напряжением 42 В</a:t>
            </a:r>
            <a:br>
              <a:rPr sz="3600"/>
            </a:b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онтаж и разборка всех электрических цепей должны проводиться при отключенном источнике электроэнерги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точник переменного тока можно включать только после того, как учитель проверит электрическую цепь, собранную школьнико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прещается дотрагиваться руками до элементов собранной электрической цепи после включения источника тока, особенно до электродов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одключаемых к выходам источни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14:37:34Z</dcterms:created>
  <dc:creator>toly</dc:creator>
  <dc:description/>
  <dc:language>en-US</dc:language>
  <cp:lastModifiedBy>teacher18</cp:lastModifiedBy>
  <dcterms:modified xsi:type="dcterms:W3CDTF">2018-04-26T06:55:37Z</dcterms:modified>
  <cp:revision>6</cp:revision>
  <dc:subject/>
  <dc:title>Тема урока: «Правила безопасности на уроках электротехнологии»</dc:title>
</cp:coreProperties>
</file>