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D4A-B874-4330-85F9-08A8AC6A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6AA-AA4B-4398-91B3-A7FEF9A8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EC5-CAE3-4ED9-AD34-DB7A5C20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1DD-673B-4E4A-8EDA-2247B262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354-66F0-44B0-B66A-C7397A23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41C-072F-48D1-893F-4E280690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539-CB40-49BA-A903-B54A3FC4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D37-3C93-4571-AE51-159D8EEC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36B-ACBA-472D-9A05-3850D866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D08-260E-42E9-850F-48458A0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91D-B39A-437B-9E97-CA694B5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950-F00F-4195-BC38-95B43C6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1C75-7F6B-4F4F-B0F1-752DF57826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роект учащихся 2 класса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од руководством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учителя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Ярулиной Надежды Владимиров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КТД «Режим дн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D:\Документы\Ярулина Н.В. учебная работа\детские работы\о здоровье\Режим дня\15.jpg"/>
          <p:cNvPicPr/>
          <p:nvPr/>
        </p:nvPicPr>
        <p:blipFill>
          <a:blip r:embed="rId1"/>
          <a:stretch/>
        </p:blipFill>
        <p:spPr>
          <a:xfrm>
            <a:off x="214200" y="4572000"/>
            <a:ext cx="40608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Свободные занятия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с 14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Много дел у мамы нашей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Кто поможет? - Ваня с Машей!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 магазин скорей бегут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сё что надо, принесут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е забудут про конфеты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ля сестрёнки младшей Светы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ля кота возьмут пакет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Самый вкусный китикэт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Кот - ужасный привереда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Любит мамины котлеты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Видно, - важная персона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е хватает только трона!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Барсик молоко не пьёт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"Китекет" он подождёт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ети сбегают в аптеку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А ещё... в библиотеку.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Маме будут помогать,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Да, им некогда скуча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D:\Документы\Ярулина Н.В. учебная работа\детские работы\о здоровье\Режим дня\Untitled-Scanned-03.jpg"/>
          <p:cNvPicPr/>
          <p:nvPr/>
        </p:nvPicPr>
        <p:blipFill>
          <a:blip r:embed="rId1"/>
          <a:stretch/>
        </p:blipFill>
        <p:spPr>
          <a:xfrm>
            <a:off x="142920" y="1000080"/>
            <a:ext cx="1949400" cy="26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:\Документы\Ярулина Н.В. учебная работа\детские работы\о здоровье\Режим дня\Untitled-Scanned-09.jpg"/>
          <p:cNvPicPr/>
          <p:nvPr/>
        </p:nvPicPr>
        <p:blipFill>
          <a:blip r:embed="rId2"/>
          <a:stretch/>
        </p:blipFill>
        <p:spPr>
          <a:xfrm>
            <a:off x="2214720" y="3214800"/>
            <a:ext cx="22716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Прогулка (с 15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14880" y="1428840"/>
            <a:ext cx="44719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вежий воздух малыш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ужен и полез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чень весело гулять нам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И никаких болезне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D:\Документы\Ярулина Н.В. учебная работа\детские работы\о здоровье\Режим дня\Untitled-Scanned-06.jpg"/>
          <p:cNvPicPr/>
          <p:nvPr/>
        </p:nvPicPr>
        <p:blipFill>
          <a:blip r:embed="rId1"/>
          <a:stretch/>
        </p:blipFill>
        <p:spPr>
          <a:xfrm>
            <a:off x="214200" y="1357200"/>
            <a:ext cx="3630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Полдник (16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57440" y="1356840"/>
            <a:ext cx="4329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ремя полдника у нас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Будем кушать мы сей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от творожное суф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еред нами на столе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 к нему клубничный дже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чень нравится он все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какао с молок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Чтобы всё запить пот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D:\Документы\Ярулина Н.В. учебная работа\детские работы\о здоровье\Режим дня\Untitled-Scanned-07.jpg"/>
          <p:cNvPicPr/>
          <p:nvPr/>
        </p:nvPicPr>
        <p:blipFill>
          <a:blip r:embed="rId1"/>
          <a:stretch/>
        </p:blipFill>
        <p:spPr>
          <a:xfrm>
            <a:off x="428760" y="1357200"/>
            <a:ext cx="3603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Приготовление уроков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с 17ч до 18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7160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Мне учиться очень нравит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твечать я не бою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 могу с задачей справить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тому что не леню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D:\Документы\Ярулина Н.В. учебная работа\детские работы\о здоровье\Режим дня\Untitled-Scanned-08.jpg"/>
          <p:cNvPicPr/>
          <p:nvPr/>
        </p:nvPicPr>
        <p:blipFill>
          <a:blip r:embed="rId1"/>
          <a:stretch/>
        </p:blipFill>
        <p:spPr>
          <a:xfrm>
            <a:off x="214200" y="1571760"/>
            <a:ext cx="385776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Ужин (19 ч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D:\Документы\Ярулина Н.В. учебная работа\детские работы\о здоровье\Режим дня\Untitled-Scanned-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751200" cy="4911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коро спать пора ложиться,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до на ночь подкрепиться.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сем зверятам нужен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кусный, сытный ужин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Мишка ест душистый мёд,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А баран траву жуёт.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У лисёнка в плошке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Пирожков немножк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На тарелке у зайчат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вощной лежит салат.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 аппетитом мы жуём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И быстрее всех растём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Вечерние игры с семьёй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с 19ч 30 мин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357800" y="1285560"/>
            <a:ext cx="4572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 семейном кругу мы с в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астё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снова основ – родитель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д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 семейном кругу все ко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тво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в жизнь ты входишь из семь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 семейном кругу мы жиз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здаё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снова основ – родитель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д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D:\Документы\Ярулина Н.В. учебная работа\детские работы\о здоровье\Режим дня\Untitled-Scanned-04.jpg"/>
          <p:cNvPicPr/>
          <p:nvPr/>
        </p:nvPicPr>
        <p:blipFill>
          <a:blip r:embed="rId1"/>
          <a:stretch/>
        </p:blipFill>
        <p:spPr>
          <a:xfrm>
            <a:off x="142920" y="1571760"/>
            <a:ext cx="407196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Вечерние процедуры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в 20ч 30 мин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Булькает водичка?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чего бояться!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наши детки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Любят умываться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Чтоб блестели зубки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Чтоб смеялся ротик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Чтоб алели щечки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 болел животик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D:\Документы\Ярулина Н.В. учебная работа\детские работы\о здоровье\Режим дня\Untitled-Scanned-14.jpg"/>
          <p:cNvPicPr/>
          <p:nvPr/>
        </p:nvPicPr>
        <p:blipFill>
          <a:blip r:embed="rId1"/>
          <a:stretch/>
        </p:blipFill>
        <p:spPr>
          <a:xfrm>
            <a:off x="357120" y="1643040"/>
            <a:ext cx="35276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Отбой (в 21 ч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8720" y="1143000"/>
            <a:ext cx="4257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ак найти ко сну дорог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ак найти его берлог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ожет, кубикам извест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Это сказочное мест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от мурлыкает в ус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ама смотрит на ча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Где же прячется она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Эта сонная стра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D:\Документы\Ярулина Н.В. учебная работа\детские работы\о здоровье\Режим дня\Untitled-Scanned-02.jpg"/>
          <p:cNvPicPr/>
          <p:nvPr/>
        </p:nvPicPr>
        <p:blipFill>
          <a:blip r:embed="rId1"/>
          <a:stretch/>
        </p:blipFill>
        <p:spPr>
          <a:xfrm>
            <a:off x="571680" y="1150920"/>
            <a:ext cx="3493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Вывод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На кого хотел бы быть похожим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D:\Документы\Ярулина Н.В. учебная работа\детские работы\о здоровье\Режим дня\15.jpg"/>
          <p:cNvPicPr/>
          <p:nvPr/>
        </p:nvPicPr>
        <p:blipFill>
          <a:blip r:embed="rId1"/>
          <a:stretch/>
        </p:blipFill>
        <p:spPr>
          <a:xfrm>
            <a:off x="285840" y="2857680"/>
            <a:ext cx="4060800" cy="193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:\Документы\Ярулина Н.В. учебная работа\детские работы\о здоровье\Режим дня\16.jpg"/>
          <p:cNvPicPr/>
          <p:nvPr/>
        </p:nvPicPr>
        <p:blipFill>
          <a:blip r:embed="rId2"/>
          <a:stretch/>
        </p:blipFill>
        <p:spPr>
          <a:xfrm>
            <a:off x="4648320" y="2857680"/>
            <a:ext cx="4038480" cy="1990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 Анто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19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На Нин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Прямоугольник 8" descr=""/>
          <p:cNvPicPr/>
          <p:nvPr/>
        </p:nvPicPr>
        <p:blipFill>
          <a:blip r:embed="rId3"/>
          <a:stretch/>
        </p:blipFill>
        <p:spPr>
          <a:xfrm>
            <a:off x="712800" y="5499000"/>
            <a:ext cx="77360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КТД «Режим дн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00"/>
                </a:solidFill>
                <a:latin typeface="Times New Roman"/>
              </a:rPr>
              <a:t>Цель проекта: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здать условия для определения каждым ребенком собственного режима дн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00"/>
                </a:solidFill>
                <a:latin typeface="Times New Roman"/>
              </a:rPr>
              <a:t>Работа над проект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1) Составить индивидуальный режим дня с помощью родителей на каждый д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2) Провести наблюдения деятельности и состояния самочувствия,  соблюдая режим д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3) Составить режим дня для одноклассников с помощью уч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4) Разделиться на группы и по каждому направлению режима дня подобрать сти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5) Оформить презентацию проекта и сделать выв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Подъём (в 7ч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аголовок слай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9040" y="160020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Моё солнышко проснулось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жно-нежно потянулось!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Глазки вытерло рукой,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Тихо топнуло ног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Да и нам пора встав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и кроватку заправля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D:\Документы\Ярулина Н.В. учебная работа\детские работы\о здоровье\Режим дня\Untitled-Scanned-01.jpg"/>
          <p:cNvPicPr/>
          <p:nvPr/>
        </p:nvPicPr>
        <p:blipFill>
          <a:blip r:embed="rId1"/>
          <a:stretch/>
        </p:blipFill>
        <p:spPr>
          <a:xfrm>
            <a:off x="357120" y="1357200"/>
            <a:ext cx="34560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Зарядка (в 7ч 10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D:\Документы\Ярулина Н.В. учебная работа\детские работы\о здоровье\Режим дня\Untitled-Scann.jpg"/>
          <p:cNvPicPr/>
          <p:nvPr/>
        </p:nvPicPr>
        <p:blipFill>
          <a:blip r:embed="rId1"/>
          <a:stretch/>
        </p:blipFill>
        <p:spPr>
          <a:xfrm>
            <a:off x="428760" y="1357200"/>
            <a:ext cx="3457440" cy="481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14288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ы зарядкой занимались: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а носочки поднимались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тянули ручки ввысь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у-ка, солнышка коснись!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 потом мы приседали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еньше мышки в норке стали.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у-ка, спрячемся от кошки: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осик прижимаем к нож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Будем сильными всег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Times New Roman"/>
              </a:rPr>
              <a:t>Зарядка – это не ерунд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Утренние процедуры </a:t>
            </a:r>
            <a:br>
              <a:rPr sz="4400"/>
            </a:b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(в 7ч 2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142880" y="1428840"/>
            <a:ext cx="45435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ам я встал сегодня ра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ам умылся из - под кра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Чистить зубы сам поше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расчёску сам нашё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еред зеркалом сто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ам себя не узна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ет, такому молод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Быть неряхой не к лиц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D:\Документы\Ярулина Н.В. учебная работа\детские работы\о здоровье\Режим дня\Untitled-Scanned-14.jpg"/>
          <p:cNvPicPr/>
          <p:nvPr/>
        </p:nvPicPr>
        <p:blipFill>
          <a:blip r:embed="rId1"/>
          <a:stretch/>
        </p:blipFill>
        <p:spPr>
          <a:xfrm>
            <a:off x="214200" y="1428840"/>
            <a:ext cx="37864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Завтрак (в 7ч 30 мин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тро ясное пришло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Завтрак утро принесло.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пушистой белочк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рехи на тарелочке.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котёнка и щенка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Два стакана молока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мышонка вкусный сыр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лисы густой кефир.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зайчат печенье,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пчелы варенье.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 в тарелки наш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ы положим кашу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D:\Документы\Ярулина Н.В. учебная работа\детские работы\о здоровье\Режим дня\Untitled-Scanned-13.jpg"/>
          <p:cNvPicPr/>
          <p:nvPr/>
        </p:nvPicPr>
        <p:blipFill>
          <a:blip r:embed="rId1"/>
          <a:stretch/>
        </p:blipFill>
        <p:spPr>
          <a:xfrm>
            <a:off x="285840" y="1143000"/>
            <a:ext cx="3929040" cy="5064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Дорога в школу (в 7ч 50 мин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Люблю родную шко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И в ней мне всё знаком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пешу в родную шко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знать о чём-то новом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D:\Документы\Ярулина Н.В. учебная работа\детские работы\о здоровье\Режим дня\Untitled-Scanned-12.jpg"/>
          <p:cNvPicPr/>
          <p:nvPr/>
        </p:nvPicPr>
        <p:blipFill>
          <a:blip r:embed="rId1"/>
          <a:stretch/>
        </p:blipFill>
        <p:spPr>
          <a:xfrm>
            <a:off x="500040" y="1357200"/>
            <a:ext cx="4000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Занятия в школе (с 8 ч до 13 ч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86160" y="1428840"/>
            <a:ext cx="44006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Школа – это светлый дом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ы с удовольствием учимся в нём.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Здесь мы учимся писать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кладывать и умножа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 школе многое узнаем: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 своём любимом крае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 горах и океанах,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О материках и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D:\Документы\Ярулина Н.В. учебная работа\детские работы\о здоровье\Режим дня\Untitled-Scanned-11.jpg"/>
          <p:cNvPicPr/>
          <p:nvPr/>
        </p:nvPicPr>
        <p:blipFill>
          <a:blip r:embed="rId1"/>
          <a:stretch/>
        </p:blipFill>
        <p:spPr>
          <a:xfrm>
            <a:off x="500040" y="1357200"/>
            <a:ext cx="35942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00"/>
                </a:solidFill>
                <a:latin typeface="Times New Roman"/>
              </a:rPr>
              <a:t>Обед (в 14ч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14880" y="1071720"/>
            <a:ext cx="44719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Ой как вкyсно пахнет щами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Кто обедать бyдет с нами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аpший бpат принёс обе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А y Сони ложки не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Разве Соня виновата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Ложка спpяталась кyда-т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Hет её ни там, ни здес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Значит можно щи не есть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Бpат сказал: «Постой немножк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от тебе дpyгая ложка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 тонкой pyчкой завито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Это ложка лyчше той!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Стала Соня щи люби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Ложкy новyю хвалить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D:\Документы\Ярулина Н.В. учебная работа\детские работы\о здоровье\Режим дня\Untitled-Scanned-10.jpg"/>
          <p:cNvPicPr/>
          <p:nvPr/>
        </p:nvPicPr>
        <p:blipFill>
          <a:blip r:embed="rId1"/>
          <a:stretch/>
        </p:blipFill>
        <p:spPr>
          <a:xfrm>
            <a:off x="428760" y="1143000"/>
            <a:ext cx="36068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Ярулина Н.В.</dc:creator>
  <dc:description/>
  <dc:language>en-US</dc:language>
  <cp:lastModifiedBy>User</cp:lastModifiedBy>
  <dcterms:modified xsi:type="dcterms:W3CDTF">2018-07-25T09:07:15Z</dcterms:modified>
  <cp:revision>33</cp:revision>
  <dc:subject>Режим дня</dc:subject>
  <dc:title>КТД по ЗОЖ</dc:title>
</cp:coreProperties>
</file>