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42A7-BF4D-46A8-A36A-BEFCCAD6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3B79-E74C-44A9-90B8-C2718C42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1F87-B4B2-4DEB-8AC8-C3BC3D9F0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02E-649B-457D-B7EF-796EB6985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FEBF-5A41-4ECE-8CE7-6CECDD0B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9B6B-F5B0-4744-8B83-F367F1C7C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46B0-F156-40AF-828D-EBFBAE7DC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59FB-9455-4529-B63D-93898F8C2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FBD7-0D9A-44C9-891C-F6F9A953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DA8A4-56AB-440D-A3FA-803D358A1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9F0D-9496-4BED-86EC-B2185DE3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6AB-097D-4242-9EF8-5ED19AEF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EF411-90FC-45C3-A085-9964A5FC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A7BDC-C277-45C1-8243-C63DA1E1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559D-EEC2-4096-B383-84FD8F5B0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4901F-051C-4094-ABBB-34F7247C2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1A84F-2B56-4CD9-A348-E7746D794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32E-B97C-487D-9E2D-4E0BA7B9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E4B-7B98-43BA-8AA9-2037706B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CC09-E853-47D8-982F-BA8D500C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95B3-6329-4787-8FB0-493072707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ACC9-27D7-4B87-8C37-D5DF391D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1091-ADA9-4229-A28F-3D6653B5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41F9-3A6B-4256-9AC5-987E1EB4B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e99249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40EE-4D46-4388-923B-7A2985D7521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b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28342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f89b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AF34-5262-46C8-8D1C-AEE2063CA4D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4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77720" y="1764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ffc000"/>
                </a:solidFill>
                <a:latin typeface="Comic Sans MS"/>
              </a:rPr>
              <a:t>Семена и луковицы многочисленных растений способны находиться в «режиме ожидания» дождя много лет. Для восстановления жизнедеятельности им достаточно всего 15 мм влаги в год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Рисунок 3" descr=""/>
          <p:cNvPicPr/>
          <p:nvPr/>
        </p:nvPicPr>
        <p:blipFill>
          <a:blip r:embed="rId1"/>
          <a:stretch/>
        </p:blipFill>
        <p:spPr>
          <a:xfrm>
            <a:off x="477720" y="1674720"/>
            <a:ext cx="8209080" cy="5091120"/>
          </a:xfrm>
          <a:prstGeom prst="rect">
            <a:avLst/>
          </a:prstGeom>
          <a:ln w="0">
            <a:noFill/>
          </a:ln>
        </p:spPr>
      </p:pic>
      <p:sp>
        <p:nvSpPr>
          <p:cNvPr id="91" name="Стрелка вправо 3">
            <a:hlinkClick r:id="rId2" action="ppaction://hlinksldjump"/>
          </p:cNvPr>
          <p:cNvSpPr/>
          <p:nvPr/>
        </p:nvSpPr>
        <p:spPr>
          <a:xfrm>
            <a:off x="8101080" y="6294600"/>
            <a:ext cx="761760" cy="484200"/>
          </a:xfrm>
          <a:prstGeom prst="rightArrow">
            <a:avLst>
              <a:gd name="adj1" fmla="val 50000"/>
              <a:gd name="adj2" fmla="val 49979"/>
            </a:avLst>
          </a:prstGeom>
          <a:solidFill>
            <a:srgbClr val="cc0000"/>
          </a:solidFill>
          <a:ln w="25560">
            <a:solidFill>
              <a:srgbClr val="95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иложение 2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2"/>
          <p:cNvSpPr/>
          <p:nvPr/>
        </p:nvSpPr>
        <p:spPr>
          <a:xfrm>
            <a:off x="468360" y="1773360"/>
            <a:ext cx="86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-2484360" y="1773360"/>
            <a:ext cx="14208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Наше путешествие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продолжается  и мы с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вами оказываемся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Comic Sans MS"/>
              </a:rPr>
              <a:t>на материке Африка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1765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omic Sans MS"/>
              </a:rPr>
              <a:t>Пустыня Калахари</a:t>
            </a:r>
            <a:r>
              <a:rPr b="1" lang="ru-RU" sz="4000" spc="-1" strike="noStrike">
                <a:solidFill>
                  <a:srgbClr val="000000"/>
                </a:solidFill>
                <a:latin typeface="Comic Sans MS"/>
              </a:rPr>
              <a:t> – это самая крупная  пустыня в Южной Африке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6" name="Содержимое 3" descr="6024.jpg"/>
          <p:cNvPicPr/>
          <p:nvPr/>
        </p:nvPicPr>
        <p:blipFill>
          <a:blip r:embed="rId1"/>
          <a:stretch/>
        </p:blipFill>
        <p:spPr>
          <a:xfrm>
            <a:off x="1590840" y="1916280"/>
            <a:ext cx="59608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57880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Калахари</a:t>
            </a:r>
            <a:r>
              <a:rPr b="1" lang="ru-RU" sz="3200" spc="-1" strike="noStrike">
                <a:solidFill>
                  <a:srgbClr val="161616"/>
                </a:solidFill>
                <a:latin typeface="Comic Sans MS"/>
              </a:rPr>
              <a:t> -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самое большое пространство в мире, сплошь покрытое песками, без каменистых участков, как в Сахаре.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Содержимое 3" descr="1012119.jpg"/>
          <p:cNvPicPr/>
          <p:nvPr/>
        </p:nvPicPr>
        <p:blipFill>
          <a:blip r:embed="rId1"/>
          <a:stretch/>
        </p:blipFill>
        <p:spPr>
          <a:xfrm>
            <a:off x="468360" y="2060640"/>
            <a:ext cx="806436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252360" y="2924280"/>
            <a:ext cx="540072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лово «Калахари», вероятнее всего, произошло от ботсванского «карри-карри» — «мучимый жаждой». Племена банту, живущие на границах пустыни, прибавляют к ее названию эпитет «кхо-фу» — «страшная». Да и все другие варианты происхождения названия сводятся к представлениям о «земле без воды» («кгалагади»)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0" name="Содержимое 3" descr="Kalahari-Desert-e1491319137488.jpg"/>
          <p:cNvPicPr/>
          <p:nvPr/>
        </p:nvPicPr>
        <p:blipFill>
          <a:blip r:embed="rId1"/>
          <a:stretch/>
        </p:blipFill>
        <p:spPr>
          <a:xfrm>
            <a:off x="4916520" y="404640"/>
            <a:ext cx="4219560" cy="633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omic Sans MS"/>
                <a:ea typeface="Adobe Devanagari"/>
              </a:rPr>
              <a:t>Главный цвет Калахари – оранжево-красный. Присутствие в песке окисей железа окрашивает пустынное пространство в розовые, красно-бурые, буро-коричневые, оранжевые и чисто красные тона.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11280" y="1596960"/>
            <a:ext cx="7885080" cy="52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6T12:29:06Z</dcterms:created>
  <dc:creator>bik</dc:creator>
  <dc:description/>
  <dc:language>en-US</dc:language>
  <cp:lastModifiedBy>Nadya</cp:lastModifiedBy>
  <dcterms:modified xsi:type="dcterms:W3CDTF">2018-07-25T20:26:07Z</dcterms:modified>
  <cp:revision>146</cp:revision>
  <dc:subject/>
  <dc:title>Слайд 1</dc:title>
</cp:coreProperties>
</file>