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4462-6680-4CFF-B97E-4551E307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7D6C-1C62-4EB8-AC78-3EAE52BE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8A7D-AABD-4673-8F77-D4206DC9D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4A16-19B8-4843-A77F-D971F5E4C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7DF2-5663-44D0-BDFE-0451A069A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32971-07A7-4E75-957F-F476C047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6F73-4546-44FA-9432-7F212BCD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87CC0-5B61-42D2-8022-C15D15DC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F67C1-ECF8-4E26-87EC-BF5E72F6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F498-66F1-43A6-AE59-6933FEB7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224C-578A-480F-898E-88CA51DE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4C0A-362B-4EA6-9B8B-604D80E4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A3C5-0FE7-4EFA-AD54-3EB3FE38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942C-EADD-4F6C-BBD9-5C03C804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3FFB-C879-4DCF-9431-9C2840D0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F0CD7-C878-4A94-891A-CFD0CF49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945F-83B4-4B70-8A98-E631C2198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531E-A727-4345-9EDD-342D75EC6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1FDC-E940-4549-9326-572D3FBCD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1EDA-9C82-4A2F-883D-AD9639CE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284C-B92E-4167-BD1A-564A5C55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309F-F3A7-4C3A-9229-86E9A6EC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2D08-0C28-4646-A038-9B4FA1AE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52B7-D476-4B84-A873-AB40FA67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9b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e99249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2C50-CAAF-4827-A3D5-0CFA882B8C1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9b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28342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7299F-6D58-43C6-B826-7D773D740F4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77720" y="1764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Comic Sans MS"/>
              </a:rPr>
              <a:t>Семена и луковицы многочисленных растений способны находиться в «режиме ожидания» дождя много лет. Для восстановления жизнедеятельности им достаточно всего 15 мм влаги в год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Рисунок 3" descr=""/>
          <p:cNvPicPr/>
          <p:nvPr/>
        </p:nvPicPr>
        <p:blipFill>
          <a:blip r:embed="rId1"/>
          <a:stretch/>
        </p:blipFill>
        <p:spPr>
          <a:xfrm>
            <a:off x="477720" y="1674720"/>
            <a:ext cx="8209080" cy="5091120"/>
          </a:xfrm>
          <a:prstGeom prst="rect">
            <a:avLst/>
          </a:prstGeom>
          <a:ln w="0">
            <a:noFill/>
          </a:ln>
        </p:spPr>
      </p:pic>
      <p:sp>
        <p:nvSpPr>
          <p:cNvPr id="91" name="Стрелка вправо 3">
            <a:hlinkClick r:id="rId2" action="ppaction://hlinksldjump"/>
          </p:cNvPr>
          <p:cNvSpPr/>
          <p:nvPr/>
        </p:nvSpPr>
        <p:spPr>
          <a:xfrm>
            <a:off x="8101080" y="6294600"/>
            <a:ext cx="761760" cy="48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c0000"/>
          </a:solidFill>
          <a:ln w="25560">
            <a:solidFill>
              <a:srgbClr val="9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Приложение 2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468360" y="1773360"/>
            <a:ext cx="86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-2484360" y="1773360"/>
            <a:ext cx="1420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Comic Sans MS"/>
              </a:rPr>
              <a:t>Наше путешествие 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Comic Sans MS"/>
              </a:rPr>
              <a:t>продолжается  и мы с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Comic Sans MS"/>
              </a:rPr>
              <a:t>вами оказываемся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Comic Sans MS"/>
              </a:rPr>
              <a:t>на материке Африк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1765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Пустыня Калахари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– это самая крупная  пустыня в Южной Африк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Содержимое 3" descr="6024.jpg"/>
          <p:cNvPicPr/>
          <p:nvPr/>
        </p:nvPicPr>
        <p:blipFill>
          <a:blip r:embed="rId1"/>
          <a:stretch/>
        </p:blipFill>
        <p:spPr>
          <a:xfrm>
            <a:off x="1590840" y="1916280"/>
            <a:ext cx="59608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5788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Калахари</a:t>
            </a:r>
            <a:r>
              <a:rPr b="1" lang="ru-RU" sz="3200" spc="-1" strike="noStrike">
                <a:solidFill>
                  <a:srgbClr val="161616"/>
                </a:solidFill>
                <a:latin typeface="Comic Sans MS"/>
              </a:rPr>
              <a:t> - </a:t>
            </a: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самое большое пространство в мире, сплошь покрытое песками, без каменистых участков, как в Сахар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Содержимое 3" descr="1012119.jpg"/>
          <p:cNvPicPr/>
          <p:nvPr/>
        </p:nvPicPr>
        <p:blipFill>
          <a:blip r:embed="rId1"/>
          <a:stretch/>
        </p:blipFill>
        <p:spPr>
          <a:xfrm>
            <a:off x="468360" y="2060640"/>
            <a:ext cx="806436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252360" y="2924280"/>
            <a:ext cx="540072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лово «Калахари», вероятнее всего, произошло от ботсванского «карри-карри» — «мучимый жаждой». Племена банту, живущие на границах пустыни, прибавляют к ее названию эпитет «кхо-фу» — «страшная». Да и все другие варианты происхождения названия сводятся к представлениям о «земле без воды» («кгалагади»)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0" name="Содержимое 3" descr="Kalahari-Desert-e1491319137488.jpg"/>
          <p:cNvPicPr/>
          <p:nvPr/>
        </p:nvPicPr>
        <p:blipFill>
          <a:blip r:embed="rId1"/>
          <a:stretch/>
        </p:blipFill>
        <p:spPr>
          <a:xfrm>
            <a:off x="4916520" y="404640"/>
            <a:ext cx="421956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  <a:ea typeface="Adobe Devanagari"/>
              </a:rPr>
              <a:t>Главный цвет Калахари – оранжево-красный. Присутствие в песке окисей железа окрашивает пустынное пространство в розовые, красно-бурые, буро-коричневые, оранжевые и чисто красные тона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611280" y="1596960"/>
            <a:ext cx="788508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2:29:06Z</dcterms:created>
  <dc:creator>bik</dc:creator>
  <dc:description/>
  <dc:language>en-US</dc:language>
  <cp:lastModifiedBy>Nadya</cp:lastModifiedBy>
  <dcterms:modified xsi:type="dcterms:W3CDTF">2018-07-25T20:26:07Z</dcterms:modified>
  <cp:revision>146</cp:revision>
  <dc:subject/>
  <dc:title>Слайд 1</dc:title>
</cp:coreProperties>
</file>