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041D-BC74-41BE-95B2-47E780244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C137-5C29-424D-8D65-FE0DE8E6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5EF9-5D8E-4297-AFE1-B158EF56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F6F4-C2FB-4E01-B8DE-1106FEA17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C438-CE82-49CF-9B2D-49ED0AFB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CC36-D9CF-46CF-A6C0-470D089BE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B2BC-DCB6-42F9-91E1-45AC7A50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FAFA8-0725-4F28-B4A1-96F2C589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6C03-78E0-4203-BCB0-23405329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AED2-FAAB-45F8-ABCD-64366872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C490-C654-410D-9CD7-363ECDC3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13E-C802-4A29-BD77-9A35A13E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5271E-8CC2-4C60-8980-59A3228D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6BB2-FAFA-4C1E-AFE0-320EBF7F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E128F-7469-47D0-B303-6806B6CC4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C7E7-22C8-4F21-939C-2354D655E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536C-DDBD-467A-9821-972BC0B1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4C3B7-A1BD-47DD-BBFF-CFA0DA7C4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A29D0-A800-423A-BD7E-9AECE5082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933EE-73C7-4B4D-96D0-51C5D475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CB477-6004-4D15-8BBF-574832565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EEBD1-3812-4E46-AD77-7E526247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A38-41EE-42D9-8712-2E02830C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C02A6-9B53-455A-B458-A0575887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638BF-E62A-43C5-9120-B3BDE433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ABE09-8F30-4B90-8B6B-BA528CDD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5451D-F96A-4C8A-82F9-ECF996FD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8BBAB-1023-4C8F-8802-D1DC221C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AA93-B13A-49BE-898C-F71B7E3E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13492-E244-4D3D-87C1-EF5804CE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54D41-202B-49EC-A0F5-AB6C066E5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0D24A-DE79-4879-90BD-20A5AD45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9C3CE-2F40-4204-BFD6-BD2F3A75E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24F5-C915-4CBF-8CE5-AD59B232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84DEA-9FCE-4E3C-BCF3-E4AFD150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167FC-FBB6-4ECC-964E-3D9E0152B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7B4DB-6350-4668-B6E2-459C1DC6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80A05-3E18-44B7-85CC-BB5C06F4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EFDFB-949B-4931-9136-44ACCE70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5FE09-37D0-486A-A990-F0BA9AC8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7D3D1-F8FE-429B-97CF-16AD5985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0A4DA-02C7-4703-B1B4-1CEE5D3E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B196C-03EA-4005-976E-9D3EA031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4B1E-E51B-4A2E-9D0E-D1F9E855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427F-B4F0-4139-8BEE-B2CB3CC6A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85C0-05E4-44B8-8730-FAC9B2A7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DC61-42D5-4C44-AD5C-F3CA918F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B7A5-0A4B-448B-A818-122A6B9C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99249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803B-4C2A-4D01-8E1A-492669A5BD2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99249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ED901-629C-4928-8B0D-8AF04EB4A5A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28342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AC15-3C0F-446C-ADC7-B457AD0533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3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28342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E7BF2-ABA2-4609-B5F1-1FA5E967F14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Столицей пустыни является город Ганзи, который находится практически на южном тропике. В нём туристы могут принять участие в фермерском фестивале и приобрести бушменские сувенир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75640" cy="604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324000" y="206280"/>
            <a:ext cx="868356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360" y="-360"/>
            <a:ext cx="43196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В поэме Корнея Чуковского «Айболит» больные звери сообщают доктору, что они живут в Африке: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Мы живем на Занзибаре, в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Калахари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и Сахаре, на горе Фернандо-По, где гуляет Гиппо-По, по широкой Лимпопо»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Рисунок 3" descr="aybolit-illyustratsii9.jpg"/>
          <p:cNvPicPr/>
          <p:nvPr/>
        </p:nvPicPr>
        <p:blipFill>
          <a:blip r:embed="rId1"/>
          <a:stretch/>
        </p:blipFill>
        <p:spPr>
          <a:xfrm>
            <a:off x="4211640" y="430200"/>
            <a:ext cx="4789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88000" y="0"/>
            <a:ext cx="4356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лахари растёт такое растение, как вельвичия. Она собой представляет самое маленькое дерево в мире. У этого дерева есть два листа которые растут всю его жизн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 это деревот живёт около двух тысяч лет. Также вельвичия можно увидеть только в Калахари и её округе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3" name="Рисунок 3" descr="00004.jpg"/>
          <p:cNvPicPr/>
          <p:nvPr/>
        </p:nvPicPr>
        <p:blipFill>
          <a:blip r:embed="rId1"/>
          <a:stretch/>
        </p:blipFill>
        <p:spPr>
          <a:xfrm>
            <a:off x="250920" y="549360"/>
            <a:ext cx="4608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На территории Калахари находится уникальная, никуда не впадающая река Окаванго, дельта которой обеспечивает водой многочисленный животный мир пустыни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5" name="Рисунок 3" descr="Okavango-Delta-Okavango-River.jpg"/>
          <p:cNvPicPr/>
          <p:nvPr/>
        </p:nvPicPr>
        <p:blipFill>
          <a:blip r:embed="rId1"/>
          <a:stretch/>
        </p:blipFill>
        <p:spPr>
          <a:xfrm>
            <a:off x="539640" y="1793880"/>
            <a:ext cx="7775640" cy="4751280"/>
          </a:xfrm>
          <a:prstGeom prst="rect">
            <a:avLst/>
          </a:prstGeom>
          <a:ln w="0">
            <a:noFill/>
          </a:ln>
        </p:spPr>
      </p:pic>
      <p:sp>
        <p:nvSpPr>
          <p:cNvPr id="186" name="Стрелка вправо 1">
            <a:hlinkClick r:id="rId2" action="ppaction://hlinksldjump"/>
          </p:cNvPr>
          <p:cNvSpPr/>
          <p:nvPr/>
        </p:nvSpPr>
        <p:spPr>
          <a:xfrm>
            <a:off x="8166240" y="6281640"/>
            <a:ext cx="977760" cy="486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Приложение 2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omic Sans MS"/>
              </a:rPr>
              <a:t>Далее по Южному Тропику мы оказываемся на материке Австрали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91765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24000" y="274320"/>
            <a:ext cx="98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Большая песчаная пустыня-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торая по величине в Австрал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1326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1440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Особенность Большой Песчаной пустыни, нигде более в мире не встречающаяся: вытянутые в широтном направлении гряды красного песка высотой до 15 м и длиной до 40-50 км. Такое расположение песков сформировано господствующими пассатными ветрами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042920" y="1893960"/>
            <a:ext cx="71294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252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Улуру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- объект Всемирного наследия ЮНЕСКО, одна из главных природных достопримечательностей Австралии, посмотреть на которую ежегодно приезжают более 400 тысяч человек. Улуру - это оранжево-коричневая скала (оранжевый оттенок Улуру придаёт содержащийся в её составе оксид железа), способная менять цвет в разное время суток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05168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29:06Z</dcterms:created>
  <dc:creator>bik</dc:creator>
  <dc:description/>
  <dc:language>en-US</dc:language>
  <cp:lastModifiedBy>Nadya</cp:lastModifiedBy>
  <dcterms:modified xsi:type="dcterms:W3CDTF">2018-07-25T20:27:48Z</dcterms:modified>
  <cp:revision>146</cp:revision>
  <dc:subject/>
  <dc:title>Слайд 1</dc:title>
</cp:coreProperties>
</file>