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6682-4FF5-4EE4-858A-F9476A5DF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5B7-06CE-4EBB-BF2B-A63A1D2A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A556-7EA0-4187-ADC8-2BCAD4FF7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6501-AAEB-4AB3-B231-75023E33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8B1AE-8A8B-48FF-84EB-064BD52B1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FF03-4126-4A54-8B2B-4129FB3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E4A2-FECB-4B61-A95D-694C954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0D608-4CD4-4A77-9A02-7440817A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69C67-DB2C-4961-9D27-AC9B0FA7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97E4-D8D2-4A7D-B1FB-71CDD583C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9399-18C5-41EE-A671-FD5EAF2C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0E8-CBF1-46EE-8CFB-93CFD4DE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A5E7-C578-405A-9E46-4BB0731E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69071-F0EF-409F-A55F-800F1E16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E022-68E5-4E3C-B27F-1297B514E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4865-CB43-4886-8C3F-B6DF80CF5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6DA5-2FBD-47C8-9006-C7022E80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52E9A-4C94-403D-AD98-0FF87B2A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16163-3D30-4E11-A51A-22BBF22F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76366-A72C-4AE6-A2EF-EEAEB807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DF472-AE23-4BA2-9B83-5ED9A2A1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25BD9-3794-4F85-9A10-22C0EA18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A43E-0D7C-4E11-9D8D-26A938122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3A95D-84EC-42D9-B265-E2115DDC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D45AB-000E-4892-BF73-F1F85DEE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BFB20-A11E-483C-B536-416DF8EA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79022-C3B0-475C-9C34-D85C07B5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167260-D107-440D-9E93-F3F4B733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E7FA3B-90B3-46D3-B70E-EBD06FEA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195D-FF72-48C6-9695-FC46A1F72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F9332D-ED75-4961-A292-5B9A87AD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BA437-90DF-42AC-94D8-8628633E2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BB62B-A2E8-4567-8D4F-266F939F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2115-37FC-4DEB-80A3-BB5F2D22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F020F-F77D-4FA2-9062-30AFA6809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FFAB4-F4A2-4CA6-BDC3-65E3F853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B05C6-DE54-4422-BA5A-1099C4BD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7FC3E-B2F5-41FF-8A14-896A0FDE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DD08F-D417-42DB-8D3E-6B19A4F3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8FBFD-D21F-4B11-9905-21CC010A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861E-07BE-4404-A1EF-FD014AD6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BE4B1-1A8D-4712-9DB9-31F3A2993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5E91D-A0D7-4810-8949-15326027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8157-3488-4A5A-A828-ABF853B2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8768-CF3F-469D-A065-2F3DC4DFD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C55C-0298-49B9-8065-59D88EF7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068BB-7463-4A8E-8559-4CF883E9D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3FB3-4B6C-4D45-A2EF-E772B17A2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03AB-5820-4BAA-975D-2D75C2F1ADC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3AF4-F925-49F9-8EF7-35E12625558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5218-4397-4E09-97D2-48E7A6CF1FA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E25-713E-4C15-9113-E05C6074E5A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Столицей пустыни является город Ганзи, который находится практически на южном тропике. В нём туристы могут принять участие в фермерском фестивале и приобрести бушменские сувениры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2" descr=""/>
          <p:cNvPicPr/>
          <p:nvPr/>
        </p:nvPicPr>
        <p:blipFill>
          <a:blip r:embed="rId1"/>
          <a:stretch/>
        </p:blipFill>
        <p:spPr>
          <a:xfrm>
            <a:off x="324000" y="189000"/>
            <a:ext cx="8675640" cy="604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2"/>
          <a:stretch/>
        </p:blipFill>
        <p:spPr>
          <a:xfrm>
            <a:off x="324000" y="206280"/>
            <a:ext cx="8683560" cy="604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360" y="-360"/>
            <a:ext cx="43196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В поэме Корнея Чуковского «Айболит» больные звери сообщают доктору, что они живут в Африке: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«Мы живем на Занзибаре, в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Comic Sans MS"/>
              </a:rPr>
              <a:t>Калахари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и Сахаре, на горе Фернандо-По, где гуляет Гиппо-По, по широкой Лимпопо»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1" name="Рисунок 3" descr="aybolit-illyustratsii9.jpg"/>
          <p:cNvPicPr/>
          <p:nvPr/>
        </p:nvPicPr>
        <p:blipFill>
          <a:blip r:embed="rId1"/>
          <a:stretch/>
        </p:blipFill>
        <p:spPr>
          <a:xfrm>
            <a:off x="4211640" y="430200"/>
            <a:ext cx="4789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88000" y="0"/>
            <a:ext cx="4356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 Калахари растёт такое растение, как вельвичия. Она собой представляет самое маленькое дерево в мире. У этого дерева есть два листа которые растут всю его жизнь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 это деревот живёт около двух тысяч лет. Также вельвичия можно увидеть только в Калахари и её округе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3" name="Рисунок 3" descr="00004.jpg"/>
          <p:cNvPicPr/>
          <p:nvPr/>
        </p:nvPicPr>
        <p:blipFill>
          <a:blip r:embed="rId1"/>
          <a:stretch/>
        </p:blipFill>
        <p:spPr>
          <a:xfrm>
            <a:off x="250920" y="549360"/>
            <a:ext cx="4608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omic Sans MS"/>
              </a:rPr>
              <a:t>На территории Калахари находится уникальная, никуда не впадающая река Окаванго, дельта которой обеспечивает водой многочисленный животный мир пустыни.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85" name="Рисунок 3" descr="Okavango-Delta-Okavango-River.jpg"/>
          <p:cNvPicPr/>
          <p:nvPr/>
        </p:nvPicPr>
        <p:blipFill>
          <a:blip r:embed="rId1"/>
          <a:stretch/>
        </p:blipFill>
        <p:spPr>
          <a:xfrm>
            <a:off x="539640" y="1793880"/>
            <a:ext cx="7775640" cy="4751280"/>
          </a:xfrm>
          <a:prstGeom prst="rect">
            <a:avLst/>
          </a:prstGeom>
          <a:ln w="0">
            <a:noFill/>
          </a:ln>
        </p:spPr>
      </p:pic>
      <p:sp>
        <p:nvSpPr>
          <p:cNvPr id="186" name="Стрелка вправо 1">
            <a:hlinkClick r:id="rId2" action="ppaction://hlinksldjump"/>
          </p:cNvPr>
          <p:cNvSpPr/>
          <p:nvPr/>
        </p:nvSpPr>
        <p:spPr>
          <a:xfrm>
            <a:off x="8166240" y="6281640"/>
            <a:ext cx="977760" cy="486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Comic Sans MS"/>
              </a:rPr>
              <a:t>Далее по Южному Тропику мы оказываемся на материке Австралия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91765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8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324000" y="274320"/>
            <a:ext cx="98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ffff00"/>
                </a:solidFill>
                <a:latin typeface="Comic Sans MS"/>
              </a:rPr>
              <a:t>Большая песчаная пустыня- 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вторая по величине в Австрали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132600" cy="48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14400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Особенность Большой Песчаной пустыни, нигде более в мире не встречающаяся: вытянутые в широтном направлении гряды красного песка высотой до 15 м и длиной до 40-50 км. Такое расположение песков сформировано господствующими пассатными ветрами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2" name="Picture 2" descr=""/>
          <p:cNvPicPr/>
          <p:nvPr/>
        </p:nvPicPr>
        <p:blipFill>
          <a:blip r:embed="rId1"/>
          <a:stretch/>
        </p:blipFill>
        <p:spPr>
          <a:xfrm>
            <a:off x="1042920" y="1893960"/>
            <a:ext cx="712944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2520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Улуру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- объект Всемирного наследия ЮНЕСКО, одна из главных природных достопримечательностей Австралии, посмотреть на которую ежегодно приезжают более 400 тысяч человек. Улуру - это оранжево-коричневая скала (оранжевый оттенок Улуру придаёт содержащийся в её составе оксид железа), способная менять цвет в разное время суток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94" name="Picture 2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05168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7:48Z</dcterms:modified>
  <cp:revision>146</cp:revision>
  <dc:subject/>
  <dc:title>Слайд 1</dc:title>
</cp:coreProperties>
</file>