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6D5B-E0BA-4233-BBA0-F2F2912D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4F98-DF44-45C0-A6F7-9636265D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3E4-C84E-4A47-B94A-AE5F08927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230-835A-4835-A0C8-31CEA4122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B220-489A-489E-9CAC-5BBBBCF67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19A3A-2D95-4255-B493-033D6857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4DE4-BBC3-4D87-B72C-E37185D6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C48B-DA0A-483C-97DD-8AA8BC5C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B105-7A4C-45EC-932D-87B41E3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073D-B0A2-4983-AABA-2E4C9B94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6F89-547F-4497-82ED-60509F64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1BE-71CC-45DF-8C48-CCA2F761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8C27-7006-4E8E-BDD4-16B01F28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039D1-842E-49FB-BBAA-AAC7B1AB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4114D-3AA6-4A85-90B3-3C355E3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C93D7-6E07-460B-A8C6-0F8D5CFD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1DBD9-BC72-4EF0-933C-DB0EB5AB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EF25-1036-40F3-9264-87DF3863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1D4-05A7-46FA-B365-B8AE1468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588-4982-48B9-833D-1E4596D2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77F4-85FF-4AF0-BF74-E3E164FD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E2F-10B7-4698-B1B2-1EAB58FC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57DE-2CF3-4055-B4DD-26576FDE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E36F-AA49-4D63-8B97-C8AA6CC4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7D4D-5147-49E8-B44E-DDDB977AD44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5BD4-4CBC-4E6F-9D2F-5EE3ADD1B4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omic Sans MS"/>
              </a:rPr>
              <a:t>Задания для ребят.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omic Sans MS"/>
              </a:rPr>
              <a:t>Кроссворд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  <a:gridCol w="414360"/>
                <a:gridCol w="412920"/>
                <a:gridCol w="414000"/>
                <a:gridCol w="414360"/>
                <a:gridCol w="414360"/>
                <a:gridCol w="412920"/>
                <a:gridCol w="414360"/>
                <a:gridCol w="414360"/>
                <a:gridCol w="414360"/>
                <a:gridCol w="414360"/>
                <a:gridCol w="412560"/>
                <a:gridCol w="414360"/>
                <a:gridCol w="41436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Стрелка вправо 3"/>
          <p:cNvSpPr/>
          <p:nvPr/>
        </p:nvSpPr>
        <p:spPr>
          <a:xfrm rot="5400000">
            <a:off x="2488320" y="187920"/>
            <a:ext cx="618840" cy="341280"/>
          </a:xfrm>
          <a:prstGeom prst="rightArrow">
            <a:avLst>
              <a:gd name="adj1" fmla="val 57565"/>
              <a:gd name="adj2" fmla="val 23522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52760" y="765000"/>
          <a:ext cx="431640" cy="410400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600280" y="4699080"/>
            <a:ext cx="507204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3554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Стрелка вправо 3"/>
          <p:cNvSpPr/>
          <p:nvPr/>
        </p:nvSpPr>
        <p:spPr>
          <a:xfrm>
            <a:off x="1606680" y="800280"/>
            <a:ext cx="617400" cy="34128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596360" y="4778280"/>
            <a:ext cx="1203120" cy="1708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5"/>
          <p:cNvSpPr/>
          <p:nvPr/>
        </p:nvSpPr>
        <p:spPr>
          <a:xfrm>
            <a:off x="2627280" y="5216400"/>
            <a:ext cx="3743280" cy="1641600"/>
          </a:xfrm>
          <a:prstGeom prst="wedgeEllipseCallout">
            <a:avLst>
              <a:gd name="adj1" fmla="val 84194"/>
              <a:gd name="adj2" fmla="val -39680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линдриче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бор для сбор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пустыне Атак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249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Стрелка вправо 3"/>
          <p:cNvSpPr/>
          <p:nvPr/>
        </p:nvSpPr>
        <p:spPr>
          <a:xfrm>
            <a:off x="539640" y="1484280"/>
            <a:ext cx="617760" cy="341280"/>
          </a:xfrm>
          <a:prstGeom prst="rightArrow">
            <a:avLst>
              <a:gd name="adj1" fmla="val 57565"/>
              <a:gd name="adj2" fmla="val 2354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268360" y="4811760"/>
            <a:ext cx="52740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5346720" y="2065320"/>
            <a:ext cx="3610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Стрелка вправо 3"/>
          <p:cNvSpPr/>
          <p:nvPr/>
        </p:nvSpPr>
        <p:spPr>
          <a:xfrm>
            <a:off x="539640" y="2060640"/>
            <a:ext cx="617760" cy="341280"/>
          </a:xfrm>
          <a:prstGeom prst="rightArrow">
            <a:avLst>
              <a:gd name="adj1" fmla="val 57565"/>
              <a:gd name="adj2" fmla="val 2354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sp>
        <p:nvSpPr>
          <p:cNvPr id="120" name="AutoShape 85"/>
          <p:cNvSpPr/>
          <p:nvPr/>
        </p:nvSpPr>
        <p:spPr>
          <a:xfrm>
            <a:off x="2411280" y="4605480"/>
            <a:ext cx="3959280" cy="2252520"/>
          </a:xfrm>
          <a:prstGeom prst="wedgeEllipseCallout">
            <a:avLst>
              <a:gd name="adj1" fmla="val 78643"/>
              <a:gd name="adj2" fmla="val -22365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каком произведении К. Чуковского есть упоминание о пустыне Калахар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«Мы живем на Занзибаре, в Калахари и Сахаре, на горе Фернандо-По, где гуляет Гиппо-По, по широкой Лимпопо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508720" y="1549440"/>
            <a:ext cx="2395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30:17Z</dcterms:modified>
  <cp:revision>147</cp:revision>
  <dc:subject/>
  <dc:title>Слайд 1</dc:title>
</cp:coreProperties>
</file>