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8397-2C00-4CA8-B04C-DB39B4FB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A94-8A9A-43E8-8443-2DA1A871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AE2E-B752-48C3-813C-19E05D1D3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CD84-AB0D-46AC-998F-1C46EDBCA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CDEA-823F-418B-B1BD-6226B76DB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6469-A690-4AE6-9E9B-342E3FC0F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88803-FCEA-4FAD-BB3F-DAB51657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F765-E31A-455A-82E5-C42C6FA3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1AA2-07F5-4351-A20C-E241706E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E017-496F-4EF4-9442-0630A0F96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CD93-1F5F-4ADB-A52C-C602552B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380C-9002-4712-A860-2A7B0BCF7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F8EE8-8C12-4271-922A-4C32B65B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13E93-8092-4925-A34D-DC0101A03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8C14-F801-4423-A800-B327D00B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1247F-248F-479B-A2A0-CD3B2B3C8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F8E8-C0F0-4794-B186-AA77381C1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B0C-E5F3-4552-9860-79714FD4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35B-5166-4763-8BE7-2CEC43397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49D-5BEE-4949-874D-973544BF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DC38-81B1-4B96-B734-C699F7D0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660-ABC0-44CC-8184-8278DBEE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F3D-1270-4E31-B00B-3F4E8E28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D532-7970-4594-AFFB-04394C29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C7550-4D81-4C6C-BABD-51277A45C68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7D1F-1419-4449-9B12-B3A74EF8054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ff00"/>
                </a:solidFill>
                <a:latin typeface="Comic Sans MS"/>
              </a:rPr>
              <a:t>Задания для ребят.</a:t>
            </a:r>
            <a:br>
              <a:rPr sz="7200"/>
            </a:br>
            <a:r>
              <a:rPr b="1" lang="ru-RU" sz="7200" spc="-1" strike="noStrike">
                <a:solidFill>
                  <a:srgbClr val="ffff00"/>
                </a:solidFill>
                <a:latin typeface="Comic Sans MS"/>
              </a:rPr>
              <a:t>Кроссворд</a:t>
            </a: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414360"/>
                <a:gridCol w="414360"/>
                <a:gridCol w="412560"/>
                <a:gridCol w="414360"/>
                <a:gridCol w="414360"/>
                <a:gridCol w="414360"/>
                <a:gridCol w="414360"/>
                <a:gridCol w="412920"/>
                <a:gridCol w="414000"/>
                <a:gridCol w="414360"/>
                <a:gridCol w="414360"/>
                <a:gridCol w="412920"/>
                <a:gridCol w="414360"/>
                <a:gridCol w="414360"/>
                <a:gridCol w="414360"/>
                <a:gridCol w="414360"/>
                <a:gridCol w="412560"/>
                <a:gridCol w="414360"/>
                <a:gridCol w="41436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Стрелка вправо 3"/>
          <p:cNvSpPr/>
          <p:nvPr/>
        </p:nvSpPr>
        <p:spPr>
          <a:xfrm rot="5400000">
            <a:off x="2488320" y="187920"/>
            <a:ext cx="618840" cy="341280"/>
          </a:xfrm>
          <a:prstGeom prst="rightArrow">
            <a:avLst>
              <a:gd name="adj1" fmla="val 57565"/>
              <a:gd name="adj2" fmla="val 23522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552760" y="765000"/>
          <a:ext cx="431640" cy="4104000"/>
        </p:xfrm>
        <a:graphic>
          <a:graphicData uri="http://schemas.openxmlformats.org/drawingml/2006/table">
            <a:tbl>
              <a:tblPr/>
              <a:tblGrid>
                <a:gridCol w="4316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600280" y="4699080"/>
            <a:ext cx="5072040" cy="1663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"/>
          <p:cNvPicPr/>
          <p:nvPr/>
        </p:nvPicPr>
        <p:blipFill>
          <a:blip r:embed="rId3"/>
          <a:stretch/>
        </p:blipFill>
        <p:spPr>
          <a:xfrm>
            <a:off x="5435640" y="1916280"/>
            <a:ext cx="35542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Стрелка вправо 3"/>
          <p:cNvSpPr/>
          <p:nvPr/>
        </p:nvSpPr>
        <p:spPr>
          <a:xfrm>
            <a:off x="1606680" y="800280"/>
            <a:ext cx="617400" cy="341280"/>
          </a:xfrm>
          <a:prstGeom prst="rightArrow">
            <a:avLst>
              <a:gd name="adj1" fmla="val 57565"/>
              <a:gd name="adj2" fmla="val 23526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7596360" y="4778280"/>
            <a:ext cx="1203120" cy="170820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85"/>
          <p:cNvSpPr/>
          <p:nvPr/>
        </p:nvSpPr>
        <p:spPr>
          <a:xfrm>
            <a:off x="2627280" y="5216400"/>
            <a:ext cx="3743280" cy="1641600"/>
          </a:xfrm>
          <a:prstGeom prst="wedgeEllipseCallout">
            <a:avLst>
              <a:gd name="adj1" fmla="val 84194"/>
              <a:gd name="adj2" fmla="val -39680"/>
            </a:avLst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Цилиндрически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рибор для сбора вод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пустыне Атакам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03" name="Picture 4" descr=""/>
          <p:cNvPicPr/>
          <p:nvPr/>
        </p:nvPicPr>
        <p:blipFill>
          <a:blip r:embed="rId2"/>
          <a:stretch/>
        </p:blipFill>
        <p:spPr>
          <a:xfrm>
            <a:off x="5867280" y="1628640"/>
            <a:ext cx="22496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Стрелка вправо 3"/>
          <p:cNvSpPr/>
          <p:nvPr/>
        </p:nvSpPr>
        <p:spPr>
          <a:xfrm>
            <a:off x="539640" y="1484280"/>
            <a:ext cx="617760" cy="341280"/>
          </a:xfrm>
          <a:prstGeom prst="rightArrow">
            <a:avLst>
              <a:gd name="adj1" fmla="val 57565"/>
              <a:gd name="adj2" fmla="val 23540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2268360" y="4811760"/>
            <a:ext cx="5274000" cy="1438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5346720" y="2065320"/>
            <a:ext cx="36100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68360" y="765000"/>
          <a:ext cx="7866000" cy="4104000"/>
        </p:xfrm>
        <a:graphic>
          <a:graphicData uri="http://schemas.openxmlformats.org/drawingml/2006/table">
            <a:tbl>
              <a:tblPr/>
              <a:tblGrid>
                <a:gridCol w="393480"/>
                <a:gridCol w="393840"/>
                <a:gridCol w="39204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  <a:gridCol w="393840"/>
                <a:gridCol w="392040"/>
                <a:gridCol w="393480"/>
                <a:gridCol w="393840"/>
              </a:tblGrid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1872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6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Стрелка вправо 3"/>
          <p:cNvSpPr/>
          <p:nvPr/>
        </p:nvSpPr>
        <p:spPr>
          <a:xfrm>
            <a:off x="539640" y="2060640"/>
            <a:ext cx="617760" cy="341280"/>
          </a:xfrm>
          <a:prstGeom prst="rightArrow">
            <a:avLst>
              <a:gd name="adj1" fmla="val 57565"/>
              <a:gd name="adj2" fmla="val 23540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411280" y="800280"/>
          <a:ext cx="454320" cy="4068720"/>
        </p:xfrm>
        <a:graphic>
          <a:graphicData uri="http://schemas.openxmlformats.org/drawingml/2006/table">
            <a:tbl>
              <a:tblPr/>
              <a:tblGrid>
                <a:gridCol w="454320"/>
              </a:tblGrid>
              <a:tr h="580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т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2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п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к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7451640" y="4573440"/>
            <a:ext cx="1347840" cy="1913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2843280" y="765000"/>
          <a:ext cx="5462640" cy="622440"/>
        </p:xfrm>
        <a:graphic>
          <a:graphicData uri="http://schemas.openxmlformats.org/drawingml/2006/table">
            <a:tbl>
              <a:tblPr/>
              <a:tblGrid>
                <a:gridCol w="390600"/>
                <a:gridCol w="390240"/>
                <a:gridCol w="389160"/>
                <a:gridCol w="390600"/>
                <a:gridCol w="390240"/>
                <a:gridCol w="390600"/>
                <a:gridCol w="390600"/>
                <a:gridCol w="388800"/>
                <a:gridCol w="390600"/>
                <a:gridCol w="390600"/>
                <a:gridCol w="390600"/>
                <a:gridCol w="388800"/>
                <a:gridCol w="390600"/>
                <a:gridCol w="390600"/>
              </a:tblGrid>
              <a:tr h="622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е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ь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258920" y="1365120"/>
          <a:ext cx="1944720" cy="581040"/>
        </p:xfrm>
        <a:graphic>
          <a:graphicData uri="http://schemas.openxmlformats.org/drawingml/2006/table">
            <a:tbl>
              <a:tblPr/>
              <a:tblGrid>
                <a:gridCol w="393840"/>
                <a:gridCol w="393480"/>
                <a:gridCol w="393840"/>
                <a:gridCol w="392040"/>
                <a:gridCol w="371520"/>
              </a:tblGrid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р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sp>
        <p:nvSpPr>
          <p:cNvPr id="120" name="AutoShape 85"/>
          <p:cNvSpPr/>
          <p:nvPr/>
        </p:nvSpPr>
        <p:spPr>
          <a:xfrm>
            <a:off x="2411280" y="4605480"/>
            <a:ext cx="3959280" cy="2252520"/>
          </a:xfrm>
          <a:prstGeom prst="wedgeEllipseCallout">
            <a:avLst>
              <a:gd name="adj1" fmla="val 78643"/>
              <a:gd name="adj2" fmla="val -22365"/>
            </a:avLst>
          </a:prstGeom>
          <a:gradFill rotWithShape="0">
            <a:gsLst>
              <a:gs pos="0">
                <a:srgbClr val="666666"/>
              </a:gs>
              <a:gs pos="50000">
                <a:srgbClr val="dddddd"/>
              </a:gs>
              <a:gs pos="100000">
                <a:srgbClr val="666666"/>
              </a:gs>
            </a:gsLst>
            <a:lin ang="5400000"/>
          </a:gra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 каком произведении К. Чуковского есть упоминание о пустыне Калахар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«Мы живем на Занзибаре, в Калахари и Сахаре, на горе Фернандо-По, где гуляет Гиппо-По, по широкой Лимпопо»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258920" y="1928880"/>
          <a:ext cx="2724120" cy="604800"/>
        </p:xfrm>
        <a:graphic>
          <a:graphicData uri="http://schemas.openxmlformats.org/drawingml/2006/table">
            <a:tbl>
              <a:tblPr/>
              <a:tblGrid>
                <a:gridCol w="392040"/>
                <a:gridCol w="390600"/>
                <a:gridCol w="392040"/>
                <a:gridCol w="392040"/>
                <a:gridCol w="390600"/>
                <a:gridCol w="392040"/>
                <a:gridCol w="37476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й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б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о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л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и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т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59"/>
                    </a:solidFill>
                  </a:tcPr>
                </a:tc>
              </a:tr>
            </a:tbl>
          </a:graphicData>
        </a:graphic>
      </p:graphicFrame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5508720" y="1549440"/>
            <a:ext cx="239544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30:17Z</dcterms:modified>
  <cp:revision>147</cp:revision>
  <dc:subject/>
  <dc:title>Слайд 1</dc:title>
</cp:coreProperties>
</file>