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3604-1D7D-42BF-8334-627FD70D1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F979-3A7A-4F5E-BE7D-23170870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E784-EB55-4008-9544-37E93549E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4C98-C1AF-4DDD-82F8-35702CBFC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F4DF4-7B6E-4145-B517-23281C42D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27B8F-BF7E-4474-9ABA-182F42B4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6DAC-D041-466A-A05C-E07162E2E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28BC-6644-4AA9-8872-9BAA808E8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8DAC-C4AD-446E-B31A-59DEEEB5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9C61-D828-4A38-96BD-67B2BF05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8430-8175-463D-AF58-38C537AC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235B-BA31-4448-AB8D-85A9BBC66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8DB4-9F43-4A99-9859-1696F8E3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6F392-5278-41DF-B1EC-5A5351D6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2E35-F379-4A36-A941-DA5F6E57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74BF-6011-4620-B14C-2ADC761D5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CE9D-8C10-4EE2-8BA3-4D3472BF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EA1-5CC8-47EE-B885-64F9EBD15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6020-EE53-4FD1-9731-E412B060A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ABF7-DF1C-412C-89DD-10C4278B1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7C9-7CFA-4377-B5E0-653BAD2D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5121-6957-4519-9E51-619B6E3F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0FA-6C12-4899-8902-A442515F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5FA3-72BC-41EE-A952-1D946CB0F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e99249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ED64-9513-4EBB-8534-3B60D1DC99E0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28342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147B-9338-42D8-A0C8-7037EE6BBE4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360" y="765000"/>
          <a:ext cx="7866000" cy="4104000"/>
        </p:xfrm>
        <a:graphic>
          <a:graphicData uri="http://schemas.openxmlformats.org/drawingml/2006/table">
            <a:tbl>
              <a:tblPr/>
              <a:tblGrid>
                <a:gridCol w="393480"/>
                <a:gridCol w="393840"/>
                <a:gridCol w="39204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Стрелка вправо 3"/>
          <p:cNvSpPr/>
          <p:nvPr/>
        </p:nvSpPr>
        <p:spPr>
          <a:xfrm>
            <a:off x="1619280" y="2637000"/>
            <a:ext cx="619200" cy="341280"/>
          </a:xfrm>
          <a:prstGeom prst="rightArrow">
            <a:avLst>
              <a:gd name="adj1" fmla="val 57565"/>
              <a:gd name="adj2" fmla="val 23536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411280" y="800280"/>
          <a:ext cx="454320" cy="4068720"/>
        </p:xfrm>
        <a:graphic>
          <a:graphicData uri="http://schemas.openxmlformats.org/drawingml/2006/table">
            <a:tbl>
              <a:tblPr/>
              <a:tblGrid>
                <a:gridCol w="454320"/>
              </a:tblGrid>
              <a:tr h="58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7451640" y="4573440"/>
            <a:ext cx="1347840" cy="191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2843280" y="765000"/>
          <a:ext cx="5462640" cy="622440"/>
        </p:xfrm>
        <a:graphic>
          <a:graphicData uri="http://schemas.openxmlformats.org/drawingml/2006/table">
            <a:tbl>
              <a:tblPr/>
              <a:tblGrid>
                <a:gridCol w="390600"/>
                <a:gridCol w="390240"/>
                <a:gridCol w="389160"/>
                <a:gridCol w="390600"/>
                <a:gridCol w="390240"/>
                <a:gridCol w="390600"/>
                <a:gridCol w="390600"/>
                <a:gridCol w="388800"/>
                <a:gridCol w="390600"/>
                <a:gridCol w="390600"/>
                <a:gridCol w="390600"/>
                <a:gridCol w="388800"/>
                <a:gridCol w="390600"/>
                <a:gridCol w="390600"/>
              </a:tblGrid>
              <a:tr h="62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1258920" y="1365120"/>
          <a:ext cx="1944720" cy="58104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2040"/>
                <a:gridCol w="371520"/>
              </a:tblGrid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5" name=""/>
          <p:cNvGraphicFramePr/>
          <p:nvPr/>
        </p:nvGraphicFramePr>
        <p:xfrm>
          <a:off x="1258920" y="1928880"/>
          <a:ext cx="2724120" cy="604800"/>
        </p:xfrm>
        <a:graphic>
          <a:graphicData uri="http://schemas.openxmlformats.org/drawingml/2006/table">
            <a:tbl>
              <a:tblPr/>
              <a:tblGrid>
                <a:gridCol w="392040"/>
                <a:gridCol w="390600"/>
                <a:gridCol w="392040"/>
                <a:gridCol w="392040"/>
                <a:gridCol w="390600"/>
                <a:gridCol w="392040"/>
                <a:gridCol w="37476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2411280" y="4724280"/>
            <a:ext cx="5267520" cy="17431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5256360" y="1989000"/>
            <a:ext cx="3708360" cy="208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2843280" y="2506680"/>
          <a:ext cx="2305080" cy="579600"/>
        </p:xfrm>
        <a:graphic>
          <a:graphicData uri="http://schemas.openxmlformats.org/drawingml/2006/table">
            <a:tbl>
              <a:tblPr/>
              <a:tblGrid>
                <a:gridCol w="371520"/>
                <a:gridCol w="371520"/>
                <a:gridCol w="369720"/>
                <a:gridCol w="361800"/>
                <a:gridCol w="381240"/>
                <a:gridCol w="44928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68360" y="765000"/>
          <a:ext cx="7866000" cy="4104000"/>
        </p:xfrm>
        <a:graphic>
          <a:graphicData uri="http://schemas.openxmlformats.org/drawingml/2006/table">
            <a:tbl>
              <a:tblPr/>
              <a:tblGrid>
                <a:gridCol w="393480"/>
                <a:gridCol w="393840"/>
                <a:gridCol w="39204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Стрелка вправо 3"/>
          <p:cNvSpPr/>
          <p:nvPr/>
        </p:nvSpPr>
        <p:spPr>
          <a:xfrm>
            <a:off x="230040" y="3213000"/>
            <a:ext cx="619200" cy="339840"/>
          </a:xfrm>
          <a:prstGeom prst="rightArrow">
            <a:avLst>
              <a:gd name="adj1" fmla="val 57565"/>
              <a:gd name="adj2" fmla="val 23526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411280" y="800280"/>
          <a:ext cx="454320" cy="4068720"/>
        </p:xfrm>
        <a:graphic>
          <a:graphicData uri="http://schemas.openxmlformats.org/drawingml/2006/table">
            <a:tbl>
              <a:tblPr/>
              <a:tblGrid>
                <a:gridCol w="454320"/>
              </a:tblGrid>
              <a:tr h="58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7451640" y="4573440"/>
            <a:ext cx="1347840" cy="191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2843280" y="765000"/>
          <a:ext cx="5462640" cy="622440"/>
        </p:xfrm>
        <a:graphic>
          <a:graphicData uri="http://schemas.openxmlformats.org/drawingml/2006/table">
            <a:tbl>
              <a:tblPr/>
              <a:tblGrid>
                <a:gridCol w="390600"/>
                <a:gridCol w="390240"/>
                <a:gridCol w="389160"/>
                <a:gridCol w="390600"/>
                <a:gridCol w="390240"/>
                <a:gridCol w="390600"/>
                <a:gridCol w="390600"/>
                <a:gridCol w="388800"/>
                <a:gridCol w="390600"/>
                <a:gridCol w="390600"/>
                <a:gridCol w="390600"/>
                <a:gridCol w="388800"/>
                <a:gridCol w="390600"/>
                <a:gridCol w="390600"/>
              </a:tblGrid>
              <a:tr h="62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258920" y="1365120"/>
          <a:ext cx="1944720" cy="58104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2040"/>
                <a:gridCol w="371520"/>
              </a:tblGrid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1258920" y="1928880"/>
          <a:ext cx="2724120" cy="604800"/>
        </p:xfrm>
        <a:graphic>
          <a:graphicData uri="http://schemas.openxmlformats.org/drawingml/2006/table">
            <a:tbl>
              <a:tblPr/>
              <a:tblGrid>
                <a:gridCol w="392040"/>
                <a:gridCol w="390600"/>
                <a:gridCol w="392040"/>
                <a:gridCol w="392040"/>
                <a:gridCol w="390600"/>
                <a:gridCol w="392040"/>
                <a:gridCol w="37476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2843280" y="2492280"/>
          <a:ext cx="2363760" cy="579600"/>
        </p:xfrm>
        <a:graphic>
          <a:graphicData uri="http://schemas.openxmlformats.org/drawingml/2006/table">
            <a:tbl>
              <a:tblPr/>
              <a:tblGrid>
                <a:gridCol w="380880"/>
                <a:gridCol w="379440"/>
                <a:gridCol w="380880"/>
                <a:gridCol w="381240"/>
                <a:gridCol w="380880"/>
                <a:gridCol w="46044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08" name="Picture 4" descr=""/>
          <p:cNvPicPr/>
          <p:nvPr/>
        </p:nvPicPr>
        <p:blipFill>
          <a:blip r:embed="rId2"/>
          <a:stretch/>
        </p:blipFill>
        <p:spPr>
          <a:xfrm>
            <a:off x="2340000" y="4811760"/>
            <a:ext cx="527364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855720" y="3141720"/>
          <a:ext cx="1584360" cy="585720"/>
        </p:xfrm>
        <a:graphic>
          <a:graphicData uri="http://schemas.openxmlformats.org/drawingml/2006/table">
            <a:tbl>
              <a:tblPr/>
              <a:tblGrid>
                <a:gridCol w="396720"/>
                <a:gridCol w="395280"/>
                <a:gridCol w="395280"/>
                <a:gridCol w="397080"/>
              </a:tblGrid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68360" y="765000"/>
          <a:ext cx="7866000" cy="4104000"/>
        </p:xfrm>
        <a:graphic>
          <a:graphicData uri="http://schemas.openxmlformats.org/drawingml/2006/table">
            <a:tbl>
              <a:tblPr/>
              <a:tblGrid>
                <a:gridCol w="393480"/>
                <a:gridCol w="393840"/>
                <a:gridCol w="39204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Стрелка вправо 3"/>
          <p:cNvSpPr/>
          <p:nvPr/>
        </p:nvSpPr>
        <p:spPr>
          <a:xfrm>
            <a:off x="468360" y="3808440"/>
            <a:ext cx="617400" cy="341280"/>
          </a:xfrm>
          <a:prstGeom prst="rightArrow">
            <a:avLst>
              <a:gd name="adj1" fmla="val 57565"/>
              <a:gd name="adj2" fmla="val 23526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411280" y="800280"/>
          <a:ext cx="454320" cy="4068720"/>
        </p:xfrm>
        <a:graphic>
          <a:graphicData uri="http://schemas.openxmlformats.org/drawingml/2006/table">
            <a:tbl>
              <a:tblPr/>
              <a:tblGrid>
                <a:gridCol w="454320"/>
              </a:tblGrid>
              <a:tr h="58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7451640" y="4573440"/>
            <a:ext cx="1347840" cy="191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5" name=""/>
          <p:cNvGraphicFramePr/>
          <p:nvPr/>
        </p:nvGraphicFramePr>
        <p:xfrm>
          <a:off x="2843280" y="765000"/>
          <a:ext cx="5462640" cy="622440"/>
        </p:xfrm>
        <a:graphic>
          <a:graphicData uri="http://schemas.openxmlformats.org/drawingml/2006/table">
            <a:tbl>
              <a:tblPr/>
              <a:tblGrid>
                <a:gridCol w="390600"/>
                <a:gridCol w="390240"/>
                <a:gridCol w="389160"/>
                <a:gridCol w="390600"/>
                <a:gridCol w="390240"/>
                <a:gridCol w="390600"/>
                <a:gridCol w="390600"/>
                <a:gridCol w="388800"/>
                <a:gridCol w="390600"/>
                <a:gridCol w="390600"/>
                <a:gridCol w="390600"/>
                <a:gridCol w="388800"/>
                <a:gridCol w="390600"/>
                <a:gridCol w="390600"/>
              </a:tblGrid>
              <a:tr h="62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258920" y="1365120"/>
          <a:ext cx="1944720" cy="58104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2040"/>
                <a:gridCol w="371520"/>
              </a:tblGrid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1258920" y="1928880"/>
          <a:ext cx="2724120" cy="604800"/>
        </p:xfrm>
        <a:graphic>
          <a:graphicData uri="http://schemas.openxmlformats.org/drawingml/2006/table">
            <a:tbl>
              <a:tblPr/>
              <a:tblGrid>
                <a:gridCol w="392040"/>
                <a:gridCol w="390600"/>
                <a:gridCol w="392040"/>
                <a:gridCol w="392040"/>
                <a:gridCol w="390600"/>
                <a:gridCol w="392040"/>
                <a:gridCol w="37476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2843280" y="2492280"/>
          <a:ext cx="2363760" cy="579600"/>
        </p:xfrm>
        <a:graphic>
          <a:graphicData uri="http://schemas.openxmlformats.org/drawingml/2006/table">
            <a:tbl>
              <a:tblPr/>
              <a:tblGrid>
                <a:gridCol w="380880"/>
                <a:gridCol w="379440"/>
                <a:gridCol w="380880"/>
                <a:gridCol w="381240"/>
                <a:gridCol w="380880"/>
                <a:gridCol w="46044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855720" y="3141720"/>
          <a:ext cx="1584360" cy="585720"/>
        </p:xfrm>
        <a:graphic>
          <a:graphicData uri="http://schemas.openxmlformats.org/drawingml/2006/table">
            <a:tbl>
              <a:tblPr/>
              <a:tblGrid>
                <a:gridCol w="396720"/>
                <a:gridCol w="395280"/>
                <a:gridCol w="395280"/>
                <a:gridCol w="397080"/>
              </a:tblGrid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2411280" y="4743360"/>
            <a:ext cx="5267520" cy="1743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1" name=""/>
          <p:cNvGraphicFramePr/>
          <p:nvPr/>
        </p:nvGraphicFramePr>
        <p:xfrm>
          <a:off x="1258920" y="3686040"/>
          <a:ext cx="2754360" cy="58608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2040"/>
                <a:gridCol w="393840"/>
                <a:gridCol w="393480"/>
                <a:gridCol w="39384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22" name="Picture 3" descr=""/>
          <p:cNvPicPr/>
          <p:nvPr/>
        </p:nvPicPr>
        <p:blipFill>
          <a:blip r:embed="rId3"/>
          <a:stretch/>
        </p:blipFill>
        <p:spPr>
          <a:xfrm>
            <a:off x="5435640" y="2251080"/>
            <a:ext cx="35272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68360" y="765000"/>
          <a:ext cx="7866000" cy="4104000"/>
        </p:xfrm>
        <a:graphic>
          <a:graphicData uri="http://schemas.openxmlformats.org/drawingml/2006/table">
            <a:tbl>
              <a:tblPr/>
              <a:tblGrid>
                <a:gridCol w="393480"/>
                <a:gridCol w="393840"/>
                <a:gridCol w="39204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Стрелка вправо 3"/>
          <p:cNvSpPr/>
          <p:nvPr/>
        </p:nvSpPr>
        <p:spPr>
          <a:xfrm>
            <a:off x="-173160" y="4403880"/>
            <a:ext cx="619200" cy="341280"/>
          </a:xfrm>
          <a:prstGeom prst="rightArrow">
            <a:avLst>
              <a:gd name="adj1" fmla="val 57565"/>
              <a:gd name="adj2" fmla="val 23536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411280" y="800280"/>
          <a:ext cx="454320" cy="4068720"/>
        </p:xfrm>
        <a:graphic>
          <a:graphicData uri="http://schemas.openxmlformats.org/drawingml/2006/table">
            <a:tbl>
              <a:tblPr/>
              <a:tblGrid>
                <a:gridCol w="454320"/>
              </a:tblGrid>
              <a:tr h="58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7451640" y="4573440"/>
            <a:ext cx="1347840" cy="191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2843280" y="765000"/>
          <a:ext cx="5462640" cy="622440"/>
        </p:xfrm>
        <a:graphic>
          <a:graphicData uri="http://schemas.openxmlformats.org/drawingml/2006/table">
            <a:tbl>
              <a:tblPr/>
              <a:tblGrid>
                <a:gridCol w="390600"/>
                <a:gridCol w="390240"/>
                <a:gridCol w="389160"/>
                <a:gridCol w="390600"/>
                <a:gridCol w="390240"/>
                <a:gridCol w="390600"/>
                <a:gridCol w="390600"/>
                <a:gridCol w="388800"/>
                <a:gridCol w="390600"/>
                <a:gridCol w="390600"/>
                <a:gridCol w="390600"/>
                <a:gridCol w="388800"/>
                <a:gridCol w="390600"/>
                <a:gridCol w="390600"/>
              </a:tblGrid>
              <a:tr h="62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1258920" y="1365120"/>
          <a:ext cx="1944720" cy="58104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2040"/>
                <a:gridCol w="371520"/>
              </a:tblGrid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258920" y="1928880"/>
          <a:ext cx="2724120" cy="604800"/>
        </p:xfrm>
        <a:graphic>
          <a:graphicData uri="http://schemas.openxmlformats.org/drawingml/2006/table">
            <a:tbl>
              <a:tblPr/>
              <a:tblGrid>
                <a:gridCol w="392040"/>
                <a:gridCol w="390600"/>
                <a:gridCol w="392040"/>
                <a:gridCol w="392040"/>
                <a:gridCol w="390600"/>
                <a:gridCol w="392040"/>
                <a:gridCol w="37476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843280" y="2492280"/>
          <a:ext cx="2363760" cy="579600"/>
        </p:xfrm>
        <a:graphic>
          <a:graphicData uri="http://schemas.openxmlformats.org/drawingml/2006/table">
            <a:tbl>
              <a:tblPr/>
              <a:tblGrid>
                <a:gridCol w="380880"/>
                <a:gridCol w="379440"/>
                <a:gridCol w="380880"/>
                <a:gridCol w="381240"/>
                <a:gridCol w="380880"/>
                <a:gridCol w="460440"/>
              </a:tblGrid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855720" y="3141720"/>
          <a:ext cx="1584360" cy="585720"/>
        </p:xfrm>
        <a:graphic>
          <a:graphicData uri="http://schemas.openxmlformats.org/drawingml/2006/table">
            <a:tbl>
              <a:tblPr/>
              <a:tblGrid>
                <a:gridCol w="396720"/>
                <a:gridCol w="395280"/>
                <a:gridCol w="395280"/>
                <a:gridCol w="397080"/>
              </a:tblGrid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з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1258920" y="3686040"/>
          <a:ext cx="2754360" cy="58608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2040"/>
                <a:gridCol w="393840"/>
                <a:gridCol w="393480"/>
                <a:gridCol w="39384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2340000" y="4869000"/>
            <a:ext cx="5267160" cy="1742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446040" y="4281480"/>
          <a:ext cx="3540240" cy="58572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2400"/>
                <a:gridCol w="393480"/>
                <a:gridCol w="393840"/>
                <a:gridCol w="393480"/>
                <a:gridCol w="392400"/>
                <a:gridCol w="393480"/>
                <a:gridCol w="393840"/>
              </a:tblGrid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ч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36" name="Picture 3" descr=""/>
          <p:cNvPicPr/>
          <p:nvPr/>
        </p:nvPicPr>
        <p:blipFill>
          <a:blip r:embed="rId3"/>
          <a:stretch/>
        </p:blipFill>
        <p:spPr>
          <a:xfrm>
            <a:off x="6227640" y="1579680"/>
            <a:ext cx="238284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3280" y="476280"/>
            <a:ext cx="818352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8360" y="1267920"/>
            <a:ext cx="8207280" cy="51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Comic Sans MS"/>
              </a:rPr>
              <a:t>СПАСИБО ЗА ВНИМАНИЕ!!!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d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2:29:06Z</dcterms:created>
  <dc:creator>bik</dc:creator>
  <dc:description/>
  <dc:language>en-US</dc:language>
  <cp:lastModifiedBy>Nadya</cp:lastModifiedBy>
  <dcterms:modified xsi:type="dcterms:W3CDTF">2018-07-25T20:30:42Z</dcterms:modified>
  <cp:revision>147</cp:revision>
  <dc:subject/>
  <dc:title>Слайд 1</dc:title>
</cp:coreProperties>
</file>