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E313-10B1-4568-B1CF-AD773A88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2514-3BEC-401F-AD05-7C0C4FF7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3A9-69EA-4D3E-B3CD-A9C46C7D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EDE8-887D-4BF0-A947-EC77A5F0F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9B047-6C92-4AD7-A255-78B729642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0AAA-645B-4A86-9EBD-A679D42C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F99B-805C-4AAD-9840-DAC326F5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6BDF-53E4-409E-9B9F-A9EF9EAF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49DF-E790-4EAF-BF49-988B8B5C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3B35-C343-4F4A-A3B4-C1812613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E7CE-3DF0-4CF9-AAE0-5D31F1308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AB2B-D658-43DA-A15D-C909564F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098-32F2-4831-AF5E-D6C9B1C3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366F9-512D-40CC-8259-8BEC2EFA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E35A-C7C1-49E1-AD8A-F1BB438DB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D57B7-95F3-414D-BACB-848F6AC7C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AB80-FFD8-4E8D-A808-5B744993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632-6CC6-43E4-97FA-1E14523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EC3-C557-42D9-8D6D-81086BEA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2280-46A8-4AE8-B350-456B7DE9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99B5-2C1C-4B94-81AC-17D66076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A73-9F5E-4897-8FFB-107C0EB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E21F-CBEA-4DB4-93CB-4AF5AE172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DEC5-5CD0-41F7-A7CB-340EF1841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83B8-3604-4624-A8B4-4808B26B73E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CCE2-6084-4570-A187-6A39F36B0B6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Пустыня"/>
          <p:cNvPicPr/>
          <p:nvPr/>
        </p:nvPicPr>
        <p:blipFill>
          <a:blip r:embed="rId1"/>
          <a:stretch/>
        </p:blipFill>
        <p:spPr>
          <a:xfrm>
            <a:off x="-304920" y="-24300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" y="1941480"/>
            <a:ext cx="874872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Путешествие по южному тропику.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Пустыни южного тропика.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4788000" y="5373720"/>
            <a:ext cx="513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ила ученица  5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ОУ «Школа №1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рода Ростова-на-До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едякова Зл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: Крылова Ирина Юр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6043680" y="-174600"/>
            <a:ext cx="3017880" cy="974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547640" y="404640"/>
            <a:ext cx="62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нкурсная программ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ета Земля –вдоль и поперё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-201600" y="-138240"/>
            <a:ext cx="16779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МАОУ \"/>
          <p:cNvPicPr/>
          <p:nvPr/>
        </p:nvPicPr>
        <p:blipFill>
          <a:blip r:embed="rId4"/>
          <a:stretch/>
        </p:blipFill>
        <p:spPr>
          <a:xfrm>
            <a:off x="-17640" y="5321160"/>
            <a:ext cx="194472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ый тропик – одна из пяти главных параллелей Земли. Ее точные координаты: 23 26′ 16″ южной широты.  В момент зимнего солнцестояния (а именно 22 декабря) солнечные лучи падают здесь вертикально вниз, то есть, под углом в 90 градусов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46240" y="765000"/>
            <a:ext cx="878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Comic Sans MS"/>
              </a:rPr>
              <a:t>Южный Тропик  </a:t>
            </a:r>
            <a:r>
              <a:rPr b="1" lang="ru-RU" sz="3600" spc="-1" strike="noStrike">
                <a:solidFill>
                  <a:srgbClr val="2e2e00"/>
                </a:solidFill>
                <a:latin typeface="Comic Sans MS"/>
              </a:rPr>
              <a:t>преимущественно пролегает водными просторами Мирового океана. В пределах суши он проходит по территориям трех континентов Земли: Южной Америки, Африки и Австрали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00720" y="2141640"/>
            <a:ext cx="238608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-468360" y="-243000"/>
            <a:ext cx="993636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0440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Стрелка вправо 1"/>
          <p:cNvSpPr/>
          <p:nvPr/>
        </p:nvSpPr>
        <p:spPr>
          <a:xfrm>
            <a:off x="-252360" y="4508640"/>
            <a:ext cx="9720360" cy="144360"/>
          </a:xfrm>
          <a:prstGeom prst="rightArrow">
            <a:avLst>
              <a:gd name="adj1" fmla="val 50000"/>
              <a:gd name="adj2" fmla="val 50189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5-конечная звезда 3">
            <a:hlinkClick r:id="rId2" action="ppaction://hlinksldjump"/>
          </p:cNvPr>
          <p:cNvSpPr/>
          <p:nvPr/>
        </p:nvSpPr>
        <p:spPr>
          <a:xfrm>
            <a:off x="2124000" y="421632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5-конечная звезда 4"/>
          <p:cNvSpPr/>
          <p:nvPr/>
        </p:nvSpPr>
        <p:spPr>
          <a:xfrm>
            <a:off x="4438800" y="4216320"/>
            <a:ext cx="564840" cy="647640"/>
          </a:xfrm>
          <a:custGeom>
            <a:avLst/>
            <a:gdLst/>
            <a:ahLst/>
            <a:rect l="l" t="t" r="r" b="b"/>
            <a:pathLst>
              <a:path w="565150" h="647700">
                <a:moveTo>
                  <a:pt x="1" y="247399"/>
                </a:moveTo>
                <a:lnTo>
                  <a:pt x="215869" y="247400"/>
                </a:lnTo>
                <a:lnTo>
                  <a:pt x="282575" y="0"/>
                </a:lnTo>
                <a:lnTo>
                  <a:pt x="349281" y="247400"/>
                </a:lnTo>
                <a:lnTo>
                  <a:pt x="565149" y="247399"/>
                </a:lnTo>
                <a:lnTo>
                  <a:pt x="390507" y="400299"/>
                </a:lnTo>
                <a:lnTo>
                  <a:pt x="457216" y="647698"/>
                </a:lnTo>
                <a:lnTo>
                  <a:pt x="282575" y="494795"/>
                </a:lnTo>
                <a:lnTo>
                  <a:pt x="107934" y="647698"/>
                </a:lnTo>
                <a:lnTo>
                  <a:pt x="17464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5-конечная звезда 5"/>
          <p:cNvSpPr/>
          <p:nvPr/>
        </p:nvSpPr>
        <p:spPr>
          <a:xfrm>
            <a:off x="7236000" y="4243320"/>
            <a:ext cx="576000" cy="574920"/>
          </a:xfrm>
          <a:custGeom>
            <a:avLst/>
            <a:gdLst/>
            <a:ahLst/>
            <a:rect l="l" t="t" r="r" b="b"/>
            <a:pathLst>
              <a:path w="576263" h="574675">
                <a:moveTo>
                  <a:pt x="1" y="219506"/>
                </a:moveTo>
                <a:lnTo>
                  <a:pt x="200440" y="191114"/>
                </a:lnTo>
                <a:lnTo>
                  <a:pt x="288132" y="0"/>
                </a:lnTo>
                <a:lnTo>
                  <a:pt x="375823" y="191114"/>
                </a:lnTo>
                <a:lnTo>
                  <a:pt x="576262" y="219506"/>
                </a:lnTo>
                <a:lnTo>
                  <a:pt x="430019" y="366013"/>
                </a:lnTo>
                <a:lnTo>
                  <a:pt x="466206" y="574674"/>
                </a:lnTo>
                <a:lnTo>
                  <a:pt x="288132" y="474106"/>
                </a:lnTo>
                <a:lnTo>
                  <a:pt x="110057" y="574674"/>
                </a:lnTo>
                <a:lnTo>
                  <a:pt x="146244" y="366013"/>
                </a:lnTo>
                <a:lnTo>
                  <a:pt x="1" y="219506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194472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6"/>
          <p:cNvSpPr/>
          <p:nvPr/>
        </p:nvSpPr>
        <p:spPr>
          <a:xfrm>
            <a:off x="3146400" y="4724280"/>
            <a:ext cx="1065240" cy="217440"/>
          </a:xfrm>
          <a:prstGeom prst="rightArrow">
            <a:avLst>
              <a:gd name="adj1" fmla="val 71259"/>
              <a:gd name="adj2" fmla="val 50011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5796000" y="4678200"/>
            <a:ext cx="109692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-2629080" y="2205000"/>
            <a:ext cx="1420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ше путешествие мы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чинаем  с материк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Южная Амери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7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2" descr=""/>
          <p:cNvPicPr/>
          <p:nvPr/>
        </p:nvPicPr>
        <p:blipFill>
          <a:blip r:embed="rId1"/>
          <a:stretch/>
        </p:blipFill>
        <p:spPr>
          <a:xfrm>
            <a:off x="2495520" y="274680"/>
            <a:ext cx="4152960" cy="5821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0" y="2179800"/>
            <a:ext cx="45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устыня Атакама-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ама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ухая пустыня Зем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0" y="11592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В Атакаме зарегистрирована самая низкая на Земле влажность воздуха – 0 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Объект 7" descr=""/>
          <p:cNvPicPr/>
          <p:nvPr/>
        </p:nvPicPr>
        <p:blipFill>
          <a:blip r:embed="rId1"/>
          <a:stretch/>
        </p:blipFill>
        <p:spPr>
          <a:xfrm>
            <a:off x="287280" y="1557360"/>
            <a:ext cx="8462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5711760" y="898560"/>
            <a:ext cx="3403800" cy="4484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7016760" y="2941560"/>
            <a:ext cx="542880" cy="536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3"/>
          <a:stretch/>
        </p:blipFill>
        <p:spPr>
          <a:xfrm>
            <a:off x="7120080" y="3394080"/>
            <a:ext cx="1030320" cy="512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8"/>
          <p:cNvSpPr/>
          <p:nvPr/>
        </p:nvSpPr>
        <p:spPr>
          <a:xfrm>
            <a:off x="33480" y="660240"/>
            <a:ext cx="54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феномен вызван влиянием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лодного Перуанского  теч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хлаждающего нижние слои воздуха и не дающего дождю выпа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208080" y="3478320"/>
            <a:ext cx="5114880" cy="3170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5"/>
          <a:stretch/>
        </p:blipFill>
        <p:spPr>
          <a:xfrm>
            <a:off x="647640" y="2825640"/>
            <a:ext cx="423720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6"/>
          <a:stretch/>
        </p:blipFill>
        <p:spPr>
          <a:xfrm>
            <a:off x="369720" y="196920"/>
            <a:ext cx="5693040" cy="4935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"/>
          <p:cNvPicPr/>
          <p:nvPr/>
        </p:nvPicPr>
        <p:blipFill>
          <a:blip r:embed="rId7"/>
          <a:stretch/>
        </p:blipFill>
        <p:spPr>
          <a:xfrm>
            <a:off x="6426360" y="2570040"/>
            <a:ext cx="7556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10:35Z</dcterms:modified>
  <cp:revision>144</cp:revision>
  <dc:subject/>
  <dc:title>Слайд 1</dc:title>
</cp:coreProperties>
</file>