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C777-168F-4A80-8549-6C10EEEA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7F0F-E0F1-4F8D-8E6E-6FCAB191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226F-7862-49CB-87E0-5A861C5A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9E88-9E7D-4540-A498-E415CE74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CB2E-8251-4C62-8659-A8DFBF51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3B68-0C42-4FA2-8DAC-BBCCCA437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5C85-021D-4E8F-94AA-5CA1C6E6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A0923-EAB5-49AF-B38F-4B4949218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00A76-F566-4CE2-9E29-A815D171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9A18E-32E2-49AF-90F7-853E9652E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FF2F-5781-42B9-AA99-09E625A2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DBE6-D02C-40F5-BC8C-35E2620B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6339-F5A9-483E-A247-623D76DA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CDCB-A650-4E92-8181-7E11F957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520F-F448-48ED-A2CB-7268575B2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3626-1609-4D7E-8D82-B6BA382B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6ADA-A7DA-45DD-9696-D484C5ED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A85D-1FB2-4539-990C-B3B4FF791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0400-9B51-469B-8CAB-6A0A50F36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9E13-EC20-4061-BB08-B0E44D34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2C50-C91E-455A-A2E1-8F2E9AB1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00FE-F800-43BE-B31A-7564D1D6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BA71-9E05-4D2C-8271-A4A23BA54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CA2F-F817-4C7B-BF36-C7BAAA1AE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4589-153A-479E-A2A8-D8533F67002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8397E-D45A-4A0B-9589-67A83848A27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5.xm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Пустыня"/>
          <p:cNvPicPr/>
          <p:nvPr/>
        </p:nvPicPr>
        <p:blipFill>
          <a:blip r:embed="rId1"/>
          <a:stretch/>
        </p:blipFill>
        <p:spPr>
          <a:xfrm>
            <a:off x="-304920" y="-243000"/>
            <a:ext cx="9448920" cy="7315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" y="1941480"/>
            <a:ext cx="8748720" cy="3565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c000"/>
                </a:solidFill>
                <a:latin typeface="Comic Sans MS"/>
              </a:rPr>
              <a:t>Путешествие по южному тропику.</a:t>
            </a:r>
            <a:br>
              <a:rPr sz="6000"/>
            </a:br>
            <a:r>
              <a:rPr b="1" lang="ru-RU" sz="6000" spc="-1" strike="noStrike">
                <a:solidFill>
                  <a:srgbClr val="ffc000"/>
                </a:solidFill>
                <a:latin typeface="Comic Sans MS"/>
              </a:rPr>
              <a:t>Пустыни южного тропика.</a:t>
            </a:r>
            <a:endParaRPr b="0" lang="en-US" sz="6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4788000" y="5373720"/>
            <a:ext cx="513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ыполнила ученица  5 «А» класс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МАОУ «Школа №11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города Ростова-на-Дон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Федякова Зла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читель: Крылова Ирина Юр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Рисунок 2" descr=""/>
          <p:cNvPicPr/>
          <p:nvPr/>
        </p:nvPicPr>
        <p:blipFill>
          <a:blip r:embed="rId2"/>
          <a:stretch/>
        </p:blipFill>
        <p:spPr>
          <a:xfrm>
            <a:off x="6043680" y="-174600"/>
            <a:ext cx="3017880" cy="97488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>
            <a:off x="1547640" y="404640"/>
            <a:ext cx="6270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онкурсная программ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ланета Земля –вдоль и поперё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Рисунок 4" descr=""/>
          <p:cNvPicPr/>
          <p:nvPr/>
        </p:nvPicPr>
        <p:blipFill>
          <a:blip r:embed="rId3"/>
          <a:stretch/>
        </p:blipFill>
        <p:spPr>
          <a:xfrm>
            <a:off x="-201600" y="-138240"/>
            <a:ext cx="1677960" cy="1676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МАОУ \"/>
          <p:cNvPicPr/>
          <p:nvPr/>
        </p:nvPicPr>
        <p:blipFill>
          <a:blip r:embed="rId4"/>
          <a:stretch/>
        </p:blipFill>
        <p:spPr>
          <a:xfrm>
            <a:off x="-17640" y="5321160"/>
            <a:ext cx="1944720" cy="14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732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жный тропик – одна из пяти главных параллелей Земли. Ее точные координаты: 23 26′ 16″ южной широты.  В момент зимнего солнцестояния (а именно 22 декабря) солнечные лучи падают здесь вертикально вниз, то есть, под углом в 90 градусов.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Box 2"/>
          <p:cNvSpPr/>
          <p:nvPr/>
        </p:nvSpPr>
        <p:spPr>
          <a:xfrm>
            <a:off x="468360" y="1773360"/>
            <a:ext cx="86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246240" y="765000"/>
            <a:ext cx="8783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c000"/>
                </a:solidFill>
                <a:uFillTx/>
                <a:latin typeface="Comic Sans MS"/>
              </a:rPr>
              <a:t>Южный Тропик  </a:t>
            </a:r>
            <a:r>
              <a:rPr b="1" lang="ru-RU" sz="3600" spc="-1" strike="noStrike">
                <a:solidFill>
                  <a:srgbClr val="2e2e00"/>
                </a:solidFill>
                <a:latin typeface="Comic Sans MS"/>
              </a:rPr>
              <a:t>преимущественно пролегает водными просторами Мирового океана. В пределах суши он проходит по территориям трех континентов Земли: Южной Америки, Африки и Австрали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300720" y="2141640"/>
            <a:ext cx="2386080" cy="39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3" descr=""/>
          <p:cNvPicPr/>
          <p:nvPr/>
        </p:nvPicPr>
        <p:blipFill>
          <a:blip r:embed="rId1"/>
          <a:stretch/>
        </p:blipFill>
        <p:spPr>
          <a:xfrm>
            <a:off x="-468360" y="-243000"/>
            <a:ext cx="9936360" cy="7101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-10440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103" name="Стрелка вправо 1"/>
          <p:cNvSpPr/>
          <p:nvPr/>
        </p:nvSpPr>
        <p:spPr>
          <a:xfrm>
            <a:off x="-252360" y="4508640"/>
            <a:ext cx="9720360" cy="144360"/>
          </a:xfrm>
          <a:prstGeom prst="rightArrow">
            <a:avLst>
              <a:gd name="adj1" fmla="val 50000"/>
              <a:gd name="adj2" fmla="val 50189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5-конечная звезда 3">
            <a:hlinkClick r:id="rId2" action="ppaction://hlinksldjump"/>
          </p:cNvPr>
          <p:cNvSpPr/>
          <p:nvPr/>
        </p:nvSpPr>
        <p:spPr>
          <a:xfrm>
            <a:off x="2124000" y="4216320"/>
            <a:ext cx="647640" cy="647640"/>
          </a:xfrm>
          <a:custGeom>
            <a:avLst/>
            <a:gdLst/>
            <a:ahLst/>
            <a:rect l="l" t="t" r="r" b="b"/>
            <a:pathLst>
              <a:path w="647700" h="647700">
                <a:moveTo>
                  <a:pt x="1" y="247399"/>
                </a:moveTo>
                <a:lnTo>
                  <a:pt x="247401" y="247400"/>
                </a:lnTo>
                <a:lnTo>
                  <a:pt x="323850" y="0"/>
                </a:lnTo>
                <a:lnTo>
                  <a:pt x="400299" y="247400"/>
                </a:lnTo>
                <a:lnTo>
                  <a:pt x="647699" y="247399"/>
                </a:lnTo>
                <a:lnTo>
                  <a:pt x="447547" y="400299"/>
                </a:lnTo>
                <a:lnTo>
                  <a:pt x="524000" y="647698"/>
                </a:lnTo>
                <a:lnTo>
                  <a:pt x="323850" y="494795"/>
                </a:lnTo>
                <a:lnTo>
                  <a:pt x="123700" y="647698"/>
                </a:lnTo>
                <a:lnTo>
                  <a:pt x="20015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cc0000"/>
          </a:solidFill>
          <a:ln w="25560">
            <a:solidFill>
              <a:srgbClr val="9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5-конечная звезда 4"/>
          <p:cNvSpPr/>
          <p:nvPr/>
        </p:nvSpPr>
        <p:spPr>
          <a:xfrm>
            <a:off x="4438800" y="4216320"/>
            <a:ext cx="564840" cy="647640"/>
          </a:xfrm>
          <a:custGeom>
            <a:avLst/>
            <a:gdLst/>
            <a:ahLst/>
            <a:rect l="l" t="t" r="r" b="b"/>
            <a:pathLst>
              <a:path w="565150" h="647700">
                <a:moveTo>
                  <a:pt x="1" y="247399"/>
                </a:moveTo>
                <a:lnTo>
                  <a:pt x="215869" y="247400"/>
                </a:lnTo>
                <a:lnTo>
                  <a:pt x="282575" y="0"/>
                </a:lnTo>
                <a:lnTo>
                  <a:pt x="349281" y="247400"/>
                </a:lnTo>
                <a:lnTo>
                  <a:pt x="565149" y="247399"/>
                </a:lnTo>
                <a:lnTo>
                  <a:pt x="390507" y="400299"/>
                </a:lnTo>
                <a:lnTo>
                  <a:pt x="457216" y="647698"/>
                </a:lnTo>
                <a:lnTo>
                  <a:pt x="282575" y="494795"/>
                </a:lnTo>
                <a:lnTo>
                  <a:pt x="107934" y="647698"/>
                </a:lnTo>
                <a:lnTo>
                  <a:pt x="174643" y="400299"/>
                </a:lnTo>
                <a:lnTo>
                  <a:pt x="1" y="247399"/>
                </a:lnTo>
                <a:close/>
              </a:path>
            </a:pathLst>
          </a:custGeom>
          <a:solidFill>
            <a:srgbClr val="cc0000"/>
          </a:solidFill>
          <a:ln w="25560">
            <a:solidFill>
              <a:srgbClr val="9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5-конечная звезда 5"/>
          <p:cNvSpPr/>
          <p:nvPr/>
        </p:nvSpPr>
        <p:spPr>
          <a:xfrm>
            <a:off x="7236000" y="4243320"/>
            <a:ext cx="576000" cy="574920"/>
          </a:xfrm>
          <a:custGeom>
            <a:avLst/>
            <a:gdLst/>
            <a:ahLst/>
            <a:rect l="l" t="t" r="r" b="b"/>
            <a:pathLst>
              <a:path w="576263" h="574675">
                <a:moveTo>
                  <a:pt x="1" y="219506"/>
                </a:moveTo>
                <a:lnTo>
                  <a:pt x="200440" y="191114"/>
                </a:lnTo>
                <a:lnTo>
                  <a:pt x="288132" y="0"/>
                </a:lnTo>
                <a:lnTo>
                  <a:pt x="375823" y="191114"/>
                </a:lnTo>
                <a:lnTo>
                  <a:pt x="576262" y="219506"/>
                </a:lnTo>
                <a:lnTo>
                  <a:pt x="430019" y="366013"/>
                </a:lnTo>
                <a:lnTo>
                  <a:pt x="466206" y="574674"/>
                </a:lnTo>
                <a:lnTo>
                  <a:pt x="288132" y="474106"/>
                </a:lnTo>
                <a:lnTo>
                  <a:pt x="110057" y="574674"/>
                </a:lnTo>
                <a:lnTo>
                  <a:pt x="146244" y="366013"/>
                </a:lnTo>
                <a:lnTo>
                  <a:pt x="1" y="219506"/>
                </a:lnTo>
                <a:close/>
              </a:path>
            </a:pathLst>
          </a:custGeom>
          <a:solidFill>
            <a:srgbClr val="cc0000"/>
          </a:solidFill>
          <a:ln w="25560">
            <a:solidFill>
              <a:srgbClr val="95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3"/>
          <a:stretch/>
        </p:blipFill>
        <p:spPr>
          <a:xfrm>
            <a:off x="1979640" y="3933720"/>
            <a:ext cx="1944720" cy="432000"/>
          </a:xfrm>
          <a:prstGeom prst="rect">
            <a:avLst/>
          </a:prstGeom>
          <a:ln w="0">
            <a:noFill/>
          </a:ln>
        </p:spPr>
      </p:pic>
      <p:sp>
        <p:nvSpPr>
          <p:cNvPr id="108" name="Стрелка вправо 6"/>
          <p:cNvSpPr/>
          <p:nvPr/>
        </p:nvSpPr>
        <p:spPr>
          <a:xfrm>
            <a:off x="3146400" y="4724280"/>
            <a:ext cx="1065240" cy="217440"/>
          </a:xfrm>
          <a:prstGeom prst="rightArrow">
            <a:avLst>
              <a:gd name="adj1" fmla="val 71259"/>
              <a:gd name="adj2" fmla="val 50011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" descr=""/>
          <p:cNvPicPr/>
          <p:nvPr/>
        </p:nvPicPr>
        <p:blipFill>
          <a:blip r:embed="rId4"/>
          <a:stretch/>
        </p:blipFill>
        <p:spPr>
          <a:xfrm>
            <a:off x="5796000" y="4678200"/>
            <a:ext cx="1096920" cy="2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иложение 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468360" y="1773360"/>
            <a:ext cx="86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-2629080" y="2205000"/>
            <a:ext cx="1420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Наше путешествие мы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начинаем  с материка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Южная Амери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76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Объект 2" descr=""/>
          <p:cNvPicPr/>
          <p:nvPr/>
        </p:nvPicPr>
        <p:blipFill>
          <a:blip r:embed="rId1"/>
          <a:stretch/>
        </p:blipFill>
        <p:spPr>
          <a:xfrm>
            <a:off x="2495520" y="274680"/>
            <a:ext cx="4152960" cy="582120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0" y="2179800"/>
            <a:ext cx="4500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устыня Атакама- 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амая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сухая пустыня Земл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3"/>
          <p:cNvSpPr/>
          <p:nvPr/>
        </p:nvSpPr>
        <p:spPr>
          <a:xfrm>
            <a:off x="0" y="115920"/>
            <a:ext cx="90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Comic Sans MS"/>
              </a:rPr>
              <a:t>В Атакаме зарегистрирована самая низкая на Земле влажность воздуха – 0 %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Объект 7" descr=""/>
          <p:cNvPicPr/>
          <p:nvPr/>
        </p:nvPicPr>
        <p:blipFill>
          <a:blip r:embed="rId1"/>
          <a:stretch/>
        </p:blipFill>
        <p:spPr>
          <a:xfrm>
            <a:off x="287280" y="1557360"/>
            <a:ext cx="846288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Объект 2" descr=""/>
          <p:cNvPicPr/>
          <p:nvPr/>
        </p:nvPicPr>
        <p:blipFill>
          <a:blip r:embed="rId1"/>
          <a:stretch/>
        </p:blipFill>
        <p:spPr>
          <a:xfrm>
            <a:off x="5711760" y="898560"/>
            <a:ext cx="3403800" cy="448452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3" descr=""/>
          <p:cNvPicPr/>
          <p:nvPr/>
        </p:nvPicPr>
        <p:blipFill>
          <a:blip r:embed="rId2"/>
          <a:stretch/>
        </p:blipFill>
        <p:spPr>
          <a:xfrm>
            <a:off x="7016760" y="2941560"/>
            <a:ext cx="542880" cy="53676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4" descr=""/>
          <p:cNvPicPr/>
          <p:nvPr/>
        </p:nvPicPr>
        <p:blipFill>
          <a:blip r:embed="rId3"/>
          <a:stretch/>
        </p:blipFill>
        <p:spPr>
          <a:xfrm>
            <a:off x="7120080" y="3394080"/>
            <a:ext cx="1030320" cy="51264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8"/>
          <p:cNvSpPr/>
          <p:nvPr/>
        </p:nvSpPr>
        <p:spPr>
          <a:xfrm>
            <a:off x="33480" y="660240"/>
            <a:ext cx="547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феномен вызван влиянием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лодного Перуанского  тече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хлаждающего нижние слои воздуха и не дающего дождю выпас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Рисунок 9" descr=""/>
          <p:cNvPicPr/>
          <p:nvPr/>
        </p:nvPicPr>
        <p:blipFill>
          <a:blip r:embed="rId4"/>
          <a:stretch/>
        </p:blipFill>
        <p:spPr>
          <a:xfrm>
            <a:off x="208080" y="3478320"/>
            <a:ext cx="5114880" cy="317016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11" descr=""/>
          <p:cNvPicPr/>
          <p:nvPr/>
        </p:nvPicPr>
        <p:blipFill>
          <a:blip r:embed="rId5"/>
          <a:stretch/>
        </p:blipFill>
        <p:spPr>
          <a:xfrm>
            <a:off x="647640" y="2825640"/>
            <a:ext cx="4237200" cy="49392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12" descr=""/>
          <p:cNvPicPr/>
          <p:nvPr/>
        </p:nvPicPr>
        <p:blipFill>
          <a:blip r:embed="rId6"/>
          <a:stretch/>
        </p:blipFill>
        <p:spPr>
          <a:xfrm>
            <a:off x="369720" y="196920"/>
            <a:ext cx="5693040" cy="49356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13" descr=""/>
          <p:cNvPicPr/>
          <p:nvPr/>
        </p:nvPicPr>
        <p:blipFill>
          <a:blip r:embed="rId7"/>
          <a:stretch/>
        </p:blipFill>
        <p:spPr>
          <a:xfrm>
            <a:off x="6426360" y="2570040"/>
            <a:ext cx="755640" cy="10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10:35Z</dcterms:modified>
  <cp:revision>144</cp:revision>
  <dc:subject/>
  <dc:title>Слайд 1</dc:title>
</cp:coreProperties>
</file>