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0AC-D51A-46B1-9510-D74E128E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39BA-37E6-44D2-945B-0213B654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3C4-9041-4F7F-A951-E5F438ED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6C7B-9E12-42AD-ACEB-5E74C189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E73C-DDDD-4AE4-A16E-F17AE795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176B-FAFF-4284-BD15-55AACEAD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F82B-6205-4363-93E4-D84B9F3A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46FE9-0842-44B5-82F3-6BC09B2A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3CA-0CA9-43B4-963C-0D04F560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56EE6-E07C-42EF-8827-3B1D759F9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65E6-9DEF-452C-9424-6373D447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9917-4C54-4291-AA0D-D646122E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6343-58B7-4511-980D-D1C9272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73C7-6256-45B1-B3D1-B5F53EA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FD1CF-574E-44D0-8706-6DF6200F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EFE8-3887-4412-8EDF-0B255A88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0BF4-6D6B-40F6-B45F-1454403B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467-986F-4620-8294-E96D1252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868-1E4A-458B-BB08-5FBA4B1B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2AE-74B1-489F-857F-DF36866C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7FEA-EB90-4009-BD7A-84966843C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AB64-5FA1-412A-A682-E4793731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229-74BC-47C0-A582-23AAE0E3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34BB-6FE0-4704-BEB2-F1613AE3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417B-39AE-477B-90CE-17FEECD168BD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C7AD-01B1-4E18-8B8C-14FD411573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В период с 1570 по 1971 год существенных осадков в этой пустыне вообще не наблюдалос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059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2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2000" cy="6166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250920" y="115920"/>
            <a:ext cx="44845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ся влага, на которую могут рассчитывать обитатели пустыни, поступает сюда в виде густых туманов. Для сбора воды жители этого края издавна используют местное изобретение – уникальные 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«туманоуловители»,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едставляющие собой цилиндрические емкости высотой с человеческий ро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енки цилиндров выполнены из нейлоновых нитей, на которых конденсируется туман и по которым вода стекает в бак. Данное устройство позволяет в сутки собрать до 20 л. воды, вполне пригодной для питья</a:t>
            </a:r>
            <a:r>
              <a:rPr b="0" lang="ru-RU" sz="22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2" descr=""/>
          <p:cNvPicPr/>
          <p:nvPr/>
        </p:nvPicPr>
        <p:blipFill>
          <a:blip r:embed="rId1"/>
          <a:stretch/>
        </p:blipFill>
        <p:spPr>
          <a:xfrm>
            <a:off x="5796000" y="11592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2052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0520" y="0"/>
            <a:ext cx="5775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н-Педро-де-Атакама- высокогорный городок (2438 м над у/м) привлекает к себе неиссякаемый поток туристов со всех уголков мира.  Этот единственный городок в самом засушливом регионе мира окружен вулканами, причудливыми скальными формациями, уникальными солеными озерами, солончаками, высокогорными лагунами со стаями статных фламинго и гейзе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3"/>
          <a:stretch/>
        </p:blipFill>
        <p:spPr>
          <a:xfrm>
            <a:off x="5640480" y="3429000"/>
            <a:ext cx="3465360" cy="3432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4"/>
          <a:stretch/>
        </p:blipFill>
        <p:spPr>
          <a:xfrm>
            <a:off x="2987640" y="3408480"/>
            <a:ext cx="31687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4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7039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108000" y="189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Главный символ Атака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Скульптура гигантской руки - эмоциональный символ уязвимости, беспомощности и одиночества человека в песках: погребенный под землей великан будто бы просит помощи у высших си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74680"/>
            <a:ext cx="33228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 Атакаме трупы не разлагаю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десь всё просто, так как пустыня очень сухая, то из-за отсутствия влаги трупы не разлагаются. Они просто высыхают и таким образом образуются мумии. Так были найдены мумии индейцев, возраст которых превышал 9 тысяч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24360" y="417600"/>
            <a:ext cx="48895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20:50Z</dcterms:modified>
  <cp:revision>145</cp:revision>
  <dc:subject/>
  <dc:title>Слайд 1</dc:title>
</cp:coreProperties>
</file>