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2F8-4B12-45D7-89DD-66A6D163C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4C0C-8F5D-48BE-93E4-39B23762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F4F7-C3BA-4777-A607-0F5FD6AE3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849D-CFE2-445F-9A5E-DAB138B52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AD161-81C4-475C-A5F2-61959C31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C824-EA8B-4B01-8FC2-D2248ACFF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6542-ECC2-4331-AD28-EB9F82A9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D4951-9390-4ABB-AA1B-FBE3F3BF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C20F-2404-4E60-9DAD-46D8CAC6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75D26-17EE-4116-A41A-02854A41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3039-5F5A-4BE4-8613-CFAEC2EB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056F-884F-47B6-8AFB-6D50190BA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CFE0-949E-40C5-9C98-FA39837D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EE9FC-6216-4B99-926A-659DC1D8F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439E-1BCB-49FD-8A1F-257BF854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75677-71C8-4A48-8E53-CAB361D3A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7B07-3E25-4016-8782-FE12E17C8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28A-B198-4DD1-8382-1FD4FA76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92E-68DA-4017-8D88-27DE9EE3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A1F-01D2-4930-88E2-87FB1E08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0163-7544-4E18-8C06-8B8F548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D2F2-98CE-4851-87B7-34C47D6C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E110-6D09-4B9E-B681-8099E29F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7A7-9CED-41D3-91A1-2C3F5720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8B6FA-FDB2-4BDF-AEC7-44D38380BE5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8B37-478A-4F5A-84ED-B3CAD1672D2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57200" y="27468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В период с 1570 по 1971 год существенных осадков в этой пустыне вообще не наблюдалось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Рисунок 3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805968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Объект 2" descr=""/>
          <p:cNvPicPr/>
          <p:nvPr/>
        </p:nvPicPr>
        <p:blipFill>
          <a:blip r:embed="rId1"/>
          <a:stretch/>
        </p:blipFill>
        <p:spPr>
          <a:xfrm>
            <a:off x="4788000" y="260280"/>
            <a:ext cx="4032000" cy="616608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250920" y="115920"/>
            <a:ext cx="4484520" cy="74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ся влага, на которую могут рассчитывать обитатели пустыни, поступает сюда в виде густых туманов. Для сбора воды жители этого края издавна используют местное изобретение – уникальные </a:t>
            </a:r>
            <a:r>
              <a:rPr b="1" lang="ru-RU" sz="2200" spc="-1" strike="noStrike">
                <a:solidFill>
                  <a:srgbClr val="ffff00"/>
                </a:solidFill>
                <a:latin typeface="Comic Sans MS"/>
              </a:rPr>
              <a:t>«туманоуловители», </a:t>
            </a: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редставляющие собой цилиндрические емкости высотой с человеческий рост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Стенки цилиндров выполнены из нейлоновых нитей, на которых конденсируется туман и по которым вода стекает в бак. Данное устройство позволяет в сутки собрать до 20 л. воды, вполне пригодной для питья</a:t>
            </a:r>
            <a:r>
              <a:rPr b="0" lang="ru-RU" sz="2200" spc="-1" strike="noStrike">
                <a:solidFill>
                  <a:srgbClr val="464646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Объект 2" descr=""/>
          <p:cNvPicPr/>
          <p:nvPr/>
        </p:nvPicPr>
        <p:blipFill>
          <a:blip r:embed="rId1"/>
          <a:stretch/>
        </p:blipFill>
        <p:spPr>
          <a:xfrm>
            <a:off x="5796000" y="115920"/>
            <a:ext cx="3173400" cy="31734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>
            <a:off x="20520" y="342900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4"/>
          <p:cNvSpPr/>
          <p:nvPr/>
        </p:nvSpPr>
        <p:spPr>
          <a:xfrm>
            <a:off x="20520" y="0"/>
            <a:ext cx="5775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Сан-Педро-де-Атакама- высокогорный городок (2438 м над у/м) привлекает к себе неиссякаемый поток туристов со всех уголков мира.  Этот единственный городок в самом засушливом регионе мира окружен вулканами, причудливыми скальными формациями, уникальными солеными озерами, солончаками, высокогорными лагунами со стаями статных фламинго и гейзерам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Рисунок 5" descr=""/>
          <p:cNvPicPr/>
          <p:nvPr/>
        </p:nvPicPr>
        <p:blipFill>
          <a:blip r:embed="rId3"/>
          <a:stretch/>
        </p:blipFill>
        <p:spPr>
          <a:xfrm>
            <a:off x="5640480" y="3429000"/>
            <a:ext cx="3465360" cy="343224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6" descr=""/>
          <p:cNvPicPr/>
          <p:nvPr/>
        </p:nvPicPr>
        <p:blipFill>
          <a:blip r:embed="rId4"/>
          <a:stretch/>
        </p:blipFill>
        <p:spPr>
          <a:xfrm>
            <a:off x="2987640" y="3408480"/>
            <a:ext cx="3168720" cy="34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Объект 4" descr=""/>
          <p:cNvPicPr/>
          <p:nvPr/>
        </p:nvPicPr>
        <p:blipFill>
          <a:blip r:embed="rId1"/>
          <a:stretch/>
        </p:blipFill>
        <p:spPr>
          <a:xfrm>
            <a:off x="-108000" y="-100080"/>
            <a:ext cx="9252000" cy="703908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5"/>
          <p:cNvSpPr/>
          <p:nvPr/>
        </p:nvSpPr>
        <p:spPr>
          <a:xfrm>
            <a:off x="108000" y="18900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Главный символ Атакам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Скульптура гигантской руки - эмоциональный символ уязвимости, беспомощности и одиночества человека в песках: погребенный под землей великан будто бы просит помощи у высших си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274680"/>
            <a:ext cx="33228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В Атакаме трупы не разлагают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</a:rPr>
              <a:t>Здесь всё просто, так как пустыня очень сухая, то из-за отсутствия влаги трупы не разлагаются. Они просто высыхают и таким образом образуются мумии. Так были найдены мумии индейцев, возраст которых превышал 9 тысяч ле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3924360" y="417600"/>
            <a:ext cx="488952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20:50Z</dcterms:modified>
  <cp:revision>145</cp:revision>
  <dc:subject/>
  <dc:title>Слайд 1</dc:title>
</cp:coreProperties>
</file>