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8.wmf" ContentType="image/x-wmf"/>
  <Override PartName="/ppt/media/image12.jpeg" ContentType="image/jpeg"/>
  <Override PartName="/ppt/media/image10.wmf" ContentType="image/x-wmf"/>
  <Override PartName="/ppt/media/image25.jpeg" ContentType="image/jpeg"/>
  <Override PartName="/ppt/media/image7.jpeg" ContentType="image/jpeg"/>
  <Override PartName="/ppt/media/image11.gif" ContentType="image/gif"/>
  <Override PartName="/ppt/media/image9.wmf" ContentType="image/x-wmf"/>
  <Override PartName="/ppt/media/image6.gif" ContentType="image/gif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0.gif" ContentType="image/gif"/>
  <Override PartName="/ppt/media/image18.jpeg" ContentType="image/jpeg"/>
  <Override PartName="/ppt/media/image3.gif" ContentType="image/gif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5.jpeg" ContentType="image/jpeg"/>
  <Override PartName="/ppt/media/image14.gif" ContentType="image/gif"/>
  <Override PartName="/ppt/media/image4.gif" ContentType="image/gif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C2BA-34FB-4883-8897-77FD05B8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2C12-418F-46EB-BEB4-8CBC754B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2826-18C2-49FD-A2B5-247B37BE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A9AB-4576-48D1-BAE1-9F031AD8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9FA0-6963-4A9A-87E6-A9991291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3691-D12A-4971-AF63-DB2715A0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012A-B1E2-4ECE-949A-81616BE9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67B9-C893-415C-901D-852B7242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4751-AB06-4951-8A6F-5472AC00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571B-D27A-4070-8F4A-676B02D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F27E-8A22-4AE8-8AB9-2B8F07E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11E7-EDB8-4D25-A564-11CE0285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7F47-338F-46EE-B0D4-E43614CE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B5D1-C4FF-4033-BE0E-CDE34539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9345-58D8-47AA-B432-6CF858CF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CF4B-ED6C-4E57-8936-AD17E797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42BB-81C8-4099-9467-6EDFE069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B7ED-B7C1-4D95-B629-16FB5953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E396-24AD-455A-8307-B8149F4A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2FFE7-CA54-4BCC-A68A-13105727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2C55-D8A6-4799-A333-D68D36BA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0DD6-AB11-443E-8ABE-DA2D3667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FAD2-993A-4C57-82D7-3B8A77A0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EDD6-7998-4D15-A30F-D73A60C7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8D4D-73CA-444A-A16D-FBFDB48FC2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F6AB-BB8C-487D-BF2E-E98A349C09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очение конических и фасонных детал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3763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ологическая кар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готовление ручки напиль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3098160" y="476280"/>
            <a:ext cx="28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 СОШ№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166680" y="5578560"/>
            <a:ext cx="40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технологии Жогло Ю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Варианты рукоятки для слесарного и столярного инструмент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539640" y="2416320"/>
          <a:ext cx="820908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16320"/>
                    <a:ext cx="820908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Варианты рукоятки для слесарного и столярного инструмент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539640" y="1905120"/>
          <a:ext cx="8136000" cy="39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05120"/>
                    <a:ext cx="81360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a58[1]"/>
          <p:cNvPicPr/>
          <p:nvPr/>
        </p:nvPicPr>
        <p:blipFill>
          <a:blip r:embed="rId1"/>
          <a:stretch/>
        </p:blipFill>
        <p:spPr>
          <a:xfrm>
            <a:off x="250920" y="981000"/>
            <a:ext cx="1834920" cy="1295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C:\Documents and Settings\николай\Мои документы\Мои рисунки\Безымянный.JPG"/>
          <p:cNvPicPr/>
          <p:nvPr/>
        </p:nvPicPr>
        <p:blipFill>
          <a:blip r:embed="rId2"/>
          <a:srcRect l="2911" t="3256" r="17839" b="5334"/>
          <a:stretch/>
        </p:blipFill>
        <p:spPr>
          <a:xfrm>
            <a:off x="2428920" y="214200"/>
            <a:ext cx="49291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Порядок выполнения рабо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6" descr="10-5"/>
          <p:cNvPicPr/>
          <p:nvPr/>
        </p:nvPicPr>
        <p:blipFill>
          <a:blip r:embed="rId1"/>
          <a:stretch/>
        </p:blipFill>
        <p:spPr>
          <a:xfrm rot="5400000">
            <a:off x="-19080" y="74736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6840" y="1599840"/>
            <a:ext cx="847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  Прочтите чертеж и технологическую карту на изготовление цилиндрической детали (или изделия для своего проект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 Выберите заготовку и спланируйте работу с ней под руководством учит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  Разметьте, подготовьте и установите заготовку на токарном стан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  Выберите и проверьте режущие инструмен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  Выполните черновое точение желобчатой стамеской, зачистку — шлифовальной шкуркой. Точите только с разрешения и под контролем учител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  Снимите заготовку. Проверьте размеры и шероховатость поверхностей обработанной дета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Технологическая кар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Picture 6" descr="AG00050_"/>
          <p:cNvPicPr/>
          <p:nvPr/>
        </p:nvPicPr>
        <p:blipFill>
          <a:blip r:embed="rId1"/>
          <a:stretch/>
        </p:blipFill>
        <p:spPr>
          <a:xfrm>
            <a:off x="684360" y="1500120"/>
            <a:ext cx="1079280" cy="563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C:\Documents and Settings\николай\Мои документы\Мои рисунки\Безымянный.JPG"/>
          <p:cNvPicPr/>
          <p:nvPr/>
        </p:nvPicPr>
        <p:blipFill>
          <a:blip r:embed="rId2"/>
          <a:srcRect l="0" t="0" r="8040" b="0"/>
          <a:stretch/>
        </p:blipFill>
        <p:spPr>
          <a:xfrm>
            <a:off x="1781280" y="747720"/>
            <a:ext cx="571968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Технологическая кар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Picture 6" descr="C:\Documents and Settings\николай\Мои документы\Мои рисунки\Безымянный.JPG"/>
          <p:cNvPicPr/>
          <p:nvPr/>
        </p:nvPicPr>
        <p:blipFill>
          <a:blip r:embed="rId1"/>
          <a:srcRect l="0" t="0" r="0" b="2011"/>
          <a:stretch/>
        </p:blipFill>
        <p:spPr>
          <a:xfrm>
            <a:off x="995400" y="1324080"/>
            <a:ext cx="7153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bf25a"/>
                </a:solidFill>
                <a:latin typeface="Tahoma"/>
              </a:rPr>
              <a:t>Чертёж ручки для напильн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" name="Picture 6" descr="52"/>
          <p:cNvPicPr/>
          <p:nvPr/>
        </p:nvPicPr>
        <p:blipFill>
          <a:blip r:embed="rId1"/>
          <a:stretch/>
        </p:blipFill>
        <p:spPr>
          <a:xfrm>
            <a:off x="324000" y="5877000"/>
            <a:ext cx="8820000" cy="36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:\Documents and Settings\николай\Мои документы\Мои рисунки\Безымянный.JPG"/>
          <p:cNvPicPr/>
          <p:nvPr/>
        </p:nvPicPr>
        <p:blipFill>
          <a:blip r:embed="rId2"/>
          <a:srcRect l="0" t="0" r="0" b="17920"/>
          <a:stretch/>
        </p:blipFill>
        <p:spPr>
          <a:xfrm>
            <a:off x="162000" y="1590840"/>
            <a:ext cx="88200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борочная единиц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зделие, состоящее из нескольких деталей, собранных и соединённых в единое цел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Picture 001"/>
          <p:cNvPicPr/>
          <p:nvPr/>
        </p:nvPicPr>
        <p:blipFill>
          <a:blip r:embed="rId1"/>
          <a:stretch/>
        </p:blipFill>
        <p:spPr>
          <a:xfrm>
            <a:off x="4643280" y="2924280"/>
            <a:ext cx="4500720" cy="3692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09-11"/>
          <p:cNvPicPr/>
          <p:nvPr/>
        </p:nvPicPr>
        <p:blipFill>
          <a:blip r:embed="rId2"/>
          <a:stretch/>
        </p:blipFill>
        <p:spPr>
          <a:xfrm>
            <a:off x="2484360" y="4653000"/>
            <a:ext cx="1727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борочный чертё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5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делие, состоящее из нескольких деталей, изображают н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борочном чертеж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6" descr="C:\Documents and Settings\николай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3586320" y="1393920"/>
            <a:ext cx="5343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иян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7" descr="C:\Documents and Settings\николай\Мои документы\Мои рисунки\Безымянный.JPG"/>
          <p:cNvPicPr/>
          <p:nvPr/>
        </p:nvPicPr>
        <p:blipFill>
          <a:blip r:embed="rId1"/>
          <a:srcRect l="6917" t="19177" r="14830" b="21232"/>
          <a:stretch/>
        </p:blipFill>
        <p:spPr>
          <a:xfrm>
            <a:off x="1209600" y="1714680"/>
            <a:ext cx="6577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оцесс изготовления издел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31" name="Organization Chart 5"/>
          <p:cNvGrpSpPr/>
          <p:nvPr/>
        </p:nvGrpSpPr>
        <p:grpSpPr>
          <a:xfrm>
            <a:off x="2620800" y="2354040"/>
            <a:ext cx="5623200" cy="3778200"/>
            <a:chOff x="2620800" y="2354040"/>
            <a:chExt cx="5623200" cy="3778200"/>
          </a:xfrm>
        </p:grpSpPr>
        <p:cxnSp>
          <p:nvCxnSpPr>
            <p:cNvPr id="132" name="_s1028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4974480" y="2459520"/>
              <a:ext cx="229320" cy="103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029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3942360" y="2459160"/>
              <a:ext cx="229320" cy="1033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4" name="_s1030"/>
            <p:cNvSpPr/>
            <p:nvPr/>
          </p:nvSpPr>
          <p:spPr>
            <a:xfrm>
              <a:off x="3865680" y="2354040"/>
              <a:ext cx="1414440" cy="50796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здел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_s1031"/>
            <p:cNvSpPr/>
            <p:nvPr/>
          </p:nvSpPr>
          <p:spPr>
            <a:xfrm>
              <a:off x="2620800" y="3090600"/>
              <a:ext cx="1836720" cy="9115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детал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_s1032"/>
            <p:cNvSpPr/>
            <p:nvPr/>
          </p:nvSpPr>
          <p:spPr>
            <a:xfrm>
              <a:off x="4686120" y="3090600"/>
              <a:ext cx="1837080" cy="9115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сборочна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единиц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37" name="Picture 14" descr=""/>
            <p:cNvPicPr/>
            <p:nvPr/>
          </p:nvPicPr>
          <p:blipFill>
            <a:blip r:embed="rId1"/>
            <a:stretch/>
          </p:blipFill>
          <p:spPr>
            <a:xfrm>
              <a:off x="5940360" y="4005000"/>
              <a:ext cx="2303640" cy="212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одставка для комнатных растени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унок (б): 1 – ножка, 2 – рейка, 3 – шуруп (гвозд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6" descr="C:\Documents and Settings\николай\Мои документы\Мои рисунки\Безымянный.JPG"/>
          <p:cNvPicPr/>
          <p:nvPr/>
        </p:nvPicPr>
        <p:blipFill>
          <a:blip r:embed="rId1"/>
          <a:srcRect l="16589" t="10138" r="8676" b="20631"/>
          <a:stretch/>
        </p:blipFill>
        <p:spPr>
          <a:xfrm>
            <a:off x="2000160" y="2697120"/>
            <a:ext cx="49910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унок (в): 1 – стенка боковая, 2 – основани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- стенка задняя, 4 – полка, 5 – переклад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6" descr="C:\Documents and Settings\николай\Мои документы\Мои рисунки\Безымянный.JPG"/>
          <p:cNvPicPr/>
          <p:nvPr/>
        </p:nvPicPr>
        <p:blipFill>
          <a:blip r:embed="rId1"/>
          <a:srcRect l="12944" t="19579" r="15589" b="21678"/>
          <a:stretch/>
        </p:blipFill>
        <p:spPr>
          <a:xfrm>
            <a:off x="1571760" y="2714760"/>
            <a:ext cx="5786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тол откидн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исунок (г): 1 – царга, 2 – ножка, 3 – крыш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– брусок настенный, 5 – пет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C:\Documents and Settings\николай\Мои документы\Мои рисунки\Безымянный.JPG"/>
          <p:cNvPicPr/>
          <p:nvPr/>
        </p:nvPicPr>
        <p:blipFill>
          <a:blip r:embed="rId1"/>
          <a:srcRect l="16783" t="17350" r="18532" b="5101"/>
          <a:stretch/>
        </p:blipFill>
        <p:spPr>
          <a:xfrm>
            <a:off x="2773440" y="2739960"/>
            <a:ext cx="38703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борочный чертёж угольн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Picture 6" descr="C:\Documents and Settings\николай\Мои документы\Мои рисунки\Безымянный.JPG"/>
          <p:cNvPicPr/>
          <p:nvPr/>
        </p:nvPicPr>
        <p:blipFill>
          <a:blip r:embed="rId1"/>
          <a:stretch/>
        </p:blipFill>
        <p:spPr>
          <a:xfrm>
            <a:off x="852480" y="1276200"/>
            <a:ext cx="74390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1692360" y="1600200"/>
            <a:ext cx="5472000" cy="45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5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87280" y="2349360"/>
            <a:ext cx="6121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еталь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изделие, изготовленное из однородного материала без сборочных операций или из одного «куска материала» при помощи склейки, пайки и т. 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ручка для напильника"/>
          <p:cNvPicPr/>
          <p:nvPr/>
        </p:nvPicPr>
        <p:blipFill>
          <a:blip r:embed="rId1"/>
          <a:stretch/>
        </p:blipFill>
        <p:spPr>
          <a:xfrm>
            <a:off x="755640" y="3141720"/>
            <a:ext cx="777708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Элементы детал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мент детали – отдельная её часть, имеющая определённое назнач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ска – скошенная ча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алтель – скругление уг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ро – выступ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з – продольное углубление, канав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уп – продольное возвышение на плоск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элементы, кроме своего основного назначения, придают детали красивый внешний ви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39"/>
          <p:cNvPicPr/>
          <p:nvPr/>
        </p:nvPicPr>
        <p:blipFill>
          <a:blip r:embed="rId1"/>
          <a:stretch/>
        </p:blipFill>
        <p:spPr>
          <a:xfrm>
            <a:off x="971640" y="189000"/>
            <a:ext cx="11588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ebf25a"/>
                </a:solidFill>
                <a:latin typeface="Tahoma"/>
              </a:rPr>
              <a:t>Вариативность и дизайн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Вариативнос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зменение отдельных элементов изделия при сохранении его основы в целях наиболее удачного решения конструкторской зада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тивность присуща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зайн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зделия – его конструкции и внешнему виду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(«дизайн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переводе с английского означает «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замысел, проект, рисуно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14-8"/>
          <p:cNvPicPr/>
          <p:nvPr/>
        </p:nvPicPr>
        <p:blipFill>
          <a:blip r:embed="rId1"/>
          <a:stretch/>
        </p:blipFill>
        <p:spPr>
          <a:xfrm>
            <a:off x="7164360" y="4221000"/>
            <a:ext cx="18223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рианты разделочной дос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4" descr="a1"/>
          <p:cNvPicPr/>
          <p:nvPr/>
        </p:nvPicPr>
        <p:blipFill>
          <a:blip r:embed="rId1"/>
          <a:stretch/>
        </p:blipFill>
        <p:spPr>
          <a:xfrm>
            <a:off x="250920" y="2349360"/>
            <a:ext cx="8569080" cy="1729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10-9"/>
          <p:cNvPicPr/>
          <p:nvPr/>
        </p:nvPicPr>
        <p:blipFill>
          <a:blip r:embed="rId2"/>
          <a:stretch/>
        </p:blipFill>
        <p:spPr>
          <a:xfrm>
            <a:off x="324000" y="5084640"/>
            <a:ext cx="86040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рианты подставки для карандаше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4" descr="a2"/>
          <p:cNvPicPr/>
          <p:nvPr/>
        </p:nvPicPr>
        <p:blipFill>
          <a:blip r:embed="rId1"/>
          <a:stretch/>
        </p:blipFill>
        <p:spPr>
          <a:xfrm>
            <a:off x="0" y="3038400"/>
            <a:ext cx="9144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Варианты рукоятки для слесарного и столярного инструмент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87280" y="2325600"/>
          <a:ext cx="6697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25600"/>
                    <a:ext cx="6697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2aa68"/>
                </a:solidFill>
                <a:latin typeface="Tahoma"/>
              </a:rPr>
              <a:t>Варианты рукоятки для слесарного и столярного инструмент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ручка для напильника"/>
          <p:cNvPicPr/>
          <p:nvPr/>
        </p:nvPicPr>
        <p:blipFill>
          <a:blip r:embed="rId1"/>
          <a:stretch/>
        </p:blipFill>
        <p:spPr>
          <a:xfrm>
            <a:off x="609480" y="2119320"/>
            <a:ext cx="79250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6:04:02Z</dcterms:created>
  <dc:creator>Jenya Witutnew</dc:creator>
  <dc:description/>
  <dc:language>en-US</dc:language>
  <cp:lastModifiedBy>teacher18</cp:lastModifiedBy>
  <dcterms:modified xsi:type="dcterms:W3CDTF">2018-04-17T23:32:52Z</dcterms:modified>
  <cp:revision>17</cp:revision>
  <dc:subject/>
  <dc:title>Точение конических и фасонных деталей</dc:title>
</cp:coreProperties>
</file>