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8.wmf" ContentType="image/x-wmf"/>
  <Override PartName="/ppt/media/image12.jpeg" ContentType="image/jpeg"/>
  <Override PartName="/ppt/media/image10.wmf" ContentType="image/x-wmf"/>
  <Override PartName="/ppt/media/image25.jpeg" ContentType="image/jpeg"/>
  <Override PartName="/ppt/media/image7.jpeg" ContentType="image/jpeg"/>
  <Override PartName="/ppt/media/image11.gif" ContentType="image/gif"/>
  <Override PartName="/ppt/media/image9.wmf" ContentType="image/x-wmf"/>
  <Override PartName="/ppt/media/image6.gif" ContentType="image/gif"/>
  <Override PartName="/ppt/media/image5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1.gif" ContentType="image/gif"/>
  <Override PartName="/ppt/media/image20.gif" ContentType="image/gif"/>
  <Override PartName="/ppt/media/image18.jpeg" ContentType="image/jpeg"/>
  <Override PartName="/ppt/media/image3.gif" ContentType="image/gif"/>
  <Override PartName="/ppt/media/image21.jpeg" ContentType="image/jpeg"/>
  <Override PartName="/ppt/media/image17.gif" ContentType="image/gif"/>
  <Override PartName="/ppt/media/image23.jpeg" ContentType="image/jpeg"/>
  <Override PartName="/ppt/media/image2.jpeg" ContentType="image/jpeg"/>
  <Override PartName="/ppt/media/image15.jpeg" ContentType="image/jpeg"/>
  <Override PartName="/ppt/media/image14.gif" ContentType="image/gif"/>
  <Override PartName="/ppt/media/image4.gif" ContentType="image/gif"/>
  <Override PartName="/ppt/media/image2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E4367-EF54-4815-B570-0788AF081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C8695-C95E-4535-A7DF-E6348936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8B90A-4A47-4F3A-AD99-907A4C0B8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A2D34-E9D9-40AC-947A-562809891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4F50-2B5F-49E2-92E0-8C24D4E6E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17DD-48BF-44DD-97BB-24CB0834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FC91-FE78-4DE4-A019-608BE16D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E4A2-BBC3-465A-9E1A-F9995FEA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6048-4355-4CBA-B03D-F17DA650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B1AE-694B-4923-86A8-D3DDE93E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2FBE-BDAD-4172-BCC2-D093F6CA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64F1D-E974-4B00-A4FA-1B5459C7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3095-3AC3-4884-AEE5-72E3A43E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4D78-22E4-4B75-998A-B79CDA15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5DF1-D53F-4D74-AC0E-ABFEEB70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D7CB-7AD8-41F1-BEB1-485B53DA5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40F3-39BD-4EFC-B263-0C7C45F26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461DA-A5DF-45D5-9D1E-8000E054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9B658-1DAC-4633-AD77-6DA77EC8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DD6A8-8272-432C-BE46-FEB95ECB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85645-F2F7-47A9-ACFD-EC83753A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69866-CC79-4DBD-8168-EB5DC7B6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6967A-6FE8-4FCB-90BA-D494DE99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27CB2-FCB1-479B-92AB-7A713329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F239-EEDE-4443-9DF6-061915C938D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684A-CBD2-47D3-97EF-4E2B56D711E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Точение конических и фасонных деталей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403280" y="37634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хнологическая кар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готовление ручки напильн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3098160" y="476280"/>
            <a:ext cx="284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БОУ  СОШ№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166680" y="5578560"/>
            <a:ext cx="40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ль технологии Жогло Ю.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ebf25a"/>
                </a:solidFill>
                <a:latin typeface="Tahoma"/>
              </a:rPr>
              <a:t>Варианты рукоятки для слесарного и столярного инструментов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58" name="Object 4"/>
          <p:cNvGraphicFramePr/>
          <p:nvPr/>
        </p:nvGraphicFramePr>
        <p:xfrm>
          <a:off x="539640" y="2416320"/>
          <a:ext cx="8209080" cy="29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416320"/>
                    <a:ext cx="8209080" cy="29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ebf25a"/>
                </a:solidFill>
                <a:latin typeface="Tahoma"/>
              </a:rPr>
              <a:t>Варианты рукоятки для слесарного и столярного инструментов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539640" y="1905120"/>
          <a:ext cx="8136000" cy="395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05120"/>
                    <a:ext cx="81360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7" descr="a58[1]"/>
          <p:cNvPicPr/>
          <p:nvPr/>
        </p:nvPicPr>
        <p:blipFill>
          <a:blip r:embed="rId1"/>
          <a:stretch/>
        </p:blipFill>
        <p:spPr>
          <a:xfrm>
            <a:off x="250920" y="981000"/>
            <a:ext cx="1834920" cy="1295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C:\Documents and Settings\николай\Мои документы\Мои рисунки\Безымянный.JPG"/>
          <p:cNvPicPr/>
          <p:nvPr/>
        </p:nvPicPr>
        <p:blipFill>
          <a:blip r:embed="rId2"/>
          <a:srcRect l="2911" t="3256" r="17839" b="5334"/>
          <a:stretch/>
        </p:blipFill>
        <p:spPr>
          <a:xfrm>
            <a:off x="2428920" y="214200"/>
            <a:ext cx="492912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bf25a"/>
                </a:solidFill>
                <a:latin typeface="Tahoma"/>
              </a:rPr>
              <a:t>Порядок выполнения работ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6" name="Picture 6" descr="10-5"/>
          <p:cNvPicPr/>
          <p:nvPr/>
        </p:nvPicPr>
        <p:blipFill>
          <a:blip r:embed="rId1"/>
          <a:stretch/>
        </p:blipFill>
        <p:spPr>
          <a:xfrm rot="5400000">
            <a:off x="-19080" y="747360"/>
            <a:ext cx="1371600" cy="685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456840" y="1599840"/>
            <a:ext cx="8472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.  Прочтите чертеж и технологическую карту на изготовление цилиндрической детали (или изделия для своего проекта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.  Выберите заготовку и спланируйте работу с ней под руководством учител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.  Разметьте, подготовьте и установите заготовку на токарном станк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4.  Выберите и проверьте режущие инструмен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.  Выполните черновое точение желобчатой стамеской, зачистку — шлифовальной шкуркой. Точите только с разрешения и под контролем учителя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6.  Снимите заготовку. Проверьте размеры и шероховатость поверхностей обработанной детал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ebf25a"/>
                </a:solidFill>
                <a:latin typeface="Tahoma"/>
              </a:rPr>
              <a:t>Технологическая карт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9" name="Picture 6" descr="AG00050_"/>
          <p:cNvPicPr/>
          <p:nvPr/>
        </p:nvPicPr>
        <p:blipFill>
          <a:blip r:embed="rId1"/>
          <a:stretch/>
        </p:blipFill>
        <p:spPr>
          <a:xfrm>
            <a:off x="684360" y="1500120"/>
            <a:ext cx="1079280" cy="563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C:\Documents and Settings\николай\Мои документы\Мои рисунки\Безымянный.JPG"/>
          <p:cNvPicPr/>
          <p:nvPr/>
        </p:nvPicPr>
        <p:blipFill>
          <a:blip r:embed="rId2"/>
          <a:srcRect l="0" t="0" r="8040" b="0"/>
          <a:stretch/>
        </p:blipFill>
        <p:spPr>
          <a:xfrm>
            <a:off x="1781280" y="747720"/>
            <a:ext cx="5719680" cy="60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ebf25a"/>
                </a:solidFill>
                <a:latin typeface="Tahoma"/>
              </a:rPr>
              <a:t>Технологическая карт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2" name="Picture 6" descr="C:\Documents and Settings\николай\Мои документы\Мои рисунки\Безымянный.JPG"/>
          <p:cNvPicPr/>
          <p:nvPr/>
        </p:nvPicPr>
        <p:blipFill>
          <a:blip r:embed="rId1"/>
          <a:srcRect l="0" t="0" r="0" b="2011"/>
          <a:stretch/>
        </p:blipFill>
        <p:spPr>
          <a:xfrm>
            <a:off x="995400" y="1324080"/>
            <a:ext cx="7153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bf25a"/>
                </a:solidFill>
                <a:latin typeface="Tahoma"/>
              </a:rPr>
              <a:t>Чертёж ручки для напильни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4" name="Picture 6" descr="52"/>
          <p:cNvPicPr/>
          <p:nvPr/>
        </p:nvPicPr>
        <p:blipFill>
          <a:blip r:embed="rId1"/>
          <a:stretch/>
        </p:blipFill>
        <p:spPr>
          <a:xfrm>
            <a:off x="324000" y="5877000"/>
            <a:ext cx="8820000" cy="360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C:\Documents and Settings\николай\Мои документы\Мои рисунки\Безымянный.JPG"/>
          <p:cNvPicPr/>
          <p:nvPr/>
        </p:nvPicPr>
        <p:blipFill>
          <a:blip r:embed="rId2"/>
          <a:srcRect l="0" t="0" r="0" b="17920"/>
          <a:stretch/>
        </p:blipFill>
        <p:spPr>
          <a:xfrm>
            <a:off x="162000" y="1590840"/>
            <a:ext cx="882000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борочная единиц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изделие, состоящее из нескольких деталей, собранных и соединённых в единое цело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4" descr="Picture 001"/>
          <p:cNvPicPr/>
          <p:nvPr/>
        </p:nvPicPr>
        <p:blipFill>
          <a:blip r:embed="rId1"/>
          <a:stretch/>
        </p:blipFill>
        <p:spPr>
          <a:xfrm>
            <a:off x="4643280" y="2924280"/>
            <a:ext cx="4500720" cy="3692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09-11"/>
          <p:cNvPicPr/>
          <p:nvPr/>
        </p:nvPicPr>
        <p:blipFill>
          <a:blip r:embed="rId2"/>
          <a:stretch/>
        </p:blipFill>
        <p:spPr>
          <a:xfrm>
            <a:off x="2484360" y="4653000"/>
            <a:ext cx="17272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борочный чертёж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356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делие, состоящее из нескольких деталей, изображают на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сборочном чертеж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6" descr="C:\Documents and Settings\николай\Мои документы\Мои рисунки\Безымянный.JPG"/>
          <p:cNvPicPr/>
          <p:nvPr/>
        </p:nvPicPr>
        <p:blipFill>
          <a:blip r:embed="rId1"/>
          <a:stretch/>
        </p:blipFill>
        <p:spPr>
          <a:xfrm>
            <a:off x="3586320" y="1393920"/>
            <a:ext cx="53434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Киян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4" name="Picture 7" descr="C:\Documents and Settings\николай\Мои документы\Мои рисунки\Безымянный.JPG"/>
          <p:cNvPicPr/>
          <p:nvPr/>
        </p:nvPicPr>
        <p:blipFill>
          <a:blip r:embed="rId1"/>
          <a:srcRect l="6917" t="19177" r="14830" b="21232"/>
          <a:stretch/>
        </p:blipFill>
        <p:spPr>
          <a:xfrm>
            <a:off x="1209600" y="1714680"/>
            <a:ext cx="65772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роцесс изготовления издели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31" name="Organization Chart 5"/>
          <p:cNvGrpSpPr/>
          <p:nvPr/>
        </p:nvGrpSpPr>
        <p:grpSpPr>
          <a:xfrm>
            <a:off x="2620800" y="2354040"/>
            <a:ext cx="5623200" cy="3778200"/>
            <a:chOff x="2620800" y="2354040"/>
            <a:chExt cx="5623200" cy="3778200"/>
          </a:xfrm>
        </p:grpSpPr>
        <p:cxnSp>
          <p:nvCxnSpPr>
            <p:cNvPr id="132" name="_s1028"/>
            <p:cNvCxnSpPr>
              <a:stCxn id="133" idx="0"/>
              <a:endCxn id="134" idx="2"/>
            </p:cNvCxnSpPr>
            <p:nvPr/>
          </p:nvCxnSpPr>
          <p:spPr>
            <a:xfrm flipV="1" rot="16200000">
              <a:off x="4974480" y="2459520"/>
              <a:ext cx="229320" cy="1032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5" name="_s1029"/>
            <p:cNvCxnSpPr>
              <a:stCxn id="136" idx="0"/>
              <a:endCxn id="134" idx="2"/>
            </p:cNvCxnSpPr>
            <p:nvPr/>
          </p:nvCxnSpPr>
          <p:spPr>
            <a:xfrm flipH="1" flipV="1" rot="5400000">
              <a:off x="3942360" y="2459160"/>
              <a:ext cx="229320" cy="1033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4" name="_s1030"/>
            <p:cNvSpPr/>
            <p:nvPr/>
          </p:nvSpPr>
          <p:spPr>
            <a:xfrm>
              <a:off x="3865680" y="2354040"/>
              <a:ext cx="1414440" cy="50796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Издели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_s1031"/>
            <p:cNvSpPr/>
            <p:nvPr/>
          </p:nvSpPr>
          <p:spPr>
            <a:xfrm>
              <a:off x="2620800" y="3090600"/>
              <a:ext cx="1836720" cy="91152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детали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_s1032"/>
            <p:cNvSpPr/>
            <p:nvPr/>
          </p:nvSpPr>
          <p:spPr>
            <a:xfrm>
              <a:off x="4686120" y="3090600"/>
              <a:ext cx="1837080" cy="91152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сборочная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единица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37" name="Picture 14" descr=""/>
            <p:cNvPicPr/>
            <p:nvPr/>
          </p:nvPicPr>
          <p:blipFill>
            <a:blip r:embed="rId1"/>
            <a:stretch/>
          </p:blipFill>
          <p:spPr>
            <a:xfrm>
              <a:off x="5940360" y="4005000"/>
              <a:ext cx="2303640" cy="212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Подставка для комнатных растений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исунок (б): 1 – ножка, 2 – рейка, 3 – шуруп (гвоздь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6" descr="C:\Documents and Settings\николай\Мои документы\Мои рисунки\Безымянный.JPG"/>
          <p:cNvPicPr/>
          <p:nvPr/>
        </p:nvPicPr>
        <p:blipFill>
          <a:blip r:embed="rId1"/>
          <a:srcRect l="16589" t="10138" r="8676" b="20631"/>
          <a:stretch/>
        </p:blipFill>
        <p:spPr>
          <a:xfrm>
            <a:off x="2000160" y="2697120"/>
            <a:ext cx="499104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ол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исунок (в): 1 – стенка боковая, 2 – основание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- стенка задняя, 4 – полка, 5 – переклад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6" descr="C:\Documents and Settings\николай\Мои документы\Мои рисунки\Безымянный.JPG"/>
          <p:cNvPicPr/>
          <p:nvPr/>
        </p:nvPicPr>
        <p:blipFill>
          <a:blip r:embed="rId1"/>
          <a:srcRect l="12944" t="19579" r="15589" b="21678"/>
          <a:stretch/>
        </p:blipFill>
        <p:spPr>
          <a:xfrm>
            <a:off x="1571760" y="2714760"/>
            <a:ext cx="57862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тол откидно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исунок (г): 1 – царга, 2 – ножка, 3 – крышк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– брусок настенный, 5 – пет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6" descr="C:\Documents and Settings\николай\Мои документы\Мои рисунки\Безымянный.JPG"/>
          <p:cNvPicPr/>
          <p:nvPr/>
        </p:nvPicPr>
        <p:blipFill>
          <a:blip r:embed="rId1"/>
          <a:srcRect l="16783" t="17350" r="18532" b="5101"/>
          <a:stretch/>
        </p:blipFill>
        <p:spPr>
          <a:xfrm>
            <a:off x="2773440" y="2739960"/>
            <a:ext cx="387036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борочный чертёж угольни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5" name="Picture 6" descr="C:\Documents and Settings\николай\Мои документы\Мои рисунки\Безымянный.JPG"/>
          <p:cNvPicPr/>
          <p:nvPr/>
        </p:nvPicPr>
        <p:blipFill>
          <a:blip r:embed="rId1"/>
          <a:stretch/>
        </p:blipFill>
        <p:spPr>
          <a:xfrm>
            <a:off x="852480" y="1276200"/>
            <a:ext cx="743904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4"/>
          <p:cNvSpPr txBox="1"/>
          <p:nvPr/>
        </p:nvSpPr>
        <p:spPr>
          <a:xfrm>
            <a:off x="1692360" y="1600200"/>
            <a:ext cx="5472000" cy="453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ButtonPour">
              <a:avLst>
                <a:gd name="adj1" fmla="val 10800005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187280" y="2349360"/>
            <a:ext cx="61214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Деталь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изделие, изготовленное из однородного материала без сборочных операций или из одного «куска материала» при помощи склейки, пайки и т. 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4" descr="ручка для напильника"/>
          <p:cNvPicPr/>
          <p:nvPr/>
        </p:nvPicPr>
        <p:blipFill>
          <a:blip r:embed="rId1"/>
          <a:stretch/>
        </p:blipFill>
        <p:spPr>
          <a:xfrm>
            <a:off x="755640" y="3141720"/>
            <a:ext cx="777708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Элементы детал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6868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лемент детали – отдельная её часть, имеющая определённое назнач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аска – скошенная ча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алтель – скругление угл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бро – выступ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з – продольное углубление, канав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туп – продольное возвышение на плоск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ногие элементы, кроме своего основного назначения, придают детали красивый внешний ви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4" descr="39"/>
          <p:cNvPicPr/>
          <p:nvPr/>
        </p:nvPicPr>
        <p:blipFill>
          <a:blip r:embed="rId1"/>
          <a:stretch/>
        </p:blipFill>
        <p:spPr>
          <a:xfrm>
            <a:off x="971640" y="189000"/>
            <a:ext cx="11588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ebf25a"/>
                </a:solidFill>
                <a:latin typeface="Tahoma"/>
              </a:rPr>
              <a:t>Вариативность и дизайн</a:t>
            </a:r>
            <a:endParaRPr b="0" lang="en-US" sz="4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Вариативност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изменение отдельных элементов изделия при сохранении его основы в целях наиболее удачного решения конструкторской задач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тивность присуща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дизайну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зделия – его конструкции и внешнему виду 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(«дизайн»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 переводе с английского означает «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замысел, проект, рисунок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»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7" descr="14-8"/>
          <p:cNvPicPr/>
          <p:nvPr/>
        </p:nvPicPr>
        <p:blipFill>
          <a:blip r:embed="rId1"/>
          <a:stretch/>
        </p:blipFill>
        <p:spPr>
          <a:xfrm>
            <a:off x="7164360" y="4221000"/>
            <a:ext cx="18223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арианты разделочной дос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8" name="Picture 4" descr="a1"/>
          <p:cNvPicPr/>
          <p:nvPr/>
        </p:nvPicPr>
        <p:blipFill>
          <a:blip r:embed="rId1"/>
          <a:stretch/>
        </p:blipFill>
        <p:spPr>
          <a:xfrm>
            <a:off x="250920" y="2349360"/>
            <a:ext cx="8569080" cy="1729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10-9"/>
          <p:cNvPicPr/>
          <p:nvPr/>
        </p:nvPicPr>
        <p:blipFill>
          <a:blip r:embed="rId2"/>
          <a:stretch/>
        </p:blipFill>
        <p:spPr>
          <a:xfrm>
            <a:off x="324000" y="5084640"/>
            <a:ext cx="860400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арианты подставки для карандашей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1" name="Picture 4" descr="a2"/>
          <p:cNvPicPr/>
          <p:nvPr/>
        </p:nvPicPr>
        <p:blipFill>
          <a:blip r:embed="rId1"/>
          <a:stretch/>
        </p:blipFill>
        <p:spPr>
          <a:xfrm>
            <a:off x="0" y="3038400"/>
            <a:ext cx="914400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ebf25a"/>
                </a:solidFill>
                <a:latin typeface="Tahoma"/>
              </a:rPr>
              <a:t>Варианты рукоятки для слесарного и столярного инструментов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53" name="Object 4"/>
          <p:cNvGraphicFramePr/>
          <p:nvPr/>
        </p:nvGraphicFramePr>
        <p:xfrm>
          <a:off x="1187280" y="2325600"/>
          <a:ext cx="66978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325600"/>
                    <a:ext cx="66978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2aa68"/>
                </a:solidFill>
                <a:latin typeface="Tahoma"/>
              </a:rPr>
              <a:t>Варианты рукоятки для слесарного и столярного инструментов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6" name="Picture 4" descr="ручка для напильника"/>
          <p:cNvPicPr/>
          <p:nvPr/>
        </p:nvPicPr>
        <p:blipFill>
          <a:blip r:embed="rId1"/>
          <a:stretch/>
        </p:blipFill>
        <p:spPr>
          <a:xfrm>
            <a:off x="609480" y="2119320"/>
            <a:ext cx="792504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6:04:02Z</dcterms:created>
  <dc:creator>Jenya Witutnew</dc:creator>
  <dc:description/>
  <dc:language>en-US</dc:language>
  <cp:lastModifiedBy>teacher18</cp:lastModifiedBy>
  <dcterms:modified xsi:type="dcterms:W3CDTF">2018-04-17T23:32:52Z</dcterms:modified>
  <cp:revision>17</cp:revision>
  <dc:subject/>
  <dc:title>Точение конических и фасонных деталей</dc:title>
</cp:coreProperties>
</file>