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9.jpeg" ContentType="image/jpeg"/>
  <Override PartName="/ppt/media/image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8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~PP865.WAV" ContentType="audio/x-wav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799-992B-4635-9AF1-46E12FCC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456-10A3-4B65-93DC-CAE53AD6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F82-9EA4-47EE-BE8A-CCDBCAB6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C34-5C10-41B1-A8D2-77C92A58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A6D-3CB2-496B-8151-212B47E5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0AD-0159-4E2F-98F8-21DC6DE1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77D-8ADD-46A4-A5DE-61D786D1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C22-D7E5-49FB-AE24-DEA45516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9CE-154B-4B86-8A50-97CD2246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D4C-63B5-4684-B7A1-6D145830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5FC-CBF4-4AE1-B692-167EF014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872-5D47-4306-8F6F-EFAB4BB9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B5D6-5BAC-461D-A4CA-5A4E717CE4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audio" Target="../media/~PP865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~PP865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audio" Target="../media/~PP865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audio" Target="../media/~PP865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audio" Target="../media/~PP865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audio" Target="../media/~PP865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Облако 31"/>
          <p:cNvSpPr/>
          <p:nvPr/>
        </p:nvSpPr>
        <p:spPr>
          <a:xfrm rot="409200">
            <a:off x="3536640" y="2860560"/>
            <a:ext cx="2674800" cy="2141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1.JPG"/>
          <p:cNvPicPr/>
          <p:nvPr/>
        </p:nvPicPr>
        <p:blipFill>
          <a:blip r:embed="rId1"/>
          <a:srcRect l="20309" t="43701" r="50004" b="30052"/>
          <a:stretch/>
        </p:blipFill>
        <p:spPr>
          <a:xfrm>
            <a:off x="539640" y="836640"/>
            <a:ext cx="122400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4138560" y="0"/>
            <a:ext cx="2798640" cy="1109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1547640" y="7488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9"/>
          <p:cNvSpPr/>
          <p:nvPr/>
        </p:nvSpPr>
        <p:spPr>
          <a:xfrm>
            <a:off x="0" y="704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23" descr=""/>
          <p:cNvPicPr/>
          <p:nvPr/>
        </p:nvPicPr>
        <p:blipFill>
          <a:blip r:embed="rId3"/>
          <a:stretch/>
        </p:blipFill>
        <p:spPr>
          <a:xfrm>
            <a:off x="5900760" y="0"/>
            <a:ext cx="3243240" cy="6764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1979640" y="476280"/>
            <a:ext cx="1871640" cy="1512720"/>
          </a:xfrm>
          <a:prstGeom prst="horizontalScroll">
            <a:avLst>
              <a:gd name="adj" fmla="val 12500"/>
            </a:avLst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дев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, здоров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ость, смех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ет во вс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Круглая лента лицом вверх 28" descr=""/>
          <p:cNvPicPr/>
          <p:nvPr/>
        </p:nvPicPr>
        <p:blipFill>
          <a:blip r:embed="rId4"/>
          <a:stretch/>
        </p:blipFill>
        <p:spPr>
          <a:xfrm>
            <a:off x="-85680" y="-79200"/>
            <a:ext cx="4145040" cy="116964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ый прямоугольник 22"/>
          <p:cNvSpPr/>
          <p:nvPr/>
        </p:nvSpPr>
        <p:spPr>
          <a:xfrm>
            <a:off x="179280" y="2565360"/>
            <a:ext cx="3168720" cy="4149720"/>
          </a:xfrm>
          <a:custGeom>
            <a:avLst/>
            <a:gdLst>
              <a:gd name="textAreaLeft" fmla="*/ 154440 w 3168720"/>
              <a:gd name="textAreaRight" fmla="*/ 3014280 w 3168720"/>
              <a:gd name="textAreaTop" fmla="*/ 154440 h 4149720"/>
              <a:gd name="textAreaBottom" fmla="*/ 3995280 h 4149720"/>
            </a:gdLst>
            <a:ahLst/>
            <a:rect l="textAreaLeft" t="textAreaTop" r="textAreaRight" b="textAreaBottom"/>
            <a:pathLst>
              <a:path w="21600" h="28286">
                <a:moveTo>
                  <a:pt x="3600" y="0"/>
                </a:moveTo>
                <a:arcTo wR="3600" hR="3600" stAng="16200000" swAng="-5400000"/>
                <a:lnTo>
                  <a:pt x="0" y="24686"/>
                </a:lnTo>
                <a:arcTo wR="3600" hR="3600" stAng="10800000" swAng="-5400000"/>
                <a:lnTo>
                  <a:pt x="18000" y="28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здоров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В.Лебедева-Кумач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В. Соловьёва-Седог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яйся,  если хочеш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здоров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ся позабыть про докторов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й холодной обтирайся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очешь быть здор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х полезней солнц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дух и вода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болезней помог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м всегда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всех болезней всех полез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нце, воздух и вода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21" descr=""/>
          <p:cNvPicPr/>
          <p:nvPr/>
        </p:nvPicPr>
        <p:blipFill>
          <a:blip r:embed="rId5"/>
          <a:stretch/>
        </p:blipFill>
        <p:spPr>
          <a:xfrm>
            <a:off x="5218200" y="549360"/>
            <a:ext cx="5254560" cy="706320"/>
          </a:xfrm>
          <a:prstGeom prst="rect">
            <a:avLst/>
          </a:prstGeom>
          <a:ln w="0">
            <a:noFill/>
          </a:ln>
        </p:spPr>
      </p:pic>
      <p:sp>
        <p:nvSpPr>
          <p:cNvPr id="56" name="Облако 25"/>
          <p:cNvSpPr/>
          <p:nvPr/>
        </p:nvSpPr>
        <p:spPr>
          <a:xfrm rot="249000">
            <a:off x="3981600" y="1155240"/>
            <a:ext cx="2884320" cy="1684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 rot="21396000">
            <a:off x="4333680" y="1067400"/>
            <a:ext cx="268740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внучка избаловали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ос нежным, как цветок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б с детства закаляли -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л бы крепким 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жок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бушка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блако 30"/>
          <p:cNvSpPr/>
          <p:nvPr/>
        </p:nvSpPr>
        <p:spPr>
          <a:xfrm rot="21335400">
            <a:off x="3843000" y="4986000"/>
            <a:ext cx="2855880" cy="1765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5"/>
          <p:cNvSpPr/>
          <p:nvPr/>
        </p:nvSpPr>
        <p:spPr>
          <a:xfrm rot="20984400">
            <a:off x="4089960" y="5175000"/>
            <a:ext cx="2752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ты, пряники, конфеты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м так вредят зубам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овощи и фрукты -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здоровая еда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ёт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 rot="21201000">
            <a:off x="3862440" y="3075120"/>
            <a:ext cx="2543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о для учёбы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нье острое иметь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учите упражненьям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глаза сво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чь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4" descr="6.JPG"/>
          <p:cNvPicPr/>
          <p:nvPr/>
        </p:nvPicPr>
        <p:blipFill>
          <a:blip r:embed="rId6"/>
          <a:srcRect l="1232" t="52591" r="62535" b="930"/>
          <a:stretch/>
        </p:blipFill>
        <p:spPr>
          <a:xfrm>
            <a:off x="6804000" y="1844640"/>
            <a:ext cx="234000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7" name="~PP865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Облако 27"/>
          <p:cNvSpPr/>
          <p:nvPr/>
        </p:nvSpPr>
        <p:spPr>
          <a:xfrm rot="21073200">
            <a:off x="3514320" y="2850840"/>
            <a:ext cx="3065400" cy="336708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блако 22"/>
          <p:cNvSpPr/>
          <p:nvPr/>
        </p:nvSpPr>
        <p:spPr>
          <a:xfrm rot="874200">
            <a:off x="2741400" y="85320"/>
            <a:ext cx="2881080" cy="196236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5796000" y="0"/>
            <a:ext cx="3097080" cy="1628640"/>
          </a:xfrm>
          <a:prstGeom prst="horizontalScroll">
            <a:avLst>
              <a:gd name="adj" fmla="val 12500"/>
            </a:avLst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227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0" y="478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0" y="704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6012000" y="265320"/>
            <a:ext cx="32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Уважаемые родите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Надеемся на сотрудни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 Вами в профилактике и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распростран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здорового образа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8"/>
          <p:cNvSpPr/>
          <p:nvPr/>
        </p:nvSpPr>
        <p:spPr>
          <a:xfrm>
            <a:off x="6732720" y="3357720"/>
            <a:ext cx="2303280" cy="313992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3139920"/>
              <a:gd name="textAreaBottom" fmla="*/ 3027600 h 3139920"/>
            </a:gdLst>
            <a:ahLst/>
            <a:rect l="textAreaLeft" t="textAreaTop" r="textAreaRight" b="textAreaBottom"/>
            <a:pathLst>
              <a:path w="21600" h="29445">
                <a:moveTo>
                  <a:pt x="3600" y="0"/>
                </a:moveTo>
                <a:arcTo wR="3600" hR="3600" stAng="16200000" swAng="-5400000"/>
                <a:lnTo>
                  <a:pt x="0" y="25845"/>
                </a:lnTo>
                <a:arcTo wR="3600" hR="3600" stAng="10800000" swAng="-5400000"/>
                <a:lnTo>
                  <a:pt x="18000" y="294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щани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щаем не лениться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ы чисти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укты есть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, милые родные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одно условие е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оно како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чно будет нам  одним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ть здоровь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месте начинать-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ше условие!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19"/>
          <p:cNvSpPr/>
          <p:nvPr/>
        </p:nvSpPr>
        <p:spPr>
          <a:xfrm>
            <a:off x="6084720" y="1557360"/>
            <a:ext cx="2951280" cy="1655640"/>
          </a:xfrm>
          <a:prstGeom prst="pie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 rot="21393600">
            <a:off x="6337080" y="1723680"/>
            <a:ext cx="302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нятий приучайт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ть своих ребят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улка успокоит нервы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ит бодрости заряд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2930400" y="462960"/>
            <a:ext cx="264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учайте день встречать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утренней зарядки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с осанкою прямой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всё в порядке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тец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6588000" y="6453360"/>
            <a:ext cx="23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тель - Тришина Ю.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 rot="21348600">
            <a:off x="3795840" y="3247920"/>
            <a:ext cx="3085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ожил на свете долго,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ым стал, здоровья нет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ознал я в жизни много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ите дать совет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тите лежебоку -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жиму пусть встаёт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жиму спать ложится-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будет вам хлопот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1" descr="6.JPG"/>
          <p:cNvPicPr/>
          <p:nvPr/>
        </p:nvPicPr>
        <p:blipFill>
          <a:blip r:embed="rId1"/>
          <a:srcRect l="38473" t="52591" r="7180" b="930"/>
          <a:stretch/>
        </p:blipFill>
        <p:spPr>
          <a:xfrm>
            <a:off x="0" y="1844640"/>
            <a:ext cx="3419640" cy="50133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3" descr=""/>
          <p:cNvPicPr/>
          <p:nvPr/>
        </p:nvPicPr>
        <p:blipFill>
          <a:blip r:embed="rId2"/>
          <a:stretch/>
        </p:blipFill>
        <p:spPr>
          <a:xfrm>
            <a:off x="-682560" y="-96840"/>
            <a:ext cx="3558960" cy="7668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6" descr=""/>
          <p:cNvPicPr/>
          <p:nvPr/>
        </p:nvPicPr>
        <p:blipFill>
          <a:blip r:embed="rId3"/>
          <a:stretch/>
        </p:blipFill>
        <p:spPr>
          <a:xfrm>
            <a:off x="-182520" y="622440"/>
            <a:ext cx="2919240" cy="1077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4" name="~PP865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Павлозавр\Desktop\готовое порт\4 зож\проект\газета\плакат спор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Павлозавр\Desktop\готовое порт\4 зож\проект\газета\плакат спорт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3" descr="http://im8-tub-ru.yandex.net/i?id=586075503-35-72"/>
          <p:cNvPicPr/>
          <p:nvPr/>
        </p:nvPicPr>
        <p:blipFill>
          <a:blip r:embed="rId1"/>
          <a:stretch/>
        </p:blipFill>
        <p:spPr>
          <a:xfrm>
            <a:off x="2411280" y="3716280"/>
            <a:ext cx="2016360" cy="1368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1.JPG"/>
          <p:cNvPicPr/>
          <p:nvPr/>
        </p:nvPicPr>
        <p:blipFill>
          <a:blip r:embed="rId2"/>
          <a:srcRect l="20301" t="43701" r="50005" b="30052"/>
          <a:stretch/>
        </p:blipFill>
        <p:spPr>
          <a:xfrm>
            <a:off x="684360" y="907920"/>
            <a:ext cx="1008000" cy="12970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3" descr=""/>
          <p:cNvPicPr/>
          <p:nvPr/>
        </p:nvPicPr>
        <p:blipFill>
          <a:blip r:embed="rId3"/>
          <a:stretch/>
        </p:blipFill>
        <p:spPr>
          <a:xfrm>
            <a:off x="4065480" y="0"/>
            <a:ext cx="2805120" cy="110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1547640" y="7488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87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0" y="478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0" y="704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23" descr=""/>
          <p:cNvPicPr/>
          <p:nvPr/>
        </p:nvPicPr>
        <p:blipFill>
          <a:blip r:embed="rId4"/>
          <a:stretch/>
        </p:blipFill>
        <p:spPr>
          <a:xfrm>
            <a:off x="4718160" y="-171360"/>
            <a:ext cx="4425840" cy="9460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4"/>
          <p:cNvSpPr/>
          <p:nvPr/>
        </p:nvSpPr>
        <p:spPr>
          <a:xfrm>
            <a:off x="1908000" y="620640"/>
            <a:ext cx="2448000" cy="115272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девиз: </a:t>
            </a: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орт,  </a:t>
            </a:r>
            <a:r>
              <a:rPr b="1" lang="ru-RU" sz="1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доровье,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дость, </a:t>
            </a:r>
            <a:r>
              <a:rPr b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мех –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есет во всем  успе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Круглая лента лицом вверх 28" descr=""/>
          <p:cNvPicPr/>
          <p:nvPr/>
        </p:nvPicPr>
        <p:blipFill>
          <a:blip r:embed="rId5"/>
          <a:stretch/>
        </p:blipFill>
        <p:spPr>
          <a:xfrm>
            <a:off x="-30240" y="-12600"/>
            <a:ext cx="3516480" cy="11030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 rot="20805000">
            <a:off x="837720" y="243360"/>
            <a:ext cx="21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Средня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3" descr="http://detsad-kitty.ru/uploads/posts/2009-12/1260637716_2.jpg"/>
          <p:cNvPicPr/>
          <p:nvPr/>
        </p:nvPicPr>
        <p:blipFill>
          <a:blip r:embed="rId6"/>
          <a:stretch/>
        </p:blipFill>
        <p:spPr>
          <a:xfrm>
            <a:off x="4716360" y="620640"/>
            <a:ext cx="4319640" cy="61214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2"/>
          <p:cNvSpPr/>
          <p:nvPr/>
        </p:nvSpPr>
        <p:spPr>
          <a:xfrm>
            <a:off x="250920" y="5300640"/>
            <a:ext cx="4176720" cy="1368360"/>
          </a:xfrm>
          <a:prstGeom prst="rect">
            <a:avLst/>
          </a:prstGeom>
          <a:solidFill>
            <a:srgbClr val="ffffff"/>
          </a:solidFill>
          <a:ln w="82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Cambria"/>
                <a:ea typeface="Times New Roman"/>
              </a:rPr>
              <a:t>Что такое грипп?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пп является тем инфекционным заболеванием, которое в короткие сроки может превращаться в настоящую эпидемию, одновременно поражая население многих стран. Такая быстрота распространения гриппозной инфекции обеспечивается лёгкостью за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4788000" y="787680"/>
            <a:ext cx="4356000" cy="54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имптомы гри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детей грипп начинается внезапно и остро.  Резко повышается температу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Чаще всего повышение достигает 38-39 градусов. Наиболее высокая температура тела наблюдается в первые дни болезни. Лихорадочный период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т. е. период повышения температуры тела в среднем продолжается 4 – 5 дней. После этого температура нормализуется, но в некоторых случаях могут наблюдаться повторные температурные волн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ебенок становится вялым, капризным, жалуется на головную боль, мышечные боли, слабость, озноб. Начинается кашель, может быть отечность носоглотки, затрудненное дыхание, «забитость» носа, иногда - боли в животе, редко - рвота.</a:t>
            </a:r>
            <a:r>
              <a:rPr b="0" i="1" lang="ru-RU" sz="1200" spc="-1" strike="noStrike">
                <a:solidFill>
                  <a:srgbClr val="00008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Это обуславливает основные симптомы – насморк! У ребёнка также возникает головная боль, боли при движении глазных яблок, головокружение, тошнота, иногда рвота и т. д. Во многом эти симптомы обусловлены именно влиянием токсинов вируса гриппа на организм. Насморк в первые дни болезни может быть невыраженным или его может не быть. Кашель часто сопровождает это заболевание, но также не является обязательным его спутником. У некоторых детей возможно появление болевых ощущений в области живота, что иногда требует дополнительной консультации хир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ля исключения аппендицита. Ес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Ребёнок страдает экссудатив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иатезом родителям стоит удво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внимание к своему малышу т. к. у та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етей на фоне гриппа увеличивается р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я астматического синдро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7" descr="http://im4-tub-ru.yandex.net/i?id=351403700-64-72"/>
          <p:cNvPicPr/>
          <p:nvPr/>
        </p:nvPicPr>
        <p:blipFill>
          <a:blip r:embed="rId7"/>
          <a:stretch/>
        </p:blipFill>
        <p:spPr>
          <a:xfrm>
            <a:off x="2340000" y="184464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1" descr="http://im4-tub-ru.yandex.net/i?id=520931979-15-72"/>
          <p:cNvPicPr/>
          <p:nvPr/>
        </p:nvPicPr>
        <p:blipFill>
          <a:blip r:embed="rId8"/>
          <a:stretch/>
        </p:blipFill>
        <p:spPr>
          <a:xfrm>
            <a:off x="179280" y="3860640"/>
            <a:ext cx="1800360" cy="12970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7"/>
          <p:cNvSpPr/>
          <p:nvPr/>
        </p:nvSpPr>
        <p:spPr>
          <a:xfrm rot="20908800">
            <a:off x="-70920" y="2097000"/>
            <a:ext cx="257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Здоровому все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здоров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Здоровью цены не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38" descr=""/>
          <p:cNvPicPr/>
          <p:nvPr/>
        </p:nvPicPr>
        <p:blipFill>
          <a:blip r:embed="rId9"/>
          <a:srcRect l="5000" t="80010" r="83929" b="-1270"/>
          <a:stretch/>
        </p:blipFill>
        <p:spPr>
          <a:xfrm>
            <a:off x="0" y="2852640"/>
            <a:ext cx="1042920" cy="100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9" descr=""/>
          <p:cNvPicPr/>
          <p:nvPr/>
        </p:nvPicPr>
        <p:blipFill>
          <a:blip r:embed="rId10"/>
          <a:srcRect l="28339" t="80010" r="61094" b="-1932"/>
          <a:stretch/>
        </p:blipFill>
        <p:spPr>
          <a:xfrm>
            <a:off x="1187280" y="2637000"/>
            <a:ext cx="1008360" cy="1079280"/>
          </a:xfrm>
          <a:prstGeom prst="rect">
            <a:avLst/>
          </a:prstGeom>
          <a:ln w="0">
            <a:noFill/>
          </a:ln>
        </p:spPr>
      </p:pic>
      <p:pic>
        <p:nvPicPr>
          <p:cNvPr id="112" name="Круглая лента лицом вверх 25" descr=""/>
          <p:cNvPicPr/>
          <p:nvPr/>
        </p:nvPicPr>
        <p:blipFill>
          <a:blip r:embed="rId11"/>
          <a:stretch/>
        </p:blipFill>
        <p:spPr>
          <a:xfrm>
            <a:off x="-30240" y="-30240"/>
            <a:ext cx="3516480" cy="1103400"/>
          </a:xfrm>
          <a:prstGeom prst="rect">
            <a:avLst/>
          </a:prstGeom>
          <a:ln w="0">
            <a:noFill/>
          </a:ln>
        </p:spPr>
      </p:pic>
      <p:pic>
        <p:nvPicPr>
          <p:cNvPr id="113" name="Круглая лента лицом вверх 26" descr=""/>
          <p:cNvPicPr/>
          <p:nvPr/>
        </p:nvPicPr>
        <p:blipFill>
          <a:blip r:embed="rId12"/>
          <a:stretch/>
        </p:blipFill>
        <p:spPr>
          <a:xfrm>
            <a:off x="-30240" y="-30240"/>
            <a:ext cx="35164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13" name="~PP865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2" descr="http://pics.kz/s5/5b/aa/0e/5baa0e2f147703cd9aeef8b8f3337180.jpg"/>
          <p:cNvPicPr/>
          <p:nvPr/>
        </p:nvPicPr>
        <p:blipFill>
          <a:blip r:embed="rId1"/>
          <a:srcRect l="1334" t="37778" r="75338" b="41998"/>
          <a:stretch/>
        </p:blipFill>
        <p:spPr>
          <a:xfrm>
            <a:off x="6012000" y="2852640"/>
            <a:ext cx="1008000" cy="936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1" descr=""/>
          <p:cNvPicPr/>
          <p:nvPr/>
        </p:nvPicPr>
        <p:blipFill>
          <a:blip r:embed="rId2"/>
          <a:srcRect l="27504" t="58614" r="61087" b="20000"/>
          <a:stretch/>
        </p:blipFill>
        <p:spPr>
          <a:xfrm>
            <a:off x="5940360" y="1700280"/>
            <a:ext cx="1079640" cy="1008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3" descr="http://detsad-kitty.ru/uploads/posts/2009-12/1260637738_3.jpg"/>
          <p:cNvPicPr/>
          <p:nvPr/>
        </p:nvPicPr>
        <p:blipFill>
          <a:blip r:embed="rId3"/>
          <a:stretch/>
        </p:blipFill>
        <p:spPr>
          <a:xfrm>
            <a:off x="108000" y="620640"/>
            <a:ext cx="4464000" cy="61214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6084720" y="0"/>
            <a:ext cx="2951280" cy="1728720"/>
          </a:xfrm>
          <a:prstGeom prst="horizontalScroll">
            <a:avLst>
              <a:gd name="adj" fmla="val 12500"/>
            </a:avLst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0" y="227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0" y="478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0" y="704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6227640" y="194760"/>
            <a:ext cx="27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Уважаемые родите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Надеемся на сотрудни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 Вами в профилактике и нераспространении гриппа в детском са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95" descr="http://dg19.odnoklassniki.ru/getImage?photoId=298990840121&amp;photoType=0"/>
          <p:cNvPicPr/>
          <p:nvPr/>
        </p:nvPicPr>
        <p:blipFill>
          <a:blip r:embed="rId4"/>
          <a:stretch/>
        </p:blipFill>
        <p:spPr>
          <a:xfrm>
            <a:off x="4716360" y="115920"/>
            <a:ext cx="122400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5"/>
          <p:cNvSpPr/>
          <p:nvPr/>
        </p:nvSpPr>
        <p:spPr>
          <a:xfrm>
            <a:off x="179280" y="675720"/>
            <a:ext cx="48974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ие принципы лечения гриппа и ОРВ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ной должен быть изолирован сроком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 дней, в домашних условиях – в отдельной комнат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Самолечение при гриппе недопустимо, поэтому необх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имо сразу вызвать врача. Лекарственные препараты н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ет врач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 зависимости от состояния организма и от признаков и тяжести заболе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 Режим больного должен соответствовать его состоянию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стельный в тяжелых случаях, полупостельный при улучшении состояния и обычный -  дня после падения температуры.Температура в комнате должна быть 20-21 С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 во время сна - ниже; частое проветривание облегчает дыхание, уменьшает насмор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 Не спешите снижать температуру, если она не превыш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т 38°С  -  это своеобразная защитная реакция организма  4. Питание не требует особой коррекции. Если ребенок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, не надо настаивать - при улучшении состояния апп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ит восстановитс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 Питьевой режим имеет немаловажное значение. Бо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й теряет много жидкости с потом, при дыхании, поэт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должен много. Растворы для приема внутрь, продающ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еся в аптеках, лучше давать пополам с чаем и кипяче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6. Повторный вызов врача необходим при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хранение температуры выше 38°С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чение двух-трех дней после начала ле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ия, усиление беспокойства или чрезм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й сонливости, появление рвоты и наруш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ия сознания, появление признаков стеноз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тани или пневмони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8. Предметы обихода, посуду, а также полы протирать дезинфицирующими средствам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25" descr=""/>
          <p:cNvPicPr/>
          <p:nvPr/>
        </p:nvPicPr>
        <p:blipFill>
          <a:blip r:embed="rId5"/>
          <a:stretch/>
        </p:blipFill>
        <p:spPr>
          <a:xfrm>
            <a:off x="-182520" y="-171360"/>
            <a:ext cx="3602160" cy="9205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27"/>
          <p:cNvSpPr/>
          <p:nvPr/>
        </p:nvSpPr>
        <p:spPr>
          <a:xfrm>
            <a:off x="4716360" y="4221000"/>
            <a:ext cx="4248360" cy="2448000"/>
          </a:xfrm>
          <a:prstGeom prst="rect">
            <a:avLst/>
          </a:prstGeom>
          <a:solidFill>
            <a:srgbClr val="ffffff"/>
          </a:solidFill>
          <a:ln w="82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4716360" y="4103280"/>
            <a:ext cx="424836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2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Как повысить иммунитет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г изюма, 100г кураги, 100г грецких орехов, лис Все процедуры необходимо проделывать с утра до 11.00 в течении 7-10 дней каждый месяца (в один раз в месяц по одной процедуре): Настойка элеуторококка (1 капля на 1 год жизни), Сок моркови (50,0г) , Сок свёклы (50,0г) , «Флорента» - 1 ч.л. на ¼ стакана воды, курс 10 дней), «Аевит» (витамины),  Рыбий жир, Оротат калия (курс лечения 10 дней) ,  100г – дрожжи,1 ст.л. – сах. песка, 1 ч.л. – какао растопить, добавить 100г тёртого ореха (Применять по 1 десертной ложке в день),столетника перемолоть, добавить 100г мёда и сок 1 лим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Принимать по 1 столовой ложке в ден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0" descr="http://im8-tub-ru.yandex.net/i?id=99449897-36-72"/>
          <p:cNvPicPr/>
          <p:nvPr/>
        </p:nvPicPr>
        <p:blipFill>
          <a:blip r:embed="rId6"/>
          <a:stretch/>
        </p:blipFill>
        <p:spPr>
          <a:xfrm>
            <a:off x="7020000" y="1628640"/>
            <a:ext cx="1873080" cy="12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http://im5-tub-ru.yandex.net/i?id=416075528-43-72"/>
          <p:cNvPicPr/>
          <p:nvPr/>
        </p:nvPicPr>
        <p:blipFill>
          <a:blip r:embed="rId7"/>
          <a:stretch/>
        </p:blipFill>
        <p:spPr>
          <a:xfrm>
            <a:off x="4716360" y="256536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4" descr="http://im6-tub-ru.yandex.net/i?id=86596998-05-72"/>
          <p:cNvPicPr/>
          <p:nvPr/>
        </p:nvPicPr>
        <p:blipFill>
          <a:blip r:embed="rId8"/>
          <a:stretch/>
        </p:blipFill>
        <p:spPr>
          <a:xfrm>
            <a:off x="7020000" y="2924280"/>
            <a:ext cx="194472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9" name="~PP865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39" descr=""/>
          <p:cNvPicPr/>
          <p:nvPr/>
        </p:nvPicPr>
        <p:blipFill>
          <a:blip r:embed="rId1"/>
          <a:srcRect l="28079" t="37228" r="60992" b="42226"/>
          <a:stretch/>
        </p:blipFill>
        <p:spPr>
          <a:xfrm>
            <a:off x="6227640" y="3357720"/>
            <a:ext cx="1224000" cy="10792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0"/>
          <p:cNvSpPr/>
          <p:nvPr/>
        </p:nvSpPr>
        <p:spPr>
          <a:xfrm>
            <a:off x="4859280" y="4508640"/>
            <a:ext cx="4176720" cy="2160360"/>
          </a:xfrm>
          <a:prstGeom prst="rect">
            <a:avLst/>
          </a:prstGeom>
          <a:solidFill>
            <a:srgbClr val="ffffff"/>
          </a:solidFill>
          <a:ln w="82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0" y="87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0" y="227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0" y="478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0" y="5969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-468360" y="7101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3"/>
          <p:cNvSpPr/>
          <p:nvPr/>
        </p:nvSpPr>
        <p:spPr>
          <a:xfrm>
            <a:off x="0" y="87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0" y="4788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-541440" y="717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6"/>
          <p:cNvSpPr/>
          <p:nvPr/>
        </p:nvSpPr>
        <p:spPr>
          <a:xfrm>
            <a:off x="4859280" y="4005360"/>
            <a:ext cx="42847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Запомни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Выполняя перечисленные мероприятия можно предотвратить заболевание или ослабить его течение, уменьшить число ослож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Самолечение и пренебрежительное отношение к консультации врача – непростительная ошибка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Если Вы заметили первые признаки заболевания ребёнка, не приводите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етский сад, вызывайте врача на 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ите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—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аше здоровье в Ваших рука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0" descr="http://detsad-kitty.ru/uploads/posts/2009-12/1260637720_1.jpg"/>
          <p:cNvPicPr/>
          <p:nvPr/>
        </p:nvPicPr>
        <p:blipFill>
          <a:blip r:embed="rId2"/>
          <a:stretch/>
        </p:blipFill>
        <p:spPr>
          <a:xfrm>
            <a:off x="179280" y="189000"/>
            <a:ext cx="4500720" cy="6524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7"/>
          <p:cNvSpPr/>
          <p:nvPr/>
        </p:nvSpPr>
        <p:spPr>
          <a:xfrm>
            <a:off x="324000" y="234000"/>
            <a:ext cx="43560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  <a:ea typeface="Times New Roman"/>
              </a:rPr>
              <a:t>Памятка для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3300"/>
                </a:solidFill>
                <a:latin typeface="Arial"/>
                <a:ea typeface="Times New Roman"/>
              </a:rPr>
              <a:t>                     </a:t>
            </a:r>
            <a:r>
              <a:rPr b="1" i="1" lang="ru-RU" sz="1400" spc="-1" strike="noStrike">
                <a:solidFill>
                  <a:srgbClr val="993300"/>
                </a:solidFill>
                <a:latin typeface="Arial"/>
                <a:ea typeface="Times New Roman"/>
              </a:rPr>
              <a:t>Как защитить ребёнка от гри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Первая степень защиты от гриппа:</a:t>
            </a: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Укрепляем иммунитет. Следите 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режимом питания – целенаправленно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кормите ребёнка свежими овощами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и фруктами (особенно важны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молодой чеснок, лук, репа, тыква).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Каждый день на ночь давайте выпить тёплого молока с мё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Вторая степень защиты от гриппа:</a:t>
            </a: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Правильно одеваем ребёнка.  Не допускайте, чтобы у ребёнка мёрзли или промокали ног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Следите, чтобы в холодную погоду была закрыта ш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Третья степень защиты от гриппа: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Бережём от воздушно – капельной инфекции.  При поездке в транспорте во время эпидемии гриппа, обязательно надевайте на него защитную повязку или закрывайте нос и рот шарфом. На время эпидемии гриппа лучше забрать ребёнка из детского сада или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Четвёртая степень защиты от гриппа:</a:t>
            </a: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Полезные вещества. Аскорбиновая кислота – около 30 мг в сутки. Интерферон закапывать в нос 2 раза в день. Фрукты и ягоды, содержащие витамин С : смородина, лимон, грейпфрут 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 u="sng">
                <a:solidFill>
                  <a:srgbClr val="333300"/>
                </a:solidFill>
                <a:uFillTx/>
                <a:latin typeface="Arial"/>
                <a:ea typeface="Times New Roman"/>
              </a:rPr>
              <a:t>Пятая защита от гриппа:</a:t>
            </a:r>
            <a:r>
              <a:rPr b="0" i="1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Прививка. Посетите врача, чтобы подобрать для ребёнка вакцину против грип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 • </a:t>
            </a:r>
            <a:r>
              <a:rPr b="0" lang="ru-RU" sz="1200" spc="-1" strike="noStrike">
                <a:solidFill>
                  <a:srgbClr val="333300"/>
                </a:solidFill>
                <a:latin typeface="Arial"/>
                <a:ea typeface="Times New Roman"/>
              </a:rPr>
              <a:t>Соблюдайте меры предосторожности во время вакцинации, особенно, если организм ребёнка ослабл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2"/>
          <p:cNvSpPr/>
          <p:nvPr/>
        </p:nvSpPr>
        <p:spPr>
          <a:xfrm>
            <a:off x="254520" y="59500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ерегите себя и своих близких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9" descr="http://im5-tub-ru.yandex.net/i?id=436867489-64-72"/>
          <p:cNvPicPr/>
          <p:nvPr/>
        </p:nvPicPr>
        <p:blipFill>
          <a:blip r:embed="rId3"/>
          <a:stretch/>
        </p:blipFill>
        <p:spPr>
          <a:xfrm>
            <a:off x="7093080" y="692280"/>
            <a:ext cx="1942920" cy="172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1" descr="http://im0-tub-ru.yandex.net/i?id=325362663-57-72"/>
          <p:cNvPicPr/>
          <p:nvPr/>
        </p:nvPicPr>
        <p:blipFill>
          <a:blip r:embed="rId4"/>
          <a:stretch/>
        </p:blipFill>
        <p:spPr>
          <a:xfrm>
            <a:off x="4788000" y="692280"/>
            <a:ext cx="2160360" cy="1657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6"/>
          <p:cNvSpPr/>
          <p:nvPr/>
        </p:nvSpPr>
        <p:spPr>
          <a:xfrm>
            <a:off x="5219640" y="-223200"/>
            <a:ext cx="3419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здоровом теле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–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здоровый ду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Здоровым будешь- все добудеш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5" descr="http://im2-tub-ru.yandex.net/i?id=125300355-47-72"/>
          <p:cNvPicPr/>
          <p:nvPr/>
        </p:nvPicPr>
        <p:blipFill>
          <a:blip r:embed="rId5"/>
          <a:stretch/>
        </p:blipFill>
        <p:spPr>
          <a:xfrm rot="927000">
            <a:off x="7159680" y="2354400"/>
            <a:ext cx="1843200" cy="13064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2" descr="http://im7-tub-ru.yandex.net/i?id=130549950-45-72"/>
          <p:cNvPicPr/>
          <p:nvPr/>
        </p:nvPicPr>
        <p:blipFill>
          <a:blip r:embed="rId6"/>
          <a:stretch/>
        </p:blipFill>
        <p:spPr>
          <a:xfrm rot="20693400">
            <a:off x="4859280" y="2282760"/>
            <a:ext cx="187632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7" name="~PP865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0" y="2273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5969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0" y="704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0" y="8131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0" y="91882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0" y="10198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0" y="11245680"/>
            <a:ext cx="9144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0" descr="http://detsad-kitty.ru/uploads/posts/2009-12/1260637720_1.jpg"/>
          <p:cNvPicPr/>
          <p:nvPr/>
        </p:nvPicPr>
        <p:blipFill>
          <a:blip r:embed="rId1"/>
          <a:stretch/>
        </p:blipFill>
        <p:spPr>
          <a:xfrm>
            <a:off x="4500720" y="115920"/>
            <a:ext cx="4500360" cy="65260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5" descr="user posted image"/>
          <p:cNvPicPr/>
          <p:nvPr/>
        </p:nvPicPr>
        <p:blipFill>
          <a:blip r:embed="rId2"/>
          <a:srcRect l="0" t="0" r="0" b="2737"/>
          <a:stretch/>
        </p:blipFill>
        <p:spPr>
          <a:xfrm>
            <a:off x="4643280" y="260280"/>
            <a:ext cx="4249800" cy="633744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16"/>
          <p:cNvSpPr/>
          <p:nvPr/>
        </p:nvSpPr>
        <p:spPr>
          <a:xfrm>
            <a:off x="250920" y="189000"/>
            <a:ext cx="2665440" cy="3744720"/>
          </a:xfrm>
          <a:prstGeom prst="rect">
            <a:avLst/>
          </a:prstGeom>
          <a:solidFill>
            <a:srgbClr val="ffffff"/>
          </a:solidFill>
          <a:ln w="82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250920" y="20160"/>
            <a:ext cx="32414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еня температу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чихаю и охри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тор выписал миксту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казал, что это гри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 набита ват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-то хлюпает в нос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 во мне грибов не над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растут себе в лес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болеет пень соплив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лнце в небе пусть печ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течёт из тучи лив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из носа не теч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пуховым одея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 будешь ты здоров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смеялся врач уст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 в лесу таких гри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. Придв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http://im6-tub-ru.yandex.net/i?id=304145213-03-72"/>
          <p:cNvPicPr/>
          <p:nvPr/>
        </p:nvPicPr>
        <p:blipFill>
          <a:blip r:embed="rId3"/>
          <a:stretch/>
        </p:blipFill>
        <p:spPr>
          <a:xfrm>
            <a:off x="468360" y="4149720"/>
            <a:ext cx="180000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http://im6-tub-ru.yandex.net/i?id=371263102-56-72"/>
          <p:cNvPicPr/>
          <p:nvPr/>
        </p:nvPicPr>
        <p:blipFill>
          <a:blip r:embed="rId4"/>
          <a:stretch/>
        </p:blipFill>
        <p:spPr>
          <a:xfrm>
            <a:off x="2556000" y="4076640"/>
            <a:ext cx="1584360" cy="2305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 rot="20502600">
            <a:off x="26640" y="5078880"/>
            <a:ext cx="34210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Здоровье дороже богат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Здоровье не купишь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Здоровье – всему голо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4" descr=""/>
          <p:cNvPicPr/>
          <p:nvPr/>
        </p:nvPicPr>
        <p:blipFill>
          <a:blip r:embed="rId5"/>
          <a:srcRect l="5205" t="15832" r="83969" b="63171"/>
          <a:stretch/>
        </p:blipFill>
        <p:spPr>
          <a:xfrm>
            <a:off x="3059280" y="0"/>
            <a:ext cx="1225440" cy="1197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5" descr=""/>
          <p:cNvPicPr/>
          <p:nvPr/>
        </p:nvPicPr>
        <p:blipFill>
          <a:blip r:embed="rId6"/>
          <a:srcRect l="5000" t="59454" r="83756" b="20556"/>
          <a:stretch/>
        </p:blipFill>
        <p:spPr>
          <a:xfrm>
            <a:off x="3059280" y="2781360"/>
            <a:ext cx="1296720" cy="11523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6" descr=""/>
          <p:cNvPicPr/>
          <p:nvPr/>
        </p:nvPicPr>
        <p:blipFill>
          <a:blip r:embed="rId7"/>
          <a:srcRect l="28189" t="15832" r="61102" b="63895"/>
          <a:stretch/>
        </p:blipFill>
        <p:spPr>
          <a:xfrm>
            <a:off x="3059280" y="1484280"/>
            <a:ext cx="1225440" cy="115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0"/>
          <p:cNvSpPr/>
          <p:nvPr/>
        </p:nvSpPr>
        <p:spPr>
          <a:xfrm>
            <a:off x="6696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22"/>
          <p:cNvSpPr/>
          <p:nvPr/>
        </p:nvSpPr>
        <p:spPr>
          <a:xfrm>
            <a:off x="1771560" y="6453360"/>
            <a:ext cx="26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- Тришина Ю.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8" name="~PP865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0:14:17Z</dcterms:created>
  <dc:creator>asus</dc:creator>
  <dc:description/>
  <dc:language>en-US</dc:language>
  <cp:lastModifiedBy>1</cp:lastModifiedBy>
  <dcterms:modified xsi:type="dcterms:W3CDTF">2018-07-25T20:10:30Z</dcterms:modified>
  <cp:revision>171</cp:revision>
  <dc:subject/>
  <dc:title>«Не насильственно преподавай детям науки, милейший, а в процессе игры, тогда ты лучше увидишь, кто к чему склонен».                                       Сократ</dc:title>
</cp:coreProperties>
</file>