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31.jpeg" ContentType="image/jpeg"/>
  <Override PartName="/ppt/media/image25.jpeg" ContentType="image/jpeg"/>
  <Override PartName="/ppt/media/image27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3.jpeg" ContentType="image/jpeg"/>
  <Override PartName="/ppt/media/image15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9.png" ContentType="image/png"/>
  <Override PartName="/ppt/media/image30.jpeg" ContentType="image/jpeg"/>
  <Override PartName="/ppt/media/image7.wmf" ContentType="image/x-wmf"/>
  <Override PartName="/ppt/media/image29.jpeg" ContentType="image/jpeg"/>
  <Override PartName="/ppt/media/image32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6866-457E-4BE9-8C40-3F2BB88A5D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3AAD-731A-4CAD-BC3F-CA7F30B8B5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39A-5940-4CA0-87ED-D3E91B9D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C7C8-41A5-495A-BA61-42142979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583-A86B-4624-9A52-510CF6D8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111C-7FB0-4363-91DA-B45B93D0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0B4-62A6-47C7-87C9-7EE2E4FD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2EF-01C4-461F-BE5A-7F182520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3E2D-3869-4B11-AE26-B5BEFDEB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AF2F-7FE0-422B-9026-A476436F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3B85-FBC1-445D-BFA8-4C340AD0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867B-023E-434A-85AF-D79F9A35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2686-D54F-4F70-9E62-AF235254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8DB-76F0-47E8-B6F3-03AF1DF4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DCB8-6CA9-4B8C-BC69-13DE9A7764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vremiadengi.com/denezhnoe/v_a_suhomlinskiy___prekrasnyy_7/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commons.wikimedia.org/wiki/File:Konfuzius-1770.jpg%3Fuselang=ru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Применение игровых технологий на уроках в начальных класс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5105520"/>
            <a:ext cx="4876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_RussDecor"/>
              </a:rPr>
              <a:t>Презентацию 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_RussDecor"/>
              </a:rPr>
              <a:t>учитель начальных классов высшей категории, МОБУГ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_RussDecor"/>
              </a:rPr>
              <a:t>Шлапак Людмил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539640" y="620640"/>
            <a:ext cx="396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RussDecor"/>
                <a:ea typeface="Times New Roman"/>
              </a:rPr>
              <a:t>Расставьте карточ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RussDecor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_RussDecor"/>
                <a:ea typeface="Times New Roman"/>
              </a:rPr>
              <a:t>начиная с самой больш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4572000" y="7621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RussDecor"/>
                <a:ea typeface="Times New Roman"/>
              </a:rPr>
              <a:t>Построй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RussDecor"/>
                <a:ea typeface="Times New Roman"/>
              </a:rPr>
              <a:t>пирамид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" descr="C:\Documents and Settings\UserXP\Мои документы\Мои рисунки\1ясчи.bmp"/>
          <p:cNvPicPr/>
          <p:nvPr/>
        </p:nvPicPr>
        <p:blipFill>
          <a:blip r:embed="rId1"/>
          <a:stretch/>
        </p:blipFill>
        <p:spPr>
          <a:xfrm>
            <a:off x="536400" y="2127240"/>
            <a:ext cx="3969000" cy="4187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C:\Documents and Settings\UserXP\Мои документы\Мои рисунки\1ясчичяИСМсчисмт.bmp"/>
          <p:cNvPicPr/>
          <p:nvPr/>
        </p:nvPicPr>
        <p:blipFill>
          <a:blip r:embed="rId2"/>
          <a:stretch/>
        </p:blipFill>
        <p:spPr>
          <a:xfrm>
            <a:off x="4638600" y="2273400"/>
            <a:ext cx="3828960" cy="404172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1425240" y="601992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RussDecor"/>
              </a:rPr>
              <a:t>Санти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_RussDecor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_RussDecor"/>
              </a:rPr>
              <a:t>«Реши правильно и прочт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Таблица 2" descr=""/>
          <p:cNvPicPr/>
          <p:nvPr/>
        </p:nvPicPr>
        <p:blipFill>
          <a:blip r:embed="rId1"/>
          <a:stretch/>
        </p:blipFill>
        <p:spPr>
          <a:xfrm>
            <a:off x="1474920" y="1554120"/>
            <a:ext cx="2736720" cy="486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4788000" y="1700280"/>
          <a:ext cx="3024000" cy="4608360"/>
        </p:xfrm>
        <a:graphic>
          <a:graphicData uri="http://schemas.openxmlformats.org/drawingml/2006/table">
            <a:tbl>
              <a:tblPr/>
              <a:tblGrid>
                <a:gridCol w="1658880"/>
                <a:gridCol w="1365120"/>
              </a:tblGrid>
              <a:tr h="4608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–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+ 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–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+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 –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+ 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+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C:\Documents and Settings\UserXP\Мои документы\Загрузки\f_49e3c0c8a84ae.jpg"/>
          <p:cNvPicPr/>
          <p:nvPr/>
        </p:nvPicPr>
        <p:blipFill>
          <a:blip r:embed="rId2"/>
          <a:stretch/>
        </p:blipFill>
        <p:spPr>
          <a:xfrm>
            <a:off x="838080" y="2463840"/>
            <a:ext cx="4953240" cy="3852720"/>
          </a:xfrm>
          <a:prstGeom prst="rect">
            <a:avLst/>
          </a:prstGeom>
          <a:ln w="0">
            <a:noFill/>
          </a:ln>
        </p:spPr>
      </p:pic>
      <p:sp>
        <p:nvSpPr>
          <p:cNvPr id="85" name="Заголовок 1"/>
          <p:cNvSpPr/>
          <p:nvPr/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909160" y="1143000"/>
            <a:ext cx="321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АПЕЛЬС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6283440" y="1349280"/>
            <a:ext cx="1593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 </a:t>
            </a: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п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ли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п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ли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п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с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л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1143000" y="228600"/>
            <a:ext cx="7620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«Для дитяти игра – действительность, и действительность гораздо более интересная, чем та, которая его окружает. Интереснее она для ребенка именно потому, что отчасти есть его собственное создание… в игре же дитя, уже зреющий человек пробует свои силы и самостоятельно распоряжается своими же созданиями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К.Д.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Файл:Ushinsky.jpg"/>
          <p:cNvPicPr/>
          <p:nvPr/>
        </p:nvPicPr>
        <p:blipFill>
          <a:blip r:embed="rId1"/>
          <a:stretch/>
        </p:blipFill>
        <p:spPr>
          <a:xfrm>
            <a:off x="1365120" y="2736720"/>
            <a:ext cx="314028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Цель игры на уроке-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побудить интерес к познанию, науке, книге, учению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_RussDecor"/>
              </a:rPr>
              <a:t>«ЗА» </a:t>
            </a:r>
            <a:r>
              <a:rPr b="0" lang="ru-RU" sz="3200" spc="-1" strike="noStrike">
                <a:solidFill>
                  <a:srgbClr val="000000"/>
                </a:solidFill>
                <a:latin typeface="a_RussDecor"/>
              </a:rPr>
              <a:t>использование игровых технолог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игровые технологии способствуют повышению интереса, активизации и развитию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несет здоровьесберегающий фактор в развитии и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идет передача опыта старших поколений младши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способствует использованию знаний в новой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является естественной формой труда ребенка , приготовлением к будущей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способствует объединению коллектива и формированию ответ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RussDecor"/>
              </a:rPr>
              <a:t>«Выбери три сло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Цель: проследить за формированием орфографического навыка с учетом этапа работы над орфограф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хема 3" descr=""/>
          <p:cNvPicPr/>
          <p:nvPr/>
        </p:nvPicPr>
        <p:blipFill>
          <a:blip r:embed="rId1"/>
          <a:stretch/>
        </p:blipFill>
        <p:spPr>
          <a:xfrm>
            <a:off x="1566720" y="2266920"/>
            <a:ext cx="668196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_RussDecor"/>
              </a:rPr>
              <a:t>«Почтальо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Цель: Закрепить знания учащихся по подбору проверочного  слова, расширить словарный запас, развивать фонематический слух, профилактика дисграф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i"/>
          <p:cNvPicPr/>
          <p:nvPr/>
        </p:nvPicPr>
        <p:blipFill>
          <a:blip r:embed="rId1"/>
          <a:stretch/>
        </p:blipFill>
        <p:spPr>
          <a:xfrm>
            <a:off x="1066680" y="2819520"/>
            <a:ext cx="3152880" cy="1447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i"/>
          <p:cNvPicPr/>
          <p:nvPr/>
        </p:nvPicPr>
        <p:blipFill>
          <a:blip r:embed="rId2"/>
          <a:stretch/>
        </p:blipFill>
        <p:spPr>
          <a:xfrm>
            <a:off x="5105520" y="2819520"/>
            <a:ext cx="3152520" cy="1447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i"/>
          <p:cNvPicPr/>
          <p:nvPr/>
        </p:nvPicPr>
        <p:blipFill>
          <a:blip r:embed="rId3"/>
          <a:stretch/>
        </p:blipFill>
        <p:spPr>
          <a:xfrm>
            <a:off x="1066680" y="4648320"/>
            <a:ext cx="3152880" cy="1447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i"/>
          <p:cNvPicPr/>
          <p:nvPr/>
        </p:nvPicPr>
        <p:blipFill>
          <a:blip r:embed="rId4"/>
          <a:stretch/>
        </p:blipFill>
        <p:spPr>
          <a:xfrm>
            <a:off x="5105520" y="4648320"/>
            <a:ext cx="3152520" cy="1447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9"/>
          <p:cNvSpPr/>
          <p:nvPr/>
        </p:nvSpPr>
        <p:spPr>
          <a:xfrm>
            <a:off x="304920" y="2895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ря-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ли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ди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рко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3"/>
          <p:cNvSpPr/>
          <p:nvPr/>
        </p:nvSpPr>
        <p:spPr>
          <a:xfrm>
            <a:off x="304920" y="48006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ро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е-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у-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и-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5"/>
          <p:cNvSpPr/>
          <p:nvPr/>
        </p:nvSpPr>
        <p:spPr>
          <a:xfrm>
            <a:off x="4572000" y="4724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-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ла-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о-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ро-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7"/>
          <p:cNvSpPr/>
          <p:nvPr/>
        </p:nvSpPr>
        <p:spPr>
          <a:xfrm>
            <a:off x="4267080" y="28195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ни-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ло-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тра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мока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_RussDecor"/>
              </a:rPr>
              <a:t>«Шифровальщ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Цель: автоматизация звуков, развитие фонетико-фонематического восприятия, процессов анализа и синтеза, понимание смысло-различительной функции звука и буквы, обогащение словарного запаса учащихся, развитие логическ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             </a:t>
            </a: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ААЛТРЕК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ЛАЖ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РАУКЖ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ЗООНК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486400" y="3124080"/>
          <a:ext cx="2819520" cy="83844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ТАРЕЛ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562720" y="3886200"/>
          <a:ext cx="2666880" cy="762120"/>
        </p:xfrm>
        <a:graphic>
          <a:graphicData uri="http://schemas.openxmlformats.org/drawingml/2006/table">
            <a:tbl>
              <a:tblPr/>
              <a:tblGrid>
                <a:gridCol w="26668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ЛОЖ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410080" y="4648320"/>
          <a:ext cx="3124440" cy="76176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КРУЖ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410080" y="5410080"/>
          <a:ext cx="3200400" cy="76212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ЗВОНО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_RussDecor"/>
              </a:rPr>
              <a:t>«Клич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Цель: формирование процесса словоизменения и словообразования, закрепление фонетического и грамматического разбора слов, правописание собственных им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_RussDecor"/>
              </a:rPr>
              <a:t>ШАР, СТРЕЛА, ОРЕЛ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_RussDecor"/>
              </a:rPr>
              <a:t>РЫЖИЙ, ЗВЕЗД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533520" y="304920"/>
            <a:ext cx="8305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002060"/>
                </a:solidFill>
                <a:latin typeface="a_RussDecor"/>
                <a:ea typeface="Times New Roman"/>
              </a:rPr>
              <a:t>«Игра – это огромное светлое окно, через которое в духовный мир ребенка вливается живительный поток представлений, понятий об окружающем ми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_RussDecor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a_RussDecor"/>
                <a:ea typeface="Times New Roman"/>
              </a:rPr>
              <a:t>Игра – это искра, зажигающая огонек пытливости и любознательности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_RussDecor"/>
                <a:ea typeface="Times New Roman"/>
              </a:rPr>
              <a:t>В.А.Сухомл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В. А. Сухомлинский - прекрасный педагог, добротворець часть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124080"/>
            <a:ext cx="2286000" cy="3448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http://www.pravmir.ru/wp-content/uploads/2013/10/142-580x369.jpg"/>
          <p:cNvPicPr/>
          <p:nvPr/>
        </p:nvPicPr>
        <p:blipFill>
          <a:blip r:embed="rId3"/>
          <a:stretch/>
        </p:blipFill>
        <p:spPr>
          <a:xfrm>
            <a:off x="4724280" y="3962520"/>
            <a:ext cx="4023000" cy="2558880"/>
          </a:xfrm>
          <a:prstGeom prst="rect">
            <a:avLst/>
          </a:prstGeom>
          <a:ln w="0">
            <a:noFill/>
          </a:ln>
        </p:spPr>
      </p:pic>
      <p:pic>
        <p:nvPicPr>
          <p:cNvPr id="55" name="DefaultOcx" descr=""/>
          <p:cNvPicPr/>
          <p:nvPr/>
        </p:nvPicPr>
        <p:blipFill>
          <a:blip r:embed="rId4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HTMLHidden1" descr=""/>
          <p:cNvPicPr/>
          <p:nvPr/>
        </p:nvPicPr>
        <p:blipFill>
          <a:blip r:embed="rId5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HTMLHidden2" descr=""/>
          <p:cNvPicPr/>
          <p:nvPr/>
        </p:nvPicPr>
        <p:blipFill>
          <a:blip r:embed="rId6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HTMLHidden3" descr=""/>
          <p:cNvPicPr/>
          <p:nvPr/>
        </p:nvPicPr>
        <p:blipFill>
          <a:blip r:embed="rId7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_RussDecor"/>
              </a:rPr>
              <a:t>«Найди «лишнее слов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Цель: развивать умение выделять в словах общий признак, развитие внимания , закрепление правописаний непроверяемых глас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Схема 3" descr=""/>
          <p:cNvPicPr/>
          <p:nvPr/>
        </p:nvPicPr>
        <p:blipFill>
          <a:blip r:embed="rId1"/>
          <a:stretch/>
        </p:blipFill>
        <p:spPr>
          <a:xfrm>
            <a:off x="1736640" y="2840040"/>
            <a:ext cx="68169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_RussDecor"/>
              </a:rPr>
              <a:t>«Найди глагол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RussDecor"/>
              </a:rPr>
              <a:t>Цель: закрепления понятия о глаголе, умения находить глагол 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В понедельник я стир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Чашки в пятницу помы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Пол во вторник подмета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А в субботу торт купила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В среду я пекла калач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Всех подружек в воскрес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Весь четверг искала мя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Позвала на день рожден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(П.Башма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RussDecor"/>
              </a:rPr>
              <a:t>«Кто больше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Цель : закрепление понятия о глаголе, умения образовывать глаголы с помощью пристав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_RussDecor"/>
              </a:rPr>
              <a:t>Материал для иг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_RussDecor"/>
              </a:rPr>
              <a:t>1\ ХОДИТЬ   2\ЛИТЬ   3\ПИС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RussDecor"/>
              </a:rPr>
              <a:t>«Что делать? Что сделать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Цель: закрепление понятия о глаголе, отвечающих на вопросы что делать? и что с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_RussDecor"/>
              </a:rPr>
              <a:t>Материал для иг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Закрыть, смотреть , ходить, пришить, уехать, читать, отпилить, прочитать, рисовать, плавать, написать, ехать, построить, шить, открыть, ставить, принести , строить, нарисовать, воз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« Кто как кричит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Цель: закрепление понятия о числе глагола, умения употреблять глагол в нужном чис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Материал для иг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Коровы – ( мыча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Куры – ( кудахчу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Свиньи – (хрюкаю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Вороны – ( каркаю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Кошки – ( мяукаю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Кукушки – (кукую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Утки – ( крякаю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RussDecor"/>
              </a:rPr>
              <a:t>« Какое время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Цель: закрепление понятия о времени глагола, умения определять время глаг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62120" y="2743200"/>
          <a:ext cx="3962160" cy="1554120"/>
        </p:xfrm>
        <a:graphic>
          <a:graphicData uri="http://schemas.openxmlformats.org/drawingml/2006/table">
            <a:tbl>
              <a:tblPr/>
              <a:tblGrid>
                <a:gridCol w="396216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Летит без крыльев и поёт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Прохожих задирае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Одним проходу не даёт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Других он подгоняе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952880" y="2666880"/>
          <a:ext cx="3962520" cy="192096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Длинной шеей поверчу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Груз тяжёлый подхвачу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Где прикажут – положу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Человеку послуж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048120" y="4572000"/>
          <a:ext cx="3657600" cy="192096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Принялась она за дело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Завизжала и запе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Ела, ела дуб, дуб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Поломала зуб, з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RussDecor"/>
              </a:rPr>
              <a:t>«Замени одним глаголо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Цель: закрепление понятия о глаголе, знакомство с    фразеологическими оборо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RussDecor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Материал для иг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_RussDecor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_RussDecor"/>
              </a:rPr>
              <a:t>Совать нос, дать стрекача, клевать носом, выходить из себя, зарубить на носу, чесать языки, унести ноги, бить баклуши, надуть губы, ломать голову, заговаривать зубы, водить за н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_RussDecor"/>
            </a:endParaRPr>
          </a:p>
        </p:txBody>
      </p:sp>
      <p:pic>
        <p:nvPicPr>
          <p:cNvPr id="134" name="Содержимое 10" descr=""/>
          <p:cNvPicPr/>
          <p:nvPr/>
        </p:nvPicPr>
        <p:blipFill>
          <a:blip r:embed="rId1"/>
          <a:stretch/>
        </p:blipFill>
        <p:spPr>
          <a:xfrm>
            <a:off x="450720" y="512640"/>
            <a:ext cx="824256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_RussDecor"/>
              </a:rPr>
              <a:t>«МИНУСЫ» </a:t>
            </a:r>
            <a:r>
              <a:rPr b="0" lang="ru-RU" sz="3600" spc="-1" strike="noStrike">
                <a:solidFill>
                  <a:srgbClr val="000000"/>
                </a:solidFill>
                <a:latin typeface="a_RussDecor"/>
              </a:rPr>
              <a:t>при использовании игровых технологий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144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сложность в организации и проблемы с дисципли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подготовка требует больших затрат времени, нежели ее проведе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увлекаясь игровой оболочкой можно потерять образовательное содержа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невозможность использовать на любом материа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сложность в оценки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_RussDecor"/>
              </a:rPr>
              <a:t>«Учите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_RussDecor"/>
              </a:rPr>
              <a:t>       </a:t>
            </a:r>
            <a:r>
              <a:rPr b="0" lang="ru-RU" sz="4400" spc="-1" strike="noStrike">
                <a:solidFill>
                  <a:srgbClr val="c00000"/>
                </a:solidFill>
                <a:latin typeface="a_RussDecor"/>
              </a:rPr>
              <a:t>и уче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_RussDecor"/>
              </a:rPr>
              <a:t>           </a:t>
            </a:r>
            <a:r>
              <a:rPr b="0" lang="ru-RU" sz="4400" spc="-1" strike="noStrike">
                <a:solidFill>
                  <a:srgbClr val="c00000"/>
                </a:solidFill>
                <a:latin typeface="a_RussDecor"/>
              </a:rPr>
              <a:t>расту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_RussDecor"/>
              </a:rPr>
              <a:t>              </a:t>
            </a:r>
            <a:r>
              <a:rPr b="0" lang="ru-RU" sz="4400" spc="-1" strike="noStrike">
                <a:solidFill>
                  <a:srgbClr val="c00000"/>
                </a:solidFill>
                <a:latin typeface="a_RussDecor"/>
              </a:rPr>
              <a:t>вмест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Konfuzius-177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371600"/>
            <a:ext cx="345744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RussDecor"/>
              </a:rPr>
              <a:t>Основные направления реализации игровых прием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дидактическая цель ставится перед учащимися в форме игровой зада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учебная деятельность подчиняется правилам иг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учебный материал используется в качестве её сред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в учебную деятельность вводятся соревнования, которые способствуют переходу дидактических задач в разряд иг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успешное выполнение дидактического задания связывается с игровым результа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одержимое 4" descr="аIMG_82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6" descr="IMG_307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7" descr="IMG_3078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9" descr="DSC_0588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6500"/>
                            </p:stCondLst>
                            <p:childTnLst>
                              <p:par>
                                <p:cTn id="60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3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9000"/>
                            </p:stCondLst>
                            <p:childTnLst>
                              <p:par>
                                <p:cTn id="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1000"/>
                            </p:stCondLst>
                            <p:childTnLst>
                              <p:par>
                                <p:cTn id="72" nodeType="afterEffect" fill="hold" presetClass="entr" presetID="2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450720" y="365040"/>
            <a:ext cx="86997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RussDecor"/>
              </a:rPr>
              <a:t>Требования к играм в образовании, обеспечивающие привлекательность иг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игровая оболочка: должен быть задан игровой сюж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включенность каждого: команды в целом и каждого игрока лич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возможность действия для каждого уче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результат игры должен быть различен в зависимости от усилий играющ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игровые задания должны быть подобраны так, чтобы их выполнение было связано с определенными сложностями, но доступны кажд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вариативность- в игре не должно быть единственно возможного пути достижения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Игра – дело серьёзно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« Каков ребенок в игре, таков во многом он будет в работе, когда вырастет. Поэтому воспитание будущего деятеля происходит  прежде всего  в игре. И вся история отдельного человека как деятеля и работника может быть представлена в развитии игры и в постепенном переходе её в работу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А.С.Макар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А.С. Макаренко создал педагогическую программу для воспитания трудных подростков. Фото 1936 года"/>
          <p:cNvPicPr/>
          <p:nvPr/>
        </p:nvPicPr>
        <p:blipFill>
          <a:blip r:embed="rId1"/>
          <a:stretch/>
        </p:blipFill>
        <p:spPr>
          <a:xfrm>
            <a:off x="838080" y="3438360"/>
            <a:ext cx="2286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одержимое 3" descr=""/>
          <p:cNvPicPr/>
          <p:nvPr/>
        </p:nvPicPr>
        <p:blipFill>
          <a:blip r:embed="rId1"/>
          <a:stretch/>
        </p:blipFill>
        <p:spPr>
          <a:xfrm>
            <a:off x="158760" y="822240"/>
            <a:ext cx="862020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Анк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RussDeco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RussDecor"/>
              </a:rPr>
              <a:t>Нравится ли тебе играт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RussDeco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RussDecor"/>
              </a:rPr>
              <a:t>На каких уроках тебе хотелось бы иг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RussDeco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RussDecor"/>
              </a:rPr>
              <a:t>Как ты любишь больше играть один или с друзь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RussDeco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RussDecor"/>
              </a:rPr>
              <a:t>Хочешь ли ты всегда побеждать в иг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RussDeco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_RussDecor"/>
              </a:rPr>
              <a:t>Анализ анк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7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дмила</dc:creator>
  <dc:description/>
  <dc:language>en-US</dc:language>
  <cp:lastModifiedBy>Людмила</cp:lastModifiedBy>
  <dcterms:modified xsi:type="dcterms:W3CDTF">2018-07-26T07:26:14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