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3.jpeg" ContentType="image/jpeg"/>
  <Override PartName="/ppt/media/image1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png" ContentType="image/png"/>
  <Override PartName="/ppt/media/image30.jpeg" ContentType="image/jpeg"/>
  <Override PartName="/ppt/media/image7.wmf" ContentType="image/x-wmf"/>
  <Override PartName="/ppt/media/image29.jpeg" ContentType="image/jpeg"/>
  <Override PartName="/ppt/media/image32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3F51-DB6E-4776-9D14-C0CE9687A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83BB-7B30-47AD-B7E3-3EC0AD9B0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684-4260-433A-BCC6-B04A5984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A63-64E4-47D9-8C59-16256CFF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1EA-E3BD-4732-9536-772974D8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459-3E4A-44DF-9AE2-F199C6DE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458-B55E-4883-82AC-D98D242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F70-472A-4187-A607-1EAA25FE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BED-2615-4B23-A84B-BF60674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676-9EDB-460C-BEEC-16CC07BE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AE3-0AF3-43A2-9B72-68A9489D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510-741D-4EC4-B3F4-6439F3F9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9F8-3ED7-46B9-B12A-5CDEF83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4CC-DD78-4F69-90FC-98C67BE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9204-A1E5-4635-AA17-B6E8759D3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remiadengi.com/denezhnoe/v_a_suhomlinskiy___prekrasnyy_7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Konfuzius-1770.jpg%3Fuselang=ru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Применение игровых технологий на уроках в начальных класс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105520"/>
            <a:ext cx="487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_RussDecor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_RussDecor"/>
              </a:rPr>
              <a:t>учитель начальных классов высшей категории, МОБУГ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_RussDecor"/>
              </a:rPr>
              <a:t>Шлапак Людми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620640"/>
            <a:ext cx="39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Расставьте карточ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начиная с самой боль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4572000" y="762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Построй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пирамид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C:\Documents and Settings\UserXP\Мои документы\Мои рисунки\1ясчи.bmp"/>
          <p:cNvPicPr/>
          <p:nvPr/>
        </p:nvPicPr>
        <p:blipFill>
          <a:blip r:embed="rId1"/>
          <a:stretch/>
        </p:blipFill>
        <p:spPr>
          <a:xfrm>
            <a:off x="536400" y="2127240"/>
            <a:ext cx="3969000" cy="4187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C:\Documents and Settings\UserXP\Мои документы\Мои рисунки\1ясчичяИСМсчисмт.bmp"/>
          <p:cNvPicPr/>
          <p:nvPr/>
        </p:nvPicPr>
        <p:blipFill>
          <a:blip r:embed="rId2"/>
          <a:stretch/>
        </p:blipFill>
        <p:spPr>
          <a:xfrm>
            <a:off x="4638600" y="2273400"/>
            <a:ext cx="3828960" cy="4041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1425240" y="60199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RussDecor"/>
              </a:rPr>
              <a:t>Сант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_RussDecor"/>
              </a:rPr>
              <a:t>«Реши правильно и проч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Таблица 2" descr=""/>
          <p:cNvPicPr/>
          <p:nvPr/>
        </p:nvPicPr>
        <p:blipFill>
          <a:blip r:embed="rId1"/>
          <a:stretch/>
        </p:blipFill>
        <p:spPr>
          <a:xfrm>
            <a:off x="1474920" y="1554120"/>
            <a:ext cx="2736720" cy="486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788000" y="1700280"/>
          <a:ext cx="3024000" cy="4608360"/>
        </p:xfrm>
        <a:graphic>
          <a:graphicData uri="http://schemas.openxmlformats.org/drawingml/2006/table">
            <a:tbl>
              <a:tblPr/>
              <a:tblGrid>
                <a:gridCol w="1658880"/>
                <a:gridCol w="1365120"/>
              </a:tblGrid>
              <a:tr h="460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–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–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+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–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+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+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C:\Documents and Settings\UserXP\Мои документы\Загрузки\f_49e3c0c8a84ae.jpg"/>
          <p:cNvPicPr/>
          <p:nvPr/>
        </p:nvPicPr>
        <p:blipFill>
          <a:blip r:embed="rId2"/>
          <a:stretch/>
        </p:blipFill>
        <p:spPr>
          <a:xfrm>
            <a:off x="838080" y="2463840"/>
            <a:ext cx="4953240" cy="385272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909160" y="1143000"/>
            <a:ext cx="32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АПЕЛЬ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283440" y="1349280"/>
            <a:ext cx="1593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 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п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л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п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л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п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с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_RussDecor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143000" y="22860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«Для дитяти игра – действительность, и действительность гораздо более интересная, чем та, которая его окружает. Интереснее она для ребенка именно потому, что отчасти есть его собственное создание… в игре же дитя, уже зреющий человек пробует свои силы и самостоятельно распоряжается своими же созданиям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.Д.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Файл:Ushinsky.jpg"/>
          <p:cNvPicPr/>
          <p:nvPr/>
        </p:nvPicPr>
        <p:blipFill>
          <a:blip r:embed="rId1"/>
          <a:stretch/>
        </p:blipFill>
        <p:spPr>
          <a:xfrm>
            <a:off x="1365120" y="2736720"/>
            <a:ext cx="31402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Цель игры на уроке-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побудить интерес к познанию, науке, книге, учени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_RussDecor"/>
              </a:rPr>
              <a:t>«ЗА» </a:t>
            </a: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использование игровых технолог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гровые технологии способствуют повышению интереса, активизации и развитию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несет здоровьесберегающий фактор в развит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дет передача опыта старших поколений младш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способствует использованию знаний в нов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является естественной формой труда ребенка , приготовлением к будуще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способствует объединению коллектива и формированию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Выбери три с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Цель: проследить за формированием орфографического навыка с учетом этапа работы над орфограф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хема 3" descr=""/>
          <p:cNvPicPr/>
          <p:nvPr/>
        </p:nvPicPr>
        <p:blipFill>
          <a:blip r:embed="rId1"/>
          <a:stretch/>
        </p:blipFill>
        <p:spPr>
          <a:xfrm>
            <a:off x="1566720" y="2266920"/>
            <a:ext cx="66819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Почталь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Цель: Закрепить знания учащихся по подбору проверочного  слова, расширить словарный запас, развивать фонематический слух, профилактика дис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"/>
          <p:cNvPicPr/>
          <p:nvPr/>
        </p:nvPicPr>
        <p:blipFill>
          <a:blip r:embed="rId1"/>
          <a:stretch/>
        </p:blipFill>
        <p:spPr>
          <a:xfrm>
            <a:off x="1066680" y="2819520"/>
            <a:ext cx="3152880" cy="144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i"/>
          <p:cNvPicPr/>
          <p:nvPr/>
        </p:nvPicPr>
        <p:blipFill>
          <a:blip r:embed="rId2"/>
          <a:stretch/>
        </p:blipFill>
        <p:spPr>
          <a:xfrm>
            <a:off x="5105520" y="2819520"/>
            <a:ext cx="315252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i"/>
          <p:cNvPicPr/>
          <p:nvPr/>
        </p:nvPicPr>
        <p:blipFill>
          <a:blip r:embed="rId3"/>
          <a:stretch/>
        </p:blipFill>
        <p:spPr>
          <a:xfrm>
            <a:off x="1066680" y="4648320"/>
            <a:ext cx="3152880" cy="144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i"/>
          <p:cNvPicPr/>
          <p:nvPr/>
        </p:nvPicPr>
        <p:blipFill>
          <a:blip r:embed="rId4"/>
          <a:stretch/>
        </p:blipFill>
        <p:spPr>
          <a:xfrm>
            <a:off x="5105520" y="4648320"/>
            <a:ext cx="3152520" cy="1447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04920" y="2895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я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и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и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рко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3"/>
          <p:cNvSpPr/>
          <p:nvPr/>
        </p:nvSpPr>
        <p:spPr>
          <a:xfrm>
            <a:off x="304920" y="4800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ро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у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>
            <a:off x="457200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-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ла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о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ро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4267080" y="2819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ни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ло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тра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мока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Шифровальщ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Цель: автоматизация звуков, развитие фонетико-фонематического восприятия, процессов анализа и синтеза, понимание смысло-различительной функции звука и буквы, обогащение словарного запаса учащихся, развитие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ААЛТРЕК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ЛАЖ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РАУКЖ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ЗООНК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86400" y="3124080"/>
          <a:ext cx="2819520" cy="8384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ТАРЕЛ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562720" y="3886200"/>
          <a:ext cx="2666880" cy="76212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ЛОЖ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410080" y="4648320"/>
          <a:ext cx="3124440" cy="76176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КРУЖ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410080" y="5410080"/>
          <a:ext cx="3200400" cy="7621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ЗВОНО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Клич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формирование процесса словоизменения и словообразования, закрепление фонетического и грамматического разбора слов, правописание собств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_RussDecor"/>
              </a:rPr>
              <a:t>ШАР, СТРЕЛА, ОРЕЛ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_RussDecor"/>
              </a:rPr>
              <a:t>РЫЖИЙ, ЗВЕЗ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33520" y="304920"/>
            <a:ext cx="8305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«Игра – это огромное светлое окно, через которое в духовный мир ребенка вливается живительный поток представлений, понятий об окружающе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Игра – это искра, зажигающая огонек пытливости и любознательности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_RussDecor"/>
                <a:ea typeface="Times New Roman"/>
              </a:rPr>
              <a:t>В.А.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В. А. Сухомлинский - прекрасный педагог, добротворець часть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124080"/>
            <a:ext cx="2286000" cy="344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http://www.pravmir.ru/wp-content/uploads/2013/10/142-580x369.jpg"/>
          <p:cNvPicPr/>
          <p:nvPr/>
        </p:nvPicPr>
        <p:blipFill>
          <a:blip r:embed="rId3"/>
          <a:stretch/>
        </p:blipFill>
        <p:spPr>
          <a:xfrm>
            <a:off x="4724280" y="3962520"/>
            <a:ext cx="4023000" cy="2558880"/>
          </a:xfrm>
          <a:prstGeom prst="rect">
            <a:avLst/>
          </a:prstGeom>
          <a:ln w="0">
            <a:noFill/>
          </a:ln>
        </p:spPr>
      </p:pic>
      <p:pic>
        <p:nvPicPr>
          <p:cNvPr id="55" name="DefaultOcx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HTMLHidden1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HTMLHidden2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HTMLHidden3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Найди «лишнее сло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развивать умение выделять в словах общий признак, развитие внимания , закрепление правописаний непроверяемых глас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1736640" y="2840040"/>
            <a:ext cx="6816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«Найди глагол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Цель: закрепления понятия о глаголе, умения находить глагол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 понедельник я стир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Чашки в пятницу помы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Пол во вторник подмет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А в субботу торт купила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 среду я пекла кала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сех подружек в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есь четверг искала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Позвала на день рожд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(П.Башм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Кто больше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 : закрепление понятия о глаголе, умения образовывать глаголы с помощью приста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1\ ХОДИТЬ   2\ЛИТЬ   3\ПИ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Что делать? Что сделать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глаголе, отвечающих на вопросы что делать? и ч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Закрыть, смотреть , ходить, пришить, уехать, читать, отпилить, прочитать, рисовать, плавать, написать, ехать, построить, шить, открыть, ставить, принести , строить, нарисовать, воз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« Кто как кричит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числе глагола, умения употреблять глагол в нужном чи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оровы – ( мыч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уры – ( кудахчу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Свиньи – (хрю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ороны – ( кар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ошки – ( мяу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Кукушки – (куку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тки – ( кряк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 Какое время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времени глагола, умения определять время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2743200"/>
          <a:ext cx="3962160" cy="1554120"/>
        </p:xfrm>
        <a:graphic>
          <a:graphicData uri="http://schemas.openxmlformats.org/drawingml/2006/table">
            <a:tbl>
              <a:tblPr/>
              <a:tblGrid>
                <a:gridCol w="39621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Летит без крыльев и поёт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Прохожих задира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Одним проходу не даё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Других он подгоня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952880" y="2666880"/>
          <a:ext cx="3962520" cy="192096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Длинной шеей поверчу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Груз тяжёлый подхвачу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Где прикажут – полож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Человеку послуж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8120" y="4572000"/>
          <a:ext cx="3657600" cy="19209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Принялась она за дел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Завизжала и зап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Ела, ела дуб, дуб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_RussDecor"/>
                        </a:rPr>
                        <a:t>Поломала зуб, зу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«Замени одним глагол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Цель: закрепление понятия о глаголе, знакомство с    фразеологическими оборо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Материал для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_RussDecor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_RussDecor"/>
              </a:rPr>
              <a:t>Совать нос, дать стрекача, клевать носом, выходить из себя, зарубить на носу, чесать языки, унести ноги, бить баклуши, надуть губы, ломать голову, заговаривать зубы, водить за 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_RussDecor"/>
            </a:endParaRPr>
          </a:p>
        </p:txBody>
      </p:sp>
      <p:pic>
        <p:nvPicPr>
          <p:cNvPr id="134" name="Содержимое 10" descr=""/>
          <p:cNvPicPr/>
          <p:nvPr/>
        </p:nvPicPr>
        <p:blipFill>
          <a:blip r:embed="rId1"/>
          <a:stretch/>
        </p:blipFill>
        <p:spPr>
          <a:xfrm>
            <a:off x="450720" y="512640"/>
            <a:ext cx="82425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_RussDecor"/>
              </a:rPr>
              <a:t>«МИНУСЫ» </a:t>
            </a: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при использовании игровых технологий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сложность в организации и проблемы с дисципли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подготовка требует больших затрат времени, нежели ее проведе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увлекаясь игровой оболочкой можно потерять образовательное содерж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невозможность использовать на любом материа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RussDecor"/>
              </a:rPr>
              <a:t>сложность в оценк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«Учит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       </a:t>
            </a: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и 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           </a:t>
            </a: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расту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              </a:t>
            </a:r>
            <a:r>
              <a:rPr b="0" lang="ru-RU" sz="4400" spc="-1" strike="noStrike">
                <a:solidFill>
                  <a:srgbClr val="c00000"/>
                </a:solidFill>
                <a:latin typeface="a_RussDecor"/>
              </a:rPr>
              <a:t>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Konfuzius-177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371600"/>
            <a:ext cx="345744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RussDecor"/>
              </a:rPr>
              <a:t>Основные направления реализации игровых прием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дидактическая цель ставится перед учащимися в форме игровой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чебная деятельность подчиняется правилам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чебный материал используется в качестве её сре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 учебную деятельность вводятся соревнования, которые способствуют переходу дидактических задач в разряд иг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успешное выполнение дидактического задания связывается с игровы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одержимое 4" descr="аIMG_82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G_307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G_307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DSC_0588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5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3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9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6997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Требования к играм в образовании, обеспечивающие привлекательность иг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гровая оболочка: должен быть задан игровой сюж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ключенность каждого: команды в целом и каждого игрока ли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озможность действия для каждого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результат игры должен быть различен в зависимости от усилий играющ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игровые задания должны быть подобраны так, чтобы их выполнение было связано с определенными сложностями, но доступны кажд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вариативность- в игре не должно быть единственно возможного пути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RussDeco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Игра – дело серьёзно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« Каков ребенок в игре, таков во многом он будет в работе, когда вырастет. Поэтому воспитание будущего деятеля происходит  прежде всего  в игре. И вся история отдельного человека как деятеля и работника может быть представлена в развитии игры и в постепенном переходе её в работу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_RussDecor"/>
              </a:rPr>
              <a:t>А.С.Макар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А.С. Макаренко создал педагогическую программу для воспитания трудных подростков. Фото 1936 года"/>
          <p:cNvPicPr/>
          <p:nvPr/>
        </p:nvPicPr>
        <p:blipFill>
          <a:blip r:embed="rId1"/>
          <a:stretch/>
        </p:blipFill>
        <p:spPr>
          <a:xfrm>
            <a:off x="838080" y="3438360"/>
            <a:ext cx="2286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"/>
          <p:cNvPicPr/>
          <p:nvPr/>
        </p:nvPicPr>
        <p:blipFill>
          <a:blip r:embed="rId1"/>
          <a:stretch/>
        </p:blipFill>
        <p:spPr>
          <a:xfrm>
            <a:off x="158760" y="822240"/>
            <a:ext cx="86202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RussDecor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Нравится ли тебе играт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На каких уроках тебе хотелось бы иг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Как ты любишь больше играть один или с друзь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RussDecor"/>
              </a:rPr>
              <a:t>Хочешь ли ты всегда побеждать в иг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RussDeco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RussDecor"/>
              </a:rPr>
              <a:t>Анализ ан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7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Людмила</cp:lastModifiedBy>
  <dcterms:modified xsi:type="dcterms:W3CDTF">2018-07-26T07:26:14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