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845-F816-4647-B7EE-11B84942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184-83E2-483C-8E5D-A6CB4C3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F45-9978-42BF-8A3A-52172D5E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EAC-BB4A-4286-BCF8-74C37330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5D-31DD-43AE-8A85-725FC3B9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28A-E2F7-40A5-8730-A8908DA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9EF-0D8C-439E-BFCC-9E3EA4BE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222-0455-4911-97E3-49933756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CFB-D4D3-4DD0-AFD5-72B1BA2A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80-1618-4558-B687-E493B54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5E5-8311-4365-A6D5-6A2154A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147-DE34-4211-9D90-38DF70B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D518-50CC-4A9F-B986-071395793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учителя МКО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асторенская СОШ №1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втун Аллы Михайло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да, это говорит и о  том, что вопрос о вредном воздействии СВЧ излучения изучен не так уж и хорошо.  Пиковая мощность телефона колеблется для разных моделей от 1 до 2 ватт. Но GSM телефоны не    постоянно излучают данную мощность. Примерно  каждые 4-6 секунд (это зависит от установок сети)  телефон изменяет выходную мощность. И старается  держать ее минимально необходимой для связи. Данная функция экономит Вашу батарею, бережет Ваше здоровье, и улучшает качество сети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 наверное часто слышали помехи от телефона,  например в колонках или радио. Сделайте звонок и  Вы заметите как помеха постепенно пропадет в течении 10 секун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т вам простое доказательство                               регулировки мощ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686800" y="1600200"/>
            <a:ext cx="6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голову попадает примерно 20% излуча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щности. При пиковой мощности 2 000 000 микроватт  это составляет около 400 000 микроватт. Для   соответствия старым нормам (предполагаем, что вся   эта мощность размазывается по освещённой стор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ловы равномерно!) поверхность освещённой стороны    головы должна быть не менее 40 000см2 (квадрат 2*2  мет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2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новым нормам поверхность освещё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роны головы должна быть не менее 4 000см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вадрат примерно 63*63 см). А ведь ре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учение неравномерное, поэтому и пло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ока мощности на отдельных участках головы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ельно вы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эти достаточно приближённые расс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дились в предположении, что в телеф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ся классическая штыревая антенна дли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в четверть длины волны (с учётом по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имерно 70м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временных аппаратах антенны стараются делать                               значительно короче. Но чем короче антенна, тем                               больше её так называемая добротность. Добротность определяет величину запасённой энергии и эта   запасённая энергия находится в ближнем поле, то  есть вблизи антенны и не излучается. Поэтому  голове достаётся и излучённая мощность и поглощения части запасённой энергии головой,   наличие головы около короткой антенны несколько  снижает её добротность и передатчику легче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средств защиты можно использовать либо   отражающий экран (проволочную сетку), либо поглощающий экран (сетка из резистивных проводников, например нитки пропитанные  углеродом), либо их комбинац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меры безопас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азговор по мобильному телефону необходим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коротким не из соображений тариф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а, а для свое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 машине СВЧ излучение переотражается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аллического кузова и значительно усилив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вредное влияние. Рекомендуется использ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й антен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В условиях неустойчивого приема мощ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арата автоматически повышается до максим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ы. Рекомендуется или воздержаться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ых переговоров или найти место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м прие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Если у Вас есть дача или загородный дом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лучшим выходом будет использование стационар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й Антенны круговой направленности (наприм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обильной) или специальной направл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616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Немалую опасность представляют также                               ретрансляторы провайдеров. Антенна такого                               ретраслятора постоянно излучает достаточно мощный   сигнал причем во все стороны. Как с этим бороться.    Переселяйтесь или подальше от антенны или живите в                               панельном доме. Арматура панелей несколько     экранирует Вашу квартиру. Помогает металлическая                               сетка на окнах. Размер ячейки не более 10 см.     6.Применение комплектов Mini Hands Free уменьшает     облучение головы и перераспределяет его на все                               тело. Но провод комплекта работает как                               переизлучающая антен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Не портите антенну телефона. Изменение ее                               геометрических размеров, изгиб, кручение неизбе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ает условия приема и мощность передатч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минуемо увеличивается. Используйте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рменные, родные анте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При выборе модели телефона предпочт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давайте аппаратам с внешними антеннами и хорошей     заявленной в характеристиках чувствительностью.  Оказывают ли влияние на здоровье базовые станции                            сотовой свя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момента открытия радио прошло уже больше 100  лет, и по мощности радиоизлучения Земля стала во  много раз ярче Сол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основная доля этой                               мощности пока приходится на сравнительно низкие                               частоты, к которым человек адаптирован. Поэтому пока не заметны особенно вредные массовые  последствия работы мощных радиостанций и мощных                               телецентров, хотя их мощность составляет десятки и  аже сотни киловат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аздо более вредным                               является высокочастотное излучение сантиметрового диапаз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25243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2852640"/>
            <a:ext cx="2009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овые станции (БС) - один из основных элементов                               системы сотовой радиосвязи. Они поддерживают связь        с находящимися в зоне действия их мобильными   радиотелефонами и работают в режиме приема и   передачи сигнала. В зависимости от стандарта      связи, БС излучают электромагнитную энергию в                               диапазоне частот от 463 до 1880 МГц.                              Согласно Санитарным нормам и правилам, антенны БС     размещаются на уже существующих постройках любого   типа и на специально сооружаемых мачтах. Среди     установленных в одном месте антенн БС имеются как                              передающие (или приемопередающие), так и приемные      антенны, которые не являются источниками ЭМ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грамма направленности антенн в вертикальной                               плоскости построена таким образом, что основная                               энергия излучения (более 90 %) сосредоточена в                               довольно узком "луче".   Он всегда направлен в сторону от сооружений, на     которых находятся антенны БС, и выше прилегающих    построек, что является необходимым условием для   нормального функционирования системы сотовой                               связи.     Антенны БС не излучают постоянную мощность 24 часа  в сутки, а имеют переменный график излучения      определяемый загрузкой, то есть наличием      владельцев сотовых телефонов в зоне обслуживания     конкретной базовой станции и их желанием    воспользоваться телефоном для раз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    станций, расположенных в различных районах города,       график загрузки различный. В ночные часы загрузка    БС практически равна нулю, т. е. станции в                        основном "молчат".      Исследования электромагнитной обстановки на  территории, прилегающей к БС, были проведены                               специалистами разных стран, в том числе Швеции,                               Венгрии и России. По результатам измерений в                               Москве можно констатировать, что в 100% случаев                               электромагнитная обстановка в помещениях здания,                               на котором установлена БС не отличалась от фоновой                               в соответствующем диапазоне частот для данного                               района. На прилегающей территории в 91% случаев                               зафиксированный уровень электромагнитного поля был                               в 10 раз меньше ПДУ, установленного для                               радиотехнических объектов в Москв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ксимально зафиксированное при измерениях значение было в 2  раза меньше установленного ПДУ, это было   зафиксировано вблизи здания на котором установлено  сразу три станции разных стандартов. Таким образом, исходя из последних научных исследований, можно с уверенностью говорить, что  базовые станции сотовой связи не опасны для здоровь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10160" y="57340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материалам "Мобильной справочной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ния -убий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4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бильная связь находится пока в самом начале                            этого диапазона, но постепенно продвигается всё                               дальше (GSM 1800,19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402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404640"/>
            <a:ext cx="51832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средственны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чником излу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мобильном                               телефоне является его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тенн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остальные                    источники изл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сам передатчик, гетеродины                               приемника, синтезатор частоты и прочее)нас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мощны, что их можно не принимать во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6352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3280" y="404280"/>
            <a:ext cx="5483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Ч излучение непосредственно нагревает организм   (полная аналогия с СВЧ печью) . Ток крови уменьшает нагрев, но к примеру хрусталик глаза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мывается кровью и при значительном нагреве -            разрушается, мутнеет. Эти изменения как правило                              необратимы. Данный процесс сопроваждается резью в глазах и шумом в го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3276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404280"/>
            <a:ext cx="5986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действие излучения на                               мозг человека значительно меньше поскольку мозг                               экранирован черепной коробкой и имеет развитую                              кровеносную систему. Различные стандарты имеют                               различную способность к нагреву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ефон   стандарта GSM 900/1800 опаснее чем телеф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а NMT 450 поскольку частота излучения выше. Правда в NMT 450 используются большие                               мо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95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частью СВЧ мощьность излучаемая телефоном не  велика и до перегрева хрусталика и мозга дело не   доходит. Но телефон в отличие от СВЧ печи излучает                               сложный модулированый сигнал, который несет в себе  информацию. Биологическо - информационые взаимодействия изучены недостаточно, достоверные                               результаты исследований в открытой печати не публикуются и нам неизвест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дарты сотовой связи разработаны на западе, там  же изготавливаются собственно аппараты. Считается,                               что санитарные нормы у них достаточно жесткие и можно надеяться, что за нас обо всем позабот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е факт, хотя бы по той причине, чт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тарые  советские нормы считали вредным облучение начиная                          с плотности потока мощности 10 микроватт/см2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иная с этого предела, ограничивалась длительность рабочего дня, назначалось молоко,  доплата за вредность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60280"/>
            <a:ext cx="5699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х отношений появилось сообщение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ая вредная плотность потока мощ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ставляет уже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икроватт/см2, то есть все мы стали ровно в десять раз здоровее и крепч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телось бы в это ве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59280" y="-360"/>
            <a:ext cx="20271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42:13Z</dcterms:created>
  <dc:creator>Client</dc:creator>
  <dc:description/>
  <dc:language>en-US</dc:language>
  <cp:lastModifiedBy>User</cp:lastModifiedBy>
  <dcterms:modified xsi:type="dcterms:W3CDTF">2015-02-10T21:57:51Z</dcterms:modified>
  <cp:revision>6</cp:revision>
  <dc:subject/>
  <dc:title>Слайд 1</dc:title>
</cp:coreProperties>
</file>