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1DC9-F298-4312-829E-54729247C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DD04-D2D2-4240-92D5-1FCAC6F7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5955-3BA1-4DCE-8DCF-A4B6A6096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823A-6DDE-4592-9807-EBAB47E2E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C770-DE30-4217-AFF4-D230BDF7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0B95-B63E-4B77-86B5-092005DD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D253-ABE9-4C6E-8DAA-656485F3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5C1D-33DC-4000-BE46-D4FC62C4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0A98-2178-4962-841D-B6DC6FDC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8FFE-3BE6-4D95-B420-BAEB9D94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DBED-9833-45FF-A59A-A0CE719D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4BBE-B505-4157-803C-1A5DA1D9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D780-801A-4005-A56D-07AC39B74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я учителя МКОУ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Касторенская СОШ №1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втун Аллы Михайлов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вда, это говорит и о  том, что вопрос о вредном воздействии СВЧ излучения изучен не так уж и хорошо.  Пиковая мощность телефона колеблется для разных моделей от 1 до 2 ватт. Но GSM телефоны не    постоянно излучают данную мощность. Примерно  каждые 4-6 секунд (это зависит от установок сети)  телефон изменяет выходную мощность. И старается  держать ее минимально необходимой для связи. Данная функция экономит Вашу батарею, бережет Ваше здоровье, и улучшает качество сети в це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404280"/>
            <a:ext cx="800244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 наверное часто слышали помехи от телефона,  например в колонках или радио. Сделайте звонок и  Вы заметите как помеха постепенно пропадет в течении 10 секунд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т вам простое доказательство                               регулировки мощ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686800" y="1600200"/>
            <a:ext cx="69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голову попадает примерно 20% излучаем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щности. При пиковой мощности 2 000 000 микроватт  это составляет около 400 000 микроватт. Для   соответствия старым нормам (предполагаем, что вся   эта мощность размазывается по освещённой сторо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ловы равномерно!) поверхность освещённой стороны    головы должна быть не менее 40 000см2 (квадрат 2*2  метр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0" y="404640"/>
            <a:ext cx="4321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новым нормам поверхность освещён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ороны головы должна быть не менее 4 000см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квадрат примерно 63*63 см). А ведь реаль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лучение неравномерное, поэтому и плот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тока мощности на отдельных участках головы буд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ительно выш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е эти достаточно приближённые рассужд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водились в предположении, что в телефо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пользуется классическая штыревая антенна длино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рно в четверть длины волны (с учётом покрыт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 примерно 70мм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овременных аппаратах антенны стараются делать                               значительно короче. Но чем короче антенна, тем                               больше её так называемая добротность. Добротность определяет величину запасённой энергии и эта   запасённая энергия находится в ближнем поле, то  есть вблизи антенны и не излучается. Поэтому  голове достаётся и излучённая мощность и поглощения части запасённой энергии головой,   наличие головы около короткой антенны несколько  снижает её добротность и передатчику легче работ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з средств защиты можно использовать либо   отражающий экран (проволочную сетку), либо поглощающий экран (сетка из резистивных проводников, например нитки пропитанные  углеродом), либо их комбинацию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которые меры безопасно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Разговор по мобильному телефону необходим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делать коротким не из соображений тариф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ана, а для своего здоровь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В машине СВЧ излучение переотражается о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таллического кузова и значительно усиливае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го вредное влияние. Рекомендуется использ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ешней антен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В условиях неустойчивого приема мощ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ппарата автоматически повышается до максималь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личины. Рекомендуется или воздержаться о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ительных переговоров или найти место 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тойчивым прием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Если у Вас есть дача или загородный дом т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илучшим выходом будет использование стационар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ешней Антенны круговой направленности (наприме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обильной) или специальной направлен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тен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55640" y="2637000"/>
            <a:ext cx="161604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Немалую опасность представляют также                               ретрансляторы провайдеров. Антенна такого                               ретраслятора постоянно излучает достаточно мощный   сигнал причем во все стороны. Как с этим бороться.    Переселяйтесь или подальше от антенны или живите в                               панельном доме. Арматура панелей несколько     экранирует Вашу квартиру. Помогает металлическая                               сетка на окнах. Размер ячейки не более 10 см.     6.Применение комплектов Mini Hands Free уменьшает     облучение головы и перераспределяет его на все                               тело. Но провод комплекта работает как                               переизлучающая антен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Не портите антенну телефона. Изменение ее                               геометрических размеров, изгиб, кручение неизбеж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худшает условия приема и мощность передатч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минуемо увеличивается. Используйте тольк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ирменные, родные антен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При выборе модели телефона предпочт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давайте аппаратам с внешними антеннами и хорошей     заявленной в характеристиках чувствительностью.  Оказывают ли влияние на здоровье базовые станции                            сотовой связ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74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момента открытия радио прошло уже больше 100  лет, и по мощности радиоизлучения Земля стала во  много раз ярче Солн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основная доля этой                               мощности пока приходится на сравнительно низкие                               частоты, к которым человек адаптирован. Поэтому пока не заметны особенно вредные массовые  последствия работы мощных радиостанций и мощных                               телецентров, хотя их мощность составляет десятки и  аже сотни киловат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Гораздо более вредным                               является высокочастотное излучение сантиметрового диапаз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219640" y="333360"/>
            <a:ext cx="2524320" cy="2951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77080" y="2852640"/>
            <a:ext cx="200988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азовые станции (БС) - один из основных элементов                               системы сотовой радиосвязи. Они поддерживают связь        с находящимися в зоне действия их мобильными   радиотелефонами и работают в режиме приема и   передачи сигнала. В зависимости от стандарта      связи, БС излучают электромагнитную энергию в                               диапазоне частот от 463 до 1880 МГц.                              Согласно Санитарным нормам и правилам, антенны БС     размещаются на уже существующих постройках любого   типа и на специально сооружаемых мачтах. Среди     установленных в одном месте антенн БС имеются как                              передающие (или приемопередающие), так и приемные      антенны, которые не являются источниками ЭМ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аграмма направленности антенн в вертикальной                               плоскости построена таким образом, что основная                               энергия излучения (более 90 %) сосредоточена в                               довольно узком "луче".   Он всегда направлен в сторону от сооружений, на     которых находятся антенны БС, и выше прилегающих    построек, что является необходимым условием для   нормального функционирования системы сотовой                               связи.     Антенны БС не излучают постоянную мощность 24 часа  в сутки, а имеют переменный график излучения      определяемый загрузкой, то есть наличием      владельцев сотовых телефонов в зоне обслуживания     конкретной базовой станции и их желанием    воспользоваться телефоном для разгов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          станций, расположенных в различных районах города,       график загрузки различный. В ночные часы загрузка    БС практически равна нулю, т. е. станции в                        основном "молчат".      Исследования электромагнитной обстановки на  территории, прилегающей к БС, были проведены                               специалистами разных стран, в том числе Швеции,                               Венгрии и России. По результатам измерений в                               Москве можно констатировать, что в 100% случаев                               электромагнитная обстановка в помещениях здания,                               на котором установлена БС не отличалась от фоновой                               в соответствующем диапазоне частот для данного                               района. На прилегающей территории в 91% случаев                               зафиксированный уровень электромагнитного поля был                               в 10 раз меньше ПДУ, установленного для                               радиотехнических объектов в Москве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ксимально зафиксированное при измерениях значение было в 2  раза меньше установленного ПДУ, это было   зафиксировано вблизи здания на котором установлено  сразу три станции разных стандартов. Таким образом, исходя из последних научных исследований, можно с уверенностью говорить, что  базовые станции сотовой связи не опасны для здоровья насе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10160" y="5734080"/>
            <a:ext cx="458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материалам "Мобильной справочной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лния -убий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68360" y="1413000"/>
            <a:ext cx="4464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бильная связь находится пока в самом начале                            этого диапазона, но постепенно продвигается всё                               дальше (GSM 1800,190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284720" y="260280"/>
            <a:ext cx="4402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360" y="404640"/>
            <a:ext cx="518328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посредственным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источником излуч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 мобильном                               телефоне является его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антенна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е остальные                    источники излуч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сам передатчик, гетеродины                               приемника, синтезатор частоты и прочее)настольк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ломощны, что их можно не принимать во вним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508720" y="404640"/>
            <a:ext cx="363528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03280" y="404280"/>
            <a:ext cx="54831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Ч излучение непосредственно нагревает организм   (полная аналогия с СВЧ печью) . Ток крови уменьшает нагрев, но к примеру хрусталик глаза 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мывается кровью и при значительном нагреве -            разрушается, мутнеет. Эти изменения как правило                              необратимы. Данный процесс сопроваждается резью в глазах и шумом в голо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32767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404280"/>
            <a:ext cx="598644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здействие излучения на                               мозг человека значительно меньше поскольку мозг                               экранирован черепной коробкой и имеет развитую                              кровеносную систему. Различные стандарты имеют                               различную способность к нагреву орган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лефон   стандарта GSM 900/1800 опаснее чем телеф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ндарта NMT 450 поскольку частота излучения выше. Правда в NMT 450 используются большие                               мощ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12000" y="1844640"/>
            <a:ext cx="295272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счастью СВЧ мощьность излучаемая телефоном не  велика и до перегрева хрусталика и мозга дело не   доходит. Но телефон в отличие от СВЧ печи излучает                               сложный модулированый сигнал, который несет в себе  информацию. Биологическо - информационые взаимодействия изучены недостаточно, достоверные                               результаты исследований в открытой печати не публикуются и нам неизвест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ндарты сотовой связи разработаны на западе, там  же изготавливаются собственно аппараты. Считается,                               что санитарные нормы у них достаточно жесткие и можно надеяться, что за нас обо всем позаботилис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 не факт, хотя бы по той причине, что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старые  советские нормы считали вредным облучение начиная                          с плотности потока мощности 10 микроватт/см2.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чиная с этого предела, ограничивалась длительность рабочего дня, назначалось молоко,  доплата за вредность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260280"/>
            <a:ext cx="569916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 введ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ыночных отношений появилось сообщение, ч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инимальная вредная плотность потока мощ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составляет уже 1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икроватт/см2, то есть все мы стали ровно в десять раз здоровее и крепч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отелось бы в это вери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659280" y="-360"/>
            <a:ext cx="202716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6:42:13Z</dcterms:created>
  <dc:creator>Client</dc:creator>
  <dc:description/>
  <dc:language>en-US</dc:language>
  <cp:lastModifiedBy>User</cp:lastModifiedBy>
  <dcterms:modified xsi:type="dcterms:W3CDTF">2015-02-10T21:57:51Z</dcterms:modified>
  <cp:revision>6</cp:revision>
  <dc:subject/>
  <dc:title>Слайд 1</dc:title>
</cp:coreProperties>
</file>