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49.jpeg" ContentType="image/jpeg"/>
  <Override PartName="/ppt/media/image14.png" ContentType="image/png"/>
  <Override PartName="/ppt/media/image10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40.jpeg" ContentType="image/jpeg"/>
  <Override PartName="/ppt/media/image44.jpeg" ContentType="image/jpeg"/>
  <Override PartName="/ppt/media/image9.png" ContentType="image/png"/>
  <Override PartName="/ppt/media/image41.jpeg" ContentType="image/jpeg"/>
  <Override PartName="/ppt/media/image33.png" ContentType="image/png"/>
  <Override PartName="/ppt/media/image39.jpeg" ContentType="image/jpeg"/>
  <Override PartName="/ppt/media/image8.png" ContentType="image/png"/>
  <Override PartName="/ppt/media/image46.jpeg" ContentType="image/jpeg"/>
  <Override PartName="/ppt/media/image45.jpeg" ContentType="image/jpeg"/>
  <Override PartName="/ppt/media/image55.png" ContentType="image/png"/>
  <Override PartName="/ppt/media/image47.jpeg" ContentType="image/jpeg"/>
  <Override PartName="/ppt/media/image50.jpeg" ContentType="image/jpeg"/>
  <Override PartName="/ppt/media/image52.png" ContentType="image/png"/>
  <Override PartName="/ppt/media/image51.png" ContentType="image/png"/>
  <Override PartName="/ppt/media/image48.jpeg" ContentType="image/jpeg"/>
  <Override PartName="/ppt/media/image53.png" ContentType="image/png"/>
  <Override PartName="/ppt/media/image13.png" ContentType="image/png"/>
  <Override PartName="/ppt/media/image54.jpeg" ContentType="image/jpeg"/>
  <Override PartName="/ppt/media/image43.jpeg" ContentType="image/jpeg"/>
  <Override PartName="/ppt/media/image35.png" ContentType="image/png"/>
  <Override PartName="/ppt/media/image5.png" ContentType="image/png"/>
  <Override PartName="/ppt/media/image38.jpeg" ContentType="image/jpeg"/>
  <Override PartName="/ppt/media/image2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5398-E782-43EA-8700-D50317602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8CF7-C5D6-44AD-A286-B6B6B3161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8372-85F4-43FD-AFEF-DEB05AF82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85BC-6990-4473-ACDC-16B63F7CD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CAE8-5DE3-4DC6-B26B-3537AE6BB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538E-74D4-4B3D-9EC3-47E245272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ABA8-C6DE-45F8-BF3C-3947FFCA1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DE99-F0B1-437F-ADC3-80B84B122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2F1D-0C3C-4800-AAF9-A5C17556D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9796-8DD5-4AB5-96C3-C9E538BD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C8F6-3663-4891-8484-2BC345527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A54B-4A60-4F84-814D-89861525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3AEB4-BF88-4DCC-9DF8-CC1BF0B1C0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10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image" Target="../media/image42.jpeg"/><Relationship Id="rId8" Type="http://schemas.openxmlformats.org/officeDocument/2006/relationships/image" Target="../media/image43.jpe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10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10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10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10.jpeg"/><Relationship Id="rId3" Type="http://schemas.openxmlformats.org/officeDocument/2006/relationships/image" Target="../media/image46.jpe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image" Target="../media/image50.jpe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3.png"/><Relationship Id="rId3" Type="http://schemas.openxmlformats.org/officeDocument/2006/relationships/image" Target="../media/image54.jpeg"/><Relationship Id="rId4" Type="http://schemas.openxmlformats.org/officeDocument/2006/relationships/image" Target="../media/image55.png"/><Relationship Id="rId5" Type="http://schemas.openxmlformats.org/officeDocument/2006/relationships/hyperlink" Target="http://shkolazhizni.ru/archive/0/n-69297/" TargetMode="External"/><Relationship Id="rId6" Type="http://schemas.openxmlformats.org/officeDocument/2006/relationships/hyperlink" Target="http://o53xo.onrwq33pnqzdcmbqfzzhk.cmle.ru/upload/iblock/b3e/b3e76b4e4c8069e3414f8e49b4e5e388.pdf" TargetMode="Externa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4" descr="http://prazdni.com/wp-content/uploads/2009/11/%D0%B4%D0%B5%D1%82%D1%81%D0%BA%D0%B8%D0%B5-%D1%80%D0%B0%D0%BC%D0%BA%D0%B8-%D0%B4%D0%BB%D1%8F-%D1%84%D0%BE%D1%82%D0%BE%D1%88%D0%BE%D0%BF%D0%B0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http://static.diary.ru/userdir/2/0/5/7/2057974/77426582.jpg"/>
          <p:cNvPicPr/>
          <p:nvPr/>
        </p:nvPicPr>
        <p:blipFill>
          <a:blip r:embed="rId2"/>
          <a:stretch/>
        </p:blipFill>
        <p:spPr>
          <a:xfrm>
            <a:off x="5651640" y="0"/>
            <a:ext cx="3492360" cy="2475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6"/>
          <p:cNvSpPr/>
          <p:nvPr/>
        </p:nvSpPr>
        <p:spPr>
          <a:xfrm>
            <a:off x="2484360" y="333360"/>
            <a:ext cx="403236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Педагогическ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проек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«Любимое увлечение-   д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Разума и учения»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5904000" y="5380200"/>
            <a:ext cx="3240000" cy="146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работа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езрукова Анастасия  Юрьевна Воспита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c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№265 ОАО «РЖД» г.Хабаров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Рисунок 3" descr="http://sadsolnishko.narod.ru/images/fon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5" descr="http://www.bush-nn.narod.ru/vinni5.gif"/>
          <p:cNvPicPr/>
          <p:nvPr/>
        </p:nvPicPr>
        <p:blipFill>
          <a:blip r:embed="rId2"/>
          <a:srcRect l="15621" t="0" r="0" b="0"/>
          <a:stretch/>
        </p:blipFill>
        <p:spPr>
          <a:xfrm>
            <a:off x="0" y="0"/>
            <a:ext cx="3308400" cy="360036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6" descr="http://www.mamusik.ru/upload/userimages/uubypnonsvkccdsreuzyo.png"/>
          <p:cNvPicPr/>
          <p:nvPr/>
        </p:nvPicPr>
        <p:blipFill>
          <a:blip r:embed="rId3"/>
          <a:stretch/>
        </p:blipFill>
        <p:spPr>
          <a:xfrm>
            <a:off x="7380360" y="3141720"/>
            <a:ext cx="1512720" cy="3417840"/>
          </a:xfrm>
          <a:prstGeom prst="rect">
            <a:avLst/>
          </a:prstGeom>
          <a:ln w="0">
            <a:noFill/>
          </a:ln>
        </p:spPr>
      </p:pic>
      <p:sp>
        <p:nvSpPr>
          <p:cNvPr id="100" name="TextBox 6"/>
          <p:cNvSpPr/>
          <p:nvPr/>
        </p:nvSpPr>
        <p:spPr>
          <a:xfrm>
            <a:off x="2050920" y="1413000"/>
            <a:ext cx="576108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Цель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онести до родителей и педагогов  значимость  советских мультфильмов  в воспитании и развитии дет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http://www.graycell.ru/picture/big/krolik.jpg"/>
          <p:cNvPicPr/>
          <p:nvPr/>
        </p:nvPicPr>
        <p:blipFill>
          <a:blip r:embed="rId4"/>
          <a:stretch/>
        </p:blipFill>
        <p:spPr>
          <a:xfrm>
            <a:off x="-73080" y="2995560"/>
            <a:ext cx="234144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Рисунок 3" descr="http://sadsolnishko.narod.ru/images/fon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5" descr="http://kot-show.ru/images/stories/vmaterial/karlson.png"/>
          <p:cNvPicPr/>
          <p:nvPr/>
        </p:nvPicPr>
        <p:blipFill>
          <a:blip r:embed="rId2"/>
          <a:stretch/>
        </p:blipFill>
        <p:spPr>
          <a:xfrm>
            <a:off x="684360" y="0"/>
            <a:ext cx="2050920" cy="2814480"/>
          </a:xfrm>
          <a:prstGeom prst="rect">
            <a:avLst/>
          </a:prstGeom>
          <a:ln w="0">
            <a:noFill/>
          </a:ln>
        </p:spPr>
      </p:pic>
      <p:sp>
        <p:nvSpPr>
          <p:cNvPr id="106" name="TextBox 5"/>
          <p:cNvSpPr/>
          <p:nvPr/>
        </p:nvSpPr>
        <p:spPr>
          <a:xfrm>
            <a:off x="2124000" y="795240"/>
            <a:ext cx="5616720" cy="60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адачи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учить родителей подбирать мультфильмы  для детей с учетом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х  воспитательного воздействия  на ребенка и 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зрастных особенносте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нести до педагогов значимость советских мультфильмов в воспитании и образовании подрастающего покол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здать  условия для использования  воспитателями  советских мультфильмов в своей рабо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общить детей к просмотру советских мультфиль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http://img.vl.ru/i/catalog/add_images/1799/comp_10671_big_1864206.jpg"/>
          <p:cNvPicPr/>
          <p:nvPr/>
        </p:nvPicPr>
        <p:blipFill>
          <a:blip r:embed="rId3"/>
          <a:stretch/>
        </p:blipFill>
        <p:spPr>
          <a:xfrm>
            <a:off x="7189920" y="3500280"/>
            <a:ext cx="195408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Рисунок 3" descr="http://sadsolnishko.narod.ru/images/fon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5" descr="http://nsportal.ru/sites/default/files/2013/09/19/chipollino.jpg"/>
          <p:cNvPicPr/>
          <p:nvPr/>
        </p:nvPicPr>
        <p:blipFill>
          <a:blip r:embed="rId2"/>
          <a:stretch/>
        </p:blipFill>
        <p:spPr>
          <a:xfrm>
            <a:off x="0" y="4029120"/>
            <a:ext cx="1979640" cy="282888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5" descr="Кот Матроскин из Простоквашино, png"/>
          <p:cNvPicPr/>
          <p:nvPr/>
        </p:nvPicPr>
        <p:blipFill>
          <a:blip r:embed="rId3"/>
          <a:stretch/>
        </p:blipFill>
        <p:spPr>
          <a:xfrm>
            <a:off x="6372360" y="3573360"/>
            <a:ext cx="2771640" cy="3284640"/>
          </a:xfrm>
          <a:prstGeom prst="rect">
            <a:avLst/>
          </a:prstGeom>
          <a:ln w="0">
            <a:noFill/>
          </a:ln>
        </p:spPr>
      </p:pic>
      <p:sp>
        <p:nvSpPr>
          <p:cNvPr id="113" name="TextBox 6"/>
          <p:cNvSpPr/>
          <p:nvPr/>
        </p:nvSpPr>
        <p:spPr>
          <a:xfrm>
            <a:off x="900000" y="671400"/>
            <a:ext cx="7344000" cy="57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ероприятия для решения первой 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прос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Что мы смотрим дом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онсульта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Секреты советских мультфильмов» ;«Советские и современ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ультфильмы»; «Взрослый мир в детских мультфильмах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уклеты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Общие советы по защите детей от вредного влияния СМИ» ;«Подбор мультфильмов по возрасту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здание фильмотеки для обм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ставки рисун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http://photo-load.ru/wp-content/uploads/2012/09/slon2-200x200.png"/>
          <p:cNvPicPr/>
          <p:nvPr/>
        </p:nvPicPr>
        <p:blipFill>
          <a:blip r:embed="rId4"/>
          <a:stretch/>
        </p:blipFill>
        <p:spPr>
          <a:xfrm>
            <a:off x="3059280" y="4365720"/>
            <a:ext cx="249372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Рисунок 3" descr="http://sadsolnishko.narod.ru/images/fon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http://static.diary.ru/userdir/1/0/3/6/103662/68094918.jpg"/>
          <p:cNvPicPr/>
          <p:nvPr/>
        </p:nvPicPr>
        <p:blipFill>
          <a:blip r:embed="rId2"/>
          <a:stretch/>
        </p:blipFill>
        <p:spPr>
          <a:xfrm>
            <a:off x="0" y="3494160"/>
            <a:ext cx="3419640" cy="33638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http://www.images.lesyadraw.ru/2013/04/kak-ricovat_tigrenka_po_doroge_s_oblakami.jpg"/>
          <p:cNvPicPr/>
          <p:nvPr/>
        </p:nvPicPr>
        <p:blipFill>
          <a:blip r:embed="rId3"/>
          <a:stretch/>
        </p:blipFill>
        <p:spPr>
          <a:xfrm>
            <a:off x="6443640" y="4143240"/>
            <a:ext cx="2160720" cy="2714760"/>
          </a:xfrm>
          <a:prstGeom prst="rect">
            <a:avLst/>
          </a:prstGeom>
          <a:ln w="0">
            <a:noFill/>
          </a:ln>
        </p:spPr>
      </p:pic>
      <p:sp>
        <p:nvSpPr>
          <p:cNvPr id="120" name="TextBox 6"/>
          <p:cNvSpPr/>
          <p:nvPr/>
        </p:nvSpPr>
        <p:spPr>
          <a:xfrm>
            <a:off x="755640" y="907920"/>
            <a:ext cx="741672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ероприятия для решения второй и третьей 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ыступление на педагогическом совет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Влияние мультфильмов на сознание  и психику детей 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оздание картотеки и видеотеки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ветских мультфильмов по лексическим темам и по разделам образовательных обла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каз открытого занятия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 использованием  мультфильма.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0" descr="http://detkam.e-papa.ru/inc/ico_im_colouring/89327065.gif"/>
          <p:cNvPicPr/>
          <p:nvPr/>
        </p:nvPicPr>
        <p:blipFill>
          <a:blip r:embed="rId4"/>
          <a:stretch/>
        </p:blipFill>
        <p:spPr>
          <a:xfrm>
            <a:off x="3635280" y="3527280"/>
            <a:ext cx="2665440" cy="33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Рисунок 3" descr="http://sadsolnishko.narod.ru/images/fon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TextBox 6"/>
          <p:cNvSpPr/>
          <p:nvPr/>
        </p:nvSpPr>
        <p:spPr>
          <a:xfrm>
            <a:off x="826920" y="907920"/>
            <a:ext cx="698508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ероприятия для решения  четвертой 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спользование советских мультфильмов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НОД и совместно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Чтение ЧХЛ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 мотивам советских мультфильмов с использованием инновационных технологий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рганизация и создание условий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 продуктивной деятельности по мотивам мультипликационных фильм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рганизация и создание уголка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МУЛЬТИ-ПУЛЬТ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групп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2" descr="http://ras-kras.ru/uploads/raskraski-iz-multfilmov-vozvraschenie-bludnogo-popugaya.png"/>
          <p:cNvPicPr/>
          <p:nvPr/>
        </p:nvPicPr>
        <p:blipFill>
          <a:blip r:embed="rId2"/>
          <a:stretch/>
        </p:blipFill>
        <p:spPr>
          <a:xfrm>
            <a:off x="0" y="3573360"/>
            <a:ext cx="2627280" cy="3284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http://raskraski-besplatno.ru/userfiles/photo/medium/39_vovka-v-tridevyatom-tsarstve.jpg"/>
          <p:cNvPicPr/>
          <p:nvPr/>
        </p:nvPicPr>
        <p:blipFill>
          <a:blip r:embed="rId3"/>
          <a:stretch/>
        </p:blipFill>
        <p:spPr>
          <a:xfrm>
            <a:off x="6227640" y="3365640"/>
            <a:ext cx="3492720" cy="3492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0" descr="http://mayskiykot.ru/wp-content/uploads/2012/04/vinnipuh.jpg"/>
          <p:cNvPicPr/>
          <p:nvPr/>
        </p:nvPicPr>
        <p:blipFill>
          <a:blip r:embed="rId4"/>
          <a:stretch/>
        </p:blipFill>
        <p:spPr>
          <a:xfrm>
            <a:off x="3564000" y="4402080"/>
            <a:ext cx="216036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Рисунок 3" descr="http://sadsolnishko.narod.ru/images/fon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6" descr="Львенок и черепаха из мультика, png"/>
          <p:cNvPicPr/>
          <p:nvPr/>
        </p:nvPicPr>
        <p:blipFill>
          <a:blip r:embed="rId2"/>
          <a:stretch/>
        </p:blipFill>
        <p:spPr>
          <a:xfrm>
            <a:off x="5796000" y="3573360"/>
            <a:ext cx="3348000" cy="3284640"/>
          </a:xfrm>
          <a:prstGeom prst="rect">
            <a:avLst/>
          </a:prstGeom>
          <a:ln w="0">
            <a:noFill/>
          </a:ln>
        </p:spPr>
      </p:pic>
      <p:sp>
        <p:nvSpPr>
          <p:cNvPr id="133" name="TextBox 5"/>
          <p:cNvSpPr/>
          <p:nvPr/>
        </p:nvSpPr>
        <p:spPr>
          <a:xfrm>
            <a:off x="1619280" y="981000"/>
            <a:ext cx="669780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одук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ильмотека советских мультфильм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ртотека советских мультфильмов     согласно возрас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голок «Мульти-пульти» в групп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ставки рисун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7" descr="http://raskraski-besplatno.ru/userfiles/photo/medium/10_sovetskie-multfilmy.jpg"/>
          <p:cNvPicPr/>
          <p:nvPr/>
        </p:nvPicPr>
        <p:blipFill>
          <a:blip r:embed="rId3"/>
          <a:stretch/>
        </p:blipFill>
        <p:spPr>
          <a:xfrm>
            <a:off x="0" y="3989520"/>
            <a:ext cx="3456000" cy="28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3" descr="http://sadsolnishko.narod.ru/images/fon1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C:\Users\Настя\Desktop\работа 4\документы списки 7 средняя группа\проект мультфильмы\100_9076.JPG"/>
          <p:cNvPicPr/>
          <p:nvPr/>
        </p:nvPicPr>
        <p:blipFill>
          <a:blip r:embed="rId3"/>
          <a:stretch/>
        </p:blipFill>
        <p:spPr>
          <a:xfrm>
            <a:off x="4726080" y="404640"/>
            <a:ext cx="4417920" cy="33134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C:\Users\Настя\Desktop\работа 4\документы списки 7 средняя группа\проект мультфильмы\100_9078.JPG"/>
          <p:cNvPicPr/>
          <p:nvPr/>
        </p:nvPicPr>
        <p:blipFill>
          <a:blip r:embed="rId4"/>
          <a:stretch/>
        </p:blipFill>
        <p:spPr>
          <a:xfrm>
            <a:off x="395280" y="3235320"/>
            <a:ext cx="4830840" cy="36226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C:\Users\Настя\Desktop\работа 4\документы списки 7 средняя группа\проект мультфильмы\100_9068.JPG"/>
          <p:cNvPicPr/>
          <p:nvPr/>
        </p:nvPicPr>
        <p:blipFill>
          <a:blip r:embed="rId5"/>
          <a:stretch/>
        </p:blipFill>
        <p:spPr>
          <a:xfrm>
            <a:off x="5251320" y="3938760"/>
            <a:ext cx="3892680" cy="29192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C:\Users\Настя\Desktop\работа 4\документы списки 7 средняя группа\проект мультфильмы\100_9069.JPG"/>
          <p:cNvPicPr/>
          <p:nvPr/>
        </p:nvPicPr>
        <p:blipFill>
          <a:blip r:embed="rId6"/>
          <a:stretch/>
        </p:blipFill>
        <p:spPr>
          <a:xfrm>
            <a:off x="468360" y="333360"/>
            <a:ext cx="4005360" cy="300348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7" descr="http://www.kramola.info/sites/default/files/imagecache/articles-main/images/vesti/55b4ab1105c337439809b6e32b34548d.jpg"/>
          <p:cNvPicPr/>
          <p:nvPr/>
        </p:nvPicPr>
        <p:blipFill>
          <a:blip r:embed="rId7"/>
          <a:stretch/>
        </p:blipFill>
        <p:spPr>
          <a:xfrm>
            <a:off x="3348000" y="3429000"/>
            <a:ext cx="1295280" cy="115236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7" descr="http://www.kramola.info/sites/default/files/imagecache/articles-main/images/vesti/55b4ab1105c337439809b6e32b34548d.jpg"/>
          <p:cNvPicPr/>
          <p:nvPr/>
        </p:nvPicPr>
        <p:blipFill>
          <a:blip r:embed="rId8"/>
          <a:stretch/>
        </p:blipFill>
        <p:spPr>
          <a:xfrm>
            <a:off x="6875640" y="765000"/>
            <a:ext cx="1152360" cy="10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3" descr="http://sadsolnishko.narod.ru/images/fon1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C:\Users\Настя\Desktop\работа 4\документы списки 7 средняя группа\проект мультфильмы\100_9075.JPG"/>
          <p:cNvPicPr/>
          <p:nvPr/>
        </p:nvPicPr>
        <p:blipFill>
          <a:blip r:embed="rId3"/>
          <a:stretch/>
        </p:blipFill>
        <p:spPr>
          <a:xfrm>
            <a:off x="1403280" y="1125360"/>
            <a:ext cx="6648480" cy="49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3" descr="http://sadsolnishko.narod.ru/images/fon1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C:\Users\Настя\Desktop\проект мультфильмы\1443680431153_0.jpg"/>
          <p:cNvPicPr/>
          <p:nvPr/>
        </p:nvPicPr>
        <p:blipFill>
          <a:blip r:embed="rId3"/>
          <a:stretch/>
        </p:blipFill>
        <p:spPr>
          <a:xfrm>
            <a:off x="2411280" y="1268280"/>
            <a:ext cx="4510080" cy="45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3" descr="http://sadsolnishko.narod.ru/images/fon1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C:\Users\Настя\Desktop\работа 4\документы списки 7 средняя группа\проект мультфильмы\1443680431153_1 (1).jpg"/>
          <p:cNvPicPr/>
          <p:nvPr/>
        </p:nvPicPr>
        <p:blipFill>
          <a:blip r:embed="rId3"/>
          <a:stretch/>
        </p:blipFill>
        <p:spPr>
          <a:xfrm>
            <a:off x="-1809720" y="-4064040"/>
            <a:ext cx="2430360" cy="3240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C:\Users\Настя\Desktop\работа 4\документы списки 7 средняя группа\проект мультфильмы\100_9049.JPG"/>
          <p:cNvPicPr/>
          <p:nvPr/>
        </p:nvPicPr>
        <p:blipFill>
          <a:blip r:embed="rId4"/>
          <a:stretch/>
        </p:blipFill>
        <p:spPr>
          <a:xfrm>
            <a:off x="1403280" y="1341360"/>
            <a:ext cx="624852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3" descr="http://sadsolnishko.narod.ru/images/fon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4" descr="http://freegraphic.ru/uploads/posts/2012-06/1339058563_kzfdlpa0wbsqcty.jpeg"/>
          <p:cNvPicPr/>
          <p:nvPr/>
        </p:nvPicPr>
        <p:blipFill>
          <a:blip r:embed="rId2"/>
          <a:stretch/>
        </p:blipFill>
        <p:spPr>
          <a:xfrm>
            <a:off x="0" y="-243000"/>
            <a:ext cx="2452680" cy="3154320"/>
          </a:xfrm>
          <a:prstGeom prst="rect">
            <a:avLst/>
          </a:prstGeom>
          <a:ln w="0">
            <a:noFill/>
          </a:ln>
        </p:spPr>
      </p:pic>
      <p:sp>
        <p:nvSpPr>
          <p:cNvPr id="51" name="TextBox 5"/>
          <p:cNvSpPr/>
          <p:nvPr/>
        </p:nvSpPr>
        <p:spPr>
          <a:xfrm>
            <a:off x="1332000" y="981000"/>
            <a:ext cx="6696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ип проект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нформационный;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актико –ориентированны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http://img0.liveinternet.ru/images/attach/c/7/96/327/96327162_1.png"/>
          <p:cNvPicPr/>
          <p:nvPr/>
        </p:nvPicPr>
        <p:blipFill>
          <a:blip r:embed="rId3"/>
          <a:stretch/>
        </p:blipFill>
        <p:spPr>
          <a:xfrm>
            <a:off x="6572160" y="3429000"/>
            <a:ext cx="25718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3" descr="http://sadsolnishko.narod.ru/images/fon1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C:\Users\Настя\Desktop\работа 4\документы списки 7 средняя группа\проект мультфильмы\1443680431153_1 (1).jpg"/>
          <p:cNvPicPr/>
          <p:nvPr/>
        </p:nvPicPr>
        <p:blipFill>
          <a:blip r:embed="rId3"/>
          <a:stretch/>
        </p:blipFill>
        <p:spPr>
          <a:xfrm>
            <a:off x="-1809720" y="-4064040"/>
            <a:ext cx="2430360" cy="3240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C:\Users\Настя\Desktop\работа 4\фотки группа 7\100_9080.JPG"/>
          <p:cNvPicPr/>
          <p:nvPr/>
        </p:nvPicPr>
        <p:blipFill>
          <a:blip r:embed="rId4"/>
          <a:stretch/>
        </p:blipFill>
        <p:spPr>
          <a:xfrm>
            <a:off x="5148360" y="981000"/>
            <a:ext cx="3263760" cy="2448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" descr="C:\Users\Настя\Desktop\работа 4\фотки группа 7\100_9089.JPG"/>
          <p:cNvPicPr/>
          <p:nvPr/>
        </p:nvPicPr>
        <p:blipFill>
          <a:blip r:embed="rId5"/>
          <a:stretch/>
        </p:blipFill>
        <p:spPr>
          <a:xfrm>
            <a:off x="1547640" y="981000"/>
            <a:ext cx="3411720" cy="25592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C:\Users\Настя\Desktop\работа 4\фотки группа 7\100_9087.JPG"/>
          <p:cNvPicPr/>
          <p:nvPr/>
        </p:nvPicPr>
        <p:blipFill>
          <a:blip r:embed="rId6"/>
          <a:stretch/>
        </p:blipFill>
        <p:spPr>
          <a:xfrm>
            <a:off x="2916360" y="3429000"/>
            <a:ext cx="379548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Рисунок 3" descr="http://sadsolnishko.narod.ru/images/fon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TextBox 5"/>
          <p:cNvSpPr/>
          <p:nvPr/>
        </p:nvSpPr>
        <p:spPr>
          <a:xfrm>
            <a:off x="1547640" y="765000"/>
            <a:ext cx="6769440" cy="53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ект будем считать реализованны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дети при выборе мультфильмов  будут отдавать предпочтение советским мультфильмам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родители  научатся подбирать мультфильмы  для детей с учетом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х  воспитательного воздействия  на ребенка и  возрастных особенност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педагоги  будут использовать в своей работе  старые добрые советские мультфиль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7" descr="http://www.peoples.ru/art/cinema/characters/parrot_kesha/parrot_3.jpg"/>
          <p:cNvPicPr/>
          <p:nvPr/>
        </p:nvPicPr>
        <p:blipFill>
          <a:blip r:embed="rId2"/>
          <a:stretch/>
        </p:blipFill>
        <p:spPr>
          <a:xfrm>
            <a:off x="0" y="5013360"/>
            <a:ext cx="1844640" cy="1844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https://freelance.ru/img/portfolio/pics/00/0E/9B/957207.jpg"/>
          <p:cNvPicPr/>
          <p:nvPr/>
        </p:nvPicPr>
        <p:blipFill>
          <a:blip r:embed="rId3"/>
          <a:stretch/>
        </p:blipFill>
        <p:spPr>
          <a:xfrm>
            <a:off x="7564320" y="4724280"/>
            <a:ext cx="19036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Рисунок 3" descr="http://sadsolnishko.narod.ru/images/fon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6" descr="http://www.deti-club.ru/wp-content/uploads/2011/11/multi.jpg"/>
          <p:cNvPicPr/>
          <p:nvPr/>
        </p:nvPicPr>
        <p:blipFill>
          <a:blip r:embed="rId2"/>
          <a:stretch/>
        </p:blipFill>
        <p:spPr>
          <a:xfrm>
            <a:off x="0" y="0"/>
            <a:ext cx="2808360" cy="321300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7" descr="http://www.kramola.info/sites/default/files/imagecache/articles-main/images/vesti/55b4ab1105c337439809b6e32b34548d.jpg"/>
          <p:cNvPicPr/>
          <p:nvPr/>
        </p:nvPicPr>
        <p:blipFill>
          <a:blip r:embed="rId3"/>
          <a:stretch/>
        </p:blipFill>
        <p:spPr>
          <a:xfrm>
            <a:off x="5219640" y="4724280"/>
            <a:ext cx="2722680" cy="162900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8" descr="http://otvetnavse.com/uploads/posts/2013-11/1385647284_qin0zhcvvx4.jpg"/>
          <p:cNvPicPr/>
          <p:nvPr/>
        </p:nvPicPr>
        <p:blipFill>
          <a:blip r:embed="rId4"/>
          <a:stretch/>
        </p:blipFill>
        <p:spPr>
          <a:xfrm>
            <a:off x="900000" y="3400560"/>
            <a:ext cx="4103640" cy="3006720"/>
          </a:xfrm>
          <a:prstGeom prst="rect">
            <a:avLst/>
          </a:prstGeom>
          <a:ln w="0">
            <a:noFill/>
          </a:ln>
        </p:spPr>
      </p:pic>
      <p:sp>
        <p:nvSpPr>
          <p:cNvPr id="176" name="Прямоугольник 8"/>
          <p:cNvSpPr/>
          <p:nvPr/>
        </p:nvSpPr>
        <p:spPr>
          <a:xfrm>
            <a:off x="2866680" y="1268280"/>
            <a:ext cx="442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5"/>
              </a:rPr>
              <a:t>http://shkolazhizni.ru/archive/0/n-69297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9"/>
          <p:cNvSpPr/>
          <p:nvPr/>
        </p:nvSpPr>
        <p:spPr>
          <a:xfrm>
            <a:off x="2843280" y="17002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ttp://www.detsad-ural.ru/content/multfilmy-dlya-detei-spisok-multikov-dlya-raznogo-vozra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10"/>
          <p:cNvSpPr/>
          <p:nvPr/>
        </p:nvSpPr>
        <p:spPr>
          <a:xfrm>
            <a:off x="2930400" y="2637000"/>
            <a:ext cx="411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ttp://www.bing.com/images/searc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11"/>
          <p:cNvSpPr/>
          <p:nvPr/>
        </p:nvSpPr>
        <p:spPr>
          <a:xfrm>
            <a:off x="2920680" y="3068640"/>
            <a:ext cx="342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6"/>
              </a:rPr>
              <a:t>диссертации А.Ф.Лалети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Рисунок 3" descr="http://sadsolnishko.narod.ru/images/fon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4" descr="http://lisyonok.ucoz.ru/_ld/0/87503.png"/>
          <p:cNvPicPr/>
          <p:nvPr/>
        </p:nvPicPr>
        <p:blipFill>
          <a:blip r:embed="rId2"/>
          <a:stretch/>
        </p:blipFill>
        <p:spPr>
          <a:xfrm>
            <a:off x="0" y="3044880"/>
            <a:ext cx="2792520" cy="381312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5" descr="Ежик из мультфильма Трям, здравствуйте!, png"/>
          <p:cNvPicPr/>
          <p:nvPr/>
        </p:nvPicPr>
        <p:blipFill>
          <a:blip r:embed="rId3"/>
          <a:stretch/>
        </p:blipFill>
        <p:spPr>
          <a:xfrm>
            <a:off x="6443640" y="3789360"/>
            <a:ext cx="2700360" cy="3068640"/>
          </a:xfrm>
          <a:prstGeom prst="rect">
            <a:avLst/>
          </a:prstGeom>
          <a:ln w="0">
            <a:noFill/>
          </a:ln>
        </p:spPr>
      </p:pic>
      <p:sp>
        <p:nvSpPr>
          <p:cNvPr id="58" name="TextBox 6"/>
          <p:cNvSpPr/>
          <p:nvPr/>
        </p:nvSpPr>
        <p:spPr>
          <a:xfrm>
            <a:off x="2268360" y="1268280"/>
            <a:ext cx="4175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озраст детей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ошкольный возра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Рисунок 3" descr="http://sadsolnishko.narod.ru/images/fon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4" descr="http://www.vdome.ru/images/kabinet/30171/1204732037.jpg"/>
          <p:cNvPicPr/>
          <p:nvPr/>
        </p:nvPicPr>
        <p:blipFill>
          <a:blip r:embed="rId2"/>
          <a:stretch/>
        </p:blipFill>
        <p:spPr>
          <a:xfrm>
            <a:off x="-252360" y="3500280"/>
            <a:ext cx="3887640" cy="3357720"/>
          </a:xfrm>
          <a:prstGeom prst="rect">
            <a:avLst/>
          </a:prstGeom>
          <a:ln w="0">
            <a:noFill/>
          </a:ln>
        </p:spPr>
      </p:pic>
      <p:sp>
        <p:nvSpPr>
          <p:cNvPr id="63" name="TextBox 5"/>
          <p:cNvSpPr/>
          <p:nvPr/>
        </p:nvSpPr>
        <p:spPr>
          <a:xfrm>
            <a:off x="1692360" y="981000"/>
            <a:ext cx="5543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одолжительность проектной деятельности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олгосрочный  1 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http://www.panoramaphoto.biz/wp-content/photos/2014/01/krokodil-gena.jpg"/>
          <p:cNvPicPr/>
          <p:nvPr/>
        </p:nvPicPr>
        <p:blipFill>
          <a:blip r:embed="rId3"/>
          <a:stretch/>
        </p:blipFill>
        <p:spPr>
          <a:xfrm>
            <a:off x="6821640" y="2349360"/>
            <a:ext cx="232236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3" descr="http://sadsolnishko.narod.ru/images/fon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4" descr="http://fafka.ru/wp-content/uploads/2009/09/leopold-1.png"/>
          <p:cNvPicPr/>
          <p:nvPr/>
        </p:nvPicPr>
        <p:blipFill>
          <a:blip r:embed="rId2"/>
          <a:stretch/>
        </p:blipFill>
        <p:spPr>
          <a:xfrm>
            <a:off x="6534000" y="3419640"/>
            <a:ext cx="2610000" cy="3438360"/>
          </a:xfrm>
          <a:prstGeom prst="rect">
            <a:avLst/>
          </a:prstGeom>
          <a:ln w="0">
            <a:noFill/>
          </a:ln>
        </p:spPr>
      </p:pic>
      <p:sp>
        <p:nvSpPr>
          <p:cNvPr id="69" name="TextBox 5"/>
          <p:cNvSpPr/>
          <p:nvPr/>
        </p:nvSpPr>
        <p:spPr>
          <a:xfrm>
            <a:off x="1547640" y="765000"/>
            <a:ext cx="7128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бразовательные области программы Детство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«Социально-   коммуникативное       развити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«Познавательное развити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«Художественно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эстетическое развити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http://img0.liveinternet.ru/images/attach/c/6/89/855/89855518_large_15646.png"/>
          <p:cNvPicPr/>
          <p:nvPr/>
        </p:nvPicPr>
        <p:blipFill>
          <a:blip r:embed="rId3"/>
          <a:stretch/>
        </p:blipFill>
        <p:spPr>
          <a:xfrm>
            <a:off x="-196920" y="4554360"/>
            <a:ext cx="275292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Рисунок 3" descr="http://sadsolnishko.narod.ru/images/fon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http://detkam.e-papa.ru/inc/im_cat/umka.gif"/>
          <p:cNvPicPr/>
          <p:nvPr/>
        </p:nvPicPr>
        <p:blipFill>
          <a:blip r:embed="rId2"/>
          <a:stretch/>
        </p:blipFill>
        <p:spPr>
          <a:xfrm>
            <a:off x="6875640" y="4265640"/>
            <a:ext cx="2592360" cy="2592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6" descr="http://ras-kras.ru/uploads/raskraski-iz-sovetskih-multfilmov-cheburashka.png"/>
          <p:cNvPicPr/>
          <p:nvPr/>
        </p:nvPicPr>
        <p:blipFill>
          <a:blip r:embed="rId3"/>
          <a:stretch/>
        </p:blipFill>
        <p:spPr>
          <a:xfrm>
            <a:off x="3059280" y="2536920"/>
            <a:ext cx="3457440" cy="4321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8" descr="http://img0.liveinternet.ru/images/attach/c/0/63/370/63370497_1283115097_43.png"/>
          <p:cNvPicPr/>
          <p:nvPr/>
        </p:nvPicPr>
        <p:blipFill>
          <a:blip r:embed="rId4"/>
          <a:stretch/>
        </p:blipFill>
        <p:spPr>
          <a:xfrm>
            <a:off x="0" y="3284640"/>
            <a:ext cx="2620800" cy="3573360"/>
          </a:xfrm>
          <a:prstGeom prst="rect">
            <a:avLst/>
          </a:prstGeom>
          <a:ln w="0">
            <a:noFill/>
          </a:ln>
        </p:spPr>
      </p:pic>
      <p:sp>
        <p:nvSpPr>
          <p:cNvPr id="77" name="TextBox 16"/>
          <p:cNvSpPr/>
          <p:nvPr/>
        </p:nvSpPr>
        <p:spPr>
          <a:xfrm>
            <a:off x="1042920" y="765000"/>
            <a:ext cx="640872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Ресурс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спитат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дит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формационные ресур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Рисунок 3" descr="http://sadsolnishko.narod.ru/images/fon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4" descr="http://souzmultdesign.ru/upload/mult/10269dd6e89cb14d7c8390b8f3f36d1e/Gav_mult_avatar.jpg"/>
          <p:cNvPicPr/>
          <p:nvPr/>
        </p:nvPicPr>
        <p:blipFill>
          <a:blip r:embed="rId2"/>
          <a:stretch/>
        </p:blipFill>
        <p:spPr>
          <a:xfrm>
            <a:off x="6002280" y="4005360"/>
            <a:ext cx="3141720" cy="3139920"/>
          </a:xfrm>
          <a:prstGeom prst="rect">
            <a:avLst/>
          </a:prstGeom>
          <a:ln w="0">
            <a:noFill/>
          </a:ln>
        </p:spPr>
      </p:pic>
      <p:sp>
        <p:nvSpPr>
          <p:cNvPr id="82" name="TextBox 5"/>
          <p:cNvSpPr/>
          <p:nvPr/>
        </p:nvSpPr>
        <p:spPr>
          <a:xfrm>
            <a:off x="900000" y="1341360"/>
            <a:ext cx="6985080" cy="39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блем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ультфильм – это продукт не только медиа-среды, но и один из видов искусства, который обладает большим воспитательным потенциалом. Перед телевизором ребенок проводит достаточно много времени. Дети через мультфильмы получают положительные эмоции, радуются, сопереживают, плачут. Дошкольники очень впечатлительны, и не всегда могут отличать «действительность от созданий воображения»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Рисунок 3" descr="http://sadsolnishko.narod.ru/images/fon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5"/>
          <p:cNvSpPr/>
          <p:nvPr/>
        </p:nvSpPr>
        <p:spPr>
          <a:xfrm>
            <a:off x="1476360" y="2703600"/>
            <a:ext cx="6912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этому дети начинают доверять мультфильму, принимая его как часть реальности, воспринимать те жизненные ценности и установки, которые в нем содержатся. Мультфильмы «играют важную роль в формировании представлений о мире». А современные мультфильмы не всегда отличаются строгой моралью  и несут антивоспитательный потенциал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http://young.rzd.ru/dbmm/images/41/4080/4256439"/>
          <p:cNvPicPr/>
          <p:nvPr/>
        </p:nvPicPr>
        <p:blipFill>
          <a:blip r:embed="rId2"/>
          <a:stretch/>
        </p:blipFill>
        <p:spPr>
          <a:xfrm>
            <a:off x="5580000" y="765000"/>
            <a:ext cx="2808360" cy="1982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http://www.vokrug.tv/pic/person/e/4/7/f/e47f1edd5ca04227b115fe4b47786b85.jpeg"/>
          <p:cNvPicPr/>
          <p:nvPr/>
        </p:nvPicPr>
        <p:blipFill>
          <a:blip r:embed="rId3"/>
          <a:stretch/>
        </p:blipFill>
        <p:spPr>
          <a:xfrm>
            <a:off x="0" y="3933720"/>
            <a:ext cx="1962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Рисунок 3" descr="http://sadsolnishko.narod.ru/images/fon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Box 5"/>
          <p:cNvSpPr/>
          <p:nvPr/>
        </p:nvSpPr>
        <p:spPr>
          <a:xfrm>
            <a:off x="684360" y="907920"/>
            <a:ext cx="7416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аким образом  мы обозначим несколько пробле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 умение взрослых грамотно подбирать мультфильмы  для просмотра детя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дагоги не всегда могут  оценить воспитательный потенциал  добрых советских мультфильмов и целенаправленно 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пользовать  в своей педагогическ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http://s00.yaplakal.com/pics/pics_original/6/2/3/2608326.jpg"/>
          <p:cNvPicPr/>
          <p:nvPr/>
        </p:nvPicPr>
        <p:blipFill>
          <a:blip r:embed="rId2"/>
          <a:stretch/>
        </p:blipFill>
        <p:spPr>
          <a:xfrm>
            <a:off x="0" y="4581360"/>
            <a:ext cx="2674800" cy="2492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http://stat15.privet.ru/lr/09058a4b430bdf4e19705affaa3f1e59"/>
          <p:cNvPicPr/>
          <p:nvPr/>
        </p:nvPicPr>
        <p:blipFill>
          <a:blip r:embed="rId3"/>
          <a:stretch/>
        </p:blipFill>
        <p:spPr>
          <a:xfrm>
            <a:off x="6443640" y="3360600"/>
            <a:ext cx="2763720" cy="34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30T08:36:54Z</dcterms:created>
  <dc:creator>Настя</dc:creator>
  <dc:description/>
  <dc:language>en-US</dc:language>
  <cp:lastModifiedBy>Елена</cp:lastModifiedBy>
  <dcterms:modified xsi:type="dcterms:W3CDTF">2018-07-26T06:10:53Z</dcterms:modified>
  <cp:revision>123</cp:revision>
  <dc:subject/>
  <dc:title>Слайд 1</dc:title>
</cp:coreProperties>
</file>