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0.jpeg" ContentType="image/jpeg"/>
  <Override PartName="/ppt/media/image44.jpeg" ContentType="image/jpeg"/>
  <Override PartName="/ppt/media/image9.png" ContentType="image/png"/>
  <Override PartName="/ppt/media/image41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46.jpeg" ContentType="image/jpeg"/>
  <Override PartName="/ppt/media/image45.jpeg" ContentType="image/jpeg"/>
  <Override PartName="/ppt/media/image55.png" ContentType="image/png"/>
  <Override PartName="/ppt/media/image47.jpeg" ContentType="image/jpeg"/>
  <Override PartName="/ppt/media/image50.jpeg" ContentType="image/jpeg"/>
  <Override PartName="/ppt/media/image52.png" ContentType="image/png"/>
  <Override PartName="/ppt/media/image51.png" ContentType="image/png"/>
  <Override PartName="/ppt/media/image48.jpeg" ContentType="image/jpeg"/>
  <Override PartName="/ppt/media/image53.png" ContentType="image/png"/>
  <Override PartName="/ppt/media/image13.png" ContentType="image/png"/>
  <Override PartName="/ppt/media/image54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27D-ED77-4BB1-AEC4-DCD1989E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7468-D995-4BFF-B597-5190EE16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6AF-C178-4DEF-A603-75F07D98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B0CF-2630-437C-B207-B4F9B7A7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4675-7933-4DAA-8020-57FA104C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9C7-E33F-4FFC-92AD-2FC3517C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0BC1-B0E9-446C-8D84-CEE69F6B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DC9-DFE3-44F2-831A-4897721E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575-3A78-4A28-8CE2-38166F8B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FCAA-5CE8-456E-AEFB-7EFF70AC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450-EDFE-413C-B91F-EFB27805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4BA-D8CF-4E6F-B1F2-7D3F6AD4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2ACA-49E1-436A-8AF9-E6339C7188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jpeg"/><Relationship Id="rId3" Type="http://schemas.openxmlformats.org/officeDocument/2006/relationships/image" Target="../media/image46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image" Target="../media/image55.png"/><Relationship Id="rId5" Type="http://schemas.openxmlformats.org/officeDocument/2006/relationships/hyperlink" Target="http://shkolazhizni.ru/archive/0/n-69297/" TargetMode="External"/><Relationship Id="rId6" Type="http://schemas.openxmlformats.org/officeDocument/2006/relationships/hyperlink" Target="http://o53xo.onrwq33pnqzdcmbqfzzhk.cmle.ru/upload/iblock/b3e/b3e76b4e4c8069e3414f8e49b4e5e388.pdf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4" descr="http://prazdni.com/wp-content/uploads/2009/11/%D0%B4%D0%B5%D1%82%D1%81%D0%BA%D0%B8%D0%B5-%D1%80%D0%B0%D0%BC%D0%BA%D0%B8-%D0%B4%D0%BB%D1%8F-%D1%84%D0%BE%D1%82%D0%BE%D1%88%D0%BE%D0%BF%D0%B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static.diary.ru/userdir/2/0/5/7/2057974/77426582.jpg"/>
          <p:cNvPicPr/>
          <p:nvPr/>
        </p:nvPicPr>
        <p:blipFill>
          <a:blip r:embed="rId2"/>
          <a:stretch/>
        </p:blipFill>
        <p:spPr>
          <a:xfrm>
            <a:off x="5651640" y="0"/>
            <a:ext cx="3492360" cy="2475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2484360" y="333360"/>
            <a:ext cx="40323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едагог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роек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«Любимое увлечение-  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Разума и учения»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5904000" y="5380200"/>
            <a:ext cx="324000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абот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зрукова Анастасия  Юрьевна 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c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№265 ОАО «РЖД» г.Хабар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http://www.bush-nn.narod.ru/vinni5.gif"/>
          <p:cNvPicPr/>
          <p:nvPr/>
        </p:nvPicPr>
        <p:blipFill>
          <a:blip r:embed="rId2"/>
          <a:srcRect l="15621" t="0" r="0" b="0"/>
          <a:stretch/>
        </p:blipFill>
        <p:spPr>
          <a:xfrm>
            <a:off x="0" y="0"/>
            <a:ext cx="3308400" cy="36003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6" descr="http://www.mamusik.ru/upload/userimages/uubypnonsvkccdsreuzyo.png"/>
          <p:cNvPicPr/>
          <p:nvPr/>
        </p:nvPicPr>
        <p:blipFill>
          <a:blip r:embed="rId3"/>
          <a:stretch/>
        </p:blipFill>
        <p:spPr>
          <a:xfrm>
            <a:off x="7380360" y="3141720"/>
            <a:ext cx="1512720" cy="34178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2050920" y="1413000"/>
            <a:ext cx="5761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ь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онести до родителей и педагогов  значимость  советских мультфильмов  в воспитании и развитии де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http://www.graycell.ru/picture/big/krolik.jpg"/>
          <p:cNvPicPr/>
          <p:nvPr/>
        </p:nvPicPr>
        <p:blipFill>
          <a:blip r:embed="rId4"/>
          <a:stretch/>
        </p:blipFill>
        <p:spPr>
          <a:xfrm>
            <a:off x="-73080" y="2995560"/>
            <a:ext cx="23414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http://kot-show.ru/images/stories/vmaterial/karlson.png"/>
          <p:cNvPicPr/>
          <p:nvPr/>
        </p:nvPicPr>
        <p:blipFill>
          <a:blip r:embed="rId2"/>
          <a:stretch/>
        </p:blipFill>
        <p:spPr>
          <a:xfrm>
            <a:off x="684360" y="0"/>
            <a:ext cx="2050920" cy="28144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2124000" y="795240"/>
            <a:ext cx="561672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ч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ь родителей подбирать мультфильмы  для детей с учетом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х  воспитательного воздействия  на ребенка и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растных особенно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нести до педагогов значимость советских мультфильмов в воспитании и образовании подрастающего поко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ть  условия для использования  воспитателями  советских мультфильмов в своей рабо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бщить детей к просмотру советских мультфиль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ttp://img.vl.ru/i/catalog/add_images/1799/comp_10671_big_1864206.jpg"/>
          <p:cNvPicPr/>
          <p:nvPr/>
        </p:nvPicPr>
        <p:blipFill>
          <a:blip r:embed="rId3"/>
          <a:stretch/>
        </p:blipFill>
        <p:spPr>
          <a:xfrm>
            <a:off x="7189920" y="3500280"/>
            <a:ext cx="1954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http://nsportal.ru/sites/default/files/2013/09/19/chipollino.jpg"/>
          <p:cNvPicPr/>
          <p:nvPr/>
        </p:nvPicPr>
        <p:blipFill>
          <a:blip r:embed="rId2"/>
          <a:stretch/>
        </p:blipFill>
        <p:spPr>
          <a:xfrm>
            <a:off x="0" y="4029120"/>
            <a:ext cx="1979640" cy="28288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Кот Матроскин из Простоквашино, png"/>
          <p:cNvPicPr/>
          <p:nvPr/>
        </p:nvPicPr>
        <p:blipFill>
          <a:blip r:embed="rId3"/>
          <a:stretch/>
        </p:blipFill>
        <p:spPr>
          <a:xfrm>
            <a:off x="6372360" y="3573360"/>
            <a:ext cx="2771640" cy="32846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900000" y="671400"/>
            <a:ext cx="734400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роприятия для решения первой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рос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Что мы смотрим дом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сульт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Секреты советских мультфильмов» ;«Советские и соврем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льтфильмы»; «Взрослый мир в детских мультфильм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уклеты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Общие советы по защите детей от вредного влияния СМИ» ;«Подбор мультфильмов по возраст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фильмотеки для об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тавки рисун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://photo-load.ru/wp-content/uploads/2012/09/slon2-200x200.png"/>
          <p:cNvPicPr/>
          <p:nvPr/>
        </p:nvPicPr>
        <p:blipFill>
          <a:blip r:embed="rId4"/>
          <a:stretch/>
        </p:blipFill>
        <p:spPr>
          <a:xfrm>
            <a:off x="3059280" y="4365720"/>
            <a:ext cx="2493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static.diary.ru/userdir/1/0/3/6/103662/68094918.jpg"/>
          <p:cNvPicPr/>
          <p:nvPr/>
        </p:nvPicPr>
        <p:blipFill>
          <a:blip r:embed="rId2"/>
          <a:stretch/>
        </p:blipFill>
        <p:spPr>
          <a:xfrm>
            <a:off x="0" y="3494160"/>
            <a:ext cx="3419640" cy="3363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http://www.images.lesyadraw.ru/2013/04/kak-ricovat_tigrenka_po_doroge_s_oblakami.jpg"/>
          <p:cNvPicPr/>
          <p:nvPr/>
        </p:nvPicPr>
        <p:blipFill>
          <a:blip r:embed="rId3"/>
          <a:stretch/>
        </p:blipFill>
        <p:spPr>
          <a:xfrm>
            <a:off x="6443640" y="4143240"/>
            <a:ext cx="2160720" cy="27147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755640" y="907920"/>
            <a:ext cx="741672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роприятия для решения второй и третьей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ступление на педагогическом совет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Влияние мультфильмов на сознание  и психику детей 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ние картотеки и видеотек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тских мультфильмов по лексическим темам и по разделам образовательных обла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каз открытого занятия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использованием  мультфильма.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http://detkam.e-papa.ru/inc/ico_im_colouring/89327065.gif"/>
          <p:cNvPicPr/>
          <p:nvPr/>
        </p:nvPicPr>
        <p:blipFill>
          <a:blip r:embed="rId4"/>
          <a:stretch/>
        </p:blipFill>
        <p:spPr>
          <a:xfrm>
            <a:off x="3635280" y="3527280"/>
            <a:ext cx="266544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6"/>
          <p:cNvSpPr/>
          <p:nvPr/>
        </p:nvSpPr>
        <p:spPr>
          <a:xfrm>
            <a:off x="826920" y="907920"/>
            <a:ext cx="698508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роприятия для решения  четвертой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ование советских мультфильм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НОД и совмест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ение ЧХ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мотивам советских мультфильмов с использованием инновационных технологий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я и создание услови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родуктивной деятельности по мотивам мультипликационных фильм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я и создание уголк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МУЛЬТИ-ПУЛЬ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груп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http://ras-kras.ru/uploads/raskraski-iz-multfilmov-vozvraschenie-bludnogo-popugaya.png"/>
          <p:cNvPicPr/>
          <p:nvPr/>
        </p:nvPicPr>
        <p:blipFill>
          <a:blip r:embed="rId2"/>
          <a:stretch/>
        </p:blipFill>
        <p:spPr>
          <a:xfrm>
            <a:off x="0" y="3573360"/>
            <a:ext cx="2627280" cy="3284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http://raskraski-besplatno.ru/userfiles/photo/medium/39_vovka-v-tridevyatom-tsarstve.jpg"/>
          <p:cNvPicPr/>
          <p:nvPr/>
        </p:nvPicPr>
        <p:blipFill>
          <a:blip r:embed="rId3"/>
          <a:stretch/>
        </p:blipFill>
        <p:spPr>
          <a:xfrm>
            <a:off x="6227640" y="3365640"/>
            <a:ext cx="3492720" cy="349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http://mayskiykot.ru/wp-content/uploads/2012/04/vinnipuh.jpg"/>
          <p:cNvPicPr/>
          <p:nvPr/>
        </p:nvPicPr>
        <p:blipFill>
          <a:blip r:embed="rId4"/>
          <a:stretch/>
        </p:blipFill>
        <p:spPr>
          <a:xfrm>
            <a:off x="3564000" y="4402080"/>
            <a:ext cx="21603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6" descr="Львенок и черепаха из мультика, png"/>
          <p:cNvPicPr/>
          <p:nvPr/>
        </p:nvPicPr>
        <p:blipFill>
          <a:blip r:embed="rId2"/>
          <a:stretch/>
        </p:blipFill>
        <p:spPr>
          <a:xfrm>
            <a:off x="5796000" y="3573360"/>
            <a:ext cx="3348000" cy="32846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1619280" y="981000"/>
            <a:ext cx="66978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дук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ьмотека советских мультфиль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ртотека советских мультфильмов     согласно возра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голок «Мульти-пульти» в групп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тавки рисун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http://raskraski-besplatno.ru/userfiles/photo/medium/10_sovetskie-multfilmy.jpg"/>
          <p:cNvPicPr/>
          <p:nvPr/>
        </p:nvPicPr>
        <p:blipFill>
          <a:blip r:embed="rId3"/>
          <a:stretch/>
        </p:blipFill>
        <p:spPr>
          <a:xfrm>
            <a:off x="0" y="3989520"/>
            <a:ext cx="3456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http://sadsolnishko.narod.ru/images/fon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Users\Настя\Desktop\работа 4\документы списки 7 средняя группа\проект мультфильмы\100_9076.JPG"/>
          <p:cNvPicPr/>
          <p:nvPr/>
        </p:nvPicPr>
        <p:blipFill>
          <a:blip r:embed="rId3"/>
          <a:stretch/>
        </p:blipFill>
        <p:spPr>
          <a:xfrm>
            <a:off x="4726080" y="404640"/>
            <a:ext cx="4417920" cy="3313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C:\Users\Настя\Desktop\работа 4\документы списки 7 средняя группа\проект мультфильмы\100_9078.JPG"/>
          <p:cNvPicPr/>
          <p:nvPr/>
        </p:nvPicPr>
        <p:blipFill>
          <a:blip r:embed="rId4"/>
          <a:stretch/>
        </p:blipFill>
        <p:spPr>
          <a:xfrm>
            <a:off x="395280" y="3235320"/>
            <a:ext cx="4830840" cy="362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:\Users\Настя\Desktop\работа 4\документы списки 7 средняя группа\проект мультфильмы\100_9068.JPG"/>
          <p:cNvPicPr/>
          <p:nvPr/>
        </p:nvPicPr>
        <p:blipFill>
          <a:blip r:embed="rId5"/>
          <a:stretch/>
        </p:blipFill>
        <p:spPr>
          <a:xfrm>
            <a:off x="5251320" y="3938760"/>
            <a:ext cx="3892680" cy="2919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C:\Users\Настя\Desktop\работа 4\документы списки 7 средняя группа\проект мультфильмы\100_9069.JPG"/>
          <p:cNvPicPr/>
          <p:nvPr/>
        </p:nvPicPr>
        <p:blipFill>
          <a:blip r:embed="rId6"/>
          <a:stretch/>
        </p:blipFill>
        <p:spPr>
          <a:xfrm>
            <a:off x="468360" y="333360"/>
            <a:ext cx="4005360" cy="30034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7" descr="http://www.kramola.info/sites/default/files/imagecache/articles-main/images/vesti/55b4ab1105c337439809b6e32b34548d.jpg"/>
          <p:cNvPicPr/>
          <p:nvPr/>
        </p:nvPicPr>
        <p:blipFill>
          <a:blip r:embed="rId7"/>
          <a:stretch/>
        </p:blipFill>
        <p:spPr>
          <a:xfrm>
            <a:off x="3348000" y="3429000"/>
            <a:ext cx="1295280" cy="11523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http://www.kramola.info/sites/default/files/imagecache/articles-main/images/vesti/55b4ab1105c337439809b6e32b34548d.jpg"/>
          <p:cNvPicPr/>
          <p:nvPr/>
        </p:nvPicPr>
        <p:blipFill>
          <a:blip r:embed="rId8"/>
          <a:stretch/>
        </p:blipFill>
        <p:spPr>
          <a:xfrm>
            <a:off x="6875640" y="765000"/>
            <a:ext cx="115236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" descr="http://sadsolnishko.narod.ru/images/fon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:\Users\Настя\Desktop\работа 4\документы списки 7 средняя группа\проект мультфильмы\100_9075.JPG"/>
          <p:cNvPicPr/>
          <p:nvPr/>
        </p:nvPicPr>
        <p:blipFill>
          <a:blip r:embed="rId3"/>
          <a:stretch/>
        </p:blipFill>
        <p:spPr>
          <a:xfrm>
            <a:off x="1403280" y="1125360"/>
            <a:ext cx="664848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3" descr="http://sadsolnishko.narod.ru/images/fon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Users\Настя\Desktop\проект мультфильмы\1443680431153_0.jpg"/>
          <p:cNvPicPr/>
          <p:nvPr/>
        </p:nvPicPr>
        <p:blipFill>
          <a:blip r:embed="rId3"/>
          <a:stretch/>
        </p:blipFill>
        <p:spPr>
          <a:xfrm>
            <a:off x="2411280" y="1268280"/>
            <a:ext cx="45100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3" descr="http://sadsolnishko.narod.ru/images/fon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C:\Users\Настя\Desktop\работа 4\документы списки 7 средняя группа\проект мультфильмы\1443680431153_1 (1).jpg"/>
          <p:cNvPicPr/>
          <p:nvPr/>
        </p:nvPicPr>
        <p:blipFill>
          <a:blip r:embed="rId3"/>
          <a:stretch/>
        </p:blipFill>
        <p:spPr>
          <a:xfrm>
            <a:off x="-1809720" y="-4064040"/>
            <a:ext cx="2430360" cy="324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C:\Users\Настя\Desktop\работа 4\документы списки 7 средняя группа\проект мультфильмы\100_9049.JPG"/>
          <p:cNvPicPr/>
          <p:nvPr/>
        </p:nvPicPr>
        <p:blipFill>
          <a:blip r:embed="rId4"/>
          <a:stretch/>
        </p:blipFill>
        <p:spPr>
          <a:xfrm>
            <a:off x="1403280" y="1341360"/>
            <a:ext cx="62485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http://freegraphic.ru/uploads/posts/2012-06/1339058563_kzfdlpa0wbsqcty.jpeg"/>
          <p:cNvPicPr/>
          <p:nvPr/>
        </p:nvPicPr>
        <p:blipFill>
          <a:blip r:embed="rId2"/>
          <a:stretch/>
        </p:blipFill>
        <p:spPr>
          <a:xfrm>
            <a:off x="0" y="-243000"/>
            <a:ext cx="2452680" cy="3154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1332000" y="981000"/>
            <a:ext cx="66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ип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формационный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ктико –ориентированны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http://img0.liveinternet.ru/images/attach/c/7/96/327/96327162_1.png"/>
          <p:cNvPicPr/>
          <p:nvPr/>
        </p:nvPicPr>
        <p:blipFill>
          <a:blip r:embed="rId3"/>
          <a:stretch/>
        </p:blipFill>
        <p:spPr>
          <a:xfrm>
            <a:off x="6572160" y="3429000"/>
            <a:ext cx="257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3" descr="http://sadsolnishko.narod.ru/images/fon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C:\Users\Настя\Desktop\работа 4\документы списки 7 средняя группа\проект мультфильмы\1443680431153_1 (1).jpg"/>
          <p:cNvPicPr/>
          <p:nvPr/>
        </p:nvPicPr>
        <p:blipFill>
          <a:blip r:embed="rId3"/>
          <a:stretch/>
        </p:blipFill>
        <p:spPr>
          <a:xfrm>
            <a:off x="-1809720" y="-4064040"/>
            <a:ext cx="2430360" cy="3240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Настя\Desktop\работа 4\фотки группа 7\100_9080.JPG"/>
          <p:cNvPicPr/>
          <p:nvPr/>
        </p:nvPicPr>
        <p:blipFill>
          <a:blip r:embed="rId4"/>
          <a:stretch/>
        </p:blipFill>
        <p:spPr>
          <a:xfrm>
            <a:off x="5148360" y="98100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C:\Users\Настя\Desktop\работа 4\фотки группа 7\100_9089.JPG"/>
          <p:cNvPicPr/>
          <p:nvPr/>
        </p:nvPicPr>
        <p:blipFill>
          <a:blip r:embed="rId5"/>
          <a:stretch/>
        </p:blipFill>
        <p:spPr>
          <a:xfrm>
            <a:off x="1547640" y="981000"/>
            <a:ext cx="3411720" cy="2559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Users\Настя\Desktop\работа 4\фотки группа 7\100_9087.JPG"/>
          <p:cNvPicPr/>
          <p:nvPr/>
        </p:nvPicPr>
        <p:blipFill>
          <a:blip r:embed="rId6"/>
          <a:stretch/>
        </p:blipFill>
        <p:spPr>
          <a:xfrm>
            <a:off x="2916360" y="3429000"/>
            <a:ext cx="37954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547640" y="765000"/>
            <a:ext cx="676944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ект будем считать реализованны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дети при выборе мультфильмов  будут отдавать предпочтение советским мультфильмам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родители  научатся подбирать мультфильмы  для детей с учетом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х  воспитательного воздействия  на ребенка и  возрастных особенно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едагоги  будут использовать в своей работе  старые добрые советские мультфиль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http://www.peoples.ru/art/cinema/characters/parrot_kesha/parrot_3.jpg"/>
          <p:cNvPicPr/>
          <p:nvPr/>
        </p:nvPicPr>
        <p:blipFill>
          <a:blip r:embed="rId2"/>
          <a:stretch/>
        </p:blipFill>
        <p:spPr>
          <a:xfrm>
            <a:off x="0" y="501336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https://freelance.ru/img/portfolio/pics/00/0E/9B/957207.jpg"/>
          <p:cNvPicPr/>
          <p:nvPr/>
        </p:nvPicPr>
        <p:blipFill>
          <a:blip r:embed="rId3"/>
          <a:stretch/>
        </p:blipFill>
        <p:spPr>
          <a:xfrm>
            <a:off x="7564320" y="4724280"/>
            <a:ext cx="1903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6" descr="http://www.deti-club.ru/wp-content/uploads/2011/11/multi.jpg"/>
          <p:cNvPicPr/>
          <p:nvPr/>
        </p:nvPicPr>
        <p:blipFill>
          <a:blip r:embed="rId2"/>
          <a:stretch/>
        </p:blipFill>
        <p:spPr>
          <a:xfrm>
            <a:off x="0" y="0"/>
            <a:ext cx="2808360" cy="3213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7" descr="http://www.kramola.info/sites/default/files/imagecache/articles-main/images/vesti/55b4ab1105c337439809b6e32b34548d.jpg"/>
          <p:cNvPicPr/>
          <p:nvPr/>
        </p:nvPicPr>
        <p:blipFill>
          <a:blip r:embed="rId3"/>
          <a:stretch/>
        </p:blipFill>
        <p:spPr>
          <a:xfrm>
            <a:off x="5219640" y="4724280"/>
            <a:ext cx="2722680" cy="16290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http://otvetnavse.com/uploads/posts/2013-11/1385647284_qin0zhcvvx4.jpg"/>
          <p:cNvPicPr/>
          <p:nvPr/>
        </p:nvPicPr>
        <p:blipFill>
          <a:blip r:embed="rId4"/>
          <a:stretch/>
        </p:blipFill>
        <p:spPr>
          <a:xfrm>
            <a:off x="900000" y="3400560"/>
            <a:ext cx="4103640" cy="300672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8"/>
          <p:cNvSpPr/>
          <p:nvPr/>
        </p:nvSpPr>
        <p:spPr>
          <a:xfrm>
            <a:off x="2866680" y="1268280"/>
            <a:ext cx="44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shkolazhizni.ru/archive/0/n-69297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9"/>
          <p:cNvSpPr/>
          <p:nvPr/>
        </p:nvSpPr>
        <p:spPr>
          <a:xfrm>
            <a:off x="2843280" y="170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detsad-ural.ru/content/multfilmy-dlya-detei-spisok-multikov-dlya-raznogo-vozr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0"/>
          <p:cNvSpPr/>
          <p:nvPr/>
        </p:nvSpPr>
        <p:spPr>
          <a:xfrm>
            <a:off x="2930400" y="2637000"/>
            <a:ext cx="411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bing.com/images/sear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1"/>
          <p:cNvSpPr/>
          <p:nvPr/>
        </p:nvSpPr>
        <p:spPr>
          <a:xfrm>
            <a:off x="2920680" y="3068640"/>
            <a:ext cx="34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диссертации А.Ф.Лалети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http://lisyonok.ucoz.ru/_ld/0/87503.png"/>
          <p:cNvPicPr/>
          <p:nvPr/>
        </p:nvPicPr>
        <p:blipFill>
          <a:blip r:embed="rId2"/>
          <a:stretch/>
        </p:blipFill>
        <p:spPr>
          <a:xfrm>
            <a:off x="0" y="3044880"/>
            <a:ext cx="2792520" cy="38131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Ежик из мультфильма Трям, здравствуйте!, png"/>
          <p:cNvPicPr/>
          <p:nvPr/>
        </p:nvPicPr>
        <p:blipFill>
          <a:blip r:embed="rId3"/>
          <a:stretch/>
        </p:blipFill>
        <p:spPr>
          <a:xfrm>
            <a:off x="6443640" y="3789360"/>
            <a:ext cx="2700360" cy="3068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2268360" y="1268280"/>
            <a:ext cx="4175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озраст детей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школьный возра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http://www.vdome.ru/images/kabinet/30171/1204732037.jpg"/>
          <p:cNvPicPr/>
          <p:nvPr/>
        </p:nvPicPr>
        <p:blipFill>
          <a:blip r:embed="rId2"/>
          <a:stretch/>
        </p:blipFill>
        <p:spPr>
          <a:xfrm>
            <a:off x="-252360" y="3500280"/>
            <a:ext cx="3887640" cy="335772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1692360" y="981000"/>
            <a:ext cx="55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должительность проектной деятельност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лгосрочный  1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http://www.panoramaphoto.biz/wp-content/photos/2014/01/krokodil-gena.jpg"/>
          <p:cNvPicPr/>
          <p:nvPr/>
        </p:nvPicPr>
        <p:blipFill>
          <a:blip r:embed="rId3"/>
          <a:stretch/>
        </p:blipFill>
        <p:spPr>
          <a:xfrm>
            <a:off x="6821640" y="2349360"/>
            <a:ext cx="2322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http://fafka.ru/wp-content/uploads/2009/09/leopold-1.png"/>
          <p:cNvPicPr/>
          <p:nvPr/>
        </p:nvPicPr>
        <p:blipFill>
          <a:blip r:embed="rId2"/>
          <a:stretch/>
        </p:blipFill>
        <p:spPr>
          <a:xfrm>
            <a:off x="6534000" y="3419640"/>
            <a:ext cx="2610000" cy="3438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1547640" y="765000"/>
            <a:ext cx="712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разовательные области программы Детств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Социально-   коммуникативное       развит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Познавательное развит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Художественно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стетическое развит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http://img0.liveinternet.ru/images/attach/c/6/89/855/89855518_large_15646.png"/>
          <p:cNvPicPr/>
          <p:nvPr/>
        </p:nvPicPr>
        <p:blipFill>
          <a:blip r:embed="rId3"/>
          <a:stretch/>
        </p:blipFill>
        <p:spPr>
          <a:xfrm>
            <a:off x="-196920" y="4554360"/>
            <a:ext cx="27529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detkam.e-papa.ru/inc/im_cat/umka.gif"/>
          <p:cNvPicPr/>
          <p:nvPr/>
        </p:nvPicPr>
        <p:blipFill>
          <a:blip r:embed="rId2"/>
          <a:stretch/>
        </p:blipFill>
        <p:spPr>
          <a:xfrm>
            <a:off x="6875640" y="4265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http://ras-kras.ru/uploads/raskraski-iz-sovetskih-multfilmov-cheburashka.png"/>
          <p:cNvPicPr/>
          <p:nvPr/>
        </p:nvPicPr>
        <p:blipFill>
          <a:blip r:embed="rId3"/>
          <a:stretch/>
        </p:blipFill>
        <p:spPr>
          <a:xfrm>
            <a:off x="3059280" y="2536920"/>
            <a:ext cx="3457440" cy="432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http://img0.liveinternet.ru/images/attach/c/0/63/370/63370497_1283115097_43.png"/>
          <p:cNvPicPr/>
          <p:nvPr/>
        </p:nvPicPr>
        <p:blipFill>
          <a:blip r:embed="rId4"/>
          <a:stretch/>
        </p:blipFill>
        <p:spPr>
          <a:xfrm>
            <a:off x="0" y="3284640"/>
            <a:ext cx="2620800" cy="3573360"/>
          </a:xfrm>
          <a:prstGeom prst="rect">
            <a:avLst/>
          </a:prstGeom>
          <a:ln w="0">
            <a:noFill/>
          </a:ln>
        </p:spPr>
      </p:pic>
      <p:sp>
        <p:nvSpPr>
          <p:cNvPr id="77" name="TextBox 16"/>
          <p:cNvSpPr/>
          <p:nvPr/>
        </p:nvSpPr>
        <p:spPr>
          <a:xfrm>
            <a:off x="1042920" y="765000"/>
            <a:ext cx="64087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о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http://souzmultdesign.ru/upload/mult/10269dd6e89cb14d7c8390b8f3f36d1e/Gav_mult_avatar.jpg"/>
          <p:cNvPicPr/>
          <p:nvPr/>
        </p:nvPicPr>
        <p:blipFill>
          <a:blip r:embed="rId2"/>
          <a:stretch/>
        </p:blipFill>
        <p:spPr>
          <a:xfrm>
            <a:off x="6002280" y="4005360"/>
            <a:ext cx="3141720" cy="3139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900000" y="1341360"/>
            <a:ext cx="698508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бл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льтфильм – это продукт не только медиа-среды, но и один из видов искусства, который обладает большим воспитательным потенциалом. Перед телевизором ребенок проводит достаточно много времени. Дети через мультфильмы получают положительные эмоции, радуются, сопереживают, плачут. Дошкольники очень впечатлительны, и не всегда могут отличать «действительность от созданий воображения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1476360" y="2703600"/>
            <a:ext cx="691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дети начинают доверять мультфильму, принимая его как часть реальности, воспринимать те жизненные ценности и установки, которые в нем содержатся. Мультфильмы «играют важную роль в формировании представлений о мире». А современные мультфильмы не всегда отличаются строгой моралью  и несут антивоспитательный потенци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http://young.rzd.ru/dbmm/images/41/4080/4256439"/>
          <p:cNvPicPr/>
          <p:nvPr/>
        </p:nvPicPr>
        <p:blipFill>
          <a:blip r:embed="rId2"/>
          <a:stretch/>
        </p:blipFill>
        <p:spPr>
          <a:xfrm>
            <a:off x="5580000" y="765000"/>
            <a:ext cx="2808360" cy="1982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http://www.vokrug.tv/pic/person/e/4/7/f/e47f1edd5ca04227b115fe4b47786b85.jpeg"/>
          <p:cNvPicPr/>
          <p:nvPr/>
        </p:nvPicPr>
        <p:blipFill>
          <a:blip r:embed="rId3"/>
          <a:stretch/>
        </p:blipFill>
        <p:spPr>
          <a:xfrm>
            <a:off x="0" y="3933720"/>
            <a:ext cx="196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684360" y="907920"/>
            <a:ext cx="7416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ким образом  мы обозначим несколько пробл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умение взрослых грамотно подбирать мультфильмы  для просмотра детя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дагоги не всегда могут  оценить воспитательный потенциал  добрых советских мультфильмов и целенаправленно 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ть  в своей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://s00.yaplakal.com/pics/pics_original/6/2/3/2608326.jpg"/>
          <p:cNvPicPr/>
          <p:nvPr/>
        </p:nvPicPr>
        <p:blipFill>
          <a:blip r:embed="rId2"/>
          <a:stretch/>
        </p:blipFill>
        <p:spPr>
          <a:xfrm>
            <a:off x="0" y="4581360"/>
            <a:ext cx="2674800" cy="2492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ttp://stat15.privet.ru/lr/09058a4b430bdf4e19705affaa3f1e59"/>
          <p:cNvPicPr/>
          <p:nvPr/>
        </p:nvPicPr>
        <p:blipFill>
          <a:blip r:embed="rId3"/>
          <a:stretch/>
        </p:blipFill>
        <p:spPr>
          <a:xfrm>
            <a:off x="6443640" y="3360600"/>
            <a:ext cx="27637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08:36:54Z</dcterms:created>
  <dc:creator>Настя</dc:creator>
  <dc:description/>
  <dc:language>en-US</dc:language>
  <cp:lastModifiedBy>Елена</cp:lastModifiedBy>
  <dcterms:modified xsi:type="dcterms:W3CDTF">2018-07-26T06:10:53Z</dcterms:modified>
  <cp:revision>123</cp:revision>
  <dc:subject/>
  <dc:title>Слайд 1</dc:title>
</cp:coreProperties>
</file>