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ACE7-9E29-45C4-ACFA-651BC3359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74FD-9957-49C3-8918-9CDE8CE07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8A20-0E2A-4483-B3DB-E66908F63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991C-9EBB-4511-8476-076B8DBB6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DDE9-14FB-4B8F-8932-A3C7B4853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3375-9543-4ABE-9EDD-1CD7CEA89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9AC4-5D27-4C30-92D7-AE57305A7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CEA6-8768-46FD-B651-0FB54FEA8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536C-396A-4091-B7D6-710322390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FFD1-295D-429C-AA08-E205B5D8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53D9-BD3D-44D4-955A-455A32AC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5F48-479C-401B-BF4D-9C51E1F6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7B1F8-919D-45C3-8E7A-BBD376DE95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rg.ru/2012/10/08/columb-site-anons.html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19280" y="259920"/>
            <a:ext cx="540036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r>
              <a:rPr b="0" lang="en-US" sz="8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800000"/>
                </a:solidFill>
                <a:latin typeface="Arial"/>
              </a:rPr>
              <a:t>Открытие        </a:t>
            </a:r>
            <a:br>
              <a:rPr sz="8000"/>
            </a:br>
            <a:r>
              <a:rPr b="0" lang="en-US" sz="8000" spc="-1" strike="noStrike">
                <a:solidFill>
                  <a:srgbClr val="800000"/>
                </a:solidFill>
                <a:latin typeface="Arial"/>
              </a:rPr>
              <a:t>Америки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56000" y="486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3" name="" descr="Реферат по дисциплине География на тему: Христофор Колумб. О…"/>
          <p:cNvPicPr/>
          <p:nvPr/>
        </p:nvPicPr>
        <p:blipFill>
          <a:blip r:embed="rId1"/>
          <a:stretch/>
        </p:blipFill>
        <p:spPr>
          <a:xfrm>
            <a:off x="179280" y="765000"/>
            <a:ext cx="37083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5076720" y="115560"/>
            <a:ext cx="3743280" cy="65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олжив свое путешествие, 28 октября Колумб достиг берегов Кубы, а вскоре и Гаити (назвав его Эспаньолой). Построив на Эспаньоле форт Навидад, в котором оставил нескольких человек, Колумб отправился дальше. Следующей его точкой стал Сан-Домин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Дурные болезни отечественного шоу-бизнеса // Экспресс газета"/>
          <p:cNvPicPr/>
          <p:nvPr/>
        </p:nvPicPr>
        <p:blipFill>
          <a:blip r:embed="rId1"/>
          <a:stretch/>
        </p:blipFill>
        <p:spPr>
          <a:xfrm>
            <a:off x="179280" y="404640"/>
            <a:ext cx="493416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брадованный открытием 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нового пути в Индию (как он считал),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Колумб тем не менее был очень разочарован, не найдя ожидаемых им роскошных городов и несметных богатст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WikiMobile: Открытие Америки Mobis.name"/>
          <p:cNvPicPr/>
          <p:nvPr/>
        </p:nvPicPr>
        <p:blipFill>
          <a:blip r:embed="rId1"/>
          <a:stretch/>
        </p:blipFill>
        <p:spPr>
          <a:xfrm>
            <a:off x="611280" y="3284640"/>
            <a:ext cx="792144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Открытия Христофора Колумба - Фото 4514/5"/>
          <p:cNvPicPr/>
          <p:nvPr/>
        </p:nvPicPr>
        <p:blipFill>
          <a:blip r:embed="rId1"/>
          <a:stretch/>
        </p:blipFill>
        <p:spPr>
          <a:xfrm>
            <a:off x="324000" y="189000"/>
            <a:ext cx="856908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4581000"/>
            <a:ext cx="90360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быв в Испанию в 1493 году, Колумб представил свои относительно небогатые дары королевскому дво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о испанские монархи посчитала экспедицию удачной и всячески способствовало снаряжению нов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Христофор колумб открытие америки картинки"/>
          <p:cNvPicPr/>
          <p:nvPr/>
        </p:nvPicPr>
        <p:blipFill>
          <a:blip r:embed="rId1"/>
          <a:stretch/>
        </p:blipFill>
        <p:spPr>
          <a:xfrm>
            <a:off x="684360" y="189000"/>
            <a:ext cx="79200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4869000"/>
            <a:ext cx="8964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 сентября 1493 года вторая экспедиция Колумба, состоявшая уже из 17-ти кораблей и около полутора тысяч чел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Христофор Колумб. Обсуждение на LiveInternet - Российский Се…"/>
          <p:cNvPicPr/>
          <p:nvPr/>
        </p:nvPicPr>
        <p:blipFill>
          <a:blip r:embed="rId1"/>
          <a:stretch/>
        </p:blipFill>
        <p:spPr>
          <a:xfrm>
            <a:off x="468360" y="333360"/>
            <a:ext cx="820728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779640" y="2923920"/>
            <a:ext cx="511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уя труд местных индейцев, испанцы начали работы по добыче золота. В погоне за прибылью Колумб постоянно требовал индейцев работать все больше и больше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496 году Колумб возвращается в Испанию, оставляя на посту правителя Изабеллы своего брат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ртоломе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Путешествия из России в Калифорнию"/>
          <p:cNvPicPr/>
          <p:nvPr/>
        </p:nvPicPr>
        <p:blipFill>
          <a:blip r:embed="rId1"/>
          <a:stretch/>
        </p:blipFill>
        <p:spPr>
          <a:xfrm>
            <a:off x="179280" y="115920"/>
            <a:ext cx="3600720" cy="22334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Первый остров Христофора Колумба"/>
          <p:cNvPicPr/>
          <p:nvPr/>
        </p:nvPicPr>
        <p:blipFill>
          <a:blip r:embed="rId2"/>
          <a:stretch/>
        </p:blipFill>
        <p:spPr>
          <a:xfrm>
            <a:off x="108000" y="2421000"/>
            <a:ext cx="37432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642920" y="115560"/>
            <a:ext cx="4249800" cy="62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етья экспедиция Колумба состоялась в мае 1498 году. Однако за время его отсутствия испанцы, оставшиеся в колонии, подняли восстание против адмирала, разделив землю и индейце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@дневники - Складские помещения Утенского замка, Нальшаны."/>
          <p:cNvPicPr/>
          <p:nvPr/>
        </p:nvPicPr>
        <p:blipFill>
          <a:blip r:embed="rId1"/>
          <a:stretch/>
        </p:blipFill>
        <p:spPr>
          <a:xfrm>
            <a:off x="179280" y="115920"/>
            <a:ext cx="460872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КОЖУХОВО ОНЛАЙН :: Просмотр темы - English + Russian Calendar 2011"/>
          <p:cNvPicPr/>
          <p:nvPr/>
        </p:nvPicPr>
        <p:blipFill>
          <a:blip r:embed="rId1"/>
          <a:stretch/>
        </p:blipFill>
        <p:spPr>
          <a:xfrm>
            <a:off x="1908000" y="0"/>
            <a:ext cx="5599440" cy="30686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8000" y="3068280"/>
            <a:ext cx="857880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ы Колумба о торговле с жителями новых земель изменились, ему бвло гораздо выгоднее подчинять себе индейцев, чем торговать с ними. Жестокость Колумба в отношении местных индейцев, низкие прибыли, подозрения в том, что Колумб попросту утаивает богатства, навела испанских правителей на мысль о том, что следует назначить другого человека. Королевский инспектор Франциско де Бобадилья арестовал Колумба и отправил в Испа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914400" y="306864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о вскоре властители Испании приказали отпустить знаменитого мореплавателя. Колумбу удалось убедить их в том, что золото и другие богатства в открытых им землях есть, и их надо только хорошенько поиск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ким образом, ему предоставили возможность доказать свои ожидания в 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четвертой экспеди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которая состоялась в 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1502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 году. Исследовав достаточно большой участок на побережье материка, Колумб, тем не менее, не стал продвигаться внутри континента и вернулся в Исп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Колумб открыл Америку 12 октября 1492"/>
          <p:cNvPicPr/>
          <p:nvPr/>
        </p:nvPicPr>
        <p:blipFill>
          <a:blip r:embed="rId1"/>
          <a:stretch/>
        </p:blipFill>
        <p:spPr>
          <a:xfrm>
            <a:off x="539640" y="-243000"/>
            <a:ext cx="450540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Открытия Христофора Колумба - Картинка 4514/17"/>
          <p:cNvPicPr/>
          <p:nvPr/>
        </p:nvPicPr>
        <p:blipFill>
          <a:blip r:embed="rId1"/>
          <a:stretch/>
        </p:blipFill>
        <p:spPr>
          <a:xfrm>
            <a:off x="250920" y="115920"/>
            <a:ext cx="8820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ажнейшим событием в истории великих географических открытий было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открытие Колумбом Амери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— событие, в результате которого жители Европы обнаружили два континента, названные Новым Светом, или Амери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77058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640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ледние годы жизни великий мореплаватель провел в забвении. 20 мая 1506 года Колумб умер, бедный, больной человек, так и продолжая верить, что земля, которую он открыл, была Индией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пазлы Христофор Колумб - Открытие Америки , пазлы Христофор Колумб - Открытие Америки , головоломка Христофор Колумб - Открытие"/>
          <p:cNvPicPr/>
          <p:nvPr/>
        </p:nvPicPr>
        <p:blipFill>
          <a:blip r:embed="rId1"/>
          <a:stretch/>
        </p:blipFill>
        <p:spPr>
          <a:xfrm>
            <a:off x="1763640" y="2781360"/>
            <a:ext cx="552456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1517 году испанцы достигли территории современной Мексики, полуострова Юкатан, и начали стремительно завоевывать земли континентально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Амер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Колумб выходит из Палоса - Иван Айвазовский - WikiPaintings.org"/>
          <p:cNvPicPr/>
          <p:nvPr/>
        </p:nvPicPr>
        <p:blipFill>
          <a:blip r:embed="rId1"/>
          <a:stretch/>
        </p:blipFill>
        <p:spPr>
          <a:xfrm>
            <a:off x="539640" y="1989000"/>
            <a:ext cx="4762440" cy="3048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Население Южной Америки - География 7 класс"/>
          <p:cNvPicPr/>
          <p:nvPr/>
        </p:nvPicPr>
        <p:blipFill>
          <a:blip r:embed="rId2"/>
          <a:stretch/>
        </p:blipFill>
        <p:spPr>
          <a:xfrm>
            <a:off x="4427640" y="32846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3716280"/>
            <a:ext cx="8229600" cy="24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устя шесть лет после того, как в 1497 году другой легендарный первопроходец Васко да Гама действительно открыл Индию, выяснилось, что Колумб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достиг берегов Нового Света</a:t>
            </a:r>
            <a:r>
              <a:rPr b="0" lang="ru-RU" sz="2800" spc="-1" strike="noStrike">
                <a:solidFill>
                  <a:srgbClr val="99cc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Это позже подтвердила экспедиция Америго Веспучч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Христофор колумб открытие америки картинки"/>
          <p:cNvPicPr/>
          <p:nvPr/>
        </p:nvPicPr>
        <p:blipFill>
          <a:blip r:embed="rId2"/>
          <a:stretch/>
        </p:blipFill>
        <p:spPr>
          <a:xfrm>
            <a:off x="250920" y="189000"/>
            <a:ext cx="47624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Христофор Колумб - биография мореплавателя"/>
          <p:cNvPicPr/>
          <p:nvPr/>
        </p:nvPicPr>
        <p:blipFill>
          <a:blip r:embed="rId1"/>
          <a:stretch/>
        </p:blipFill>
        <p:spPr>
          <a:xfrm>
            <a:off x="108000" y="0"/>
            <a:ext cx="8856720" cy="6694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и в коем случае не ставя под сомнения великое достижение Христофора Колумба, тем не менее стоит заметить, что формально он открыл лишь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острова у берегов Центральной Америк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Что касается континентальной Америки, то ее Колумб посетил лишь в свое третье путешествие, а в Северной Америке и вовсе никогда не бы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Реферат на тему колумб кристофор - база решенных упражнений"/>
          <p:cNvPicPr/>
          <p:nvPr/>
        </p:nvPicPr>
        <p:blipFill>
          <a:blip r:embed="rId1"/>
          <a:stretch/>
        </p:blipFill>
        <p:spPr>
          <a:xfrm>
            <a:off x="108000" y="189000"/>
            <a:ext cx="4319640" cy="6480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427640" y="248040"/>
            <a:ext cx="46083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одом он был из Италии, в Испанию прибыл из Португалии. Колумб рассказывал, что решил плыть в Азию новым морским путем — по Атлантическому океану. Он был допущен на аудиенцию к королеве Изабелле, которая после его доклада назначила ученый совет для обсуждения проекта. Он убедил ученых монах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003280" y="260280"/>
            <a:ext cx="396108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7 апреля 1492 года Колумб и испанские король и королева подписали Договор </a:t>
            </a:r>
            <a:r>
              <a:rPr b="0" lang="ru-RU" sz="2800" spc="-1" strike="noStrike">
                <a:solidFill>
                  <a:srgbClr val="99cc00"/>
                </a:solidFill>
                <a:latin typeface="Arial"/>
              </a:rPr>
              <a:t>Санта-Ф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по которому Колумб не только получил дворянское звание, но и в случае успеха экспедиции получал титулы адмирала морей и вице-короля и губернатора новых зем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Избранное / Профиль bi_be_ba_bo_bu / SpyNet - Спайнет"/>
          <p:cNvPicPr/>
          <p:nvPr/>
        </p:nvPicPr>
        <p:blipFill>
          <a:blip r:embed="rId1"/>
          <a:stretch/>
        </p:blipFill>
        <p:spPr>
          <a:xfrm>
            <a:off x="324000" y="189000"/>
            <a:ext cx="4608360" cy="60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82000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зна Испании была не в состоянии его финансировать, и Колумб вынужден был обратиться за помощью к частным инвесторам. Средств хватило лишь на три не новых корабля, а команды частично состояли из людей, преступивших закон, которым в обмен на участие в экспедиции Колумба была обещана своб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Завоевание америки - скачать mp3 бесплатно или слушать онлай…"/>
          <p:cNvPicPr/>
          <p:nvPr/>
        </p:nvPicPr>
        <p:blipFill>
          <a:blip r:embed="rId1"/>
          <a:stretch/>
        </p:blipFill>
        <p:spPr>
          <a:xfrm>
            <a:off x="395280" y="2997360"/>
            <a:ext cx="8424720" cy="37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&quot;ПИНТА&quot;, &quot;НИНЬЯ&quot; И &quot;САНТА-МАРИЯ&quot; - суда, на которых Христофо…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964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лены команды, утомленные долгим и безрезультатным плаванием, пытались заставить мореплавателя повернуть назад, и Колумбу приходилось не раз усмирять подобные настроения на корабле с помощью уговоров и суля дополнительно различные материальные бла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качестве одной из хитростей Колумба стоит отметить второй бортовой журнал, в который он 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сокращал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йденное кораблем расстояние, чтобы немного успокоить свою коман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e_toktaev: Художник Евгений Войшвилло"/>
          <p:cNvPicPr/>
          <p:nvPr/>
        </p:nvPicPr>
        <p:blipFill>
          <a:blip r:embed="rId1"/>
          <a:stretch/>
        </p:blipFill>
        <p:spPr>
          <a:xfrm>
            <a:off x="324000" y="2781360"/>
            <a:ext cx="8569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643280" y="115920"/>
            <a:ext cx="4500720" cy="66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конец 12 октября с мачты «Пинты» послышалось «Земля!», и вскоре корабли бросили якорь у одного из Антильских остров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т остров, Гуанахани, Колумб провозгласил собственностью Испании и дал ему новое имя - </a:t>
            </a:r>
            <a:r>
              <a:rPr b="0" lang="ru-RU" sz="2800" spc="-1" strike="noStrike">
                <a:solidFill>
                  <a:srgbClr val="99cc00"/>
                </a:solidFill>
                <a:latin typeface="Arial"/>
              </a:rPr>
              <a:t>Сан-Сальвадо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Картинки открытие америки колумбом"/>
          <p:cNvPicPr/>
          <p:nvPr/>
        </p:nvPicPr>
        <p:blipFill>
          <a:blip r:embed="rId1"/>
          <a:stretch/>
        </p:blipFill>
        <p:spPr>
          <a:xfrm>
            <a:off x="108000" y="115920"/>
            <a:ext cx="468000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100480" y="115560"/>
            <a:ext cx="4043520" cy="64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ренные жители острова встретили пришельцев дружелюбно, познакомили мореплавателей с табаком, а также различными местными растениями, среди которых были 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помидоры и картофель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Поскольку Колумб был уверен, что приплыл в Индию, местных жителей он назвал 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"индейцам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Кто открыл Америку Expirience.ru"/>
          <p:cNvPicPr/>
          <p:nvPr/>
        </p:nvPicPr>
        <p:blipFill>
          <a:blip r:embed="rId1"/>
          <a:stretch/>
        </p:blipFill>
        <p:spPr>
          <a:xfrm>
            <a:off x="108000" y="189000"/>
            <a:ext cx="525600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4T16:49:27Z</dcterms:created>
  <dc:creator>Андрей</dc:creator>
  <dc:description/>
  <dc:language>en-US</dc:language>
  <cp:lastModifiedBy>Андрей</cp:lastModifiedBy>
  <dcterms:modified xsi:type="dcterms:W3CDTF">2018-07-26T11:46:38Z</dcterms:modified>
  <cp:revision>6</cp:revision>
  <dc:subject/>
  <dc:title>Слайд 1</dc:title>
</cp:coreProperties>
</file>