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image7.gif" ContentType="image/gif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D590-805A-4E60-B082-96AE361B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A1C6-27AA-43B3-8653-C42B0CE1A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A3A0-970F-4952-B8B9-8B9B9808D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B963-9394-4D46-8A85-1F590180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823F-737D-4DD6-B15F-EC4E6920C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407C-6A6E-4C7E-A524-559602E6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636E-2458-45B9-A8C7-5C34BE9F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61C-9D61-432C-A17A-E6B69D7B6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1BA-94D2-406B-85BF-B9FB4BEA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5B4B-E36A-443A-A432-11462AC2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DD00-08C9-474D-92E4-8AC6EA52E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A39-7525-43D8-9040-C9C52C89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1441-E425-402A-A91F-651080BC91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D:\клипарты\пасха\jajtsa37.png"/>
          <p:cNvPicPr/>
          <p:nvPr/>
        </p:nvPicPr>
        <p:blipFill>
          <a:blip r:embed="rId1"/>
          <a:stretch/>
        </p:blipFill>
        <p:spPr>
          <a:xfrm>
            <a:off x="6719760" y="4689360"/>
            <a:ext cx="2424240" cy="2168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D:\клипарты\пасха\jajtsa37.png"/>
          <p:cNvPicPr/>
          <p:nvPr/>
        </p:nvPicPr>
        <p:blipFill>
          <a:blip r:embed="rId2"/>
          <a:stretch/>
        </p:blipFill>
        <p:spPr>
          <a:xfrm>
            <a:off x="0" y="4621320"/>
            <a:ext cx="2036880" cy="2236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D:\клипарты\пасха\jajtsa50.png"/>
          <p:cNvPicPr/>
          <p:nvPr/>
        </p:nvPicPr>
        <p:blipFill>
          <a:blip r:embed="rId3"/>
          <a:stretch/>
        </p:blipFill>
        <p:spPr>
          <a:xfrm>
            <a:off x="7007400" y="0"/>
            <a:ext cx="2136600" cy="2428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D:\клипарты\пасха\jajtsa50.png"/>
          <p:cNvPicPr/>
          <p:nvPr/>
        </p:nvPicPr>
        <p:blipFill>
          <a:blip r:embed="rId4"/>
          <a:stretch/>
        </p:blipFill>
        <p:spPr>
          <a:xfrm>
            <a:off x="0" y="0"/>
            <a:ext cx="2301840" cy="242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640"/>
          <p:cNvPicPr/>
          <p:nvPr/>
        </p:nvPicPr>
        <p:blipFill>
          <a:blip r:embed="rId5"/>
          <a:stretch/>
        </p:blipFill>
        <p:spPr>
          <a:xfrm>
            <a:off x="1187280" y="1341360"/>
            <a:ext cx="6624720" cy="4038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Пасха.ВоскресениеХристово</a:t>
            </a:r>
            <a:r>
              <a:rPr b="0" lang="ru-RU" sz="3600" spc="-1" strike="noStrike">
                <a:solidFill>
                  <a:srgbClr val="c0504d"/>
                </a:solidFill>
                <a:latin typeface="Calibri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03280" y="5444640"/>
            <a:ext cx="3683160" cy="10083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полнила  Чиркова Екатери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учающаяся 4-а класс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БОУ «Сергачская СОШ№2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5084280"/>
            <a:ext cx="8147160" cy="10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исус Христос воскрес в воскресенье , и в память об этом событии назван этот день недел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p_r_5"/>
          <p:cNvPicPr/>
          <p:nvPr/>
        </p:nvPicPr>
        <p:blipFill>
          <a:blip r:embed="rId1"/>
          <a:stretch/>
        </p:blipFill>
        <p:spPr>
          <a:xfrm>
            <a:off x="900000" y="115920"/>
            <a:ext cx="7375680" cy="504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6920" y="4723920"/>
            <a:ext cx="7561440" cy="20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о «Пасха» в переводе с древнееврейского означает «переход, прохождение мимо или освобождение от беды»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S-prazdnikom-Pashi-1"/>
          <p:cNvPicPr/>
          <p:nvPr/>
        </p:nvPicPr>
        <p:blipFill>
          <a:blip r:embed="rId1"/>
          <a:stretch/>
        </p:blipFill>
        <p:spPr>
          <a:xfrm>
            <a:off x="2340000" y="189000"/>
            <a:ext cx="4322880" cy="484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D:\открытки праздники\пасха\0_bc86_2dd2f985_XL.gif"/>
          <p:cNvPicPr/>
          <p:nvPr/>
        </p:nvPicPr>
        <p:blipFill>
          <a:blip r:embed="rId1"/>
          <a:stretch/>
        </p:blipFill>
        <p:spPr>
          <a:xfrm>
            <a:off x="1285920" y="2714760"/>
            <a:ext cx="6649920" cy="3857400"/>
          </a:xfrm>
          <a:prstGeom prst="rect">
            <a:avLst/>
          </a:prstGeom>
          <a:ln w="0">
            <a:noFill/>
          </a:ln>
        </p:spPr>
      </p:pic>
      <p:sp>
        <p:nvSpPr>
          <p:cNvPr id="80" name="WordArt 5"/>
          <p:cNvSpPr txBox="1"/>
          <p:nvPr/>
        </p:nvSpPr>
        <p:spPr>
          <a:xfrm>
            <a:off x="1071720" y="0"/>
            <a:ext cx="7200720" cy="30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асха - Светлое 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Христово Воскресение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trips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9640" y="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Празднична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служ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1"/>
          <p:cNvSpPr/>
          <p:nvPr/>
        </p:nvSpPr>
        <p:spPr>
          <a:xfrm>
            <a:off x="4683960" y="331920"/>
            <a:ext cx="437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Крестный ход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Black"/>
              </a:rPr>
              <a:t>открытие Царских Воро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2"/>
          <p:cNvSpPr/>
          <p:nvPr/>
        </p:nvSpPr>
        <p:spPr>
          <a:xfrm>
            <a:off x="424800" y="1699200"/>
            <a:ext cx="40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схальное приветств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3"/>
          <p:cNvSpPr/>
          <p:nvPr/>
        </p:nvSpPr>
        <p:spPr>
          <a:xfrm>
            <a:off x="4790520" y="1555920"/>
            <a:ext cx="38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Христос воскресе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«Воистину воскресе!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4"/>
          <p:cNvSpPr/>
          <p:nvPr/>
        </p:nvSpPr>
        <p:spPr>
          <a:xfrm>
            <a:off x="386280" y="2564280"/>
            <a:ext cx="38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ветствие друг друг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5"/>
          <p:cNvSpPr/>
          <p:nvPr/>
        </p:nvSpPr>
        <p:spPr>
          <a:xfrm>
            <a:off x="4859280" y="2564280"/>
            <a:ext cx="33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Три поцелуя в щёк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470880" y="3643920"/>
            <a:ext cx="36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схальное угощ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7"/>
          <p:cNvSpPr/>
          <p:nvPr/>
        </p:nvSpPr>
        <p:spPr>
          <a:xfrm>
            <a:off x="4871160" y="3498480"/>
            <a:ext cx="264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улич, пасх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рашеные яй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8"/>
          <p:cNvSpPr/>
          <p:nvPr/>
        </p:nvSpPr>
        <p:spPr>
          <a:xfrm>
            <a:off x="395640" y="5083560"/>
            <a:ext cx="44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дней каждый может…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39"/>
          <p:cNvSpPr/>
          <p:nvPr/>
        </p:nvSpPr>
        <p:spPr>
          <a:xfrm>
            <a:off x="5003280" y="5083560"/>
            <a:ext cx="33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нить в колокол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трелка вправо 11"/>
          <p:cNvSpPr/>
          <p:nvPr/>
        </p:nvSpPr>
        <p:spPr>
          <a:xfrm>
            <a:off x="3564000" y="549360"/>
            <a:ext cx="863640" cy="287280"/>
          </a:xfrm>
          <a:prstGeom prst="rightArrow">
            <a:avLst>
              <a:gd name="adj1" fmla="val 50000"/>
              <a:gd name="adj2" fmla="val 501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трелка вправо 12"/>
          <p:cNvSpPr/>
          <p:nvPr/>
        </p:nvSpPr>
        <p:spPr>
          <a:xfrm>
            <a:off x="4500720" y="1844640"/>
            <a:ext cx="358560" cy="289080"/>
          </a:xfrm>
          <a:prstGeom prst="rightArrow">
            <a:avLst>
              <a:gd name="adj1" fmla="val 50000"/>
              <a:gd name="adj2" fmla="val 4961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трелка вправо 13"/>
          <p:cNvSpPr/>
          <p:nvPr/>
        </p:nvSpPr>
        <p:spPr>
          <a:xfrm>
            <a:off x="4284720" y="2708280"/>
            <a:ext cx="574560" cy="289080"/>
          </a:xfrm>
          <a:prstGeom prst="rightArrow">
            <a:avLst>
              <a:gd name="adj1" fmla="val 50000"/>
              <a:gd name="adj2" fmla="val 4968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трелка вправо 14"/>
          <p:cNvSpPr/>
          <p:nvPr/>
        </p:nvSpPr>
        <p:spPr>
          <a:xfrm>
            <a:off x="4140360" y="3645000"/>
            <a:ext cx="647640" cy="360360"/>
          </a:xfrm>
          <a:prstGeom prst="rightArrow">
            <a:avLst>
              <a:gd name="adj1" fmla="val 50000"/>
              <a:gd name="adj2" fmla="val 499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трелка вправо 15"/>
          <p:cNvSpPr/>
          <p:nvPr/>
        </p:nvSpPr>
        <p:spPr>
          <a:xfrm>
            <a:off x="4716360" y="5084640"/>
            <a:ext cx="216000" cy="289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791640" y="4867200"/>
            <a:ext cx="460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1404132_46069-550x500"/>
          <p:cNvPicPr/>
          <p:nvPr/>
        </p:nvPicPr>
        <p:blipFill>
          <a:blip r:embed="rId1"/>
          <a:stretch/>
        </p:blipFill>
        <p:spPr>
          <a:xfrm>
            <a:off x="182520" y="189000"/>
            <a:ext cx="8782200" cy="66056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0b10a2556ef6fae73b41e972b3530f1f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60483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6858000"/>
            <a:ext cx="62755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5" descr="100597812_large_1b1cd7708cee"/>
          <p:cNvPicPr/>
          <p:nvPr/>
        </p:nvPicPr>
        <p:blipFill>
          <a:blip r:embed="rId1"/>
          <a:stretch/>
        </p:blipFill>
        <p:spPr>
          <a:xfrm>
            <a:off x="1835280" y="0"/>
            <a:ext cx="5113080" cy="6838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56000" y="4581360"/>
            <a:ext cx="61308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асха! В трубы золот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нгелы трубят с небес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дьте счастливы, все люди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дуйтесь! Христос воскрес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Hristos-Voskres-animaciya6"/>
          <p:cNvPicPr/>
          <p:nvPr/>
        </p:nvPicPr>
        <p:blipFill>
          <a:blip r:embed="rId1"/>
          <a:stretch/>
        </p:blipFill>
        <p:spPr>
          <a:xfrm>
            <a:off x="1042920" y="0"/>
            <a:ext cx="7634520" cy="4581360"/>
          </a:xfrm>
          <a:prstGeom prst="rect">
            <a:avLst/>
          </a:prstGeom>
          <a:ln w="0">
            <a:noFill/>
          </a:ln>
        </p:spPr>
      </p:pic>
      <p:pic>
        <p:nvPicPr>
          <p:cNvPr id="51" name="колокола.mp3" descr=""/>
          <p:cNvPicPr/>
          <p:nvPr/>
        </p:nvPicPr>
        <p:blipFill>
          <a:blip r:embed="rId2"/>
          <a:stretch/>
        </p:blipFill>
        <p:spPr>
          <a:xfrm>
            <a:off x="810108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5282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7a77e58c3ead"/>
          <p:cNvPicPr/>
          <p:nvPr/>
        </p:nvPicPr>
        <p:blipFill>
          <a:blip r:embed="rId1"/>
          <a:stretch/>
        </p:blipFill>
        <p:spPr>
          <a:xfrm>
            <a:off x="284040" y="0"/>
            <a:ext cx="8574120" cy="4508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53040" y="-6575760"/>
            <a:ext cx="684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71280" y="4292280"/>
            <a:ext cx="771516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сто, где был распят Иисус Христос, называется Голгофа, что в переводе с греческого языка  означает «лобное мест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57290058_07"/>
          <p:cNvPicPr/>
          <p:nvPr/>
        </p:nvPicPr>
        <p:blipFill>
          <a:blip r:embed="rId1"/>
          <a:stretch/>
        </p:blipFill>
        <p:spPr>
          <a:xfrm>
            <a:off x="3348000" y="0"/>
            <a:ext cx="5576760" cy="6642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25080" y="-4803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 rot="10800000">
            <a:off x="8686800" y="6126120"/>
            <a:ext cx="6192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ят в пятниц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5977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сколько часов висел на кресте и мучился Иисус Христос. Наконец, Он громко воскликнул: «Свершилось…Отче! В руки твои передаю дух Мой», затем склонил голову и испустил дух, скончалс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 чём сказал Иисус Христос: «Свершилось…»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Иисус добровольно отдаёт свою душу в руки Отца, указывая, что Он был при смерти и что Бог принял Его жертву. «Свершилось»,-Его страдания закончились, и вся работа проповедовать Евангелие, творить чудеса, порученная Ему Отцом – и добиться вечного спасения для Своего народа была выполнена. Долг греха был уплач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jesus_en_la_cruz"/>
          <p:cNvPicPr/>
          <p:nvPr/>
        </p:nvPicPr>
        <p:blipFill>
          <a:blip r:embed="rId1"/>
          <a:stretch/>
        </p:blipFill>
        <p:spPr>
          <a:xfrm>
            <a:off x="1162080" y="115920"/>
            <a:ext cx="6746760" cy="309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653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месте распятия  Христа в момент его смерти произошло полное солнечное затмение и сильное землетряс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раме Иерусалима разорвалась по середине завеса, отделившая самое святое место храма от остальной его ча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1303409158_562_FT1198_"/>
          <p:cNvPicPr/>
          <p:nvPr/>
        </p:nvPicPr>
        <p:blipFill>
          <a:blip r:embed="rId1"/>
          <a:stretch/>
        </p:blipFill>
        <p:spPr>
          <a:xfrm>
            <a:off x="2614680" y="0"/>
            <a:ext cx="3708360" cy="46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99640" y="4724280"/>
            <a:ext cx="77979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исус Христос позволил себя казнить через распятие,тобы победить смер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21014560_207"/>
          <p:cNvPicPr/>
          <p:nvPr/>
        </p:nvPicPr>
        <p:blipFill>
          <a:blip r:embed="rId1"/>
          <a:stretch/>
        </p:blipFill>
        <p:spPr>
          <a:xfrm>
            <a:off x="523800" y="115920"/>
            <a:ext cx="7288200" cy="495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рия Христа не заканчивается Его казнью.  Ведь Он сказал Понтию Пилату , что имеет власть снова принять Свою жизнь. Поэтому Евангелие говорит, что после распятия Христос вернулся к жизни - воскре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Christ-e1334443958539"/>
          <p:cNvPicPr/>
          <p:nvPr/>
        </p:nvPicPr>
        <p:blipFill>
          <a:blip r:embed="rId1"/>
          <a:stretch/>
        </p:blipFill>
        <p:spPr>
          <a:xfrm>
            <a:off x="2268360" y="260280"/>
            <a:ext cx="4424400" cy="471492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32000" y="4723920"/>
            <a:ext cx="1440000" cy="2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x_497c7398"/>
          <p:cNvPicPr/>
          <p:nvPr/>
        </p:nvPicPr>
        <p:blipFill>
          <a:blip r:embed="rId1"/>
          <a:stretch/>
        </p:blipFill>
        <p:spPr>
          <a:xfrm>
            <a:off x="1042920" y="0"/>
            <a:ext cx="6267600" cy="67230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16:46Z</dcterms:created>
  <dc:creator>Дудар Галина Петровна</dc:creator>
  <dc:description/>
  <dc:language>en-US</dc:language>
  <cp:lastModifiedBy>User</cp:lastModifiedBy>
  <dcterms:modified xsi:type="dcterms:W3CDTF">2018-05-11T13:05:52Z</dcterms:modified>
  <cp:revision>102</cp:revision>
  <dc:subject/>
  <dc:title>Слайд 1</dc:title>
</cp:coreProperties>
</file>