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7.gif" ContentType="image/gif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8077-D5E2-497E-BC29-14E1CFE3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026-9F7C-49A7-9262-17C716AC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938E-27CA-4388-BBD7-C65F5776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565-E032-41F7-8CA1-8C73BFE1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751B-AAC9-4EEF-B6E5-8708E059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A1DD-265F-48CD-A902-B12AF2A3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DF54-C136-4533-8D11-21AF6ADD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892-933F-4FA8-9F3C-C0F2C77D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ED2-F18C-4AFF-B01B-9F62C984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E58-FAA6-4687-B7AD-AC5E403D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D249-B917-4F23-8257-9B72EBA2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CFFD-F395-4433-B431-B2CD14CE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1239-6787-4AC5-B294-81416818C0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:\клипарты\пасха\jajtsa37.png"/>
          <p:cNvPicPr/>
          <p:nvPr/>
        </p:nvPicPr>
        <p:blipFill>
          <a:blip r:embed="rId1"/>
          <a:stretch/>
        </p:blipFill>
        <p:spPr>
          <a:xfrm>
            <a:off x="6719760" y="4689360"/>
            <a:ext cx="2424240" cy="2168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D:\клипарты\пасха\jajtsa37.png"/>
          <p:cNvPicPr/>
          <p:nvPr/>
        </p:nvPicPr>
        <p:blipFill>
          <a:blip r:embed="rId2"/>
          <a:stretch/>
        </p:blipFill>
        <p:spPr>
          <a:xfrm>
            <a:off x="0" y="4621320"/>
            <a:ext cx="2036880" cy="2236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:\клипарты\пасха\jajtsa50.png"/>
          <p:cNvPicPr/>
          <p:nvPr/>
        </p:nvPicPr>
        <p:blipFill>
          <a:blip r:embed="rId3"/>
          <a:stretch/>
        </p:blipFill>
        <p:spPr>
          <a:xfrm>
            <a:off x="7007400" y="0"/>
            <a:ext cx="2136600" cy="2428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D:\клипарты\пасха\jajtsa50.png"/>
          <p:cNvPicPr/>
          <p:nvPr/>
        </p:nvPicPr>
        <p:blipFill>
          <a:blip r:embed="rId4"/>
          <a:stretch/>
        </p:blipFill>
        <p:spPr>
          <a:xfrm>
            <a:off x="0" y="0"/>
            <a:ext cx="2301840" cy="242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640"/>
          <p:cNvPicPr/>
          <p:nvPr/>
        </p:nvPicPr>
        <p:blipFill>
          <a:blip r:embed="rId5"/>
          <a:stretch/>
        </p:blipFill>
        <p:spPr>
          <a:xfrm>
            <a:off x="1187280" y="1341360"/>
            <a:ext cx="6624720" cy="4038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Пасха.ВоскресениеХристово</a:t>
            </a: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03280" y="5444640"/>
            <a:ext cx="3683160" cy="10083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олнила  Чиркова Екатер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учающаяся 4-а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БОУ «Сергачская СОШ№2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5084280"/>
            <a:ext cx="814716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исус Христос воскрес в воскресенье , и в память об этом событии назван этот день не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p_r_5"/>
          <p:cNvPicPr/>
          <p:nvPr/>
        </p:nvPicPr>
        <p:blipFill>
          <a:blip r:embed="rId1"/>
          <a:stretch/>
        </p:blipFill>
        <p:spPr>
          <a:xfrm>
            <a:off x="900000" y="115920"/>
            <a:ext cx="7375680" cy="50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920" y="4723920"/>
            <a:ext cx="756144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«Пасха» в переводе с древнееврейского означает «переход, прохождение мимо или освобождение от беды»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S-prazdnikom-Pashi-1"/>
          <p:cNvPicPr/>
          <p:nvPr/>
        </p:nvPicPr>
        <p:blipFill>
          <a:blip r:embed="rId1"/>
          <a:stretch/>
        </p:blipFill>
        <p:spPr>
          <a:xfrm>
            <a:off x="2340000" y="189000"/>
            <a:ext cx="4322880" cy="48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:\открытки праздники\пасха\0_bc86_2dd2f985_XL.gif"/>
          <p:cNvPicPr/>
          <p:nvPr/>
        </p:nvPicPr>
        <p:blipFill>
          <a:blip r:embed="rId1"/>
          <a:stretch/>
        </p:blipFill>
        <p:spPr>
          <a:xfrm>
            <a:off x="1285920" y="2714760"/>
            <a:ext cx="6649920" cy="385740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>
            <a:off x="1071720" y="0"/>
            <a:ext cx="7200720" cy="30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сха - Светлое 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Христово Воскресение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9640" y="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азднична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луж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1"/>
          <p:cNvSpPr/>
          <p:nvPr/>
        </p:nvSpPr>
        <p:spPr>
          <a:xfrm>
            <a:off x="4683960" y="331920"/>
            <a:ext cx="437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Крестный хо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открытие Царских Вор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2"/>
          <p:cNvSpPr/>
          <p:nvPr/>
        </p:nvSpPr>
        <p:spPr>
          <a:xfrm>
            <a:off x="424800" y="169920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схальное привет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3"/>
          <p:cNvSpPr/>
          <p:nvPr/>
        </p:nvSpPr>
        <p:spPr>
          <a:xfrm>
            <a:off x="4790520" y="1555920"/>
            <a:ext cx="38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Христос воскресе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Воистину воскресе!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4"/>
          <p:cNvSpPr/>
          <p:nvPr/>
        </p:nvSpPr>
        <p:spPr>
          <a:xfrm>
            <a:off x="386280" y="2564280"/>
            <a:ext cx="38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ветствие друг дру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5"/>
          <p:cNvSpPr/>
          <p:nvPr/>
        </p:nvSpPr>
        <p:spPr>
          <a:xfrm>
            <a:off x="4859280" y="256428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ри поцелуя в щё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470880" y="3643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схальное угощ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7"/>
          <p:cNvSpPr/>
          <p:nvPr/>
        </p:nvSpPr>
        <p:spPr>
          <a:xfrm>
            <a:off x="4871160" y="3498480"/>
            <a:ext cx="264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улич, пасх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шеные яй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8"/>
          <p:cNvSpPr/>
          <p:nvPr/>
        </p:nvSpPr>
        <p:spPr>
          <a:xfrm>
            <a:off x="395640" y="5083560"/>
            <a:ext cx="44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дней каждый может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9"/>
          <p:cNvSpPr/>
          <p:nvPr/>
        </p:nvSpPr>
        <p:spPr>
          <a:xfrm>
            <a:off x="5003280" y="508356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нить в колоко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право 11"/>
          <p:cNvSpPr/>
          <p:nvPr/>
        </p:nvSpPr>
        <p:spPr>
          <a:xfrm>
            <a:off x="3564000" y="549360"/>
            <a:ext cx="863640" cy="28728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право 12"/>
          <p:cNvSpPr/>
          <p:nvPr/>
        </p:nvSpPr>
        <p:spPr>
          <a:xfrm>
            <a:off x="4500720" y="1844640"/>
            <a:ext cx="358560" cy="289080"/>
          </a:xfrm>
          <a:prstGeom prst="rightArrow">
            <a:avLst>
              <a:gd name="adj1" fmla="val 50000"/>
              <a:gd name="adj2" fmla="val 496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вправо 13"/>
          <p:cNvSpPr/>
          <p:nvPr/>
        </p:nvSpPr>
        <p:spPr>
          <a:xfrm>
            <a:off x="4284720" y="2708280"/>
            <a:ext cx="574560" cy="289080"/>
          </a:xfrm>
          <a:prstGeom prst="rightArrow">
            <a:avLst>
              <a:gd name="adj1" fmla="val 50000"/>
              <a:gd name="adj2" fmla="val 496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право 14"/>
          <p:cNvSpPr/>
          <p:nvPr/>
        </p:nvSpPr>
        <p:spPr>
          <a:xfrm>
            <a:off x="4140360" y="364500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право 15"/>
          <p:cNvSpPr/>
          <p:nvPr/>
        </p:nvSpPr>
        <p:spPr>
          <a:xfrm>
            <a:off x="4716360" y="5084640"/>
            <a:ext cx="216000" cy="289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91640" y="4867200"/>
            <a:ext cx="460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1404132_46069-550x500"/>
          <p:cNvPicPr/>
          <p:nvPr/>
        </p:nvPicPr>
        <p:blipFill>
          <a:blip r:embed="rId1"/>
          <a:stretch/>
        </p:blipFill>
        <p:spPr>
          <a:xfrm>
            <a:off x="182520" y="189000"/>
            <a:ext cx="8782200" cy="6605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0b10a2556ef6fae73b41e972b3530f1f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6858000"/>
            <a:ext cx="62755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100597812_large_1b1cd7708cee"/>
          <p:cNvPicPr/>
          <p:nvPr/>
        </p:nvPicPr>
        <p:blipFill>
          <a:blip r:embed="rId1"/>
          <a:stretch/>
        </p:blipFill>
        <p:spPr>
          <a:xfrm>
            <a:off x="1835280" y="0"/>
            <a:ext cx="5113080" cy="6838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56000" y="4581360"/>
            <a:ext cx="6130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сха! В трубы золот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гелы трубят с небес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ьте счастливы, все люд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дуйтесь! Христос воскрес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ristos-Voskres-animaciya6"/>
          <p:cNvPicPr/>
          <p:nvPr/>
        </p:nvPicPr>
        <p:blipFill>
          <a:blip r:embed="rId1"/>
          <a:stretch/>
        </p:blipFill>
        <p:spPr>
          <a:xfrm>
            <a:off x="1042920" y="0"/>
            <a:ext cx="7634520" cy="4581360"/>
          </a:xfrm>
          <a:prstGeom prst="rect">
            <a:avLst/>
          </a:prstGeom>
          <a:ln w="0">
            <a:noFill/>
          </a:ln>
        </p:spPr>
      </p:pic>
      <p:pic>
        <p:nvPicPr>
          <p:cNvPr id="51" name="колокола.mp3" descr=""/>
          <p:cNvPicPr/>
          <p:nvPr/>
        </p:nvPicPr>
        <p:blipFill>
          <a:blip r:embed="rId2"/>
          <a:stretch/>
        </p:blipFill>
        <p:spPr>
          <a:xfrm>
            <a:off x="8101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282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7a77e58c3ead"/>
          <p:cNvPicPr/>
          <p:nvPr/>
        </p:nvPicPr>
        <p:blipFill>
          <a:blip r:embed="rId1"/>
          <a:stretch/>
        </p:blipFill>
        <p:spPr>
          <a:xfrm>
            <a:off x="284040" y="0"/>
            <a:ext cx="8574120" cy="4508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53040" y="-6575760"/>
            <a:ext cx="684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4292280"/>
            <a:ext cx="7715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сто, где был распят Иисус Христос, называется Голгофа, что в переводе с греческого языка  означает «лобное место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57290058_07"/>
          <p:cNvPicPr/>
          <p:nvPr/>
        </p:nvPicPr>
        <p:blipFill>
          <a:blip r:embed="rId1"/>
          <a:stretch/>
        </p:blipFill>
        <p:spPr>
          <a:xfrm>
            <a:off x="3348000" y="0"/>
            <a:ext cx="5576760" cy="6642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25080" y="-4803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 rot="10800000">
            <a:off x="8686800" y="6126120"/>
            <a:ext cx="61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ят в пятниц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7280" y="620640"/>
            <a:ext cx="5977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колько часов висел на кресте и мучился Иисус Христос. Наконец, Он громко воскликнул: «Свершилось…Отче! В руки твои передаю дух Мой», затем склонил голову и испустил дух, скончал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чём сказал Иисус Христос: «Свершилось…»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Иисус добровольно отдаёт свою душу в руки Отца, указывая, что Он был при смерти и что Бог принял Его жертву. «Свершилось»,-Его страдания закончились, и вся работа проповедовать Евангелие, творить чудеса, порученная Ему Отцом – и добиться вечного спасения для Своего народа была выполнена. Долг греха был уплач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jesus_en_la_cruz"/>
          <p:cNvPicPr/>
          <p:nvPr/>
        </p:nvPicPr>
        <p:blipFill>
          <a:blip r:embed="rId1"/>
          <a:stretch/>
        </p:blipFill>
        <p:spPr>
          <a:xfrm>
            <a:off x="1162080" y="115920"/>
            <a:ext cx="674676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есте распятия  Христа в момент его смерти произошло полное солнечное затмение и сильное землетряс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раме Иерусалима разорвалась по середине завеса, отделившая самое святое место храма от остальной его ч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1303409158_562_FT1198_"/>
          <p:cNvPicPr/>
          <p:nvPr/>
        </p:nvPicPr>
        <p:blipFill>
          <a:blip r:embed="rId1"/>
          <a:stretch/>
        </p:blipFill>
        <p:spPr>
          <a:xfrm>
            <a:off x="2614680" y="0"/>
            <a:ext cx="3708360" cy="46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9640" y="4724280"/>
            <a:ext cx="77979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исус Христос позволил себя казнить через распятие,тобы победить смер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21014560_207"/>
          <p:cNvPicPr/>
          <p:nvPr/>
        </p:nvPicPr>
        <p:blipFill>
          <a:blip r:embed="rId1"/>
          <a:stretch/>
        </p:blipFill>
        <p:spPr>
          <a:xfrm>
            <a:off x="523800" y="115920"/>
            <a:ext cx="7288200" cy="495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Христа не заканчивается Его казнью.  Ведь Он сказал Понтию Пилату , что имеет власть снова принять Свою жизнь. Поэтому Евангелие говорит, что после распятия Христос вернулся к жизни - воскре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Christ-e1334443958539"/>
          <p:cNvPicPr/>
          <p:nvPr/>
        </p:nvPicPr>
        <p:blipFill>
          <a:blip r:embed="rId1"/>
          <a:stretch/>
        </p:blipFill>
        <p:spPr>
          <a:xfrm>
            <a:off x="2268360" y="260280"/>
            <a:ext cx="4424400" cy="4714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32000" y="4723920"/>
            <a:ext cx="144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x_497c7398"/>
          <p:cNvPicPr/>
          <p:nvPr/>
        </p:nvPicPr>
        <p:blipFill>
          <a:blip r:embed="rId1"/>
          <a:stretch/>
        </p:blipFill>
        <p:spPr>
          <a:xfrm>
            <a:off x="1042920" y="0"/>
            <a:ext cx="6267600" cy="6723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16:46Z</dcterms:created>
  <dc:creator>Дудар Галина Петровна</dc:creator>
  <dc:description/>
  <dc:language>en-US</dc:language>
  <cp:lastModifiedBy>User</cp:lastModifiedBy>
  <dcterms:modified xsi:type="dcterms:W3CDTF">2018-05-11T13:05:52Z</dcterms:modified>
  <cp:revision>102</cp:revision>
  <dc:subject/>
  <dc:title>Слайд 1</dc:title>
</cp:coreProperties>
</file>