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1AE-386B-4AB5-9A2A-BE05A17A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80B-C6A9-4086-B0A7-EDFF449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D47-6DF1-44A7-8F2F-FCF09F84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758-A0D6-4F71-81B9-C30159BF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9E57-9204-4920-8DF3-F628BE7A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6408-1D2F-4B96-B9AC-9981227C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366-00C6-4BF2-B270-5830262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AA8-E9CE-40CF-AC94-CAAF7D1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F92-3608-419E-A33C-EC62649E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0965-0E62-45E8-A885-B7253B2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D3DA-611F-432E-9037-CE1027A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900-73DD-4B6B-8A25-2BB18E9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D9A3-2FC8-4E3A-A999-0920313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BECF-D0D5-41F6-B139-260DC38D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E28-6FF2-4231-B899-F1D318F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1152-12AE-4835-9CDF-12CF28D9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41ED-5BCB-4D80-B463-E47CF9EF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FE2D-B56A-4D49-A3C1-8D17BE81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C9DF-E13B-4A42-BB53-DDE8BEA7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BD82-9434-483D-BE10-A764F702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0672-F601-4BAB-B604-DC99796F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A4CA-F050-4F6A-971B-63C5C04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BE6-401C-43FC-876E-337445B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77977-8FE5-46DF-AE8E-8038635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C574-2D46-4265-B8D1-CF72DAD2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B5CAF-6031-42DF-9114-A332412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2F61-5B8A-4AFB-B372-1891340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DE91-B8CD-4A09-B407-70F7704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FA2C1-EF81-4DC3-B714-8E6E1F7A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8B7C-F574-405A-9236-6B40AF12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34C1-2DCF-4E67-9228-2C32781F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F4C4-1C80-4DAC-81DB-89EDCC8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81B3-F54D-4AC5-BC6C-C2672E6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C9A-D1AD-4AE6-A182-18517DD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28D9-33C3-43CD-BFC5-9AE32C1C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AB97-C9CA-4D42-8029-EEF0E3A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8C3F-DB02-4903-9490-4B46A68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B9D5-4D86-4C23-95A4-80E1845F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B634C-8F99-4C63-8C83-0B8B279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C5BF-AF07-4609-8726-3A08D67C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BBEB-1B02-42DC-AA1B-30E43D7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97BC-A3B6-4CD9-ADB4-31D2727C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9F05-8867-4D17-8582-4CFAF45E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6529-1EB6-4A5F-9E04-7B9A1C6D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10E-DBF0-4AED-98B0-4307F9C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3D45-B86F-4595-8191-539591E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670D7-8556-464C-A298-31E0B0C0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3FC5-0AC0-4AF6-93DE-38C7EC2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57FB-FC16-4C40-A072-3BB63CC2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CA3C-A02E-4396-8DB3-F2938D6C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253FE-18EC-40BB-A65A-123A345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E51B-95B0-4823-9E6A-A75B2F3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6183-55B7-4421-B6F5-101F5A2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C592-4229-43F4-9F92-2BAC8F6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7482-1FCB-4634-AAC1-CCE96C60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E76-608E-48A7-983D-A180A6B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D9FC-A37E-4CD1-BE48-852A48FF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D1D1-35FD-4F38-8842-FBFC1DF1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14988-CC38-4D1F-8761-1E40F07D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8FF2-B05D-42D1-811B-B02D583A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989C-516C-4798-9234-55892D0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DEF0-A20A-4F44-A663-C3ED1FFD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5313-EA37-4622-8897-42BCEA4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ACEFC-B567-46A5-AA0C-C6385FC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226F3-09E1-4C0F-A055-3F6D102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82D76-9CEA-4432-8363-552936A7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F25-DA1E-4289-8E8A-C96B20B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2F83-148D-48A0-9F91-EB358D9E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A8CB-487F-45DF-BEED-D92839C3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2896-90EE-4869-AB80-BD0306A3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CE97-63C0-4D86-99A6-AB62B88E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B6C8D-E822-4884-BD1E-A362DEF7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4EAF6-7501-4E5E-8048-55EF3229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027A-C4E6-4CB0-93FE-42A277D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C47A1-D1F2-4EC3-97A2-449BB400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78347-3DE0-4352-856C-A1038225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B6D8-95CA-4C0F-8412-DBCB8A3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9F0-8E1F-4FED-BC28-086E738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D6E6-3018-455C-B77D-B1E924D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F4B5E-9315-4BAB-B6D3-1C592AE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4BCE-0DB4-46E9-8201-212219C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0E50F-1956-4158-A3D0-100850ED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80D6B-5030-44CA-BB1A-194C0591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1B7-F33C-4668-8427-F6FDC95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ADCB-493E-402F-945E-6E90858B1AF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8195-DD0E-473A-B219-D1CC0256C78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B113-F150-44FC-823E-97D498153C3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C177-C24D-4247-A232-A30FDB72C9C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C933-3B68-4770-89D1-F8155DD3EF2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C83-F8AF-4BBC-8811-E5175BA93DA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D5A-71B6-47A5-A08D-E20954A739D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0" y="219240"/>
            <a:ext cx="8686800" cy="1444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Подготовила учитель начальных классов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Кузьмина Татьяна Викторовн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40059"/>
                </a:solidFill>
                <a:latin typeface="Georgia"/>
              </a:rPr>
              <a:t>Квалификационная категория - перва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500040" y="2212920"/>
            <a:ext cx="8064360" cy="1468440"/>
          </a:xfrm>
          <a:prstGeom prst="rect">
            <a:avLst/>
          </a:prstGeom>
          <a:ln w="0">
            <a:noFill/>
          </a:ln>
        </p:spPr>
      </p:pic>
      <p:pic>
        <p:nvPicPr>
          <p:cNvPr id="316" name="Подзаголовок 2" descr=""/>
          <p:cNvPicPr/>
          <p:nvPr/>
        </p:nvPicPr>
        <p:blipFill>
          <a:blip r:embed="rId2"/>
          <a:stretch/>
        </p:blipFill>
        <p:spPr>
          <a:xfrm>
            <a:off x="585720" y="1212840"/>
            <a:ext cx="8120160" cy="22622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6286680" y="4067280"/>
            <a:ext cx="1836720" cy="279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8" name="Picture 2" descr="C:\Documents and Settings\Admin\Рабочий стол\Презентации\Мудрая Черепаха.jpg"/>
          <p:cNvPicPr/>
          <p:nvPr/>
        </p:nvPicPr>
        <p:blipFill>
          <a:blip r:embed="rId4"/>
          <a:stretch/>
        </p:blipFill>
        <p:spPr>
          <a:xfrm>
            <a:off x="571680" y="4857840"/>
            <a:ext cx="1928520" cy="17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9" name="Прямоугольник 5"/>
          <p:cNvSpPr/>
          <p:nvPr/>
        </p:nvSpPr>
        <p:spPr>
          <a:xfrm>
            <a:off x="1928880" y="593424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0059"/>
                </a:solidFill>
                <a:latin typeface="Georgia"/>
              </a:rPr>
              <a:t>Подготовила  Кузьмина Татьяна Викторовна учитель начальных клас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6"/>
          <p:cNvSpPr/>
          <p:nvPr/>
        </p:nvSpPr>
        <p:spPr>
          <a:xfrm>
            <a:off x="2380680" y="28584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40059"/>
                </a:solidFill>
                <a:latin typeface="Georgia"/>
              </a:rPr>
              <a:t>Презентация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1419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Бывает так: дождь только что кончился или ещё шумит, а тучи уже начинают расступаться, между ними проглядывает голубое небо и показывается солнце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Картинка 19 из 7108"/>
          <p:cNvPicPr/>
          <p:nvPr/>
        </p:nvPicPr>
        <p:blipFill>
          <a:blip r:embed="rId2"/>
          <a:stretch/>
        </p:blipFill>
        <p:spPr>
          <a:xfrm>
            <a:off x="1214280" y="928800"/>
            <a:ext cx="6643800" cy="2869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0" y="0"/>
            <a:ext cx="9144000" cy="29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2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В этот момент на небе возникает прекрасная картина: многоцветная радуга широкой лентой охватывает небесный свод. Иногда появляются сразу две радуги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92160" indent="-27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1639800" y="3000240"/>
            <a:ext cx="57880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663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14300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90062"/>
                </a:solidFill>
                <a:latin typeface="Century Gothic"/>
              </a:rPr>
              <a:t>Солнечные лучи, попадая в небе на капельки дождя, распадаются на разноцветные лучики. Так возникает радуг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3456000" y="3071880"/>
            <a:ext cx="56880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0" y="1214280"/>
            <a:ext cx="9144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8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В радуге семь цветов, и все они всегда расположены в одном порядке: красный, оранжевый, жёлтый, зелёный, голубой, синий, фиолетовый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0062"/>
                </a:solidFill>
                <a:latin typeface="Century Gothic"/>
              </a:rPr>
              <a:t>Чтобы запомнить последовательность цветов радуги, придумали такую фразу по первым буквам названий цветов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Каждый</a:t>
            </a:r>
            <a:r>
              <a:rPr b="1" lang="ru-RU" sz="5400" spc="-1" strike="noStrike">
                <a:solidFill>
                  <a:srgbClr val="f72603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ff6600"/>
                </a:solidFill>
                <a:latin typeface="Century Gothic"/>
              </a:rPr>
              <a:t>охотник</a:t>
            </a:r>
            <a:r>
              <a:rPr b="1" lang="ru-RU" sz="5400" spc="-1" strike="noStrike">
                <a:solidFill>
                  <a:srgbClr val="f9922b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entury Gothic"/>
              </a:rPr>
              <a:t>желает</a:t>
            </a:r>
            <a:r>
              <a:rPr b="1" lang="ru-RU" sz="5400" spc="-1" strike="noStrike">
                <a:solidFill>
                  <a:srgbClr val="e0ed37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9900"/>
                </a:solidFill>
                <a:latin typeface="Century Gothic"/>
              </a:rPr>
              <a:t>знать,</a:t>
            </a:r>
            <a:r>
              <a:rPr b="1" lang="ru-RU" sz="5400" spc="-1" strike="noStrike">
                <a:solidFill>
                  <a:srgbClr val="ff79c2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99ff"/>
                </a:solidFill>
                <a:latin typeface="Century Gothic"/>
              </a:rPr>
              <a:t>где</a:t>
            </a:r>
            <a:r>
              <a:rPr b="1" lang="ru-RU" sz="5400" spc="-1" strike="noStrike">
                <a:solidFill>
                  <a:srgbClr val="a7d9f7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3333ff"/>
                </a:solidFill>
                <a:latin typeface="Century Gothic"/>
              </a:rPr>
              <a:t>сидит </a:t>
            </a:r>
            <a:r>
              <a:rPr b="1" lang="ru-RU" sz="5400" spc="-1" strike="noStrike">
                <a:solidFill>
                  <a:srgbClr val="9900cc"/>
                </a:solidFill>
                <a:latin typeface="Century Gothic"/>
              </a:rPr>
              <a:t>фазан.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882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0" y="1142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Слово «радуга» похоже на слово «радость». И в самом деле, радостно бывает, когда вдруг на небе возникает удивительно красивая дуга. «Райская дуга» называли её в старину и верили, что она приносит счастье. С тех пор так и зовут – радуг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0062"/>
                </a:solidFill>
                <a:latin typeface="Century Gothic"/>
              </a:rPr>
              <a:t>Радуга появляется только если одновременно идёт дождь и светит солнце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0" y="107172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7560" indent="-411120">
              <a:spcBef>
                <a:spcPts val="75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2" descr="C:\Documents and Settings\Admin\Рабочий стол\Презентации\Мудрая Черепаха.jpg"/>
          <p:cNvPicPr/>
          <p:nvPr/>
        </p:nvPicPr>
        <p:blipFill>
          <a:blip r:embed="rId2"/>
          <a:stretch/>
        </p:blipFill>
        <p:spPr>
          <a:xfrm>
            <a:off x="285840" y="5786280"/>
            <a:ext cx="119700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2" descr="C:\Documents and Settings\Admin\Рабочий стол\Презентации\Муравей Вопросик.jpg"/>
          <p:cNvPicPr/>
          <p:nvPr/>
        </p:nvPicPr>
        <p:blipFill>
          <a:blip r:embed="rId3"/>
          <a:stretch/>
        </p:blipFill>
        <p:spPr>
          <a:xfrm>
            <a:off x="7786800" y="1071720"/>
            <a:ext cx="135720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0" y="1212840"/>
            <a:ext cx="828504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4" descr="43009025_121258759033345.gif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3741840"/>
          </a:xfrm>
          <a:prstGeom prst="rect">
            <a:avLst/>
          </a:prstGeom>
          <a:ln w="0">
            <a:noFill/>
          </a:ln>
        </p:spPr>
      </p:pic>
      <p:sp>
        <p:nvSpPr>
          <p:cNvPr id="339" name="Облако 3"/>
          <p:cNvSpPr/>
          <p:nvPr/>
        </p:nvSpPr>
        <p:spPr>
          <a:xfrm>
            <a:off x="857160" y="4086360"/>
            <a:ext cx="7715520" cy="277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ffd7e8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Заголовок 1" descr=""/>
          <p:cNvPicPr/>
          <p:nvPr/>
        </p:nvPicPr>
        <p:blipFill>
          <a:blip r:embed="rId2"/>
          <a:stretch/>
        </p:blipFill>
        <p:spPr>
          <a:xfrm>
            <a:off x="500040" y="4857840"/>
            <a:ext cx="822960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7:38:56Z</dcterms:created>
  <dc:creator>user</dc:creator>
  <dc:description/>
  <dc:language>en-US</dc:language>
  <cp:lastModifiedBy>Сергей</cp:lastModifiedBy>
  <dcterms:modified xsi:type="dcterms:W3CDTF">2018-07-26T08:01:17Z</dcterms:modified>
  <cp:revision>26</cp:revision>
  <dc:subject/>
  <dc:title> </dc:title>
</cp:coreProperties>
</file>