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D597-D3E0-4B14-9C02-76BC1DFD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0C8-194F-4ABD-B5B2-5CAAC6C5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C94-4840-45E2-8744-143FE3A3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94EB-0B28-461F-9F26-7FE20FDE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8279-8B1E-47EC-A81E-D496547E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C4E0-43DE-43B2-9E2D-F62B70A5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2F9E-4B0B-44F6-92E8-439BA4AC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57D0-81D7-4525-949A-76AC3B4C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B1E4-5752-48ED-BB43-AC59CF7A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8279-6EC6-4569-9B49-AFAB7E80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708C-1584-4187-94B5-556A0BE4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9C2-E8E1-4BF4-98C3-CCC0B333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FDA6-EFCA-4059-8FED-42349DC9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A2DE-7F1F-4388-B84F-1C095A92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43B5-D627-4F1A-926D-DB259BE2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6380-191D-4F52-A8F7-0019B5E3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691C-FD58-4464-8E8A-0A0B58D1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10947-1B65-4ADE-9F4F-DAFCB907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CC567-71E8-4B55-9FED-D6241A1B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0553C-AD54-4C40-B6A7-11C56DC2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D246D-FBA4-4013-9557-A5FD5FCB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7D88E-71AD-416F-851D-28CBF129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E074-B392-4567-9785-6BA6EE67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CACB8-CAAC-4E64-8431-73B8CAB4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A5E86-2DC5-488A-B4BA-27EAD05A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EA3DE-9513-4FF4-AA76-9A3D909D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CB687-291D-43D6-A41D-DB87D35F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A9498-D8B4-4F0B-B6F2-8B6B335E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B65F6-656C-4EDA-820B-DA575BED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8275E-A36D-4F99-B07A-068893C5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AFF69-5124-4016-AD75-4A9F5EF2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A989A-086E-4FD6-9F61-5979AC7A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AD814-CA30-4821-9B24-5DC81238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AFA6-DAD7-4829-81B6-943EA25B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5D2FE-59D9-4B76-B290-B28DF741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2E6CE-3869-46C7-9491-78451956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DA4C5-2A4D-41DC-936F-AB4FCEFE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CA917-7180-4459-BAE6-74EE09EB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92FAF-036C-4843-9489-DCF2969C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03973-4E64-466D-B289-D1F2B8DE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BC951-135D-4108-A5EE-706B1596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29ADC-C7EF-4E5D-9D86-3DC7F9F8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389A8-676D-46D0-9A74-52AAD86A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CB86A-F547-44CD-9630-0B73ED92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EEF5-BE3A-4FA7-86BA-8C6B9A18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0D7DF-5322-4A39-929D-8E717D9B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996CA-15F2-4154-9441-865BC977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808EE-C4C2-4DCD-BB1F-28258178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C6D60-441A-4A4D-B9D4-0EAB9ECA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F9AD4-DE2B-4908-8444-86287441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DC37C-C717-4A8E-87B9-0AC311FA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20877-6638-4CB0-84AD-A0A0BC3A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FC4CA-1A40-4257-A470-F196EF51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A82B9-A17F-4C63-B5AA-28FD0B87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AA4C2-2DC2-46A9-B30F-EB8D938F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B2CC-482B-4B05-BF27-A412B044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B6E91-DA20-4416-A9E0-A0122583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6E469-01BE-4C13-B694-C8FA5133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175F0-47B5-46D5-BD9D-7C5861CA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83AEC-214E-4978-B104-99AB15CF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2A67E-DB29-4867-ADCA-12A819FB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E26F3-DF7B-468A-BF2B-21BA9A16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232CB-0F99-4DB4-BFEF-9D56B50A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9AC84-6D7E-4A6D-A3BF-7E08FB26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2C3CA-DF7A-4ABB-B560-CCF3793E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EC37F-F8CC-44AA-A8E5-AE0137EB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349E-0B0D-44CE-83DB-BAB469DA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623B4-3DE3-41FD-A1A4-65B32DDD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E2C00-F60D-40A5-9217-7ECBD1A5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BD52C-9637-4A66-A46A-217EC149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D1EC5-247F-4AB3-B7DA-B1EC3044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C47B7-ACC8-4BCD-8FC9-2277AF37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AADFA-A793-4998-9A1F-4E109D4A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AB352-1B4F-4FD4-BE96-F3F0830C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BBA2E-022D-4364-BABA-33878C3C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31626-3A3C-4D1E-B266-EE3FE8F6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E88E2-E064-4871-AFF2-91E5F059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1A8-64E2-420D-B04F-940E4E48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6517C-F219-40A9-9546-0658D890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0FAA6-E255-4BAB-98B5-BB889784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58169-371B-414F-AB7F-0C87E09B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3AB8B-F1EA-4439-935C-0B6DB8F9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2292A-E109-4ACF-B863-EEA1DBF3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BBF-07A7-4F88-B1AE-46AE29A6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844A-C562-4F05-9942-E79BF0E3118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6429-00D1-4745-9B72-1C52ADF195E0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E261-4E47-4E3D-9CBC-80C18471134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3C18-6BF9-40B5-AC19-36E5A365E65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46A2-EE3D-4881-A3DC-D39CD829587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B962-ABAA-466B-837C-215DC3A220A9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CA44-8BC3-4C35-865A-255C029B37BA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0" y="219240"/>
            <a:ext cx="8686800" cy="14443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0" y="1882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e40059"/>
                </a:solidFill>
                <a:latin typeface="Georgia"/>
              </a:rPr>
              <a:t>Подготовила учитель начальных классов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e40059"/>
                </a:solidFill>
                <a:latin typeface="Georgia"/>
              </a:rPr>
              <a:t>Кузьмина Татьяна Викторовн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e40059"/>
                </a:solidFill>
                <a:latin typeface="Georgia"/>
              </a:rPr>
              <a:t>Квалификационная категория - первая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500040" y="2212920"/>
            <a:ext cx="8064360" cy="1468440"/>
          </a:xfrm>
          <a:prstGeom prst="rect">
            <a:avLst/>
          </a:prstGeom>
          <a:ln w="0">
            <a:noFill/>
          </a:ln>
        </p:spPr>
      </p:pic>
      <p:pic>
        <p:nvPicPr>
          <p:cNvPr id="316" name="Подзаголовок 2" descr=""/>
          <p:cNvPicPr/>
          <p:nvPr/>
        </p:nvPicPr>
        <p:blipFill>
          <a:blip r:embed="rId2"/>
          <a:stretch/>
        </p:blipFill>
        <p:spPr>
          <a:xfrm>
            <a:off x="585720" y="1212840"/>
            <a:ext cx="8120160" cy="22622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C:\Documents and Settings\Admin\Рабочий стол\Презентации\Муравей Вопросик.jpg"/>
          <p:cNvPicPr/>
          <p:nvPr/>
        </p:nvPicPr>
        <p:blipFill>
          <a:blip r:embed="rId3"/>
          <a:stretch/>
        </p:blipFill>
        <p:spPr>
          <a:xfrm>
            <a:off x="6286680" y="4067280"/>
            <a:ext cx="1836720" cy="279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18" name="Picture 2" descr="C:\Documents and Settings\Admin\Рабочий стол\Презентации\Мудрая Черепаха.jpg"/>
          <p:cNvPicPr/>
          <p:nvPr/>
        </p:nvPicPr>
        <p:blipFill>
          <a:blip r:embed="rId4"/>
          <a:stretch/>
        </p:blipFill>
        <p:spPr>
          <a:xfrm>
            <a:off x="571680" y="4857840"/>
            <a:ext cx="1928520" cy="172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19" name="Прямоугольник 5"/>
          <p:cNvSpPr/>
          <p:nvPr/>
        </p:nvSpPr>
        <p:spPr>
          <a:xfrm>
            <a:off x="1928880" y="593424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40059"/>
                </a:solidFill>
                <a:latin typeface="Georgia"/>
              </a:rPr>
              <a:t>Подготовила  Кузьмина Татьяна Викторовна учитель начальных класс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оугольник 6"/>
          <p:cNvSpPr/>
          <p:nvPr/>
        </p:nvSpPr>
        <p:spPr>
          <a:xfrm>
            <a:off x="2380680" y="28584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40059"/>
                </a:solidFill>
                <a:latin typeface="Georgia"/>
              </a:rPr>
              <a:t>Презентация к уро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0" y="244440"/>
            <a:ext cx="9144000" cy="14191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90062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90062"/>
                </a:solidFill>
                <a:latin typeface="Century Gothic"/>
              </a:rPr>
              <a:t>Бывает так: дождь только что кончился или ещё шумит, а тучи уже начинают расступаться, между ними проглядывает голубое небо и показывается солнце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4" descr="Картинка 19 из 7108"/>
          <p:cNvPicPr/>
          <p:nvPr/>
        </p:nvPicPr>
        <p:blipFill>
          <a:blip r:embed="rId2"/>
          <a:stretch/>
        </p:blipFill>
        <p:spPr>
          <a:xfrm>
            <a:off x="1214280" y="928800"/>
            <a:ext cx="6643800" cy="28699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0" y="0"/>
            <a:ext cx="9144000" cy="29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-27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0062"/>
                </a:solidFill>
                <a:latin typeface="Century Gothic"/>
              </a:rPr>
              <a:t>В этот момент на небе возникает прекрасная картина: многоцветная радуга широкой лентой охватывает небесный свод. Иногда появляются сразу две радуги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92160" indent="-27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1639800" y="3000240"/>
            <a:ext cx="578808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8229600" cy="16635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0" y="114300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0062"/>
                </a:solidFill>
                <a:latin typeface="Century Gothic"/>
              </a:rPr>
              <a:t>Солнечные лучи, попадая в небе на капельки дождя, распадаются на разноцветные лучики. Так возникает радуга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3456000" y="3071880"/>
            <a:ext cx="568800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018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0" y="1214280"/>
            <a:ext cx="9144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88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90062"/>
                </a:solidFill>
                <a:latin typeface="Century Gothic"/>
              </a:rPr>
              <a:t>В радуге семь цветов, и все они всегда расположены в одном порядке: красный, оранжевый, жёлтый, зелёный, голубой, синий, фиолетовый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88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90062"/>
                </a:solidFill>
                <a:latin typeface="Century Gothic"/>
              </a:rPr>
              <a:t>Чтобы запомнить последовательность цветов радуги, придумали такую фразу по первым буквам названий цветов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8820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Gothic"/>
              </a:rPr>
              <a:t>Каждый</a:t>
            </a:r>
            <a:r>
              <a:rPr b="1" lang="ru-RU" sz="5400" spc="-1" strike="noStrike">
                <a:solidFill>
                  <a:srgbClr val="f72603"/>
                </a:solidFill>
                <a:latin typeface="Century Gothic"/>
              </a:rPr>
              <a:t> </a:t>
            </a:r>
            <a:r>
              <a:rPr b="1" lang="ru-RU" sz="5400" spc="-1" strike="noStrike">
                <a:solidFill>
                  <a:srgbClr val="ff6600"/>
                </a:solidFill>
                <a:latin typeface="Century Gothic"/>
              </a:rPr>
              <a:t>охотник</a:t>
            </a:r>
            <a:r>
              <a:rPr b="1" lang="ru-RU" sz="5400" spc="-1" strike="noStrike">
                <a:solidFill>
                  <a:srgbClr val="f9922b"/>
                </a:solidFill>
                <a:latin typeface="Century Gothic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Century Gothic"/>
              </a:rPr>
              <a:t>желает</a:t>
            </a:r>
            <a:r>
              <a:rPr b="1" lang="ru-RU" sz="5400" spc="-1" strike="noStrike">
                <a:solidFill>
                  <a:srgbClr val="e0ed37"/>
                </a:solidFill>
                <a:latin typeface="Century Gothic"/>
              </a:rPr>
              <a:t> </a:t>
            </a:r>
            <a:r>
              <a:rPr b="1" lang="ru-RU" sz="5400" spc="-1" strike="noStrike">
                <a:solidFill>
                  <a:srgbClr val="009900"/>
                </a:solidFill>
                <a:latin typeface="Century Gothic"/>
              </a:rPr>
              <a:t>знать,</a:t>
            </a:r>
            <a:r>
              <a:rPr b="1" lang="ru-RU" sz="5400" spc="-1" strike="noStrike">
                <a:solidFill>
                  <a:srgbClr val="ff79c2"/>
                </a:solidFill>
                <a:latin typeface="Century Gothic"/>
              </a:rPr>
              <a:t> </a:t>
            </a:r>
            <a:r>
              <a:rPr b="1" lang="ru-RU" sz="5400" spc="-1" strike="noStrike">
                <a:solidFill>
                  <a:srgbClr val="0099ff"/>
                </a:solidFill>
                <a:latin typeface="Century Gothic"/>
              </a:rPr>
              <a:t>где</a:t>
            </a:r>
            <a:r>
              <a:rPr b="1" lang="ru-RU" sz="5400" spc="-1" strike="noStrike">
                <a:solidFill>
                  <a:srgbClr val="a7d9f7"/>
                </a:solidFill>
                <a:latin typeface="Century Gothic"/>
              </a:rPr>
              <a:t> </a:t>
            </a:r>
            <a:r>
              <a:rPr b="1" lang="ru-RU" sz="5400" spc="-1" strike="noStrike">
                <a:solidFill>
                  <a:srgbClr val="3333ff"/>
                </a:solidFill>
                <a:latin typeface="Century Gothic"/>
              </a:rPr>
              <a:t>сидит </a:t>
            </a:r>
            <a:r>
              <a:rPr b="1" lang="ru-RU" sz="5400" spc="-1" strike="noStrike">
                <a:solidFill>
                  <a:srgbClr val="9900cc"/>
                </a:solidFill>
                <a:latin typeface="Century Gothic"/>
              </a:rPr>
              <a:t>фазан.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882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500040" y="0"/>
            <a:ext cx="8229600" cy="12128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0" y="114264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Century Gothic"/>
              </a:rPr>
              <a:t>Слово «радуга» похоже на слово «радость». И в самом деле, радостно бывает, когда вдруг на небе возникает удивительно красивая дуга. «Райская дуга» называли её в старину и верили, что она приносит счастье. С тех пор так и зовут – радуга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Century Gothic"/>
              </a:rPr>
              <a:t>Радуга появляется только если одновременно идёт дождь и светит солнце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42696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0" y="107172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47560" indent="-411120">
              <a:spcBef>
                <a:spcPts val="75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Picture 2" descr="C:\Documents and Settings\Admin\Рабочий стол\Презентации\Мудрая Черепаха.jpg"/>
          <p:cNvPicPr/>
          <p:nvPr/>
        </p:nvPicPr>
        <p:blipFill>
          <a:blip r:embed="rId2"/>
          <a:stretch/>
        </p:blipFill>
        <p:spPr>
          <a:xfrm>
            <a:off x="285840" y="5786280"/>
            <a:ext cx="1197000" cy="107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6" name="Picture 2" descr="C:\Documents and Settings\Admin\Рабочий стол\Презентации\Муравей Вопросик.jpg"/>
          <p:cNvPicPr/>
          <p:nvPr/>
        </p:nvPicPr>
        <p:blipFill>
          <a:blip r:embed="rId3"/>
          <a:stretch/>
        </p:blipFill>
        <p:spPr>
          <a:xfrm>
            <a:off x="7786800" y="1071720"/>
            <a:ext cx="1357200" cy="206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7" name="Прямоугольник 5" descr=""/>
          <p:cNvPicPr/>
          <p:nvPr/>
        </p:nvPicPr>
        <p:blipFill>
          <a:blip r:embed="rId4"/>
          <a:stretch/>
        </p:blipFill>
        <p:spPr>
          <a:xfrm>
            <a:off x="0" y="1212840"/>
            <a:ext cx="8285040" cy="39751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Рисунок 4" descr="43009025_121258759033345.gif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3741840"/>
          </a:xfrm>
          <a:prstGeom prst="rect">
            <a:avLst/>
          </a:prstGeom>
          <a:ln w="0">
            <a:noFill/>
          </a:ln>
        </p:spPr>
      </p:pic>
      <p:sp>
        <p:nvSpPr>
          <p:cNvPr id="339" name="Облако 3"/>
          <p:cNvSpPr/>
          <p:nvPr/>
        </p:nvSpPr>
        <p:spPr>
          <a:xfrm>
            <a:off x="857160" y="4086360"/>
            <a:ext cx="7715520" cy="27716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gradFill rotWithShape="0">
            <a:gsLst>
              <a:gs pos="0">
                <a:srgbClr val="ffd7e8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Заголовок 1" descr=""/>
          <p:cNvPicPr/>
          <p:nvPr/>
        </p:nvPicPr>
        <p:blipFill>
          <a:blip r:embed="rId2"/>
          <a:stretch/>
        </p:blipFill>
        <p:spPr>
          <a:xfrm>
            <a:off x="500040" y="4857840"/>
            <a:ext cx="8229600" cy="12081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7:38:56Z</dcterms:created>
  <dc:creator>user</dc:creator>
  <dc:description/>
  <dc:language>en-US</dc:language>
  <cp:lastModifiedBy>Сергей</cp:lastModifiedBy>
  <dcterms:modified xsi:type="dcterms:W3CDTF">2018-07-26T08:01:17Z</dcterms:modified>
  <cp:revision>26</cp:revision>
  <dc:subject/>
  <dc:title> </dc:title>
</cp:coreProperties>
</file>