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D7C-7CC0-4659-B063-F556B302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52E-803E-4E58-9831-D001B2DB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FDB-48C2-4756-9C2D-55D82971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AE5-C252-4EC2-821B-FF07BAFD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182-DB2B-4845-89D9-302DED9E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62E-E448-4319-9299-5F8F0A71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DAD-4CBB-464A-9617-5E6AE003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C05-5409-481B-87F6-29495CA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EB5-5831-469F-A9D6-589F9013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898-6108-4F41-A6D1-9575BBB3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1A5-59D7-4F8A-ACAA-CB4CD31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0FD-DB57-4974-986F-38A038D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A7BB-B001-403B-8CDC-FBCCC7410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ба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оедини падежи с вопросами и вспомогательными сло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362800" cy="4924440"/>
        </p:xfrm>
        <a:graphic>
          <a:graphicData uri="http://schemas.openxmlformats.org/drawingml/2006/table">
            <a:tbl>
              <a:tblPr/>
              <a:tblGrid>
                <a:gridCol w="1913040"/>
                <a:gridCol w="3512880"/>
                <a:gridCol w="2936880"/>
              </a:tblGrid>
              <a:tr h="70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помогательн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ем? чем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му? чему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то? что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 ком? о чем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го? что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го? чего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5" name="Стрелка вправо 4"/>
          <p:cNvSpPr/>
          <p:nvPr/>
        </p:nvSpPr>
        <p:spPr>
          <a:xfrm rot="1862400">
            <a:off x="960480" y="3297240"/>
            <a:ext cx="2592360" cy="12060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право 5"/>
          <p:cNvSpPr/>
          <p:nvPr/>
        </p:nvSpPr>
        <p:spPr>
          <a:xfrm flipV="1" rot="1519800">
            <a:off x="4970160" y="4397760"/>
            <a:ext cx="1834920" cy="100440"/>
          </a:xfrm>
          <a:prstGeom prst="rightArrow">
            <a:avLst>
              <a:gd name="adj1" fmla="val 50000"/>
              <a:gd name="adj2" fmla="val 498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право 6"/>
          <p:cNvSpPr/>
          <p:nvPr/>
        </p:nvSpPr>
        <p:spPr>
          <a:xfrm rot="2920200">
            <a:off x="177840" y="4692600"/>
            <a:ext cx="3619440" cy="136800"/>
          </a:xfrm>
          <a:prstGeom prst="rightArrow">
            <a:avLst>
              <a:gd name="adj1" fmla="val 50000"/>
              <a:gd name="adj2" fmla="val 49854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7"/>
          <p:cNvSpPr/>
          <p:nvPr/>
        </p:nvSpPr>
        <p:spPr>
          <a:xfrm flipV="1" rot="20373600">
            <a:off x="5179680" y="5834160"/>
            <a:ext cx="1835280" cy="100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8"/>
          <p:cNvSpPr/>
          <p:nvPr/>
        </p:nvSpPr>
        <p:spPr>
          <a:xfrm rot="20416200">
            <a:off x="1071720" y="3687840"/>
            <a:ext cx="1969920" cy="810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9"/>
          <p:cNvSpPr/>
          <p:nvPr/>
        </p:nvSpPr>
        <p:spPr>
          <a:xfrm flipV="1" rot="2512200">
            <a:off x="4663800" y="4560480"/>
            <a:ext cx="4081320" cy="10800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10"/>
          <p:cNvSpPr/>
          <p:nvPr/>
        </p:nvSpPr>
        <p:spPr>
          <a:xfrm rot="701400">
            <a:off x="740880" y="5059080"/>
            <a:ext cx="2590920" cy="1206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11"/>
          <p:cNvSpPr/>
          <p:nvPr/>
        </p:nvSpPr>
        <p:spPr>
          <a:xfrm flipV="1" rot="18778800">
            <a:off x="4652640" y="4400640"/>
            <a:ext cx="2934000" cy="120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12"/>
          <p:cNvSpPr/>
          <p:nvPr/>
        </p:nvSpPr>
        <p:spPr>
          <a:xfrm flipV="1" rot="18411600">
            <a:off x="528120" y="3975120"/>
            <a:ext cx="3407040" cy="12384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3"/>
          <p:cNvSpPr/>
          <p:nvPr/>
        </p:nvSpPr>
        <p:spPr>
          <a:xfrm flipV="1" rot="1519800">
            <a:off x="4889160" y="3178080"/>
            <a:ext cx="2890800" cy="83880"/>
          </a:xfrm>
          <a:prstGeom prst="rightArrow">
            <a:avLst>
              <a:gd name="adj1" fmla="val 50000"/>
              <a:gd name="adj2" fmla="val 501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4"/>
          <p:cNvSpPr/>
          <p:nvPr/>
        </p:nvSpPr>
        <p:spPr>
          <a:xfrm rot="19163400">
            <a:off x="955800" y="5425560"/>
            <a:ext cx="2192040" cy="96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5"/>
          <p:cNvSpPr/>
          <p:nvPr/>
        </p:nvSpPr>
        <p:spPr>
          <a:xfrm flipV="1" rot="19041600">
            <a:off x="4849560" y="3657600"/>
            <a:ext cx="2971800" cy="666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80" y="160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ли прямо, под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уг другу улыб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еда, что места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мнёмся для 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хлопка над голов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хлопка перед соб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ленкам бьём ладош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ыгаем на правой н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левой непре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прыгаем сей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-ка дружно, ну-ка вместе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начала ещё ра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inusovka_detskaya_500r_-_Veselaya_pesenka.mp3" descr=""/>
          <p:cNvPicPr/>
          <p:nvPr/>
        </p:nvPicPr>
        <p:blipFill>
          <a:blip r:embed="rId1"/>
          <a:stretch/>
        </p:blipFill>
        <p:spPr>
          <a:xfrm>
            <a:off x="8423280" y="82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9103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читайте. Укажите падеж имён существи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ей тащ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воин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Шмели перелетали 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цветок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или огромные ястре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гра с пословицами «Во всех падеж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пределить падеж слов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л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…) шуток не люб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 сути дел, а п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ел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…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з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…), а дело з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мён, и пригож, и 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е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…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ение итогов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ть тест. (Два вариан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 падеж имени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верка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учились дела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е свою работу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140, упражнение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5:14:23Z</dcterms:created>
  <dc:creator>Name</dc:creator>
  <dc:description/>
  <dc:language>en-US</dc:language>
  <cp:lastModifiedBy>User</cp:lastModifiedBy>
  <dcterms:modified xsi:type="dcterms:W3CDTF">2017-10-25T20:04:46Z</dcterms:modified>
  <cp:revision>37</cp:revision>
  <dc:subject/>
  <dc:title>Урок русского языка в 4 классе                                                                       с использованием информационно-коммуникативных технологий  Тема:Распознование падежей имён существительных</dc:title>
</cp:coreProperties>
</file>