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gif" ContentType="image/gif"/>
  <Override PartName="/ppt/media/click.wav" ContentType="audio/x-wav"/>
  <Override PartName="/ppt/media/image13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2.gif" ContentType="image/gif"/>
  <Override PartName="/ppt/media/image7.gif" ContentType="image/gif"/>
  <Override PartName="/ppt/media/image37.gif" ContentType="image/gif"/>
  <Override PartName="/ppt/media/image8.gif" ContentType="image/gif"/>
  <Override PartName="/ppt/media/image10.gif" ContentType="image/gif"/>
  <Override PartName="/ppt/media/image29.gif" ContentType="image/gif"/>
  <Override PartName="/ppt/media/image34.png" ContentType="image/png"/>
  <Override PartName="/ppt/media/image32.wmf" ContentType="image/x-wmf"/>
  <Override PartName="/ppt/media/image36.gif" ContentType="image/gif"/>
  <Override PartName="/ppt/media/image6.gif" ContentType="image/gif"/>
  <Override PartName="/ppt/media/image11.gif" ContentType="image/gif"/>
  <Override PartName="/ppt/media/image31.wmf" ContentType="image/x-wmf"/>
  <Override PartName="/ppt/media/image35.gif" ContentType="image/gif"/>
  <Override PartName="/ppt/media/image30.gif" ContentType="image/gif"/>
  <Override PartName="/ppt/media/image4.gif" ContentType="image/gif"/>
  <Override PartName="/ppt/media/image27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9.gif" ContentType="image/gif"/>
  <Override PartName="/ppt/media/image5.wmf" ContentType="image/x-wmf"/>
  <Override PartName="/ppt/media/image2.gif" ContentType="image/gif"/>
  <Override PartName="/ppt/media/image25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3CF-3D75-42BF-8B9E-05AF2F2C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D26-70AE-4420-B3B3-9D0005B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714-7B3C-490F-8C8D-06CF9877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A00-96FC-4876-B0E0-4E25586D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18F2-A95E-4FB7-A874-6514E408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66A3-8CDC-4534-B910-BF87D00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7B17-55FA-4246-93A1-C42FDCC2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FE5F-6B0F-4F35-8FB4-BD83F554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9E0F-34FE-4036-9856-5CC4308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210-BFF8-456B-A470-A97F352E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A602-FBFB-4F3E-95C9-48882B4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1E9-AA47-4885-9A2B-B036CD2E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223-8B79-4F9B-A364-F0253AA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2D78-4594-41CE-841C-847304C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8CCC-7935-40B5-98B8-2E14BA83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975B-0ACD-4D5E-B3A8-F015A7B4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178-2CD2-4A2A-84BF-FC0EF8B2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0ED6F-AAC0-4F8C-BC64-2DAE0288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F0609-AAA2-4945-B193-DE989ED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780D1-09AA-4576-8693-41627F0F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EB6E5-1347-4315-88E1-56E5968E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DEA6D-AC89-4FC8-BE37-CF57ABA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C25-1F73-4C57-A997-52A96EC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3B89F-DE68-4611-BF19-05766472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63C33-97D5-452C-AD43-D799846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218E5-D4A1-4494-B902-D639D96B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85AF5-1430-4D6B-9F95-1240E2D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B9072-113B-4E20-A512-8760CFB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7E0E0-BFC3-4F33-A903-A4D77594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439DD-6530-4200-BF56-0FFC1F3E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E5A9-D63F-486A-8A88-DBB1BE7A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3249-CB4D-4CA4-B48B-711D205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E9B0-FDD4-4945-A6D2-67AEDAE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45C-9E4B-45DD-A346-564330F4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2098B-1ECB-4E69-A872-B43874F2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82D4-546A-4A7F-9EE4-5083080A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8804-4A9A-47FC-AAF6-E65F193D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B5797-A47E-454D-BB3C-FD0613B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794F-4CAD-4ECB-878B-CCDCE85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BFB59-32FA-46D5-8FF0-DA36B4C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D56B-C09D-4AB4-B254-24F0D18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D6E7-510D-451B-9703-BDF7363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AF6F-629C-41FC-BD6E-E39E484F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119-1625-4F3D-AAAE-43930681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E08-B7C1-450B-9EC1-2D7D579D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120-3CAF-4BD3-BE34-EC51F8C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045-4756-4DB5-B5FF-3F61881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5DC-9BB8-4D96-A0AC-9A62F30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8BA3-D554-401D-806E-58177963D46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0EB4-9459-42C8-9523-690AC1EC709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4016-CDA3-4A8A-8FE6-02FAA519628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A81-8053-49ED-861D-8B95962F056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7.gif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56.xml"/><Relationship Id="rId12" Type="http://schemas.openxmlformats.org/officeDocument/2006/relationships/slide" Target="slide58.xml"/><Relationship Id="rId13" Type="http://schemas.openxmlformats.org/officeDocument/2006/relationships/slide" Target="slide60.xml"/><Relationship Id="rId14" Type="http://schemas.openxmlformats.org/officeDocument/2006/relationships/slide" Target="slide62.xml"/><Relationship Id="rId15" Type="http://schemas.openxmlformats.org/officeDocument/2006/relationships/slide" Target="slide64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6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slide" Target="slide54.xml"/><Relationship Id="rId30" Type="http://schemas.openxmlformats.org/officeDocument/2006/relationships/slide" Target="slide66.xml"/><Relationship Id="rId31" Type="http://schemas.openxmlformats.org/officeDocument/2006/relationships/slide" Target="slide68.xml"/><Relationship Id="rId3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2;&#1080;&#1088;%20&#1080;&#1085;&#1092;&#1086;&#1088;&#1084;&#1072;&#1090;&#1080;&#1082;&#1080;.ppt" TargetMode="External"/><Relationship Id="rId2" Type="http://schemas.openxmlformats.org/officeDocument/2006/relationships/slide" Target="slide9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3352320"/>
            <a:ext cx="662940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00000"/>
                </a:solidFill>
                <a:latin typeface="Trebuchet MS"/>
              </a:rPr>
              <a:t>“</a:t>
            </a:r>
            <a:r>
              <a:rPr b="1" lang="tt-RU" sz="4400" spc="-1" strike="noStrike">
                <a:solidFill>
                  <a:srgbClr val="c00000"/>
                </a:solidFill>
                <a:latin typeface="Trebuchet MS"/>
              </a:rPr>
              <a:t>Мир русского  языка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09400" y="380880"/>
            <a:ext cx="6877080" cy="31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7100" spc="-1" strike="noStrike">
                <a:solidFill>
                  <a:srgbClr val="67afbd"/>
                </a:solidFill>
                <a:latin typeface="Times New Roman"/>
              </a:rPr>
              <a:t>своя</a:t>
            </a:r>
            <a:r>
              <a:rPr b="1" lang="tt-RU" sz="8000" spc="-1" strike="noStrike">
                <a:solidFill>
                  <a:srgbClr val="438086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add2d6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10" descr="p79_spinearth"/>
          <p:cNvPicPr/>
          <p:nvPr/>
        </p:nvPicPr>
        <p:blipFill>
          <a:blip r:embed="rId1"/>
          <a:stretch/>
        </p:blipFill>
        <p:spPr>
          <a:xfrm>
            <a:off x="237960" y="42876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AG00020_.GIF"/>
          <p:cNvPicPr/>
          <p:nvPr/>
        </p:nvPicPr>
        <p:blipFill>
          <a:blip r:embed="rId2"/>
          <a:stretch/>
        </p:blipFill>
        <p:spPr>
          <a:xfrm>
            <a:off x="7115040" y="5124600"/>
            <a:ext cx="14288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  какие  две  группы  делятся  звуки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724800" y="58863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" descr="AG00308_.GIF"/>
          <p:cNvPicPr/>
          <p:nvPr/>
        </p:nvPicPr>
        <p:blipFill>
          <a:blip r:embed="rId2"/>
          <a:stretch/>
        </p:blipFill>
        <p:spPr>
          <a:xfrm>
            <a:off x="466560" y="3683160"/>
            <a:ext cx="18576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Звуки  делятся  на  гласные  и  согласны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00280" y="79992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зовите  гласные  звуки 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953400" y="596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4" descr="AG00310_.GIF"/>
          <p:cNvPicPr/>
          <p:nvPr/>
        </p:nvPicPr>
        <p:blipFill>
          <a:blip r:embed="rId2"/>
          <a:stretch/>
        </p:blipFill>
        <p:spPr>
          <a:xfrm>
            <a:off x="905040" y="3646440"/>
            <a:ext cx="18954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914400" y="666720"/>
            <a:ext cx="77724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 a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o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у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э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ы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еречислите  согласные  звуки, входящие  в  группу  сонорных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76200" y="590544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3" descr="AG00311_.GIF"/>
          <p:cNvPicPr/>
          <p:nvPr/>
        </p:nvPicPr>
        <p:blipFill>
          <a:blip r:embed="rId2"/>
          <a:stretch/>
        </p:blipFill>
        <p:spPr>
          <a:xfrm>
            <a:off x="6477120" y="3603600"/>
            <a:ext cx="16858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й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AutoShape 5">
            <a:hlinkClick r:id="rId1" action="ppaction://hlinksldjump"/>
          </p:cNvPr>
          <p:cNvSpPr/>
          <p:nvPr/>
        </p:nvSpPr>
        <p:spPr>
          <a:xfrm>
            <a:off x="8286840" y="6095880"/>
            <a:ext cx="495360" cy="51444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514440"/>
              <a:gd name="textAreaBottom" fmla="*/ 482400 h 514440"/>
            </a:gdLst>
            <a:ahLst/>
            <a:rect l="textAreaLeft" t="textAreaTop" r="textAreaRight" b="textAreaBottom"/>
            <a:pathLst>
              <a:path w="21600" h="22431">
                <a:moveTo>
                  <a:pt x="0" y="0"/>
                </a:moveTo>
                <a:lnTo>
                  <a:pt x="21600" y="0"/>
                </a:lnTo>
                <a:lnTo>
                  <a:pt x="21600" y="22431"/>
                </a:lnTo>
                <a:lnTo>
                  <a:pt x="0" y="22431"/>
                </a:lnTo>
                <a:close/>
              </a:path>
              <a:path fill="lightenLess" w="21600" h="224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31">
                <a:moveTo>
                  <a:pt x="21600" y="0"/>
                </a:moveTo>
                <a:lnTo>
                  <a:pt x="21600" y="22431"/>
                </a:lnTo>
                <a:lnTo>
                  <a:pt x="20200" y="21031"/>
                </a:lnTo>
                <a:lnTo>
                  <a:pt x="20200" y="1400"/>
                </a:lnTo>
                <a:close/>
              </a:path>
              <a:path fill="darkenLess" w="21600" h="22431">
                <a:moveTo>
                  <a:pt x="21600" y="22431"/>
                </a:moveTo>
                <a:lnTo>
                  <a:pt x="0" y="22431"/>
                </a:lnTo>
                <a:lnTo>
                  <a:pt x="1400" y="21031"/>
                </a:lnTo>
                <a:lnTo>
                  <a:pt x="20200" y="21031"/>
                </a:lnTo>
                <a:close/>
              </a:path>
              <a:path fill="lighten" w="21600" h="22431">
                <a:moveTo>
                  <a:pt x="0" y="224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31"/>
                </a:lnTo>
                <a:close/>
              </a:path>
              <a:path fill="darken" w="21600" h="22431">
                <a:moveTo>
                  <a:pt x="10800" y="4253"/>
                </a:moveTo>
                <a:lnTo>
                  <a:pt x="13376" y="6864"/>
                </a:lnTo>
                <a:lnTo>
                  <a:pt x="13376" y="5123"/>
                </a:lnTo>
                <a:lnTo>
                  <a:pt x="15152" y="5123"/>
                </a:lnTo>
                <a:lnTo>
                  <a:pt x="15152" y="8639"/>
                </a:lnTo>
                <a:lnTo>
                  <a:pt x="17763" y="11216"/>
                </a:lnTo>
                <a:lnTo>
                  <a:pt x="16109" y="11216"/>
                </a:lnTo>
                <a:lnTo>
                  <a:pt x="16109" y="18405"/>
                </a:lnTo>
                <a:lnTo>
                  <a:pt x="5491" y="18405"/>
                </a:lnTo>
                <a:lnTo>
                  <a:pt x="5491" y="11216"/>
                </a:lnTo>
                <a:lnTo>
                  <a:pt x="3837" y="11216"/>
                </a:lnTo>
                <a:close/>
              </a:path>
              <a:path fill="darkenLess" w="21600" h="22431">
                <a:moveTo>
                  <a:pt x="13376" y="6864"/>
                </a:moveTo>
                <a:lnTo>
                  <a:pt x="13376" y="5123"/>
                </a:lnTo>
                <a:lnTo>
                  <a:pt x="15152" y="5123"/>
                </a:lnTo>
                <a:lnTo>
                  <a:pt x="15152" y="8639"/>
                </a:lnTo>
                <a:close/>
              </a:path>
              <a:path fill="darkenLess" w="21600" h="22431">
                <a:moveTo>
                  <a:pt x="9877" y="14715"/>
                </a:moveTo>
                <a:lnTo>
                  <a:pt x="11723" y="14715"/>
                </a:lnTo>
                <a:lnTo>
                  <a:pt x="11723" y="18405"/>
                </a:lnTo>
                <a:lnTo>
                  <a:pt x="16109" y="18405"/>
                </a:lnTo>
                <a:lnTo>
                  <a:pt x="16109" y="11216"/>
                </a:lnTo>
                <a:lnTo>
                  <a:pt x="5491" y="11216"/>
                </a:lnTo>
                <a:lnTo>
                  <a:pt x="5491" y="18405"/>
                </a:lnTo>
                <a:lnTo>
                  <a:pt x="9877" y="184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42720" y="259920"/>
            <a:ext cx="83437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ажите, в  каком ряду  во  всех  словах  звуков  больше, чем  букв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1.    Ёлка, празднуют, воробей, взя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2.    Опускается, пришёл, сбить, июн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3. Сгибает, появляюсь, демонстрация, явл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4.  Объявление, съехавший, бьющаяся, ки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571680" y="598176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3" descr="AG00312_.GIF"/>
          <p:cNvPicPr/>
          <p:nvPr/>
        </p:nvPicPr>
        <p:blipFill>
          <a:blip r:embed="rId2"/>
          <a:stretch/>
        </p:blipFill>
        <p:spPr>
          <a:xfrm>
            <a:off x="6905520" y="4572000"/>
            <a:ext cx="15336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14400" y="666720"/>
            <a:ext cx="777240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гибает, появляюсь, демонстрация, явле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AutoShape 5">
            <a:hlinkClick r:id="rId1" action="ppaction://hlinksldjump"/>
          </p:cNvPr>
          <p:cNvSpPr/>
          <p:nvPr/>
        </p:nvSpPr>
        <p:spPr>
          <a:xfrm>
            <a:off x="8248680" y="6210360"/>
            <a:ext cx="533520" cy="39996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80" y="6448"/>
                </a:lnTo>
                <a:lnTo>
                  <a:pt x="16980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80" y="6448"/>
                </a:moveTo>
                <a:lnTo>
                  <a:pt x="16980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1" y="14299"/>
                </a:moveTo>
                <a:lnTo>
                  <a:pt x="15326" y="14299"/>
                </a:lnTo>
                <a:lnTo>
                  <a:pt x="15326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то  изучает  лексикология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667560" y="58482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3" descr="AG00313_.GIF"/>
          <p:cNvPicPr/>
          <p:nvPr/>
        </p:nvPicPr>
        <p:blipFill>
          <a:blip r:embed="rId2"/>
          <a:stretch/>
        </p:blipFill>
        <p:spPr>
          <a:xfrm>
            <a:off x="647640" y="2921040"/>
            <a:ext cx="2152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404280"/>
            <a:ext cx="8381880" cy="42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Лексикология – раздел  науки  о  языке, изучающий  словарный  состав  язык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AutoShape 5">
            <a:hlinkClick r:id="rId1" action="ppaction://hlinksldjump"/>
          </p:cNvPr>
          <p:cNvSpPr/>
          <p:nvPr/>
        </p:nvSpPr>
        <p:spPr>
          <a:xfrm>
            <a:off x="7962840" y="6076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81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Отборочный  тур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57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1-й  вопрос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чему  корень слова  называется  корнем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 переносном  значении  корень – это  «основа, источник». Корень  слова  тоже  является  основой, на  которой  формируется  семантика  слова, естественно, преобразуясь  при  присоединении  новых  морф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Рисунок 3" descr="AG00402_.GIF"/>
          <p:cNvPicPr/>
          <p:nvPr/>
        </p:nvPicPr>
        <p:blipFill>
          <a:blip r:embed="rId1"/>
          <a:stretch/>
        </p:blipFill>
        <p:spPr>
          <a:xfrm>
            <a:off x="6576840" y="4683240"/>
            <a:ext cx="13669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4000" y="323640"/>
            <a:ext cx="836280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(кот в мешк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начение  какого слова  определено  неверно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Сувенир – подарок, изделие, на  память  о  городе, стране  и  т.п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Торец – боковая  сторона  до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Уникальный – единственный  в  своём  род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Заурядный – приметный, обращающий  на  себя  вним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257960" y="6167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14400" y="259920"/>
            <a:ext cx="77724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Заурядный – приметный, обращающий  на  себя  вним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AutoShape 5">
            <a:hlinkClick r:id="rId1" action="ppaction://hlinksldjump"/>
          </p:cNvPr>
          <p:cNvSpPr/>
          <p:nvPr/>
        </p:nvSpPr>
        <p:spPr>
          <a:xfrm>
            <a:off x="7962840" y="6076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5400" y="1104480"/>
            <a:ext cx="82263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ажите  группу  слов, в  которой  правильно  приведены  синонимы  к  слову  «смелость»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га, храбрый, мужество, бесстрашие, горд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жный, храбрый, мужественный, бесстрашн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га, храбрость, мужество, бесстраш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твага, храбрость, мужество, бесстрашие, горд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324480" y="62485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26760" y="1390680"/>
            <a:ext cx="822636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Отвага, храбрость, мужество, бесстраши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AutoShape 5">
            <a:hlinkClick r:id="rId1" action="ppaction://hlinksldjump"/>
          </p:cNvPr>
          <p:cNvSpPr/>
          <p:nvPr/>
        </p:nvSpPr>
        <p:spPr>
          <a:xfrm>
            <a:off x="7962840" y="6019920"/>
            <a:ext cx="647640" cy="590400"/>
          </a:xfrm>
          <a:custGeom>
            <a:avLst/>
            <a:gdLst>
              <a:gd name="textAreaLeft" fmla="*/ 38160 w 647640"/>
              <a:gd name="textAreaRight" fmla="*/ 609480 w 647640"/>
              <a:gd name="textAreaTop" fmla="*/ 38160 h 590400"/>
              <a:gd name="textAreaBottom" fmla="*/ 552240 h 590400"/>
            </a:gdLst>
            <a:ahLst/>
            <a:rect l="textAreaLeft" t="textAreaTop" r="textAreaRight" b="textAreaBottom"/>
            <a:pathLst>
              <a:path w="23693" h="21600">
                <a:moveTo>
                  <a:pt x="0" y="0"/>
                </a:moveTo>
                <a:lnTo>
                  <a:pt x="23693" y="0"/>
                </a:lnTo>
                <a:lnTo>
                  <a:pt x="23693" y="21600"/>
                </a:lnTo>
                <a:lnTo>
                  <a:pt x="0" y="21600"/>
                </a:lnTo>
                <a:close/>
              </a:path>
              <a:path fill="lightenLess" w="23693" h="21600">
                <a:moveTo>
                  <a:pt x="0" y="0"/>
                </a:moveTo>
                <a:lnTo>
                  <a:pt x="23693" y="0"/>
                </a:lnTo>
                <a:lnTo>
                  <a:pt x="22293" y="1400"/>
                </a:lnTo>
                <a:lnTo>
                  <a:pt x="1400" y="1400"/>
                </a:lnTo>
                <a:close/>
              </a:path>
              <a:path fill="darken" w="23693" h="21600">
                <a:moveTo>
                  <a:pt x="23693" y="0"/>
                </a:moveTo>
                <a:lnTo>
                  <a:pt x="23693" y="21600"/>
                </a:lnTo>
                <a:lnTo>
                  <a:pt x="22293" y="20200"/>
                </a:lnTo>
                <a:lnTo>
                  <a:pt x="22293" y="1400"/>
                </a:lnTo>
                <a:close/>
              </a:path>
              <a:path fill="darkenLess" w="23693" h="21600">
                <a:moveTo>
                  <a:pt x="23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3" y="20200"/>
                </a:lnTo>
                <a:close/>
              </a:path>
              <a:path fill="lighten" w="23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3" h="21600">
                <a:moveTo>
                  <a:pt x="11846" y="3837"/>
                </a:moveTo>
                <a:lnTo>
                  <a:pt x="14423" y="6448"/>
                </a:lnTo>
                <a:lnTo>
                  <a:pt x="14423" y="4707"/>
                </a:lnTo>
                <a:lnTo>
                  <a:pt x="16198" y="4707"/>
                </a:lnTo>
                <a:lnTo>
                  <a:pt x="16198" y="8224"/>
                </a:lnTo>
                <a:lnTo>
                  <a:pt x="18809" y="10800"/>
                </a:lnTo>
                <a:lnTo>
                  <a:pt x="17156" y="10800"/>
                </a:lnTo>
                <a:lnTo>
                  <a:pt x="17156" y="17989"/>
                </a:lnTo>
                <a:lnTo>
                  <a:pt x="6537" y="17989"/>
                </a:lnTo>
                <a:lnTo>
                  <a:pt x="6537" y="10800"/>
                </a:lnTo>
                <a:lnTo>
                  <a:pt x="4883" y="10800"/>
                </a:lnTo>
                <a:close/>
              </a:path>
              <a:path fill="darkenLess" w="23693" h="21600">
                <a:moveTo>
                  <a:pt x="14423" y="6448"/>
                </a:moveTo>
                <a:lnTo>
                  <a:pt x="14423" y="4707"/>
                </a:lnTo>
                <a:lnTo>
                  <a:pt x="16198" y="4707"/>
                </a:lnTo>
                <a:lnTo>
                  <a:pt x="16198" y="8224"/>
                </a:lnTo>
                <a:close/>
              </a:path>
              <a:path fill="darkenLess" w="23693" h="21600">
                <a:moveTo>
                  <a:pt x="10924" y="14299"/>
                </a:moveTo>
                <a:lnTo>
                  <a:pt x="12769" y="14299"/>
                </a:lnTo>
                <a:lnTo>
                  <a:pt x="12769" y="17989"/>
                </a:lnTo>
                <a:lnTo>
                  <a:pt x="17156" y="17989"/>
                </a:lnTo>
                <a:lnTo>
                  <a:pt x="17156" y="10800"/>
                </a:lnTo>
                <a:lnTo>
                  <a:pt x="6537" y="10800"/>
                </a:lnTo>
                <a:lnTo>
                  <a:pt x="6537" y="17989"/>
                </a:lnTo>
                <a:lnTo>
                  <a:pt x="10924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275840" y="404640"/>
            <a:ext cx="74106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Georgia"/>
              </a:rPr>
              <a:t>Как  называются  слова, употребляемые людьми  одной  профессии? </a:t>
            </a:r>
            <a:r>
              <a:rPr b="1" lang="ru-RU" sz="4100" spc="-1" strike="noStrike">
                <a:solidFill>
                  <a:srgbClr val="c00000"/>
                </a:solidFill>
                <a:latin typeface="Georgia"/>
              </a:rPr>
              <a:t>Приведите  пример.</a:t>
            </a:r>
            <a:endParaRPr b="0" lang="en-US" sz="4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686640" y="5524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3" descr="AG00314_.GIF"/>
          <p:cNvPicPr/>
          <p:nvPr/>
        </p:nvPicPr>
        <p:blipFill>
          <a:blip r:embed="rId2"/>
          <a:stretch/>
        </p:blipFill>
        <p:spPr>
          <a:xfrm>
            <a:off x="0" y="2879640"/>
            <a:ext cx="23288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офессиональные  слов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7962840" y="6114960"/>
            <a:ext cx="533520" cy="495360"/>
          </a:xfrm>
          <a:custGeom>
            <a:avLst/>
            <a:gdLst>
              <a:gd name="textAreaLeft" fmla="*/ 32040 w 533520"/>
              <a:gd name="textAreaRight" fmla="*/ 501480 w 53352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11631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lnTo>
                  <a:pt x="18594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2" y="17989"/>
                </a:lnTo>
                <a:lnTo>
                  <a:pt x="6322" y="10800"/>
                </a:lnTo>
                <a:lnTo>
                  <a:pt x="4668" y="10800"/>
                </a:lnTo>
                <a:close/>
              </a:path>
              <a:path fill="darkenLess" w="23263" h="21600">
                <a:moveTo>
                  <a:pt x="14208" y="6448"/>
                </a:move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close/>
              </a:path>
              <a:path fill="darkenLess" w="23263" h="21600">
                <a:moveTo>
                  <a:pt x="10709" y="14299"/>
                </a:moveTo>
                <a:lnTo>
                  <a:pt x="12554" y="14299"/>
                </a:lnTo>
                <a:lnTo>
                  <a:pt x="12554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2" y="10800"/>
                </a:lnTo>
                <a:lnTo>
                  <a:pt x="6322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монимы – это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419880" y="5886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3" descr="AG00039_.GIF"/>
          <p:cNvPicPr/>
          <p:nvPr/>
        </p:nvPicPr>
        <p:blipFill>
          <a:blip r:embed="rId2"/>
          <a:stretch/>
        </p:blipFill>
        <p:spPr>
          <a:xfrm>
            <a:off x="2847960" y="3343320"/>
            <a:ext cx="27716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799920"/>
            <a:ext cx="7772400" cy="53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  слова одной  и  той  же  части  речи, одинаковые  по  звучанию  и  написанию, но  разные  по  лексическому  значению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552600" cy="476280"/>
          </a:xfrm>
          <a:custGeom>
            <a:avLst/>
            <a:gdLst>
              <a:gd name="textAreaLeft" fmla="*/ 30600 w 552600"/>
              <a:gd name="textAreaRight" fmla="*/ 522000 w 5526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5059" h="21600">
                <a:moveTo>
                  <a:pt x="0" y="0"/>
                </a:moveTo>
                <a:lnTo>
                  <a:pt x="25059" y="0"/>
                </a:lnTo>
                <a:lnTo>
                  <a:pt x="25059" y="21600"/>
                </a:lnTo>
                <a:lnTo>
                  <a:pt x="0" y="21600"/>
                </a:lnTo>
                <a:close/>
              </a:path>
              <a:path fill="lightenLess" w="25059" h="21600">
                <a:moveTo>
                  <a:pt x="0" y="0"/>
                </a:moveTo>
                <a:lnTo>
                  <a:pt x="25059" y="0"/>
                </a:lnTo>
                <a:lnTo>
                  <a:pt x="23659" y="1400"/>
                </a:lnTo>
                <a:lnTo>
                  <a:pt x="1400" y="1400"/>
                </a:lnTo>
                <a:close/>
              </a:path>
              <a:path fill="darken" w="25059" h="21600">
                <a:moveTo>
                  <a:pt x="25059" y="0"/>
                </a:moveTo>
                <a:lnTo>
                  <a:pt x="25059" y="21600"/>
                </a:lnTo>
                <a:lnTo>
                  <a:pt x="23659" y="20200"/>
                </a:lnTo>
                <a:lnTo>
                  <a:pt x="23659" y="1400"/>
                </a:lnTo>
                <a:close/>
              </a:path>
              <a:path fill="darkenLess" w="25059" h="21600">
                <a:moveTo>
                  <a:pt x="25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9" y="20200"/>
                </a:lnTo>
                <a:close/>
              </a:path>
              <a:path fill="lighten" w="25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9" h="21600">
                <a:moveTo>
                  <a:pt x="12529" y="3837"/>
                </a:moveTo>
                <a:lnTo>
                  <a:pt x="15106" y="6448"/>
                </a:lnTo>
                <a:lnTo>
                  <a:pt x="15106" y="4707"/>
                </a:lnTo>
                <a:lnTo>
                  <a:pt x="16881" y="4707"/>
                </a:lnTo>
                <a:lnTo>
                  <a:pt x="16881" y="8224"/>
                </a:lnTo>
                <a:lnTo>
                  <a:pt x="19492" y="10800"/>
                </a:lnTo>
                <a:lnTo>
                  <a:pt x="17839" y="10800"/>
                </a:lnTo>
                <a:lnTo>
                  <a:pt x="17839" y="17989"/>
                </a:lnTo>
                <a:lnTo>
                  <a:pt x="7220" y="17989"/>
                </a:lnTo>
                <a:lnTo>
                  <a:pt x="7220" y="10800"/>
                </a:lnTo>
                <a:lnTo>
                  <a:pt x="5566" y="10800"/>
                </a:lnTo>
                <a:close/>
              </a:path>
              <a:path fill="darkenLess" w="25059" h="21600">
                <a:moveTo>
                  <a:pt x="15106" y="6448"/>
                </a:moveTo>
                <a:lnTo>
                  <a:pt x="15106" y="4707"/>
                </a:lnTo>
                <a:lnTo>
                  <a:pt x="16881" y="4707"/>
                </a:lnTo>
                <a:lnTo>
                  <a:pt x="16881" y="8224"/>
                </a:lnTo>
                <a:close/>
              </a:path>
              <a:path fill="darkenLess" w="25059" h="21600">
                <a:moveTo>
                  <a:pt x="11607" y="14299"/>
                </a:moveTo>
                <a:lnTo>
                  <a:pt x="13452" y="14299"/>
                </a:lnTo>
                <a:lnTo>
                  <a:pt x="13452" y="17989"/>
                </a:lnTo>
                <a:lnTo>
                  <a:pt x="17839" y="17989"/>
                </a:lnTo>
                <a:lnTo>
                  <a:pt x="17839" y="10800"/>
                </a:lnTo>
                <a:lnTo>
                  <a:pt x="7220" y="10800"/>
                </a:lnTo>
                <a:lnTo>
                  <a:pt x="7220" y="17989"/>
                </a:lnTo>
                <a:lnTo>
                  <a:pt x="1160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85840" y="333360"/>
            <a:ext cx="84009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четание  двух  или  нескольких  самостоятельных  слов, связанных  друг  с  другом  по  смыслу  и  грамматически  называется 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67560" y="58863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" descr="AG00223_.GIF"/>
          <p:cNvPicPr/>
          <p:nvPr/>
        </p:nvPicPr>
        <p:blipFill>
          <a:blip r:embed="rId2"/>
          <a:stretch/>
        </p:blipFill>
        <p:spPr>
          <a:xfrm>
            <a:off x="480960" y="3944880"/>
            <a:ext cx="37483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14400" y="404640"/>
            <a:ext cx="77724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ловосочета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533520" cy="476280"/>
          </a:xfrm>
          <a:custGeom>
            <a:avLst/>
            <a:gdLst>
              <a:gd name="textAreaLeft" fmla="*/ 30600 w 533520"/>
              <a:gd name="textAreaRight" fmla="*/ 502920 w 5335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194" h="21600">
                <a:moveTo>
                  <a:pt x="0" y="0"/>
                </a:moveTo>
                <a:lnTo>
                  <a:pt x="24194" y="0"/>
                </a:lnTo>
                <a:lnTo>
                  <a:pt x="24194" y="21600"/>
                </a:lnTo>
                <a:lnTo>
                  <a:pt x="0" y="21600"/>
                </a:lnTo>
                <a:close/>
              </a:path>
              <a:path fill="lightenLess" w="24194" h="21600">
                <a:moveTo>
                  <a:pt x="0" y="0"/>
                </a:moveTo>
                <a:lnTo>
                  <a:pt x="24194" y="0"/>
                </a:lnTo>
                <a:lnTo>
                  <a:pt x="22794" y="1400"/>
                </a:lnTo>
                <a:lnTo>
                  <a:pt x="1400" y="1400"/>
                </a:lnTo>
                <a:close/>
              </a:path>
              <a:path fill="darken" w="24194" h="21600">
                <a:moveTo>
                  <a:pt x="24194" y="0"/>
                </a:moveTo>
                <a:lnTo>
                  <a:pt x="24194" y="21600"/>
                </a:lnTo>
                <a:lnTo>
                  <a:pt x="22794" y="20200"/>
                </a:lnTo>
                <a:lnTo>
                  <a:pt x="22794" y="1400"/>
                </a:lnTo>
                <a:close/>
              </a:path>
              <a:path fill="darkenLess" w="24194" h="21600">
                <a:moveTo>
                  <a:pt x="24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4" y="20200"/>
                </a:lnTo>
                <a:close/>
              </a:path>
              <a:path fill="lighten" w="24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4" h="21600">
                <a:moveTo>
                  <a:pt x="12097" y="3837"/>
                </a:moveTo>
                <a:lnTo>
                  <a:pt x="14673" y="6448"/>
                </a:lnTo>
                <a:lnTo>
                  <a:pt x="14673" y="4707"/>
                </a:lnTo>
                <a:lnTo>
                  <a:pt x="16449" y="4707"/>
                </a:lnTo>
                <a:lnTo>
                  <a:pt x="16449" y="8224"/>
                </a:lnTo>
                <a:lnTo>
                  <a:pt x="19060" y="10800"/>
                </a:lnTo>
                <a:lnTo>
                  <a:pt x="17406" y="10800"/>
                </a:lnTo>
                <a:lnTo>
                  <a:pt x="17406" y="17989"/>
                </a:lnTo>
                <a:lnTo>
                  <a:pt x="6788" y="17989"/>
                </a:lnTo>
                <a:lnTo>
                  <a:pt x="6788" y="10800"/>
                </a:lnTo>
                <a:lnTo>
                  <a:pt x="5134" y="10800"/>
                </a:lnTo>
                <a:close/>
              </a:path>
              <a:path fill="darkenLess" w="24194" h="21600">
                <a:moveTo>
                  <a:pt x="14673" y="6448"/>
                </a:moveTo>
                <a:lnTo>
                  <a:pt x="14673" y="4707"/>
                </a:lnTo>
                <a:lnTo>
                  <a:pt x="16449" y="4707"/>
                </a:lnTo>
                <a:lnTo>
                  <a:pt x="16449" y="8224"/>
                </a:lnTo>
                <a:close/>
              </a:path>
              <a:path fill="darkenLess" w="24194" h="21600">
                <a:moveTo>
                  <a:pt x="11174" y="14299"/>
                </a:moveTo>
                <a:lnTo>
                  <a:pt x="13020" y="14299"/>
                </a:lnTo>
                <a:lnTo>
                  <a:pt x="13020" y="17989"/>
                </a:lnTo>
                <a:lnTo>
                  <a:pt x="17406" y="17989"/>
                </a:lnTo>
                <a:lnTo>
                  <a:pt x="17406" y="10800"/>
                </a:lnTo>
                <a:lnTo>
                  <a:pt x="6788" y="10800"/>
                </a:lnTo>
                <a:lnTo>
                  <a:pt x="6788" y="17989"/>
                </a:lnTo>
                <a:lnTo>
                  <a:pt x="11174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552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2-й 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189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ак  правильно сказать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  рыбов  нет  зубов, у  рыбей  нет  зубей, у  рыб  нет  зуб  или  по-другому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У  рыб  нет  зуб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Рисунок 3" descr="AG00178_.GIF"/>
          <p:cNvPicPr/>
          <p:nvPr/>
        </p:nvPicPr>
        <p:blipFill>
          <a:blip r:embed="rId1"/>
          <a:stretch/>
        </p:blipFill>
        <p:spPr>
          <a:xfrm>
            <a:off x="4119480" y="3600360"/>
            <a:ext cx="4453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800280" y="1714680"/>
            <a:ext cx="78865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ите  способ  подчинительной  связи  в  словосочета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своение  космо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азговаривал  улыбая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686640" y="6033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4" descr="AG00012_.GIF"/>
          <p:cNvPicPr/>
          <p:nvPr/>
        </p:nvPicPr>
        <p:blipFill>
          <a:blip r:embed="rId2"/>
          <a:stretch/>
        </p:blipFill>
        <p:spPr>
          <a:xfrm>
            <a:off x="333360" y="544680"/>
            <a:ext cx="17049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5"/>
          <p:cNvSpPr/>
          <p:nvPr/>
        </p:nvSpPr>
        <p:spPr>
          <a:xfrm>
            <a:off x="838080" y="274320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, примык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>
            <a:hlinkClick r:id="rId1" action="ppaction://hlinksldjump"/>
          </p:cNvPr>
          <p:cNvSpPr/>
          <p:nvPr/>
        </p:nvSpPr>
        <p:spPr>
          <a:xfrm>
            <a:off x="7962840" y="6153120"/>
            <a:ext cx="590760" cy="457200"/>
          </a:xfrm>
          <a:custGeom>
            <a:avLst/>
            <a:gdLst>
              <a:gd name="textAreaLeft" fmla="*/ 29520 w 590760"/>
              <a:gd name="textAreaRight" fmla="*/ 561240 w 590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7905" h="21600">
                <a:moveTo>
                  <a:pt x="0" y="0"/>
                </a:moveTo>
                <a:lnTo>
                  <a:pt x="27905" y="0"/>
                </a:lnTo>
                <a:lnTo>
                  <a:pt x="27905" y="21600"/>
                </a:lnTo>
                <a:lnTo>
                  <a:pt x="0" y="21600"/>
                </a:lnTo>
                <a:close/>
              </a:path>
              <a:path fill="lightenLess" w="27905" h="21600">
                <a:moveTo>
                  <a:pt x="0" y="0"/>
                </a:moveTo>
                <a:lnTo>
                  <a:pt x="27905" y="0"/>
                </a:lnTo>
                <a:lnTo>
                  <a:pt x="26505" y="1400"/>
                </a:lnTo>
                <a:lnTo>
                  <a:pt x="1400" y="1400"/>
                </a:lnTo>
                <a:close/>
              </a:path>
              <a:path fill="darken" w="27905" h="21600">
                <a:moveTo>
                  <a:pt x="27905" y="0"/>
                </a:moveTo>
                <a:lnTo>
                  <a:pt x="27905" y="21600"/>
                </a:lnTo>
                <a:lnTo>
                  <a:pt x="26505" y="20200"/>
                </a:lnTo>
                <a:lnTo>
                  <a:pt x="26505" y="1400"/>
                </a:lnTo>
                <a:close/>
              </a:path>
              <a:path fill="darkenLess" w="27905" h="21600">
                <a:moveTo>
                  <a:pt x="27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5" y="20200"/>
                </a:lnTo>
                <a:close/>
              </a:path>
              <a:path fill="lighten" w="27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05" h="21600">
                <a:moveTo>
                  <a:pt x="13952" y="3837"/>
                </a:moveTo>
                <a:lnTo>
                  <a:pt x="16529" y="6448"/>
                </a:lnTo>
                <a:lnTo>
                  <a:pt x="16529" y="4707"/>
                </a:lnTo>
                <a:lnTo>
                  <a:pt x="18304" y="4707"/>
                </a:lnTo>
                <a:lnTo>
                  <a:pt x="18304" y="8224"/>
                </a:lnTo>
                <a:lnTo>
                  <a:pt x="20915" y="10800"/>
                </a:lnTo>
                <a:lnTo>
                  <a:pt x="19262" y="10800"/>
                </a:lnTo>
                <a:lnTo>
                  <a:pt x="19262" y="17989"/>
                </a:lnTo>
                <a:lnTo>
                  <a:pt x="8643" y="17989"/>
                </a:lnTo>
                <a:lnTo>
                  <a:pt x="8643" y="10800"/>
                </a:lnTo>
                <a:lnTo>
                  <a:pt x="6990" y="10800"/>
                </a:lnTo>
                <a:close/>
              </a:path>
              <a:path fill="darkenLess" w="27905" h="21600">
                <a:moveTo>
                  <a:pt x="16529" y="6448"/>
                </a:moveTo>
                <a:lnTo>
                  <a:pt x="16529" y="4707"/>
                </a:lnTo>
                <a:lnTo>
                  <a:pt x="18304" y="4707"/>
                </a:lnTo>
                <a:lnTo>
                  <a:pt x="18304" y="8224"/>
                </a:lnTo>
                <a:close/>
              </a:path>
              <a:path fill="darkenLess" w="27905" h="21600">
                <a:moveTo>
                  <a:pt x="13030" y="14299"/>
                </a:moveTo>
                <a:lnTo>
                  <a:pt x="14875" y="14299"/>
                </a:lnTo>
                <a:lnTo>
                  <a:pt x="14875" y="17989"/>
                </a:lnTo>
                <a:lnTo>
                  <a:pt x="19262" y="17989"/>
                </a:lnTo>
                <a:lnTo>
                  <a:pt x="19262" y="10800"/>
                </a:lnTo>
                <a:lnTo>
                  <a:pt x="8643" y="10800"/>
                </a:lnTo>
                <a:lnTo>
                  <a:pt x="8643" y="17989"/>
                </a:lnTo>
                <a:lnTo>
                  <a:pt x="13030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19040" y="1581120"/>
            <a:ext cx="826776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пределите  сказуемое  в  предложении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а  тёмном  небе  начинали  мигать  звёзды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6496200" y="6076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3" descr="AG00432_.GIF"/>
          <p:cNvPicPr/>
          <p:nvPr/>
        </p:nvPicPr>
        <p:blipFill>
          <a:blip r:embed="rId2"/>
          <a:stretch/>
        </p:blipFill>
        <p:spPr>
          <a:xfrm>
            <a:off x="919080" y="571680"/>
            <a:ext cx="20685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ачинали  мигать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(составное  глагольно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AutoShape 5">
            <a:hlinkClick r:id="rId1" action="ppaction://hlinksldjump"/>
          </p:cNvPr>
          <p:cNvSpPr/>
          <p:nvPr/>
        </p:nvSpPr>
        <p:spPr>
          <a:xfrm>
            <a:off x="7962840" y="6191280"/>
            <a:ext cx="438120" cy="419040"/>
          </a:xfrm>
          <a:custGeom>
            <a:avLst/>
            <a:gdLst>
              <a:gd name="textAreaLeft" fmla="*/ 27000 w 438120"/>
              <a:gd name="textAreaRight" fmla="*/ 411120 w 438120"/>
              <a:gd name="textAreaTop" fmla="*/ 27000 h 419040"/>
              <a:gd name="textAreaBottom" fmla="*/ 392040 h 419040"/>
            </a:gdLst>
            <a:ahLst/>
            <a:rect l="textAreaLeft" t="textAreaTop" r="textAreaRight" b="textAreaBottom"/>
            <a:pathLst>
              <a:path w="22583" h="21600">
                <a:moveTo>
                  <a:pt x="0" y="0"/>
                </a:moveTo>
                <a:lnTo>
                  <a:pt x="22583" y="0"/>
                </a:lnTo>
                <a:lnTo>
                  <a:pt x="22583" y="21600"/>
                </a:lnTo>
                <a:lnTo>
                  <a:pt x="0" y="21600"/>
                </a:lnTo>
                <a:close/>
              </a:path>
              <a:path fill="lightenLess" w="22583" h="21600">
                <a:moveTo>
                  <a:pt x="0" y="0"/>
                </a:moveTo>
                <a:lnTo>
                  <a:pt x="22583" y="0"/>
                </a:lnTo>
                <a:lnTo>
                  <a:pt x="21183" y="1400"/>
                </a:lnTo>
                <a:lnTo>
                  <a:pt x="1400" y="1400"/>
                </a:lnTo>
                <a:close/>
              </a:path>
              <a:path fill="darken" w="22583" h="21600">
                <a:moveTo>
                  <a:pt x="22583" y="0"/>
                </a:moveTo>
                <a:lnTo>
                  <a:pt x="22583" y="21600"/>
                </a:lnTo>
                <a:lnTo>
                  <a:pt x="21183" y="20200"/>
                </a:lnTo>
                <a:lnTo>
                  <a:pt x="21183" y="1400"/>
                </a:lnTo>
                <a:close/>
              </a:path>
              <a:path fill="darkenLess" w="22583" h="21600">
                <a:moveTo>
                  <a:pt x="22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3" y="20200"/>
                </a:lnTo>
                <a:close/>
              </a:path>
              <a:path fill="lighten" w="22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3" h="21600">
                <a:moveTo>
                  <a:pt x="11291" y="3837"/>
                </a:moveTo>
                <a:lnTo>
                  <a:pt x="13868" y="6448"/>
                </a:lnTo>
                <a:lnTo>
                  <a:pt x="13868" y="4707"/>
                </a:lnTo>
                <a:lnTo>
                  <a:pt x="15643" y="4707"/>
                </a:lnTo>
                <a:lnTo>
                  <a:pt x="15643" y="8224"/>
                </a:lnTo>
                <a:lnTo>
                  <a:pt x="18254" y="10800"/>
                </a:lnTo>
                <a:lnTo>
                  <a:pt x="16601" y="10800"/>
                </a:lnTo>
                <a:lnTo>
                  <a:pt x="16601" y="17989"/>
                </a:lnTo>
                <a:lnTo>
                  <a:pt x="5982" y="17989"/>
                </a:lnTo>
                <a:lnTo>
                  <a:pt x="5982" y="10800"/>
                </a:lnTo>
                <a:lnTo>
                  <a:pt x="4328" y="10800"/>
                </a:lnTo>
                <a:close/>
              </a:path>
              <a:path fill="darkenLess" w="22583" h="21600">
                <a:moveTo>
                  <a:pt x="13868" y="6448"/>
                </a:moveTo>
                <a:lnTo>
                  <a:pt x="13868" y="4707"/>
                </a:lnTo>
                <a:lnTo>
                  <a:pt x="15643" y="4707"/>
                </a:lnTo>
                <a:lnTo>
                  <a:pt x="15643" y="8224"/>
                </a:lnTo>
                <a:close/>
              </a:path>
              <a:path fill="darkenLess" w="22583" h="21600">
                <a:moveTo>
                  <a:pt x="10369" y="14299"/>
                </a:moveTo>
                <a:lnTo>
                  <a:pt x="12214" y="14299"/>
                </a:lnTo>
                <a:lnTo>
                  <a:pt x="12214" y="17989"/>
                </a:lnTo>
                <a:lnTo>
                  <a:pt x="16601" y="17989"/>
                </a:lnTo>
                <a:lnTo>
                  <a:pt x="16601" y="10800"/>
                </a:lnTo>
                <a:lnTo>
                  <a:pt x="5982" y="10800"/>
                </a:lnTo>
                <a:lnTo>
                  <a:pt x="5982" y="17989"/>
                </a:lnTo>
                <a:lnTo>
                  <a:pt x="1036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1"/>
          <p:cNvSpPr/>
          <p:nvPr/>
        </p:nvSpPr>
        <p:spPr>
          <a:xfrm>
            <a:off x="684360" y="177336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зовите  виды  простых  предложений  по  цели  высказы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4"/>
          <p:cNvSpPr/>
          <p:nvPr/>
        </p:nvSpPr>
        <p:spPr>
          <a:xfrm>
            <a:off x="6991200" y="6210360"/>
            <a:ext cx="18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5" descr="AG00317_.GIF"/>
          <p:cNvPicPr/>
          <p:nvPr/>
        </p:nvPicPr>
        <p:blipFill>
          <a:blip r:embed="rId2"/>
          <a:stretch/>
        </p:blipFill>
        <p:spPr>
          <a:xfrm>
            <a:off x="795240" y="3360600"/>
            <a:ext cx="2367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26560" y="259920"/>
            <a:ext cx="7859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85800" y="2247840"/>
            <a:ext cx="79246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Повествова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Вопроси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. Побуди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">
            <a:hlinkClick r:id="rId1" action="ppaction://hlinksldjump"/>
          </p:cNvPr>
          <p:cNvSpPr/>
          <p:nvPr/>
        </p:nvSpPr>
        <p:spPr>
          <a:xfrm>
            <a:off x="7962840" y="6000840"/>
            <a:ext cx="704880" cy="609480"/>
          </a:xfrm>
          <a:custGeom>
            <a:avLst/>
            <a:gdLst>
              <a:gd name="textAreaLeft" fmla="*/ 39240 w 704880"/>
              <a:gd name="textAreaRight" fmla="*/ 665640 w 704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979" h="21600">
                <a:moveTo>
                  <a:pt x="0" y="0"/>
                </a:moveTo>
                <a:lnTo>
                  <a:pt x="24979" y="0"/>
                </a:lnTo>
                <a:lnTo>
                  <a:pt x="24979" y="21600"/>
                </a:lnTo>
                <a:lnTo>
                  <a:pt x="0" y="21600"/>
                </a:lnTo>
                <a:close/>
              </a:path>
              <a:path fill="lightenLess" w="24979" h="21600">
                <a:moveTo>
                  <a:pt x="0" y="0"/>
                </a:moveTo>
                <a:lnTo>
                  <a:pt x="24979" y="0"/>
                </a:lnTo>
                <a:lnTo>
                  <a:pt x="23579" y="1400"/>
                </a:lnTo>
                <a:lnTo>
                  <a:pt x="1400" y="1400"/>
                </a:lnTo>
                <a:close/>
              </a:path>
              <a:path fill="darken" w="24979" h="21600">
                <a:moveTo>
                  <a:pt x="24979" y="0"/>
                </a:moveTo>
                <a:lnTo>
                  <a:pt x="24979" y="21600"/>
                </a:lnTo>
                <a:lnTo>
                  <a:pt x="23579" y="20200"/>
                </a:lnTo>
                <a:lnTo>
                  <a:pt x="23579" y="1400"/>
                </a:lnTo>
                <a:close/>
              </a:path>
              <a:path fill="darkenLess" w="24979" h="21600">
                <a:moveTo>
                  <a:pt x="2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9" y="20200"/>
                </a:lnTo>
                <a:close/>
              </a:path>
              <a:path fill="lighten" w="2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79" h="21600">
                <a:moveTo>
                  <a:pt x="12489" y="3837"/>
                </a:moveTo>
                <a:lnTo>
                  <a:pt x="15066" y="6448"/>
                </a:lnTo>
                <a:lnTo>
                  <a:pt x="15066" y="4707"/>
                </a:lnTo>
                <a:lnTo>
                  <a:pt x="16841" y="4707"/>
                </a:lnTo>
                <a:lnTo>
                  <a:pt x="16841" y="8224"/>
                </a:lnTo>
                <a:lnTo>
                  <a:pt x="19452" y="10800"/>
                </a:lnTo>
                <a:lnTo>
                  <a:pt x="17799" y="10800"/>
                </a:lnTo>
                <a:lnTo>
                  <a:pt x="17799" y="17989"/>
                </a:lnTo>
                <a:lnTo>
                  <a:pt x="7180" y="17989"/>
                </a:lnTo>
                <a:lnTo>
                  <a:pt x="7180" y="10800"/>
                </a:lnTo>
                <a:lnTo>
                  <a:pt x="5527" y="10800"/>
                </a:lnTo>
                <a:close/>
              </a:path>
              <a:path fill="darkenLess" w="24979" h="21600">
                <a:moveTo>
                  <a:pt x="15066" y="6448"/>
                </a:moveTo>
                <a:lnTo>
                  <a:pt x="15066" y="4707"/>
                </a:lnTo>
                <a:lnTo>
                  <a:pt x="16841" y="4707"/>
                </a:lnTo>
                <a:lnTo>
                  <a:pt x="16841" y="8224"/>
                </a:lnTo>
                <a:close/>
              </a:path>
              <a:path fill="darkenLess" w="24979" h="21600">
                <a:moveTo>
                  <a:pt x="11567" y="14299"/>
                </a:moveTo>
                <a:lnTo>
                  <a:pt x="13412" y="14299"/>
                </a:lnTo>
                <a:lnTo>
                  <a:pt x="13412" y="17989"/>
                </a:lnTo>
                <a:lnTo>
                  <a:pt x="17799" y="17989"/>
                </a:lnTo>
                <a:lnTo>
                  <a:pt x="17799" y="10800"/>
                </a:lnTo>
                <a:lnTo>
                  <a:pt x="7180" y="10800"/>
                </a:lnTo>
                <a:lnTo>
                  <a:pt x="7180" y="17989"/>
                </a:lnTo>
                <a:lnTo>
                  <a:pt x="1156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71680" y="620640"/>
            <a:ext cx="8115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824040" y="1484280"/>
            <a:ext cx="780552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те  односоставное  предл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нига – лучший  д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нняя 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лако  закрыло 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ить – Родине  слу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7257960" y="615312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4" descr="AG00007_.GIF"/>
          <p:cNvPicPr/>
          <p:nvPr/>
        </p:nvPicPr>
        <p:blipFill>
          <a:blip r:embed="rId2"/>
          <a:stretch/>
        </p:blipFill>
        <p:spPr>
          <a:xfrm>
            <a:off x="6931080" y="1214280"/>
            <a:ext cx="16984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131920" y="1670040"/>
            <a:ext cx="55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нняя  зи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>
            <a:hlinkClick r:id="rId1" action="ppaction://hlinksldjump"/>
          </p:cNvPr>
          <p:cNvSpPr/>
          <p:nvPr/>
        </p:nvSpPr>
        <p:spPr>
          <a:xfrm>
            <a:off x="7962840" y="6095880"/>
            <a:ext cx="590760" cy="514440"/>
          </a:xfrm>
          <a:custGeom>
            <a:avLst/>
            <a:gdLst>
              <a:gd name="textAreaLeft" fmla="*/ 33120 w 590760"/>
              <a:gd name="textAreaRight" fmla="*/ 557640 w 590760"/>
              <a:gd name="textAreaTop" fmla="*/ 33120 h 514440"/>
              <a:gd name="textAreaBottom" fmla="*/ 481320 h 514440"/>
            </a:gdLst>
            <a:ahLst/>
            <a:rect l="textAreaLeft" t="textAreaTop" r="textAreaRight" b="textAreaBottom"/>
            <a:pathLst>
              <a:path w="24802" h="21600">
                <a:moveTo>
                  <a:pt x="0" y="0"/>
                </a:moveTo>
                <a:lnTo>
                  <a:pt x="24802" y="0"/>
                </a:lnTo>
                <a:lnTo>
                  <a:pt x="24802" y="21600"/>
                </a:lnTo>
                <a:lnTo>
                  <a:pt x="0" y="21600"/>
                </a:lnTo>
                <a:close/>
              </a:path>
              <a:path fill="lightenLess" w="24802" h="21600">
                <a:moveTo>
                  <a:pt x="0" y="0"/>
                </a:moveTo>
                <a:lnTo>
                  <a:pt x="24802" y="0"/>
                </a:lnTo>
                <a:lnTo>
                  <a:pt x="23402" y="1400"/>
                </a:lnTo>
                <a:lnTo>
                  <a:pt x="1400" y="1400"/>
                </a:lnTo>
                <a:close/>
              </a:path>
              <a:path fill="darken" w="24802" h="21600">
                <a:moveTo>
                  <a:pt x="24802" y="0"/>
                </a:moveTo>
                <a:lnTo>
                  <a:pt x="24802" y="21600"/>
                </a:lnTo>
                <a:lnTo>
                  <a:pt x="23402" y="20200"/>
                </a:lnTo>
                <a:lnTo>
                  <a:pt x="23402" y="1400"/>
                </a:lnTo>
                <a:close/>
              </a:path>
              <a:path fill="darkenLess" w="24802" h="21600">
                <a:moveTo>
                  <a:pt x="2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2" y="20200"/>
                </a:lnTo>
                <a:close/>
              </a:path>
              <a:path fill="lighten" w="2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2" h="21600">
                <a:moveTo>
                  <a:pt x="12401" y="3837"/>
                </a:moveTo>
                <a:lnTo>
                  <a:pt x="14977" y="6448"/>
                </a:lnTo>
                <a:lnTo>
                  <a:pt x="14977" y="4707"/>
                </a:lnTo>
                <a:lnTo>
                  <a:pt x="16753" y="4707"/>
                </a:lnTo>
                <a:lnTo>
                  <a:pt x="16753" y="8224"/>
                </a:lnTo>
                <a:lnTo>
                  <a:pt x="19364" y="10800"/>
                </a:lnTo>
                <a:lnTo>
                  <a:pt x="17710" y="10800"/>
                </a:lnTo>
                <a:lnTo>
                  <a:pt x="17710" y="17989"/>
                </a:lnTo>
                <a:lnTo>
                  <a:pt x="7092" y="17989"/>
                </a:lnTo>
                <a:lnTo>
                  <a:pt x="7092" y="10800"/>
                </a:lnTo>
                <a:lnTo>
                  <a:pt x="5438" y="10800"/>
                </a:lnTo>
                <a:close/>
              </a:path>
              <a:path fill="darkenLess" w="24802" h="21600">
                <a:moveTo>
                  <a:pt x="14977" y="6448"/>
                </a:moveTo>
                <a:lnTo>
                  <a:pt x="14977" y="4707"/>
                </a:lnTo>
                <a:lnTo>
                  <a:pt x="16753" y="4707"/>
                </a:lnTo>
                <a:lnTo>
                  <a:pt x="16753" y="8224"/>
                </a:lnTo>
                <a:close/>
              </a:path>
              <a:path fill="darkenLess" w="24802" h="21600">
                <a:moveTo>
                  <a:pt x="11479" y="14299"/>
                </a:moveTo>
                <a:lnTo>
                  <a:pt x="13324" y="14299"/>
                </a:lnTo>
                <a:lnTo>
                  <a:pt x="13324" y="17989"/>
                </a:lnTo>
                <a:lnTo>
                  <a:pt x="17710" y="17989"/>
                </a:lnTo>
                <a:lnTo>
                  <a:pt x="17710" y="10800"/>
                </a:lnTo>
                <a:lnTo>
                  <a:pt x="7092" y="10800"/>
                </a:lnTo>
                <a:lnTo>
                  <a:pt x="7092" y="17989"/>
                </a:lnTo>
                <a:lnTo>
                  <a:pt x="1147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>
            <a:hlinkClick r:id="rId1"/>
          </p:cNvPr>
          <p:cNvSpPr/>
          <p:nvPr/>
        </p:nvSpPr>
        <p:spPr>
          <a:xfrm>
            <a:off x="785880" y="1627200"/>
            <a:ext cx="75596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жите предложение, где  надо  обособить  деепричастный  оборо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льзя  жить  сложа 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оворя  это  я  принял  воинственную  по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н  ушёл  несолоно  хлебав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се  работали  засучив  рук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>
            <a:hlinkClick r:id="rId2"/>
          </p:cNvPr>
          <p:cNvSpPr/>
          <p:nvPr/>
        </p:nvSpPr>
        <p:spPr>
          <a:xfrm>
            <a:off x="2819520" y="49536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dd2d6"/>
                </a:solidFill>
                <a:latin typeface="Arial"/>
              </a:rPr>
              <a:t>Аукцио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6991200" y="632448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3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5480" y="1695600"/>
            <a:ext cx="77709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оворя  это, я  принял  воинственную  позу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AutoShape 5">
            <a:hlinkClick r:id="rId1" action="ppaction://hlinksldjump"/>
          </p:cNvPr>
          <p:cNvSpPr/>
          <p:nvPr/>
        </p:nvSpPr>
        <p:spPr>
          <a:xfrm>
            <a:off x="7962840" y="6191280"/>
            <a:ext cx="571680" cy="419040"/>
          </a:xfrm>
          <a:custGeom>
            <a:avLst/>
            <a:gdLst>
              <a:gd name="textAreaLeft" fmla="*/ 27000 w 571680"/>
              <a:gd name="textAreaRight" fmla="*/ 544680 w 571680"/>
              <a:gd name="textAreaTop" fmla="*/ 27000 h 419040"/>
              <a:gd name="textAreaBottom" fmla="*/ 392040 h 419040"/>
            </a:gdLst>
            <a:ahLst/>
            <a:rect l="textAreaLeft" t="textAreaTop" r="textAreaRight" b="textAreaBottom"/>
            <a:pathLst>
              <a:path w="29461" h="21600">
                <a:moveTo>
                  <a:pt x="0" y="0"/>
                </a:moveTo>
                <a:lnTo>
                  <a:pt x="29461" y="0"/>
                </a:lnTo>
                <a:lnTo>
                  <a:pt x="29461" y="21600"/>
                </a:lnTo>
                <a:lnTo>
                  <a:pt x="0" y="21600"/>
                </a:lnTo>
                <a:close/>
              </a:path>
              <a:path fill="lightenLess" w="29461" h="21600">
                <a:moveTo>
                  <a:pt x="0" y="0"/>
                </a:moveTo>
                <a:lnTo>
                  <a:pt x="29461" y="0"/>
                </a:lnTo>
                <a:lnTo>
                  <a:pt x="28061" y="1400"/>
                </a:lnTo>
                <a:lnTo>
                  <a:pt x="1400" y="1400"/>
                </a:lnTo>
                <a:close/>
              </a:path>
              <a:path fill="darken" w="29461" h="21600">
                <a:moveTo>
                  <a:pt x="29461" y="0"/>
                </a:moveTo>
                <a:lnTo>
                  <a:pt x="29461" y="21600"/>
                </a:lnTo>
                <a:lnTo>
                  <a:pt x="28061" y="20200"/>
                </a:lnTo>
                <a:lnTo>
                  <a:pt x="28061" y="1400"/>
                </a:lnTo>
                <a:close/>
              </a:path>
              <a:path fill="darkenLess" w="29461" h="21600">
                <a:moveTo>
                  <a:pt x="29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1" y="20200"/>
                </a:lnTo>
                <a:close/>
              </a:path>
              <a:path fill="lighten" w="29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1" h="21600">
                <a:moveTo>
                  <a:pt x="14731" y="3837"/>
                </a:moveTo>
                <a:lnTo>
                  <a:pt x="17307" y="6448"/>
                </a:lnTo>
                <a:lnTo>
                  <a:pt x="17307" y="4707"/>
                </a:lnTo>
                <a:lnTo>
                  <a:pt x="19082" y="4707"/>
                </a:lnTo>
                <a:lnTo>
                  <a:pt x="19082" y="8224"/>
                </a:lnTo>
                <a:lnTo>
                  <a:pt x="21694" y="10800"/>
                </a:lnTo>
                <a:lnTo>
                  <a:pt x="20040" y="10800"/>
                </a:lnTo>
                <a:lnTo>
                  <a:pt x="20040" y="17989"/>
                </a:lnTo>
                <a:lnTo>
                  <a:pt x="9421" y="17989"/>
                </a:lnTo>
                <a:lnTo>
                  <a:pt x="9421" y="10800"/>
                </a:lnTo>
                <a:lnTo>
                  <a:pt x="7768" y="10800"/>
                </a:lnTo>
                <a:close/>
              </a:path>
              <a:path fill="darkenLess" w="29461" h="21600">
                <a:moveTo>
                  <a:pt x="17307" y="6448"/>
                </a:moveTo>
                <a:lnTo>
                  <a:pt x="17307" y="4707"/>
                </a:lnTo>
                <a:lnTo>
                  <a:pt x="19082" y="4707"/>
                </a:lnTo>
                <a:lnTo>
                  <a:pt x="19082" y="8224"/>
                </a:lnTo>
                <a:close/>
              </a:path>
              <a:path fill="darkenLess" w="29461" h="21600">
                <a:moveTo>
                  <a:pt x="13808" y="14299"/>
                </a:moveTo>
                <a:lnTo>
                  <a:pt x="15653" y="14299"/>
                </a:lnTo>
                <a:lnTo>
                  <a:pt x="15653" y="17989"/>
                </a:lnTo>
                <a:lnTo>
                  <a:pt x="20040" y="17989"/>
                </a:lnTo>
                <a:lnTo>
                  <a:pt x="20040" y="10800"/>
                </a:lnTo>
                <a:lnTo>
                  <a:pt x="9421" y="10800"/>
                </a:lnTo>
                <a:lnTo>
                  <a:pt x="9421" y="17989"/>
                </a:lnTo>
                <a:lnTo>
                  <a:pt x="1380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42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3-й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80972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гадайте  загадку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емля  беленькая, а  птички  на  ней  чёрненьк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ниг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Рисунок 3" descr="PILE1.WMF"/>
          <p:cNvPicPr/>
          <p:nvPr/>
        </p:nvPicPr>
        <p:blipFill>
          <a:blip r:embed="rId1"/>
          <a:stretch/>
        </p:blipFill>
        <p:spPr>
          <a:xfrm>
            <a:off x="4667400" y="3638520"/>
            <a:ext cx="3238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4000" y="761760"/>
            <a:ext cx="8496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кажите  ССП, между  частями  которого  не  нужна запятая, так  как  имеется  общий  второстепенный  член (знаки  препинания  не  расставлены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Брызнет  скоро  майский  дождь  и  начнётся  весенняя  гро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Жарко  палило  солнце  и  до  крыши  нельзя  было  добрать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Звали  вдаль  журавлиные  стаи  и  орлиный  мне  слышался  кри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Здесь  краски  не  ярки  и  звуки  не  рез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6054840" y="61786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77520" y="1276200"/>
            <a:ext cx="77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десь  краски  не  ярки  и  звуки  не  резк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AutoShape 5">
            <a:hlinkClick r:id="rId1" action="ppaction://hlinksldjump"/>
          </p:cNvPr>
          <p:cNvSpPr/>
          <p:nvPr/>
        </p:nvSpPr>
        <p:spPr>
          <a:xfrm>
            <a:off x="7962840" y="6114960"/>
            <a:ext cx="533520" cy="495360"/>
          </a:xfrm>
          <a:custGeom>
            <a:avLst/>
            <a:gdLst>
              <a:gd name="textAreaLeft" fmla="*/ 32040 w 533520"/>
              <a:gd name="textAreaRight" fmla="*/ 501480 w 53352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11631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lnTo>
                  <a:pt x="18594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2" y="17989"/>
                </a:lnTo>
                <a:lnTo>
                  <a:pt x="6322" y="10800"/>
                </a:lnTo>
                <a:lnTo>
                  <a:pt x="4668" y="10800"/>
                </a:lnTo>
                <a:close/>
              </a:path>
              <a:path fill="darkenLess" w="23263" h="21600">
                <a:moveTo>
                  <a:pt x="14208" y="6448"/>
                </a:moveTo>
                <a:lnTo>
                  <a:pt x="14208" y="4707"/>
                </a:lnTo>
                <a:lnTo>
                  <a:pt x="15983" y="4707"/>
                </a:lnTo>
                <a:lnTo>
                  <a:pt x="15983" y="8224"/>
                </a:lnTo>
                <a:close/>
              </a:path>
              <a:path fill="darkenLess" w="23263" h="21600">
                <a:moveTo>
                  <a:pt x="10709" y="14299"/>
                </a:moveTo>
                <a:lnTo>
                  <a:pt x="12554" y="14299"/>
                </a:lnTo>
                <a:lnTo>
                  <a:pt x="12554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2" y="10800"/>
                </a:lnTo>
                <a:lnTo>
                  <a:pt x="6322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5400" y="875880"/>
            <a:ext cx="82263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 каком  предложении  нет  вводных  конструкций? (Знаки  препинания  не  расставлены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Одним  словом  в  школе  стало  в  тысячу  раз  интересне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Решение  судьи  было  бесспор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К  моему  огорчению  он  не прислушался  к  разумному  совет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Вечер  кажется  будет  тёплы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6324480" y="57531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06400" y="1466640"/>
            <a:ext cx="777096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just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ешение  судьи  было  бесспорно.</a:t>
            </a:r>
            <a:endParaRPr b="0" lang="en-US" sz="3600" spc="-1" strike="noStrike">
              <a:solidFill>
                <a:srgbClr val="53548a"/>
              </a:solidFill>
              <a:latin typeface="Georgia"/>
            </a:endParaRPr>
          </a:p>
        </p:txBody>
      </p:sp>
      <p:sp>
        <p:nvSpPr>
          <p:cNvPr id="327" name="AutoShape 5">
            <a:hlinkClick r:id="rId1" action="ppaction://hlinksldjump"/>
          </p:cNvPr>
          <p:cNvSpPr/>
          <p:nvPr/>
        </p:nvSpPr>
        <p:spPr>
          <a:xfrm>
            <a:off x="7962840" y="6019920"/>
            <a:ext cx="609840" cy="590400"/>
          </a:xfrm>
          <a:custGeom>
            <a:avLst/>
            <a:gdLst>
              <a:gd name="textAreaLeft" fmla="*/ 38160 w 609840"/>
              <a:gd name="textAreaRight" fmla="*/ 571680 w 609840"/>
              <a:gd name="textAreaTop" fmla="*/ 38160 h 590400"/>
              <a:gd name="textAreaBottom" fmla="*/ 552240 h 590400"/>
            </a:gdLst>
            <a:ahLst/>
            <a:rect l="textAreaLeft" t="textAreaTop" r="textAreaRight" b="textAreaBottom"/>
            <a:pathLst>
              <a:path w="22311" h="21600">
                <a:moveTo>
                  <a:pt x="0" y="0"/>
                </a:moveTo>
                <a:lnTo>
                  <a:pt x="22311" y="0"/>
                </a:lnTo>
                <a:lnTo>
                  <a:pt x="22311" y="21600"/>
                </a:lnTo>
                <a:lnTo>
                  <a:pt x="0" y="21600"/>
                </a:lnTo>
                <a:close/>
              </a:path>
              <a:path fill="lightenLess" w="22311" h="21600">
                <a:moveTo>
                  <a:pt x="0" y="0"/>
                </a:moveTo>
                <a:lnTo>
                  <a:pt x="22311" y="0"/>
                </a:lnTo>
                <a:lnTo>
                  <a:pt x="20911" y="1400"/>
                </a:lnTo>
                <a:lnTo>
                  <a:pt x="1400" y="1400"/>
                </a:lnTo>
                <a:close/>
              </a:path>
              <a:path fill="darken" w="22311" h="21600">
                <a:moveTo>
                  <a:pt x="22311" y="0"/>
                </a:moveTo>
                <a:lnTo>
                  <a:pt x="22311" y="21600"/>
                </a:lnTo>
                <a:lnTo>
                  <a:pt x="20911" y="20200"/>
                </a:lnTo>
                <a:lnTo>
                  <a:pt x="20911" y="1400"/>
                </a:lnTo>
                <a:close/>
              </a:path>
              <a:path fill="darkenLess" w="22311" h="21600">
                <a:moveTo>
                  <a:pt x="22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1" y="20200"/>
                </a:lnTo>
                <a:close/>
              </a:path>
              <a:path fill="lighten" w="22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11" h="21600">
                <a:moveTo>
                  <a:pt x="11155" y="3837"/>
                </a:moveTo>
                <a:lnTo>
                  <a:pt x="13732" y="6448"/>
                </a:lnTo>
                <a:lnTo>
                  <a:pt x="13732" y="4707"/>
                </a:lnTo>
                <a:lnTo>
                  <a:pt x="15507" y="4707"/>
                </a:lnTo>
                <a:lnTo>
                  <a:pt x="15507" y="8224"/>
                </a:lnTo>
                <a:lnTo>
                  <a:pt x="18118" y="10800"/>
                </a:lnTo>
                <a:lnTo>
                  <a:pt x="16465" y="10800"/>
                </a:lnTo>
                <a:lnTo>
                  <a:pt x="16465" y="17989"/>
                </a:lnTo>
                <a:lnTo>
                  <a:pt x="5846" y="17989"/>
                </a:lnTo>
                <a:lnTo>
                  <a:pt x="5846" y="10800"/>
                </a:lnTo>
                <a:lnTo>
                  <a:pt x="4192" y="10800"/>
                </a:lnTo>
                <a:close/>
              </a:path>
              <a:path fill="darkenLess" w="22311" h="21600">
                <a:moveTo>
                  <a:pt x="13732" y="6448"/>
                </a:moveTo>
                <a:lnTo>
                  <a:pt x="13732" y="4707"/>
                </a:lnTo>
                <a:lnTo>
                  <a:pt x="15507" y="4707"/>
                </a:lnTo>
                <a:lnTo>
                  <a:pt x="15507" y="8224"/>
                </a:lnTo>
                <a:close/>
              </a:path>
              <a:path fill="darkenLess" w="22311" h="21600">
                <a:moveTo>
                  <a:pt x="10233" y="14299"/>
                </a:moveTo>
                <a:lnTo>
                  <a:pt x="12078" y="14299"/>
                </a:lnTo>
                <a:lnTo>
                  <a:pt x="12078" y="17989"/>
                </a:lnTo>
                <a:lnTo>
                  <a:pt x="16465" y="17989"/>
                </a:lnTo>
                <a:lnTo>
                  <a:pt x="16465" y="10800"/>
                </a:lnTo>
                <a:lnTo>
                  <a:pt x="5846" y="10800"/>
                </a:lnTo>
                <a:lnTo>
                  <a:pt x="5846" y="17989"/>
                </a:lnTo>
                <a:lnTo>
                  <a:pt x="10233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25480" y="1695240"/>
            <a:ext cx="77709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Что  изучает  пунктуация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19000" y="5695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4" descr="AG00218_.GIF"/>
          <p:cNvPicPr/>
          <p:nvPr/>
        </p:nvPicPr>
        <p:blipFill>
          <a:blip r:embed="rId2"/>
          <a:stretch/>
        </p:blipFill>
        <p:spPr>
          <a:xfrm>
            <a:off x="6343560" y="4432320"/>
            <a:ext cx="24386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90400" y="1180800"/>
            <a:ext cx="776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унктуация  изучает  знаки  препинания  и  правила  их употребления  на  письм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AutoShape 5">
            <a:hlinkClick r:id="rId1" action="ppaction://hlinksldjump"/>
          </p:cNvPr>
          <p:cNvSpPr/>
          <p:nvPr/>
        </p:nvSpPr>
        <p:spPr>
          <a:xfrm>
            <a:off x="7962840" y="6039000"/>
            <a:ext cx="609840" cy="571320"/>
          </a:xfrm>
          <a:custGeom>
            <a:avLst/>
            <a:gdLst>
              <a:gd name="textAreaLeft" fmla="*/ 36720 w 609840"/>
              <a:gd name="textAreaRight" fmla="*/ 573120 w 6098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3055" h="21600">
                <a:moveTo>
                  <a:pt x="0" y="0"/>
                </a:moveTo>
                <a:lnTo>
                  <a:pt x="23055" y="0"/>
                </a:lnTo>
                <a:lnTo>
                  <a:pt x="23055" y="21600"/>
                </a:lnTo>
                <a:lnTo>
                  <a:pt x="0" y="21600"/>
                </a:lnTo>
                <a:close/>
              </a:path>
              <a:path fill="lightenLess" w="23055" h="21600">
                <a:moveTo>
                  <a:pt x="0" y="0"/>
                </a:moveTo>
                <a:lnTo>
                  <a:pt x="23055" y="0"/>
                </a:lnTo>
                <a:lnTo>
                  <a:pt x="21655" y="1400"/>
                </a:lnTo>
                <a:lnTo>
                  <a:pt x="1400" y="1400"/>
                </a:lnTo>
                <a:close/>
              </a:path>
              <a:path fill="darken" w="23055" h="21600">
                <a:moveTo>
                  <a:pt x="23055" y="0"/>
                </a:moveTo>
                <a:lnTo>
                  <a:pt x="23055" y="21600"/>
                </a:lnTo>
                <a:lnTo>
                  <a:pt x="21655" y="20200"/>
                </a:lnTo>
                <a:lnTo>
                  <a:pt x="21655" y="1400"/>
                </a:lnTo>
                <a:close/>
              </a:path>
              <a:path fill="darkenLess" w="23055" h="21600">
                <a:moveTo>
                  <a:pt x="23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5" y="20200"/>
                </a:lnTo>
                <a:close/>
              </a:path>
              <a:path fill="lighten" w="23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5" h="21600">
                <a:moveTo>
                  <a:pt x="11528" y="3837"/>
                </a:moveTo>
                <a:lnTo>
                  <a:pt x="14104" y="6448"/>
                </a:lnTo>
                <a:lnTo>
                  <a:pt x="14104" y="4707"/>
                </a:lnTo>
                <a:lnTo>
                  <a:pt x="15880" y="4707"/>
                </a:lnTo>
                <a:lnTo>
                  <a:pt x="15880" y="8224"/>
                </a:lnTo>
                <a:lnTo>
                  <a:pt x="18491" y="10800"/>
                </a:lnTo>
                <a:lnTo>
                  <a:pt x="16837" y="10800"/>
                </a:lnTo>
                <a:lnTo>
                  <a:pt x="16837" y="17989"/>
                </a:lnTo>
                <a:lnTo>
                  <a:pt x="6218" y="17989"/>
                </a:lnTo>
                <a:lnTo>
                  <a:pt x="6218" y="10800"/>
                </a:lnTo>
                <a:lnTo>
                  <a:pt x="4565" y="10800"/>
                </a:lnTo>
                <a:close/>
              </a:path>
              <a:path fill="darkenLess" w="23055" h="21600">
                <a:moveTo>
                  <a:pt x="14104" y="6448"/>
                </a:moveTo>
                <a:lnTo>
                  <a:pt x="14104" y="4707"/>
                </a:lnTo>
                <a:lnTo>
                  <a:pt x="15880" y="4707"/>
                </a:lnTo>
                <a:lnTo>
                  <a:pt x="15880" y="8224"/>
                </a:lnTo>
                <a:close/>
              </a:path>
              <a:path fill="darkenLess" w="23055" h="21600">
                <a:moveTo>
                  <a:pt x="10605" y="14299"/>
                </a:moveTo>
                <a:lnTo>
                  <a:pt x="12450" y="14299"/>
                </a:lnTo>
                <a:lnTo>
                  <a:pt x="12450" y="17989"/>
                </a:lnTo>
                <a:lnTo>
                  <a:pt x="16837" y="17989"/>
                </a:lnTo>
                <a:lnTo>
                  <a:pt x="16837" y="10800"/>
                </a:lnTo>
                <a:lnTo>
                  <a:pt x="6218" y="10800"/>
                </a:lnTo>
                <a:lnTo>
                  <a:pt x="6218" y="17989"/>
                </a:lnTo>
                <a:lnTo>
                  <a:pt x="1060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31360" y="914400"/>
            <a:ext cx="822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 месте  каких  цифр  должны  быть  запяты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озле  сколоченной  из  полуобгоревших  досок  (1)  будки  (2)  сидел  одноглазый  пёс  (3)  окривевший  по  милости  петух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94360" y="596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4" descr="AG00339_.GIF"/>
          <p:cNvPicPr/>
          <p:nvPr/>
        </p:nvPicPr>
        <p:blipFill>
          <a:blip r:embed="rId2"/>
          <a:stretch/>
        </p:blipFill>
        <p:spPr>
          <a:xfrm rot="20558400">
            <a:off x="1061640" y="4739760"/>
            <a:ext cx="2459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69520" y="1733040"/>
            <a:ext cx="8226360" cy="34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№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AutoShape 5">
            <a:hlinkClick r:id="rId1" action="ppaction://hlinksldjump"/>
          </p:cNvPr>
          <p:cNvSpPr/>
          <p:nvPr/>
        </p:nvSpPr>
        <p:spPr>
          <a:xfrm>
            <a:off x="7962840" y="6114960"/>
            <a:ext cx="628560" cy="495360"/>
          </a:xfrm>
          <a:custGeom>
            <a:avLst/>
            <a:gdLst>
              <a:gd name="textAreaLeft" fmla="*/ 32040 w 628560"/>
              <a:gd name="textAreaRight" fmla="*/ 596520 w 628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7404" h="21600">
                <a:moveTo>
                  <a:pt x="0" y="0"/>
                </a:moveTo>
                <a:lnTo>
                  <a:pt x="27404" y="0"/>
                </a:lnTo>
                <a:lnTo>
                  <a:pt x="27404" y="21600"/>
                </a:lnTo>
                <a:lnTo>
                  <a:pt x="0" y="21600"/>
                </a:lnTo>
                <a:close/>
              </a:path>
              <a:path fill="lightenLess" w="27404" h="21600">
                <a:moveTo>
                  <a:pt x="0" y="0"/>
                </a:moveTo>
                <a:lnTo>
                  <a:pt x="27404" y="0"/>
                </a:lnTo>
                <a:lnTo>
                  <a:pt x="26004" y="1400"/>
                </a:lnTo>
                <a:lnTo>
                  <a:pt x="1400" y="1400"/>
                </a:lnTo>
                <a:close/>
              </a:path>
              <a:path fill="darken" w="27404" h="21600">
                <a:moveTo>
                  <a:pt x="27404" y="0"/>
                </a:moveTo>
                <a:lnTo>
                  <a:pt x="27404" y="21600"/>
                </a:lnTo>
                <a:lnTo>
                  <a:pt x="26004" y="20200"/>
                </a:lnTo>
                <a:lnTo>
                  <a:pt x="26004" y="1400"/>
                </a:lnTo>
                <a:close/>
              </a:path>
              <a:path fill="darkenLess" w="27404" h="21600">
                <a:moveTo>
                  <a:pt x="27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04" y="20200"/>
                </a:lnTo>
                <a:close/>
              </a:path>
              <a:path fill="lighten" w="27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04" h="21600">
                <a:moveTo>
                  <a:pt x="13702" y="3837"/>
                </a:moveTo>
                <a:lnTo>
                  <a:pt x="16278" y="6448"/>
                </a:lnTo>
                <a:lnTo>
                  <a:pt x="16278" y="4707"/>
                </a:lnTo>
                <a:lnTo>
                  <a:pt x="18054" y="4707"/>
                </a:lnTo>
                <a:lnTo>
                  <a:pt x="18054" y="8224"/>
                </a:lnTo>
                <a:lnTo>
                  <a:pt x="20665" y="10800"/>
                </a:lnTo>
                <a:lnTo>
                  <a:pt x="19011" y="10800"/>
                </a:lnTo>
                <a:lnTo>
                  <a:pt x="19011" y="17989"/>
                </a:lnTo>
                <a:lnTo>
                  <a:pt x="8393" y="17989"/>
                </a:lnTo>
                <a:lnTo>
                  <a:pt x="8393" y="10800"/>
                </a:lnTo>
                <a:lnTo>
                  <a:pt x="6739" y="10800"/>
                </a:lnTo>
                <a:close/>
              </a:path>
              <a:path fill="darkenLess" w="27404" h="21600">
                <a:moveTo>
                  <a:pt x="16278" y="6448"/>
                </a:moveTo>
                <a:lnTo>
                  <a:pt x="16278" y="4707"/>
                </a:lnTo>
                <a:lnTo>
                  <a:pt x="18054" y="4707"/>
                </a:lnTo>
                <a:lnTo>
                  <a:pt x="18054" y="8224"/>
                </a:lnTo>
                <a:close/>
              </a:path>
              <a:path fill="darkenLess" w="27404" h="21600">
                <a:moveTo>
                  <a:pt x="12779" y="14299"/>
                </a:moveTo>
                <a:lnTo>
                  <a:pt x="14625" y="14299"/>
                </a:lnTo>
                <a:lnTo>
                  <a:pt x="14625" y="17989"/>
                </a:lnTo>
                <a:lnTo>
                  <a:pt x="19011" y="17989"/>
                </a:lnTo>
                <a:lnTo>
                  <a:pt x="19011" y="10800"/>
                </a:lnTo>
                <a:lnTo>
                  <a:pt x="8393" y="10800"/>
                </a:lnTo>
                <a:lnTo>
                  <a:pt x="8393" y="17989"/>
                </a:lnTo>
                <a:lnTo>
                  <a:pt x="12779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517680" y="952560"/>
            <a:ext cx="81532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ое  небесное  тело  имеет  два  названия: одно – мужского  рода, другое – женского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твет  содержится  в  стихах  А.С. Пушкин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Татьяна  на  широкий  двор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В  открытом  платьице  выходи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На  месяц  зеркальце  наводи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Но  в  тёмном  зеркале  од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Дрожит  печальная  лун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624720" y="6048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79520" y="2300400"/>
            <a:ext cx="815328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Луна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AutoShape 5">
            <a:hlinkClick r:id="rId1" action="ppaction://hlinksldjump"/>
          </p:cNvPr>
          <p:cNvSpPr/>
          <p:nvPr/>
        </p:nvSpPr>
        <p:spPr>
          <a:xfrm>
            <a:off x="7962840" y="6058080"/>
            <a:ext cx="609840" cy="552240"/>
          </a:xfrm>
          <a:custGeom>
            <a:avLst/>
            <a:gdLst>
              <a:gd name="textAreaLeft" fmla="*/ 35640 w 609840"/>
              <a:gd name="textAreaRight" fmla="*/ 574200 w 60984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3851" h="21600">
                <a:moveTo>
                  <a:pt x="0" y="0"/>
                </a:moveTo>
                <a:lnTo>
                  <a:pt x="23851" y="0"/>
                </a:lnTo>
                <a:lnTo>
                  <a:pt x="23851" y="21600"/>
                </a:lnTo>
                <a:lnTo>
                  <a:pt x="0" y="21600"/>
                </a:lnTo>
                <a:close/>
              </a:path>
              <a:path fill="lightenLess" w="23851" h="21600">
                <a:moveTo>
                  <a:pt x="0" y="0"/>
                </a:moveTo>
                <a:lnTo>
                  <a:pt x="23851" y="0"/>
                </a:lnTo>
                <a:lnTo>
                  <a:pt x="22451" y="1400"/>
                </a:lnTo>
                <a:lnTo>
                  <a:pt x="1400" y="1400"/>
                </a:lnTo>
                <a:close/>
              </a:path>
              <a:path fill="darken" w="23851" h="21600">
                <a:moveTo>
                  <a:pt x="23851" y="0"/>
                </a:moveTo>
                <a:lnTo>
                  <a:pt x="23851" y="21600"/>
                </a:lnTo>
                <a:lnTo>
                  <a:pt x="22451" y="20200"/>
                </a:lnTo>
                <a:lnTo>
                  <a:pt x="22451" y="1400"/>
                </a:lnTo>
                <a:close/>
              </a:path>
              <a:path fill="darkenLess" w="23851" h="21600">
                <a:moveTo>
                  <a:pt x="23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1" y="20200"/>
                </a:lnTo>
                <a:close/>
              </a:path>
              <a:path fill="lighten" w="23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1" h="21600">
                <a:moveTo>
                  <a:pt x="11926" y="3837"/>
                </a:moveTo>
                <a:lnTo>
                  <a:pt x="14502" y="6448"/>
                </a:lnTo>
                <a:lnTo>
                  <a:pt x="14502" y="4707"/>
                </a:lnTo>
                <a:lnTo>
                  <a:pt x="16278" y="4707"/>
                </a:lnTo>
                <a:lnTo>
                  <a:pt x="16278" y="8224"/>
                </a:lnTo>
                <a:lnTo>
                  <a:pt x="18889" y="10800"/>
                </a:lnTo>
                <a:lnTo>
                  <a:pt x="17235" y="10800"/>
                </a:lnTo>
                <a:lnTo>
                  <a:pt x="17235" y="17989"/>
                </a:lnTo>
                <a:lnTo>
                  <a:pt x="6616" y="17989"/>
                </a:lnTo>
                <a:lnTo>
                  <a:pt x="6616" y="10800"/>
                </a:lnTo>
                <a:lnTo>
                  <a:pt x="4963" y="10800"/>
                </a:lnTo>
                <a:close/>
              </a:path>
              <a:path fill="darkenLess" w="23851" h="21600">
                <a:moveTo>
                  <a:pt x="14502" y="6448"/>
                </a:moveTo>
                <a:lnTo>
                  <a:pt x="14502" y="4707"/>
                </a:lnTo>
                <a:lnTo>
                  <a:pt x="16278" y="4707"/>
                </a:lnTo>
                <a:lnTo>
                  <a:pt x="16278" y="8224"/>
                </a:lnTo>
                <a:close/>
              </a:path>
              <a:path fill="darkenLess" w="23851" h="21600">
                <a:moveTo>
                  <a:pt x="11003" y="14299"/>
                </a:moveTo>
                <a:lnTo>
                  <a:pt x="12848" y="14299"/>
                </a:lnTo>
                <a:lnTo>
                  <a:pt x="12848" y="17989"/>
                </a:lnTo>
                <a:lnTo>
                  <a:pt x="17235" y="17989"/>
                </a:lnTo>
                <a:lnTo>
                  <a:pt x="17235" y="10800"/>
                </a:lnTo>
                <a:lnTo>
                  <a:pt x="6616" y="10800"/>
                </a:lnTo>
                <a:lnTo>
                  <a:pt x="6616" y="17989"/>
                </a:lnTo>
                <a:lnTo>
                  <a:pt x="11003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4-й 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7715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 какой  частью  речи  никогда  не  употребляются  предлоги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  глаг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3" descr="AG00019_.GIF"/>
          <p:cNvPicPr/>
          <p:nvPr/>
        </p:nvPicPr>
        <p:blipFill>
          <a:blip r:embed="rId1"/>
          <a:stretch/>
        </p:blipFill>
        <p:spPr>
          <a:xfrm>
            <a:off x="4684680" y="3105000"/>
            <a:ext cx="292752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79520" y="1371240"/>
            <a:ext cx="815328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  каком  падеже  в  слове  </a:t>
            </a: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сердца</a:t>
            </a: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оизносится</a:t>
            </a: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  </a:t>
            </a: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д ?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5724360" y="5445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4" descr="j0236214.gif"/>
          <p:cNvPicPr/>
          <p:nvPr/>
        </p:nvPicPr>
        <p:blipFill>
          <a:blip r:embed="rId2"/>
          <a:stretch/>
        </p:blipFill>
        <p:spPr>
          <a:xfrm>
            <a:off x="871560" y="3552840"/>
            <a:ext cx="2862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79080" y="1828440"/>
            <a:ext cx="822636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В  родительном  падеже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AutoShape 7">
            <a:hlinkClick r:id="rId1" action="ppaction://hlinksldjump"/>
          </p:cNvPr>
          <p:cNvSpPr/>
          <p:nvPr/>
        </p:nvSpPr>
        <p:spPr>
          <a:xfrm>
            <a:off x="7962840" y="6153120"/>
            <a:ext cx="628560" cy="457200"/>
          </a:xfrm>
          <a:custGeom>
            <a:avLst/>
            <a:gdLst>
              <a:gd name="textAreaLeft" fmla="*/ 29520 w 628560"/>
              <a:gd name="textAreaRight" fmla="*/ 599040 w 628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689" h="21600">
                <a:moveTo>
                  <a:pt x="0" y="0"/>
                </a:moveTo>
                <a:lnTo>
                  <a:pt x="29689" y="0"/>
                </a:lnTo>
                <a:lnTo>
                  <a:pt x="29689" y="21600"/>
                </a:lnTo>
                <a:lnTo>
                  <a:pt x="0" y="21600"/>
                </a:lnTo>
                <a:close/>
              </a:path>
              <a:path fill="lightenLess" w="29689" h="21600">
                <a:moveTo>
                  <a:pt x="0" y="0"/>
                </a:moveTo>
                <a:lnTo>
                  <a:pt x="29689" y="0"/>
                </a:lnTo>
                <a:lnTo>
                  <a:pt x="28289" y="1400"/>
                </a:lnTo>
                <a:lnTo>
                  <a:pt x="1400" y="1400"/>
                </a:lnTo>
                <a:close/>
              </a:path>
              <a:path fill="darken" w="29689" h="21600">
                <a:moveTo>
                  <a:pt x="29689" y="0"/>
                </a:moveTo>
                <a:lnTo>
                  <a:pt x="29689" y="21600"/>
                </a:lnTo>
                <a:lnTo>
                  <a:pt x="28289" y="20200"/>
                </a:lnTo>
                <a:lnTo>
                  <a:pt x="28289" y="1400"/>
                </a:lnTo>
                <a:close/>
              </a:path>
              <a:path fill="darkenLess" w="29689" h="21600">
                <a:moveTo>
                  <a:pt x="29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89" y="20200"/>
                </a:lnTo>
                <a:close/>
              </a:path>
              <a:path fill="lighten" w="29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89" h="21600">
                <a:moveTo>
                  <a:pt x="14845" y="3837"/>
                </a:moveTo>
                <a:lnTo>
                  <a:pt x="17421" y="6448"/>
                </a:lnTo>
                <a:lnTo>
                  <a:pt x="17421" y="4707"/>
                </a:lnTo>
                <a:lnTo>
                  <a:pt x="19197" y="4707"/>
                </a:lnTo>
                <a:lnTo>
                  <a:pt x="19197" y="8224"/>
                </a:lnTo>
                <a:lnTo>
                  <a:pt x="21808" y="10800"/>
                </a:lnTo>
                <a:lnTo>
                  <a:pt x="20154" y="10800"/>
                </a:lnTo>
                <a:lnTo>
                  <a:pt x="20154" y="17989"/>
                </a:lnTo>
                <a:lnTo>
                  <a:pt x="9535" y="17989"/>
                </a:lnTo>
                <a:lnTo>
                  <a:pt x="9535" y="10800"/>
                </a:lnTo>
                <a:lnTo>
                  <a:pt x="7882" y="10800"/>
                </a:lnTo>
                <a:close/>
              </a:path>
              <a:path fill="darkenLess" w="29689" h="21600">
                <a:moveTo>
                  <a:pt x="17421" y="6448"/>
                </a:moveTo>
                <a:lnTo>
                  <a:pt x="17421" y="4707"/>
                </a:lnTo>
                <a:lnTo>
                  <a:pt x="19197" y="4707"/>
                </a:lnTo>
                <a:lnTo>
                  <a:pt x="19197" y="8224"/>
                </a:lnTo>
                <a:close/>
              </a:path>
              <a:path fill="darkenLess" w="29689" h="21600">
                <a:moveTo>
                  <a:pt x="13922" y="14299"/>
                </a:moveTo>
                <a:lnTo>
                  <a:pt x="15767" y="14299"/>
                </a:lnTo>
                <a:lnTo>
                  <a:pt x="15767" y="17989"/>
                </a:lnTo>
                <a:lnTo>
                  <a:pt x="20154" y="17989"/>
                </a:lnTo>
                <a:lnTo>
                  <a:pt x="20154" y="10800"/>
                </a:lnTo>
                <a:lnTo>
                  <a:pt x="9535" y="10800"/>
                </a:lnTo>
                <a:lnTo>
                  <a:pt x="9535" y="17989"/>
                </a:lnTo>
                <a:lnTo>
                  <a:pt x="13922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02760" y="2970000"/>
            <a:ext cx="822636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eorgia"/>
              </a:rPr>
              <a:t>Есть  ли  в  русском  языке  несклоняемые  прилагательные? Если  есть, то  приведите  примеры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6004080" y="5942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4" descr="j0282747.gif"/>
          <p:cNvPicPr/>
          <p:nvPr/>
        </p:nvPicPr>
        <p:blipFill>
          <a:blip r:embed="rId2"/>
          <a:stretch/>
        </p:blipFill>
        <p:spPr>
          <a:xfrm>
            <a:off x="457200" y="990720"/>
            <a:ext cx="1695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28240" y="1390680"/>
            <a:ext cx="866772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русском  языке  есть  несклоняемые  прилагательные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Беж, бордо, хаки, модерн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AutoShape 6">
            <a:hlinkClick r:id="rId1" action="ppaction://hlinksldjump"/>
          </p:cNvPr>
          <p:cNvSpPr/>
          <p:nvPr/>
        </p:nvSpPr>
        <p:spPr>
          <a:xfrm>
            <a:off x="7962840" y="6058080"/>
            <a:ext cx="685800" cy="552240"/>
          </a:xfrm>
          <a:custGeom>
            <a:avLst/>
            <a:gdLst>
              <a:gd name="textAreaLeft" fmla="*/ 35640 w 685800"/>
              <a:gd name="textAreaRight" fmla="*/ 650160 w 68580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6821" h="21600">
                <a:moveTo>
                  <a:pt x="0" y="0"/>
                </a:moveTo>
                <a:lnTo>
                  <a:pt x="26821" y="0"/>
                </a:lnTo>
                <a:lnTo>
                  <a:pt x="26821" y="21600"/>
                </a:lnTo>
                <a:lnTo>
                  <a:pt x="0" y="21600"/>
                </a:lnTo>
                <a:close/>
              </a:path>
              <a:path fill="lightenLess" w="26821" h="21600">
                <a:moveTo>
                  <a:pt x="0" y="0"/>
                </a:moveTo>
                <a:lnTo>
                  <a:pt x="26821" y="0"/>
                </a:lnTo>
                <a:lnTo>
                  <a:pt x="25421" y="1400"/>
                </a:lnTo>
                <a:lnTo>
                  <a:pt x="1400" y="1400"/>
                </a:lnTo>
                <a:close/>
              </a:path>
              <a:path fill="darken" w="26821" h="21600">
                <a:moveTo>
                  <a:pt x="26821" y="0"/>
                </a:moveTo>
                <a:lnTo>
                  <a:pt x="26821" y="21600"/>
                </a:lnTo>
                <a:lnTo>
                  <a:pt x="25421" y="20200"/>
                </a:lnTo>
                <a:lnTo>
                  <a:pt x="25421" y="1400"/>
                </a:lnTo>
                <a:close/>
              </a:path>
              <a:path fill="darkenLess" w="26821" h="21600">
                <a:moveTo>
                  <a:pt x="26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21" y="20200"/>
                </a:lnTo>
                <a:close/>
              </a:path>
              <a:path fill="lighten" w="26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21" h="21600">
                <a:moveTo>
                  <a:pt x="13410" y="3837"/>
                </a:moveTo>
                <a:lnTo>
                  <a:pt x="15987" y="6448"/>
                </a:lnTo>
                <a:lnTo>
                  <a:pt x="15987" y="4707"/>
                </a:lnTo>
                <a:lnTo>
                  <a:pt x="17762" y="4707"/>
                </a:lnTo>
                <a:lnTo>
                  <a:pt x="17762" y="8224"/>
                </a:lnTo>
                <a:lnTo>
                  <a:pt x="20373" y="10800"/>
                </a:lnTo>
                <a:lnTo>
                  <a:pt x="18720" y="10800"/>
                </a:lnTo>
                <a:lnTo>
                  <a:pt x="18720" y="17989"/>
                </a:lnTo>
                <a:lnTo>
                  <a:pt x="8101" y="17989"/>
                </a:lnTo>
                <a:lnTo>
                  <a:pt x="8101" y="10800"/>
                </a:lnTo>
                <a:lnTo>
                  <a:pt x="6447" y="10800"/>
                </a:lnTo>
                <a:close/>
              </a:path>
              <a:path fill="darkenLess" w="26821" h="21600">
                <a:moveTo>
                  <a:pt x="15987" y="6448"/>
                </a:moveTo>
                <a:lnTo>
                  <a:pt x="15987" y="4707"/>
                </a:lnTo>
                <a:lnTo>
                  <a:pt x="17762" y="4707"/>
                </a:lnTo>
                <a:lnTo>
                  <a:pt x="17762" y="8224"/>
                </a:lnTo>
                <a:close/>
              </a:path>
              <a:path fill="darkenLess" w="26821" h="21600">
                <a:moveTo>
                  <a:pt x="12488" y="14299"/>
                </a:moveTo>
                <a:lnTo>
                  <a:pt x="14333" y="14299"/>
                </a:lnTo>
                <a:lnTo>
                  <a:pt x="14333" y="17989"/>
                </a:lnTo>
                <a:lnTo>
                  <a:pt x="18720" y="17989"/>
                </a:lnTo>
                <a:lnTo>
                  <a:pt x="18720" y="10800"/>
                </a:lnTo>
                <a:lnTo>
                  <a:pt x="8101" y="10800"/>
                </a:lnTo>
                <a:lnTo>
                  <a:pt x="8101" y="17989"/>
                </a:lnTo>
                <a:lnTo>
                  <a:pt x="124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569520" y="1484280"/>
            <a:ext cx="822636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14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ие  разряды  местоимений  различаются  только  значением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975280" y="59259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4" descr="j0282737.gif"/>
          <p:cNvPicPr/>
          <p:nvPr/>
        </p:nvPicPr>
        <p:blipFill>
          <a:blip r:embed="rId2"/>
          <a:stretch/>
        </p:blipFill>
        <p:spPr>
          <a:xfrm>
            <a:off x="647640" y="323856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266760" y="1828800"/>
            <a:ext cx="887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ительные  и  относитель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">
            <a:hlinkClick r:id="rId1" action="ppaction://hlinksldjump"/>
          </p:cNvPr>
          <p:cNvSpPr/>
          <p:nvPr/>
        </p:nvSpPr>
        <p:spPr>
          <a:xfrm>
            <a:off x="7981920" y="6019920"/>
            <a:ext cx="590760" cy="514080"/>
          </a:xfrm>
          <a:custGeom>
            <a:avLst/>
            <a:gdLst>
              <a:gd name="textAreaLeft" fmla="*/ 33120 w 590760"/>
              <a:gd name="textAreaRight" fmla="*/ 557640 w 590760"/>
              <a:gd name="textAreaTop" fmla="*/ 33120 h 514080"/>
              <a:gd name="textAreaBottom" fmla="*/ 480960 h 514080"/>
            </a:gdLst>
            <a:ahLst/>
            <a:rect l="textAreaLeft" t="textAreaTop" r="textAreaRight" b="textAreaBottom"/>
            <a:pathLst>
              <a:path w="24820" h="21600">
                <a:moveTo>
                  <a:pt x="0" y="0"/>
                </a:moveTo>
                <a:lnTo>
                  <a:pt x="24820" y="0"/>
                </a:lnTo>
                <a:lnTo>
                  <a:pt x="24820" y="21600"/>
                </a:lnTo>
                <a:lnTo>
                  <a:pt x="0" y="21600"/>
                </a:lnTo>
                <a:close/>
              </a:path>
              <a:path fill="lightenLess" w="24820" h="21600">
                <a:moveTo>
                  <a:pt x="0" y="0"/>
                </a:moveTo>
                <a:lnTo>
                  <a:pt x="24820" y="0"/>
                </a:lnTo>
                <a:lnTo>
                  <a:pt x="23420" y="1400"/>
                </a:lnTo>
                <a:lnTo>
                  <a:pt x="1400" y="1400"/>
                </a:lnTo>
                <a:close/>
              </a:path>
              <a:path fill="darken" w="24820" h="21600">
                <a:moveTo>
                  <a:pt x="24820" y="0"/>
                </a:moveTo>
                <a:lnTo>
                  <a:pt x="24820" y="21600"/>
                </a:lnTo>
                <a:lnTo>
                  <a:pt x="23420" y="20200"/>
                </a:lnTo>
                <a:lnTo>
                  <a:pt x="23420" y="1400"/>
                </a:lnTo>
                <a:close/>
              </a:path>
              <a:path fill="darkenLess" w="24820" h="21600">
                <a:moveTo>
                  <a:pt x="2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20" y="20200"/>
                </a:lnTo>
                <a:close/>
              </a:path>
              <a:path fill="lighten" w="2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20" h="21600">
                <a:moveTo>
                  <a:pt x="12410" y="3837"/>
                </a:moveTo>
                <a:lnTo>
                  <a:pt x="14986" y="6448"/>
                </a:lnTo>
                <a:lnTo>
                  <a:pt x="14986" y="4707"/>
                </a:lnTo>
                <a:lnTo>
                  <a:pt x="16762" y="4707"/>
                </a:lnTo>
                <a:lnTo>
                  <a:pt x="16762" y="8224"/>
                </a:lnTo>
                <a:lnTo>
                  <a:pt x="19373" y="10800"/>
                </a:lnTo>
                <a:lnTo>
                  <a:pt x="17719" y="10800"/>
                </a:lnTo>
                <a:lnTo>
                  <a:pt x="17719" y="17989"/>
                </a:lnTo>
                <a:lnTo>
                  <a:pt x="7101" y="17989"/>
                </a:lnTo>
                <a:lnTo>
                  <a:pt x="7101" y="10800"/>
                </a:lnTo>
                <a:lnTo>
                  <a:pt x="5447" y="10800"/>
                </a:lnTo>
                <a:close/>
              </a:path>
              <a:path fill="darkenLess" w="24820" h="21600">
                <a:moveTo>
                  <a:pt x="14986" y="6448"/>
                </a:moveTo>
                <a:lnTo>
                  <a:pt x="14986" y="4707"/>
                </a:lnTo>
                <a:lnTo>
                  <a:pt x="16762" y="4707"/>
                </a:lnTo>
                <a:lnTo>
                  <a:pt x="16762" y="8224"/>
                </a:lnTo>
                <a:close/>
              </a:path>
              <a:path fill="darkenLess" w="24820" h="21600">
                <a:moveTo>
                  <a:pt x="11487" y="14299"/>
                </a:moveTo>
                <a:lnTo>
                  <a:pt x="13332" y="14299"/>
                </a:lnTo>
                <a:lnTo>
                  <a:pt x="13332" y="17989"/>
                </a:lnTo>
                <a:lnTo>
                  <a:pt x="17719" y="17989"/>
                </a:lnTo>
                <a:lnTo>
                  <a:pt x="17719" y="10800"/>
                </a:lnTo>
                <a:lnTo>
                  <a:pt x="7101" y="10800"/>
                </a:lnTo>
                <a:lnTo>
                  <a:pt x="7101" y="17989"/>
                </a:lnTo>
                <a:lnTo>
                  <a:pt x="11487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12640" y="1503000"/>
            <a:ext cx="822672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7136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ак  называется  раздел  науки  о  языке, изучающий  слово  как  часть  речи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732720" y="551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4" descr="j0283631.gif"/>
          <p:cNvPicPr/>
          <p:nvPr/>
        </p:nvPicPr>
        <p:blipFill>
          <a:blip r:embed="rId2"/>
          <a:stretch/>
        </p:blipFill>
        <p:spPr>
          <a:xfrm>
            <a:off x="681120" y="4165560"/>
            <a:ext cx="1966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93560" y="2627280"/>
            <a:ext cx="82267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Морфология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AutoShape 5">
            <a:hlinkClick r:id="rId1" action="ppaction://hlinksldjump"/>
          </p:cNvPr>
          <p:cNvSpPr/>
          <p:nvPr/>
        </p:nvSpPr>
        <p:spPr>
          <a:xfrm>
            <a:off x="7962840" y="6058080"/>
            <a:ext cx="590760" cy="552240"/>
          </a:xfrm>
          <a:custGeom>
            <a:avLst/>
            <a:gdLst>
              <a:gd name="textAreaLeft" fmla="*/ 35640 w 590760"/>
              <a:gd name="textAreaRight" fmla="*/ 555120 w 590760"/>
              <a:gd name="textAreaTop" fmla="*/ 35640 h 552240"/>
              <a:gd name="textAreaBottom" fmla="*/ 516600 h 552240"/>
            </a:gdLst>
            <a:ahLst/>
            <a:rect l="textAreaLeft" t="textAreaTop" r="textAreaRight" b="textAreaBottom"/>
            <a:pathLst>
              <a:path w="23106" h="21600">
                <a:moveTo>
                  <a:pt x="0" y="0"/>
                </a:moveTo>
                <a:lnTo>
                  <a:pt x="23106" y="0"/>
                </a:lnTo>
                <a:lnTo>
                  <a:pt x="23106" y="21600"/>
                </a:lnTo>
                <a:lnTo>
                  <a:pt x="0" y="21600"/>
                </a:lnTo>
                <a:close/>
              </a:path>
              <a:path fill="lightenLess" w="23106" h="21600">
                <a:moveTo>
                  <a:pt x="0" y="0"/>
                </a:moveTo>
                <a:lnTo>
                  <a:pt x="23106" y="0"/>
                </a:lnTo>
                <a:lnTo>
                  <a:pt x="21706" y="1400"/>
                </a:lnTo>
                <a:lnTo>
                  <a:pt x="1400" y="1400"/>
                </a:lnTo>
                <a:close/>
              </a:path>
              <a:path fill="darken" w="23106" h="21600">
                <a:moveTo>
                  <a:pt x="23106" y="0"/>
                </a:moveTo>
                <a:lnTo>
                  <a:pt x="23106" y="21600"/>
                </a:lnTo>
                <a:lnTo>
                  <a:pt x="21706" y="20200"/>
                </a:lnTo>
                <a:lnTo>
                  <a:pt x="21706" y="1400"/>
                </a:lnTo>
                <a:close/>
              </a:path>
              <a:path fill="darkenLess" w="23106" h="21600">
                <a:moveTo>
                  <a:pt x="23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6" y="20200"/>
                </a:lnTo>
                <a:close/>
              </a:path>
              <a:path fill="lighten" w="23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6" h="21600">
                <a:moveTo>
                  <a:pt x="11553" y="3837"/>
                </a:moveTo>
                <a:lnTo>
                  <a:pt x="14129" y="6448"/>
                </a:lnTo>
                <a:lnTo>
                  <a:pt x="14129" y="4707"/>
                </a:lnTo>
                <a:lnTo>
                  <a:pt x="15905" y="4707"/>
                </a:lnTo>
                <a:lnTo>
                  <a:pt x="15905" y="8224"/>
                </a:lnTo>
                <a:lnTo>
                  <a:pt x="18516" y="10800"/>
                </a:lnTo>
                <a:lnTo>
                  <a:pt x="16862" y="10800"/>
                </a:lnTo>
                <a:lnTo>
                  <a:pt x="16862" y="17989"/>
                </a:lnTo>
                <a:lnTo>
                  <a:pt x="6244" y="17989"/>
                </a:lnTo>
                <a:lnTo>
                  <a:pt x="6244" y="10800"/>
                </a:lnTo>
                <a:lnTo>
                  <a:pt x="4590" y="10800"/>
                </a:lnTo>
                <a:close/>
              </a:path>
              <a:path fill="darkenLess" w="23106" h="21600">
                <a:moveTo>
                  <a:pt x="14129" y="6448"/>
                </a:moveTo>
                <a:lnTo>
                  <a:pt x="14129" y="4707"/>
                </a:lnTo>
                <a:lnTo>
                  <a:pt x="15905" y="4707"/>
                </a:lnTo>
                <a:lnTo>
                  <a:pt x="15905" y="8224"/>
                </a:lnTo>
                <a:close/>
              </a:path>
              <a:path fill="darkenLess" w="23106" h="21600">
                <a:moveTo>
                  <a:pt x="10630" y="14299"/>
                </a:moveTo>
                <a:lnTo>
                  <a:pt x="12475" y="14299"/>
                </a:lnTo>
                <a:lnTo>
                  <a:pt x="12475" y="17989"/>
                </a:lnTo>
                <a:lnTo>
                  <a:pt x="16862" y="17989"/>
                </a:lnTo>
                <a:lnTo>
                  <a:pt x="16862" y="10800"/>
                </a:lnTo>
                <a:lnTo>
                  <a:pt x="6244" y="10800"/>
                </a:lnTo>
                <a:lnTo>
                  <a:pt x="6244" y="17989"/>
                </a:lnTo>
                <a:lnTo>
                  <a:pt x="10630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52600" y="165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асть  речи  характеризуют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085760" y="5581800"/>
            <a:ext cx="18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j0282743.gif"/>
          <p:cNvPicPr/>
          <p:nvPr/>
        </p:nvPicPr>
        <p:blipFill>
          <a:blip r:embed="rId2"/>
          <a:stretch/>
        </p:blipFill>
        <p:spPr>
          <a:xfrm>
            <a:off x="5715000" y="38098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8160" y="1523880"/>
            <a:ext cx="822636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1. Общее  значени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743040" indent="-7430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2.Морфологические  признаки (или  грамматические  значения)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743040" indent="-7430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3. Синтаксическая  роль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AutoShape 5">
            <a:hlinkClick r:id="rId1" action="ppaction://hlinksldjump"/>
          </p:cNvPr>
          <p:cNvSpPr/>
          <p:nvPr/>
        </p:nvSpPr>
        <p:spPr>
          <a:xfrm>
            <a:off x="7962840" y="5981760"/>
            <a:ext cx="704880" cy="628560"/>
          </a:xfrm>
          <a:custGeom>
            <a:avLst/>
            <a:gdLst>
              <a:gd name="textAreaLeft" fmla="*/ 40680 w 704880"/>
              <a:gd name="textAreaRight" fmla="*/ 664200 w 704880"/>
              <a:gd name="textAreaTop" fmla="*/ 40680 h 628560"/>
              <a:gd name="textAreaBottom" fmla="*/ 587880 h 628560"/>
            </a:gdLst>
            <a:ahLst/>
            <a:rect l="textAreaLeft" t="textAreaTop" r="textAreaRight" b="textAreaBottom"/>
            <a:pathLst>
              <a:path w="24221" h="21600">
                <a:moveTo>
                  <a:pt x="0" y="0"/>
                </a:moveTo>
                <a:lnTo>
                  <a:pt x="24221" y="0"/>
                </a:lnTo>
                <a:lnTo>
                  <a:pt x="24221" y="21600"/>
                </a:lnTo>
                <a:lnTo>
                  <a:pt x="0" y="21600"/>
                </a:lnTo>
                <a:close/>
              </a:path>
              <a:path fill="lightenLess" w="24221" h="21600">
                <a:moveTo>
                  <a:pt x="0" y="0"/>
                </a:moveTo>
                <a:lnTo>
                  <a:pt x="24221" y="0"/>
                </a:lnTo>
                <a:lnTo>
                  <a:pt x="22821" y="1400"/>
                </a:lnTo>
                <a:lnTo>
                  <a:pt x="1400" y="1400"/>
                </a:lnTo>
                <a:close/>
              </a:path>
              <a:path fill="darken" w="24221" h="21600">
                <a:moveTo>
                  <a:pt x="24221" y="0"/>
                </a:moveTo>
                <a:lnTo>
                  <a:pt x="24221" y="21600"/>
                </a:lnTo>
                <a:lnTo>
                  <a:pt x="22821" y="20200"/>
                </a:lnTo>
                <a:lnTo>
                  <a:pt x="22821" y="1400"/>
                </a:lnTo>
                <a:close/>
              </a:path>
              <a:path fill="darkenLess" w="24221" h="21600">
                <a:moveTo>
                  <a:pt x="24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21" y="20200"/>
                </a:lnTo>
                <a:close/>
              </a:path>
              <a:path fill="lighten" w="24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21" h="21600">
                <a:moveTo>
                  <a:pt x="12111" y="3837"/>
                </a:moveTo>
                <a:lnTo>
                  <a:pt x="14687" y="6448"/>
                </a:lnTo>
                <a:lnTo>
                  <a:pt x="14687" y="4707"/>
                </a:lnTo>
                <a:lnTo>
                  <a:pt x="16462" y="4707"/>
                </a:lnTo>
                <a:lnTo>
                  <a:pt x="16462" y="8224"/>
                </a:lnTo>
                <a:lnTo>
                  <a:pt x="19074" y="10800"/>
                </a:lnTo>
                <a:lnTo>
                  <a:pt x="17420" y="10800"/>
                </a:lnTo>
                <a:lnTo>
                  <a:pt x="17420" y="17989"/>
                </a:lnTo>
                <a:lnTo>
                  <a:pt x="6801" y="17989"/>
                </a:lnTo>
                <a:lnTo>
                  <a:pt x="6801" y="10800"/>
                </a:lnTo>
                <a:lnTo>
                  <a:pt x="5148" y="10800"/>
                </a:lnTo>
                <a:close/>
              </a:path>
              <a:path fill="darkenLess" w="24221" h="21600">
                <a:moveTo>
                  <a:pt x="14687" y="6448"/>
                </a:moveTo>
                <a:lnTo>
                  <a:pt x="14687" y="4707"/>
                </a:lnTo>
                <a:lnTo>
                  <a:pt x="16462" y="4707"/>
                </a:lnTo>
                <a:lnTo>
                  <a:pt x="16462" y="8224"/>
                </a:lnTo>
                <a:close/>
              </a:path>
              <a:path fill="darkenLess" w="24221" h="21600">
                <a:moveTo>
                  <a:pt x="11188" y="14299"/>
                </a:moveTo>
                <a:lnTo>
                  <a:pt x="13033" y="14299"/>
                </a:lnTo>
                <a:lnTo>
                  <a:pt x="13033" y="17989"/>
                </a:lnTo>
                <a:lnTo>
                  <a:pt x="17420" y="17989"/>
                </a:lnTo>
                <a:lnTo>
                  <a:pt x="17420" y="10800"/>
                </a:lnTo>
                <a:lnTo>
                  <a:pt x="6801" y="10800"/>
                </a:lnTo>
                <a:lnTo>
                  <a:pt x="6801" y="17989"/>
                </a:lnTo>
                <a:lnTo>
                  <a:pt x="1118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704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5-й  вопрос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73340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кие  предлоги  употребляются  чаще  всего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Рисунок 3" descr="J0095677.GIF"/>
          <p:cNvPicPr/>
          <p:nvPr/>
        </p:nvPicPr>
        <p:blipFill>
          <a:blip r:embed="rId1"/>
          <a:stretch/>
        </p:blipFill>
        <p:spPr>
          <a:xfrm>
            <a:off x="895320" y="3770280"/>
            <a:ext cx="1562040" cy="17017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J0095701.GIF"/>
          <p:cNvPicPr/>
          <p:nvPr/>
        </p:nvPicPr>
        <p:blipFill>
          <a:blip r:embed="rId2"/>
          <a:stretch/>
        </p:blipFill>
        <p:spPr>
          <a:xfrm>
            <a:off x="5124600" y="3894120"/>
            <a:ext cx="1238040" cy="16257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J0095674.GIF"/>
          <p:cNvPicPr/>
          <p:nvPr/>
        </p:nvPicPr>
        <p:blipFill>
          <a:blip r:embed="rId3"/>
          <a:stretch/>
        </p:blipFill>
        <p:spPr>
          <a:xfrm>
            <a:off x="6310440" y="3851280"/>
            <a:ext cx="15951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48572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 неизменяемые  части  реч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743040" y="556272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4" descr="j0283561.gif"/>
          <p:cNvPicPr/>
          <p:nvPr/>
        </p:nvPicPr>
        <p:blipFill>
          <a:blip r:embed="rId2"/>
          <a:stretch/>
        </p:blipFill>
        <p:spPr>
          <a:xfrm>
            <a:off x="5867280" y="3367080"/>
            <a:ext cx="2205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26760" y="1942920"/>
            <a:ext cx="822636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Наречие, деепричастие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AutoShape 5">
            <a:hlinkClick r:id="rId1" action="ppaction://hlinksldjump"/>
          </p:cNvPr>
          <p:cNvSpPr/>
          <p:nvPr/>
        </p:nvSpPr>
        <p:spPr>
          <a:xfrm>
            <a:off x="7962840" y="6153120"/>
            <a:ext cx="514440" cy="457200"/>
          </a:xfrm>
          <a:custGeom>
            <a:avLst/>
            <a:gdLst>
              <a:gd name="textAreaLeft" fmla="*/ 29520 w 514440"/>
              <a:gd name="textAreaRight" fmla="*/ 484920 w 514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302" h="21600">
                <a:moveTo>
                  <a:pt x="0" y="0"/>
                </a:moveTo>
                <a:lnTo>
                  <a:pt x="24302" y="0"/>
                </a:lnTo>
                <a:lnTo>
                  <a:pt x="24302" y="21600"/>
                </a:lnTo>
                <a:lnTo>
                  <a:pt x="0" y="21600"/>
                </a:lnTo>
                <a:close/>
              </a:path>
              <a:path fill="lightenLess" w="24302" h="21600">
                <a:moveTo>
                  <a:pt x="0" y="0"/>
                </a:moveTo>
                <a:lnTo>
                  <a:pt x="24302" y="0"/>
                </a:lnTo>
                <a:lnTo>
                  <a:pt x="22902" y="1400"/>
                </a:lnTo>
                <a:lnTo>
                  <a:pt x="1400" y="1400"/>
                </a:lnTo>
                <a:close/>
              </a:path>
              <a:path fill="darken" w="24302" h="21600">
                <a:moveTo>
                  <a:pt x="24302" y="0"/>
                </a:moveTo>
                <a:lnTo>
                  <a:pt x="24302" y="21600"/>
                </a:lnTo>
                <a:lnTo>
                  <a:pt x="22902" y="20200"/>
                </a:lnTo>
                <a:lnTo>
                  <a:pt x="22902" y="1400"/>
                </a:lnTo>
                <a:close/>
              </a:path>
              <a:path fill="darkenLess" w="24302" h="21600">
                <a:moveTo>
                  <a:pt x="24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2" y="20200"/>
                </a:lnTo>
                <a:close/>
              </a:path>
              <a:path fill="lighten" w="24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2" h="21600">
                <a:moveTo>
                  <a:pt x="12151" y="3837"/>
                </a:moveTo>
                <a:lnTo>
                  <a:pt x="14727" y="6448"/>
                </a:lnTo>
                <a:lnTo>
                  <a:pt x="14727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4" y="10800"/>
                </a:lnTo>
                <a:lnTo>
                  <a:pt x="17460" y="10800"/>
                </a:lnTo>
                <a:lnTo>
                  <a:pt x="17460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8" y="10800"/>
                </a:lnTo>
                <a:close/>
              </a:path>
              <a:path fill="darkenLess" w="24302" h="21600">
                <a:moveTo>
                  <a:pt x="14727" y="6448"/>
                </a:moveTo>
                <a:lnTo>
                  <a:pt x="14727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2" h="21600">
                <a:moveTo>
                  <a:pt x="11228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0" y="17989"/>
                </a:lnTo>
                <a:lnTo>
                  <a:pt x="17460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8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73340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 часть  речи, которая  спрягается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6877080" y="571500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Рисунок 4" descr="PEN&amp;INKW.WMF"/>
          <p:cNvPicPr/>
          <p:nvPr/>
        </p:nvPicPr>
        <p:blipFill>
          <a:blip r:embed="rId2"/>
          <a:stretch/>
        </p:blipFill>
        <p:spPr>
          <a:xfrm>
            <a:off x="1074600" y="3157560"/>
            <a:ext cx="2811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50440" y="2055960"/>
            <a:ext cx="822636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Глагол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685800" cy="476280"/>
          </a:xfrm>
          <a:custGeom>
            <a:avLst/>
            <a:gdLst>
              <a:gd name="textAreaLeft" fmla="*/ 30600 w 685800"/>
              <a:gd name="textAreaRight" fmla="*/ 655200 w 6858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95" h="21600">
                <a:moveTo>
                  <a:pt x="0" y="0"/>
                </a:moveTo>
                <a:lnTo>
                  <a:pt x="31095" y="0"/>
                </a:lnTo>
                <a:lnTo>
                  <a:pt x="31095" y="21600"/>
                </a:lnTo>
                <a:lnTo>
                  <a:pt x="0" y="21600"/>
                </a:lnTo>
                <a:close/>
              </a:path>
              <a:path fill="lightenLess" w="31095" h="21600">
                <a:moveTo>
                  <a:pt x="0" y="0"/>
                </a:moveTo>
                <a:lnTo>
                  <a:pt x="31095" y="0"/>
                </a:lnTo>
                <a:lnTo>
                  <a:pt x="29695" y="1400"/>
                </a:lnTo>
                <a:lnTo>
                  <a:pt x="1400" y="1400"/>
                </a:lnTo>
                <a:close/>
              </a:path>
              <a:path fill="darken" w="31095" h="21600">
                <a:moveTo>
                  <a:pt x="31095" y="0"/>
                </a:moveTo>
                <a:lnTo>
                  <a:pt x="31095" y="21600"/>
                </a:lnTo>
                <a:lnTo>
                  <a:pt x="29695" y="20200"/>
                </a:lnTo>
                <a:lnTo>
                  <a:pt x="29695" y="1400"/>
                </a:lnTo>
                <a:close/>
              </a:path>
              <a:path fill="darkenLess" w="31095" h="21600">
                <a:moveTo>
                  <a:pt x="31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95" y="20200"/>
                </a:lnTo>
                <a:close/>
              </a:path>
              <a:path fill="lighten" w="31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95" h="21600">
                <a:moveTo>
                  <a:pt x="15547" y="3837"/>
                </a:moveTo>
                <a:lnTo>
                  <a:pt x="18124" y="6448"/>
                </a:lnTo>
                <a:lnTo>
                  <a:pt x="18124" y="4707"/>
                </a:lnTo>
                <a:lnTo>
                  <a:pt x="19899" y="4707"/>
                </a:lnTo>
                <a:lnTo>
                  <a:pt x="19899" y="8224"/>
                </a:lnTo>
                <a:lnTo>
                  <a:pt x="22510" y="10800"/>
                </a:lnTo>
                <a:lnTo>
                  <a:pt x="20857" y="10800"/>
                </a:lnTo>
                <a:lnTo>
                  <a:pt x="20857" y="17989"/>
                </a:lnTo>
                <a:lnTo>
                  <a:pt x="10238" y="17989"/>
                </a:lnTo>
                <a:lnTo>
                  <a:pt x="10238" y="10800"/>
                </a:lnTo>
                <a:lnTo>
                  <a:pt x="8584" y="10800"/>
                </a:lnTo>
                <a:close/>
              </a:path>
              <a:path fill="darkenLess" w="31095" h="21600">
                <a:moveTo>
                  <a:pt x="18124" y="6448"/>
                </a:moveTo>
                <a:lnTo>
                  <a:pt x="18124" y="4707"/>
                </a:lnTo>
                <a:lnTo>
                  <a:pt x="19899" y="4707"/>
                </a:lnTo>
                <a:lnTo>
                  <a:pt x="19899" y="8224"/>
                </a:lnTo>
                <a:close/>
              </a:path>
              <a:path fill="darkenLess" w="31095" h="21600">
                <a:moveTo>
                  <a:pt x="14625" y="14299"/>
                </a:moveTo>
                <a:lnTo>
                  <a:pt x="16470" y="14299"/>
                </a:lnTo>
                <a:lnTo>
                  <a:pt x="16470" y="17989"/>
                </a:lnTo>
                <a:lnTo>
                  <a:pt x="20857" y="17989"/>
                </a:lnTo>
                <a:lnTo>
                  <a:pt x="20857" y="10800"/>
                </a:lnTo>
                <a:lnTo>
                  <a:pt x="10238" y="10800"/>
                </a:lnTo>
                <a:lnTo>
                  <a:pt x="10238" y="17989"/>
                </a:lnTo>
                <a:lnTo>
                  <a:pt x="14625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609480" y="1066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3618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бразуйте  простую  форму  сравнительной  степени  от  прилагательног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тонкий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972480" y="5486400"/>
            <a:ext cx="18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 u="sng">
                <a:solidFill>
                  <a:srgbClr val="67afbd"/>
                </a:solidFill>
                <a:uFillTx/>
                <a:latin typeface="Arial"/>
                <a:hlinkClick r:id="rId1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4" descr="TEACHER.WMF"/>
          <p:cNvPicPr/>
          <p:nvPr/>
        </p:nvPicPr>
        <p:blipFill>
          <a:blip r:embed="rId2"/>
          <a:stretch/>
        </p:blipFill>
        <p:spPr>
          <a:xfrm>
            <a:off x="712800" y="3146400"/>
            <a:ext cx="3249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1360" y="1731600"/>
            <a:ext cx="8226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Тоньш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AutoShape 5">
            <a:hlinkClick r:id="rId1" action="ppaction://hlinksldjump"/>
          </p:cNvPr>
          <p:cNvSpPr/>
          <p:nvPr/>
        </p:nvSpPr>
        <p:spPr>
          <a:xfrm>
            <a:off x="7962840" y="6134040"/>
            <a:ext cx="590760" cy="476280"/>
          </a:xfrm>
          <a:custGeom>
            <a:avLst/>
            <a:gdLst>
              <a:gd name="textAreaLeft" fmla="*/ 30600 w 590760"/>
              <a:gd name="textAreaRight" fmla="*/ 560160 w 590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788" h="21600">
                <a:moveTo>
                  <a:pt x="0" y="0"/>
                </a:moveTo>
                <a:lnTo>
                  <a:pt x="26788" y="0"/>
                </a:lnTo>
                <a:lnTo>
                  <a:pt x="26788" y="21600"/>
                </a:lnTo>
                <a:lnTo>
                  <a:pt x="0" y="21600"/>
                </a:lnTo>
                <a:close/>
              </a:path>
              <a:path fill="lightenLess" w="26788" h="21600">
                <a:moveTo>
                  <a:pt x="0" y="0"/>
                </a:moveTo>
                <a:lnTo>
                  <a:pt x="26788" y="0"/>
                </a:lnTo>
                <a:lnTo>
                  <a:pt x="25388" y="1400"/>
                </a:lnTo>
                <a:lnTo>
                  <a:pt x="1400" y="1400"/>
                </a:lnTo>
                <a:close/>
              </a:path>
              <a:path fill="darken" w="26788" h="21600">
                <a:moveTo>
                  <a:pt x="26788" y="0"/>
                </a:moveTo>
                <a:lnTo>
                  <a:pt x="26788" y="21600"/>
                </a:lnTo>
                <a:lnTo>
                  <a:pt x="25388" y="20200"/>
                </a:lnTo>
                <a:lnTo>
                  <a:pt x="25388" y="1400"/>
                </a:lnTo>
                <a:close/>
              </a:path>
              <a:path fill="darkenLess" w="26788" h="21600">
                <a:moveTo>
                  <a:pt x="26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8" y="20200"/>
                </a:lnTo>
                <a:close/>
              </a:path>
              <a:path fill="lighten" w="26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8" h="21600">
                <a:moveTo>
                  <a:pt x="13394" y="3837"/>
                </a:moveTo>
                <a:lnTo>
                  <a:pt x="15970" y="6448"/>
                </a:ln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lnTo>
                  <a:pt x="20357" y="10800"/>
                </a:lnTo>
                <a:lnTo>
                  <a:pt x="18703" y="10800"/>
                </a:lnTo>
                <a:lnTo>
                  <a:pt x="18703" y="17989"/>
                </a:lnTo>
                <a:lnTo>
                  <a:pt x="8085" y="17989"/>
                </a:lnTo>
                <a:lnTo>
                  <a:pt x="8085" y="10800"/>
                </a:lnTo>
                <a:lnTo>
                  <a:pt x="6431" y="10800"/>
                </a:lnTo>
                <a:close/>
              </a:path>
              <a:path fill="darkenLess" w="26788" h="21600">
                <a:moveTo>
                  <a:pt x="15970" y="6448"/>
                </a:move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close/>
              </a:path>
              <a:path fill="darkenLess" w="26788" h="21600">
                <a:moveTo>
                  <a:pt x="12471" y="14299"/>
                </a:moveTo>
                <a:lnTo>
                  <a:pt x="14317" y="14299"/>
                </a:lnTo>
                <a:lnTo>
                  <a:pt x="14317" y="17989"/>
                </a:lnTo>
                <a:lnTo>
                  <a:pt x="18703" y="17989"/>
                </a:lnTo>
                <a:lnTo>
                  <a:pt x="18703" y="10800"/>
                </a:lnTo>
                <a:lnTo>
                  <a:pt x="8085" y="10800"/>
                </a:lnTo>
                <a:lnTo>
                  <a:pt x="8085" y="17989"/>
                </a:lnTo>
                <a:lnTo>
                  <a:pt x="1247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6840" y="1255680"/>
            <a:ext cx="83250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Georgia"/>
              </a:rPr>
              <a:t>В  каком  местоимении  два  звука,но  одна  буква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286680" y="5829480"/>
            <a:ext cx="20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4" descr="j0336914.gif"/>
          <p:cNvPicPr/>
          <p:nvPr/>
        </p:nvPicPr>
        <p:blipFill>
          <a:blip r:embed="rId1"/>
          <a:stretch/>
        </p:blipFill>
        <p:spPr>
          <a:xfrm>
            <a:off x="781200" y="3875040"/>
            <a:ext cx="1866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74480" y="1657080"/>
            <a:ext cx="82263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7962840" y="6134040"/>
            <a:ext cx="590760" cy="476280"/>
          </a:xfrm>
          <a:custGeom>
            <a:avLst/>
            <a:gdLst>
              <a:gd name="textAreaLeft" fmla="*/ 30600 w 590760"/>
              <a:gd name="textAreaRight" fmla="*/ 560160 w 5907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788" h="21600">
                <a:moveTo>
                  <a:pt x="0" y="0"/>
                </a:moveTo>
                <a:lnTo>
                  <a:pt x="26788" y="0"/>
                </a:lnTo>
                <a:lnTo>
                  <a:pt x="26788" y="21600"/>
                </a:lnTo>
                <a:lnTo>
                  <a:pt x="0" y="21600"/>
                </a:lnTo>
                <a:close/>
              </a:path>
              <a:path fill="lightenLess" w="26788" h="21600">
                <a:moveTo>
                  <a:pt x="0" y="0"/>
                </a:moveTo>
                <a:lnTo>
                  <a:pt x="26788" y="0"/>
                </a:lnTo>
                <a:lnTo>
                  <a:pt x="25388" y="1400"/>
                </a:lnTo>
                <a:lnTo>
                  <a:pt x="1400" y="1400"/>
                </a:lnTo>
                <a:close/>
              </a:path>
              <a:path fill="darken" w="26788" h="21600">
                <a:moveTo>
                  <a:pt x="26788" y="0"/>
                </a:moveTo>
                <a:lnTo>
                  <a:pt x="26788" y="21600"/>
                </a:lnTo>
                <a:lnTo>
                  <a:pt x="25388" y="20200"/>
                </a:lnTo>
                <a:lnTo>
                  <a:pt x="25388" y="1400"/>
                </a:lnTo>
                <a:close/>
              </a:path>
              <a:path fill="darkenLess" w="26788" h="21600">
                <a:moveTo>
                  <a:pt x="26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8" y="20200"/>
                </a:lnTo>
                <a:close/>
              </a:path>
              <a:path fill="lighten" w="26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8" h="21600">
                <a:moveTo>
                  <a:pt x="13394" y="3837"/>
                </a:moveTo>
                <a:lnTo>
                  <a:pt x="15970" y="6448"/>
                </a:ln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lnTo>
                  <a:pt x="20357" y="10800"/>
                </a:lnTo>
                <a:lnTo>
                  <a:pt x="18703" y="10800"/>
                </a:lnTo>
                <a:lnTo>
                  <a:pt x="18703" y="17989"/>
                </a:lnTo>
                <a:lnTo>
                  <a:pt x="8085" y="17989"/>
                </a:lnTo>
                <a:lnTo>
                  <a:pt x="8085" y="10800"/>
                </a:lnTo>
                <a:lnTo>
                  <a:pt x="6431" y="10800"/>
                </a:lnTo>
                <a:close/>
              </a:path>
              <a:path fill="darkenLess" w="26788" h="21600">
                <a:moveTo>
                  <a:pt x="15970" y="6448"/>
                </a:moveTo>
                <a:lnTo>
                  <a:pt x="15970" y="4707"/>
                </a:lnTo>
                <a:lnTo>
                  <a:pt x="17746" y="4707"/>
                </a:lnTo>
                <a:lnTo>
                  <a:pt x="17746" y="8224"/>
                </a:lnTo>
                <a:close/>
              </a:path>
              <a:path fill="darkenLess" w="26788" h="21600">
                <a:moveTo>
                  <a:pt x="12471" y="14299"/>
                </a:moveTo>
                <a:lnTo>
                  <a:pt x="14317" y="14299"/>
                </a:lnTo>
                <a:lnTo>
                  <a:pt x="14317" y="17989"/>
                </a:lnTo>
                <a:lnTo>
                  <a:pt x="18703" y="17989"/>
                </a:lnTo>
                <a:lnTo>
                  <a:pt x="18703" y="10800"/>
                </a:lnTo>
                <a:lnTo>
                  <a:pt x="8085" y="10800"/>
                </a:lnTo>
                <a:lnTo>
                  <a:pt x="8085" y="17989"/>
                </a:lnTo>
                <a:lnTo>
                  <a:pt x="12471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52600" y="552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</a:rPr>
              <a:t>ФИНАЛ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1674720"/>
            <a:ext cx="88772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Сложные  предлож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Односоставные  предлож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Вводные  слова  и  предложен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Фразеолог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Морфологи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6064"/>
                </a:solidFill>
                <a:latin typeface="Georgia"/>
              </a:rPr>
              <a:t>Занимательный  русск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819000" y="28764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857160" y="340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876240" y="3981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7238880" y="6286680"/>
            <a:ext cx="571680" cy="342720"/>
          </a:xfrm>
          <a:custGeom>
            <a:avLst/>
            <a:gdLst>
              <a:gd name="textAreaLeft" fmla="*/ 21960 w 571680"/>
              <a:gd name="textAreaRight" fmla="*/ 549720 w 57168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6015" h="21600">
                <a:moveTo>
                  <a:pt x="0" y="0"/>
                </a:moveTo>
                <a:lnTo>
                  <a:pt x="36015" y="0"/>
                </a:lnTo>
                <a:lnTo>
                  <a:pt x="36015" y="21600"/>
                </a:lnTo>
                <a:lnTo>
                  <a:pt x="0" y="21600"/>
                </a:lnTo>
                <a:close/>
              </a:path>
              <a:path fill="lightenLess" w="36015" h="21600">
                <a:moveTo>
                  <a:pt x="0" y="0"/>
                </a:moveTo>
                <a:lnTo>
                  <a:pt x="36015" y="0"/>
                </a:lnTo>
                <a:lnTo>
                  <a:pt x="34615" y="1400"/>
                </a:lnTo>
                <a:lnTo>
                  <a:pt x="1400" y="1400"/>
                </a:lnTo>
                <a:close/>
              </a:path>
              <a:path fill="darken" w="36015" h="21600">
                <a:moveTo>
                  <a:pt x="36015" y="0"/>
                </a:moveTo>
                <a:lnTo>
                  <a:pt x="36015" y="21600"/>
                </a:lnTo>
                <a:lnTo>
                  <a:pt x="34615" y="20200"/>
                </a:lnTo>
                <a:lnTo>
                  <a:pt x="34615" y="1400"/>
                </a:lnTo>
                <a:close/>
              </a:path>
              <a:path fill="darkenLess" w="36015" h="21600">
                <a:moveTo>
                  <a:pt x="36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5" y="20200"/>
                </a:lnTo>
                <a:close/>
              </a:path>
              <a:path fill="lighten" w="36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5" h="21600">
                <a:moveTo>
                  <a:pt x="11001" y="3794"/>
                </a:moveTo>
                <a:lnTo>
                  <a:pt x="25014" y="10800"/>
                </a:lnTo>
                <a:lnTo>
                  <a:pt x="1100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36320" y="1085400"/>
            <a:ext cx="82263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зовите  вид  придаточного  в  сложноподчинённом предложени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Маленький  дом, где  я  живу  в  Мещёре, заслуживает  описан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определительно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7658280" y="6095880"/>
            <a:ext cx="780840" cy="533520"/>
          </a:xfrm>
          <a:custGeom>
            <a:avLst/>
            <a:gdLst>
              <a:gd name="textAreaLeft" fmla="*/ 34560 w 780840"/>
              <a:gd name="textAreaRight" fmla="*/ 746280 w 780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606" h="21600">
                <a:moveTo>
                  <a:pt x="0" y="0"/>
                </a:moveTo>
                <a:lnTo>
                  <a:pt x="31606" y="0"/>
                </a:lnTo>
                <a:lnTo>
                  <a:pt x="31606" y="21600"/>
                </a:lnTo>
                <a:lnTo>
                  <a:pt x="0" y="21600"/>
                </a:lnTo>
                <a:close/>
              </a:path>
              <a:path fill="lightenLess" w="31606" h="21600">
                <a:moveTo>
                  <a:pt x="0" y="0"/>
                </a:moveTo>
                <a:lnTo>
                  <a:pt x="31606" y="0"/>
                </a:lnTo>
                <a:lnTo>
                  <a:pt x="30206" y="1400"/>
                </a:lnTo>
                <a:lnTo>
                  <a:pt x="1400" y="1400"/>
                </a:lnTo>
                <a:close/>
              </a:path>
              <a:path fill="darken" w="31606" h="21600">
                <a:moveTo>
                  <a:pt x="31606" y="0"/>
                </a:moveTo>
                <a:lnTo>
                  <a:pt x="31606" y="21600"/>
                </a:lnTo>
                <a:lnTo>
                  <a:pt x="30206" y="20200"/>
                </a:lnTo>
                <a:lnTo>
                  <a:pt x="30206" y="1400"/>
                </a:lnTo>
                <a:close/>
              </a:path>
              <a:path fill="darkenLess" w="31606" h="21600">
                <a:moveTo>
                  <a:pt x="31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06" y="20200"/>
                </a:lnTo>
                <a:close/>
              </a:path>
              <a:path fill="lighten" w="31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06" h="21600">
                <a:moveTo>
                  <a:pt x="8797" y="3794"/>
                </a:moveTo>
                <a:lnTo>
                  <a:pt x="22810" y="10800"/>
                </a:lnTo>
                <a:lnTo>
                  <a:pt x="879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 rot="5400000">
            <a:off x="6695640" y="6019920"/>
            <a:ext cx="505080" cy="6951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95160"/>
              <a:gd name="textAreaBottom" fmla="*/ 662400 h 695160"/>
            </a:gdLst>
            <a:ahLst/>
            <a:rect l="textAreaLeft" t="textAreaTop" r="textAreaRight" b="textAreaBottom"/>
            <a:pathLst>
              <a:path w="21600" h="29723">
                <a:moveTo>
                  <a:pt x="0" y="0"/>
                </a:moveTo>
                <a:lnTo>
                  <a:pt x="21600" y="0"/>
                </a:lnTo>
                <a:lnTo>
                  <a:pt x="21600" y="29723"/>
                </a:lnTo>
                <a:lnTo>
                  <a:pt x="0" y="29723"/>
                </a:lnTo>
                <a:close/>
              </a:path>
              <a:path fill="lightenLess" w="21600" h="29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23">
                <a:moveTo>
                  <a:pt x="21600" y="0"/>
                </a:moveTo>
                <a:lnTo>
                  <a:pt x="21600" y="29723"/>
                </a:lnTo>
                <a:lnTo>
                  <a:pt x="20200" y="28323"/>
                </a:lnTo>
                <a:lnTo>
                  <a:pt x="20200" y="1400"/>
                </a:lnTo>
                <a:close/>
              </a:path>
              <a:path fill="darkenLess" w="21600" h="29723">
                <a:moveTo>
                  <a:pt x="21600" y="29723"/>
                </a:moveTo>
                <a:lnTo>
                  <a:pt x="0" y="29723"/>
                </a:lnTo>
                <a:lnTo>
                  <a:pt x="1400" y="28323"/>
                </a:lnTo>
                <a:lnTo>
                  <a:pt x="20200" y="28323"/>
                </a:lnTo>
                <a:close/>
              </a:path>
              <a:path fill="lighten" w="21600" h="29723">
                <a:moveTo>
                  <a:pt x="0" y="29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23"/>
                </a:lnTo>
                <a:close/>
              </a:path>
              <a:path fill="darken" w="21600" h="29723">
                <a:moveTo>
                  <a:pt x="3794" y="14862"/>
                </a:moveTo>
                <a:lnTo>
                  <a:pt x="17806" y="7855"/>
                </a:lnTo>
                <a:lnTo>
                  <a:pt x="17806" y="2186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971640" y="2914560"/>
            <a:ext cx="7486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6" descr="pit.gif"/>
          <p:cNvPicPr/>
          <p:nvPr/>
        </p:nvPicPr>
        <p:blipFill>
          <a:blip r:embed="rId1"/>
          <a:stretch/>
        </p:blipFill>
        <p:spPr>
          <a:xfrm>
            <a:off x="961920" y="4803840"/>
            <a:ext cx="17240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9080" y="380520"/>
            <a:ext cx="822636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Категории вопросов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984240"/>
          <a:ext cx="8439120" cy="4591080"/>
        </p:xfrm>
        <a:graphic>
          <a:graphicData uri="http://schemas.openxmlformats.org/drawingml/2006/table">
            <a:tbl>
              <a:tblPr/>
              <a:tblGrid>
                <a:gridCol w="3395520"/>
                <a:gridCol w="1125720"/>
                <a:gridCol w="1089000"/>
                <a:gridCol w="961920"/>
                <a:gridCol w="959040"/>
                <a:gridCol w="907920"/>
              </a:tblGrid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Фоне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ексик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орф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интакс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ункту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Занимательно  о  русском  язы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67afbd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170"/>
          <p:cNvSpPr/>
          <p:nvPr/>
        </p:nvSpPr>
        <p:spPr>
          <a:xfrm>
            <a:off x="5086440" y="6248520"/>
            <a:ext cx="2666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31" action="ppaction://hlinksldjump"/>
              </a:rPr>
              <a:t>Фи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19040" y="782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азовите  вид  односоставного  предложения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Приветствую  тебя, пустынный  уголок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7658280" y="6229440"/>
            <a:ext cx="514080" cy="399960"/>
          </a:xfrm>
          <a:custGeom>
            <a:avLst/>
            <a:gdLst>
              <a:gd name="textAreaLeft" fmla="*/ 25920 w 514080"/>
              <a:gd name="textAreaRight" fmla="*/ 488160 w 51408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7758" h="21600">
                <a:moveTo>
                  <a:pt x="0" y="0"/>
                </a:moveTo>
                <a:lnTo>
                  <a:pt x="27758" y="0"/>
                </a:lnTo>
                <a:lnTo>
                  <a:pt x="27758" y="21600"/>
                </a:lnTo>
                <a:lnTo>
                  <a:pt x="0" y="21600"/>
                </a:lnTo>
                <a:close/>
              </a:path>
              <a:path fill="lightenLess" w="27758" h="21600">
                <a:moveTo>
                  <a:pt x="0" y="0"/>
                </a:moveTo>
                <a:lnTo>
                  <a:pt x="27758" y="0"/>
                </a:lnTo>
                <a:lnTo>
                  <a:pt x="26358" y="1400"/>
                </a:lnTo>
                <a:lnTo>
                  <a:pt x="1400" y="1400"/>
                </a:lnTo>
                <a:close/>
              </a:path>
              <a:path fill="darken" w="27758" h="21600">
                <a:moveTo>
                  <a:pt x="27758" y="0"/>
                </a:moveTo>
                <a:lnTo>
                  <a:pt x="27758" y="21600"/>
                </a:lnTo>
                <a:lnTo>
                  <a:pt x="26358" y="20200"/>
                </a:lnTo>
                <a:lnTo>
                  <a:pt x="26358" y="1400"/>
                </a:lnTo>
                <a:close/>
              </a:path>
              <a:path fill="darkenLess" w="27758" h="21600">
                <a:moveTo>
                  <a:pt x="27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58" y="20200"/>
                </a:lnTo>
                <a:close/>
              </a:path>
              <a:path fill="lighten" w="27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58" h="21600">
                <a:moveTo>
                  <a:pt x="6872" y="3794"/>
                </a:moveTo>
                <a:lnTo>
                  <a:pt x="20885" y="10800"/>
                </a:lnTo>
                <a:lnTo>
                  <a:pt x="687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/>
          <p:cNvSpPr/>
          <p:nvPr/>
        </p:nvSpPr>
        <p:spPr>
          <a:xfrm rot="5400000">
            <a:off x="6696000" y="6134040"/>
            <a:ext cx="390600" cy="581040"/>
          </a:xfrm>
          <a:custGeom>
            <a:avLst/>
            <a:gdLst>
              <a:gd name="textAreaLeft" fmla="*/ 25200 w 390600"/>
              <a:gd name="textAreaRight" fmla="*/ 365400 w 390600"/>
              <a:gd name="textAreaTop" fmla="*/ 25200 h 581040"/>
              <a:gd name="textAreaBottom" fmla="*/ 555840 h 581040"/>
            </a:gdLst>
            <a:ahLst/>
            <a:rect l="textAreaLeft" t="textAreaTop" r="textAreaRight" b="textAreaBottom"/>
            <a:pathLst>
              <a:path w="21600" h="32122">
                <a:moveTo>
                  <a:pt x="0" y="0"/>
                </a:moveTo>
                <a:lnTo>
                  <a:pt x="21600" y="0"/>
                </a:lnTo>
                <a:lnTo>
                  <a:pt x="21600" y="32122"/>
                </a:lnTo>
                <a:lnTo>
                  <a:pt x="0" y="32122"/>
                </a:lnTo>
                <a:close/>
              </a:path>
              <a:path fill="lightenLess" w="21600" h="3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122">
                <a:moveTo>
                  <a:pt x="21600" y="0"/>
                </a:moveTo>
                <a:lnTo>
                  <a:pt x="21600" y="32122"/>
                </a:lnTo>
                <a:lnTo>
                  <a:pt x="20200" y="30722"/>
                </a:lnTo>
                <a:lnTo>
                  <a:pt x="20200" y="1400"/>
                </a:lnTo>
                <a:close/>
              </a:path>
              <a:path fill="darkenLess" w="21600" h="32122">
                <a:moveTo>
                  <a:pt x="21600" y="32122"/>
                </a:moveTo>
                <a:lnTo>
                  <a:pt x="0" y="32122"/>
                </a:lnTo>
                <a:lnTo>
                  <a:pt x="1400" y="30722"/>
                </a:lnTo>
                <a:lnTo>
                  <a:pt x="20200" y="30722"/>
                </a:lnTo>
                <a:close/>
              </a:path>
              <a:path fill="lighten" w="21600" h="32122">
                <a:moveTo>
                  <a:pt x="0" y="3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722"/>
                </a:lnTo>
                <a:close/>
              </a:path>
              <a:path fill="darken" w="21600" h="32122">
                <a:moveTo>
                  <a:pt x="3794" y="16061"/>
                </a:moveTo>
                <a:lnTo>
                  <a:pt x="17806" y="9054"/>
                </a:lnTo>
                <a:lnTo>
                  <a:pt x="17806" y="2306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76280" y="4038480"/>
            <a:ext cx="8077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Глагольное  определённо-лич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79160" y="800280"/>
            <a:ext cx="822636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19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пределите  значение  вводного  слова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во-первых</a:t>
            </a:r>
            <a:r>
              <a:rPr b="0" lang="ru-RU" sz="32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 предложени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Во-первых,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легче  ли  было  бы  писать, если  бы  каждый  русский  писал  так, как  он  произноси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Georgia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19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орядок  мыслей  и  их  связ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765828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9"/>
          <p:cNvSpPr/>
          <p:nvPr/>
        </p:nvSpPr>
        <p:spPr>
          <a:xfrm rot="5400000">
            <a:off x="6867360" y="5991120"/>
            <a:ext cx="428760" cy="8287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828720"/>
              <a:gd name="textAreaBottom" fmla="*/ 801000 h 828720"/>
            </a:gdLst>
            <a:ahLst/>
            <a:rect l="textAreaLeft" t="textAreaTop" r="textAreaRight" b="textAreaBottom"/>
            <a:pathLst>
              <a:path w="21600" h="41732">
                <a:moveTo>
                  <a:pt x="0" y="0"/>
                </a:moveTo>
                <a:lnTo>
                  <a:pt x="21600" y="0"/>
                </a:lnTo>
                <a:lnTo>
                  <a:pt x="21600" y="41732"/>
                </a:lnTo>
                <a:lnTo>
                  <a:pt x="0" y="41732"/>
                </a:lnTo>
                <a:close/>
              </a:path>
              <a:path fill="lightenLess" w="21600" h="417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732">
                <a:moveTo>
                  <a:pt x="21600" y="0"/>
                </a:moveTo>
                <a:lnTo>
                  <a:pt x="21600" y="41732"/>
                </a:lnTo>
                <a:lnTo>
                  <a:pt x="20200" y="40332"/>
                </a:lnTo>
                <a:lnTo>
                  <a:pt x="20200" y="1400"/>
                </a:lnTo>
                <a:close/>
              </a:path>
              <a:path fill="darkenLess" w="21600" h="41732">
                <a:moveTo>
                  <a:pt x="21600" y="41732"/>
                </a:moveTo>
                <a:lnTo>
                  <a:pt x="0" y="41732"/>
                </a:lnTo>
                <a:lnTo>
                  <a:pt x="1400" y="40332"/>
                </a:lnTo>
                <a:lnTo>
                  <a:pt x="20200" y="40332"/>
                </a:lnTo>
                <a:close/>
              </a:path>
              <a:path fill="lighten" w="21600" h="41732">
                <a:moveTo>
                  <a:pt x="0" y="41732"/>
                </a:moveTo>
                <a:lnTo>
                  <a:pt x="0" y="0"/>
                </a:lnTo>
                <a:lnTo>
                  <a:pt x="1400" y="1400"/>
                </a:lnTo>
                <a:lnTo>
                  <a:pt x="1400" y="40332"/>
                </a:lnTo>
                <a:close/>
              </a:path>
              <a:path fill="darken" w="21600" h="41732">
                <a:moveTo>
                  <a:pt x="3794" y="20866"/>
                </a:moveTo>
                <a:lnTo>
                  <a:pt x="17806" y="13860"/>
                </a:lnTo>
                <a:lnTo>
                  <a:pt x="17806" y="2787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дберите  синоним  к  фразеологизму </a:t>
            </a: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куда  ворон  костей  не  заносил.</a:t>
            </a: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7658280" y="6191280"/>
            <a:ext cx="666720" cy="438120"/>
          </a:xfrm>
          <a:custGeom>
            <a:avLst/>
            <a:gdLst>
              <a:gd name="textAreaLeft" fmla="*/ 28080 w 666720"/>
              <a:gd name="textAreaRight" fmla="*/ 638640 w 66672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32861" h="21600">
                <a:moveTo>
                  <a:pt x="0" y="0"/>
                </a:moveTo>
                <a:lnTo>
                  <a:pt x="32861" y="0"/>
                </a:lnTo>
                <a:lnTo>
                  <a:pt x="32861" y="21600"/>
                </a:lnTo>
                <a:lnTo>
                  <a:pt x="0" y="21600"/>
                </a:lnTo>
                <a:close/>
              </a:path>
              <a:path fill="lightenLess" w="32861" h="21600">
                <a:moveTo>
                  <a:pt x="0" y="0"/>
                </a:moveTo>
                <a:lnTo>
                  <a:pt x="32861" y="0"/>
                </a:lnTo>
                <a:lnTo>
                  <a:pt x="31461" y="1400"/>
                </a:lnTo>
                <a:lnTo>
                  <a:pt x="1400" y="1400"/>
                </a:lnTo>
                <a:close/>
              </a:path>
              <a:path fill="darken" w="32861" h="21600">
                <a:moveTo>
                  <a:pt x="32861" y="0"/>
                </a:moveTo>
                <a:lnTo>
                  <a:pt x="32861" y="21600"/>
                </a:lnTo>
                <a:lnTo>
                  <a:pt x="31461" y="20200"/>
                </a:lnTo>
                <a:lnTo>
                  <a:pt x="31461" y="1400"/>
                </a:lnTo>
                <a:close/>
              </a:path>
              <a:path fill="darkenLess" w="32861" h="21600">
                <a:moveTo>
                  <a:pt x="32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61" y="20200"/>
                </a:lnTo>
                <a:close/>
              </a:path>
              <a:path fill="lighten" w="32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61" h="21600">
                <a:moveTo>
                  <a:pt x="9424" y="3794"/>
                </a:moveTo>
                <a:lnTo>
                  <a:pt x="23437" y="10800"/>
                </a:lnTo>
                <a:lnTo>
                  <a:pt x="942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 rot="5400000">
            <a:off x="6638760" y="6153120"/>
            <a:ext cx="428760" cy="50472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423">
                <a:moveTo>
                  <a:pt x="0" y="0"/>
                </a:moveTo>
                <a:lnTo>
                  <a:pt x="21600" y="0"/>
                </a:lnTo>
                <a:lnTo>
                  <a:pt x="21600" y="25423"/>
                </a:lnTo>
                <a:lnTo>
                  <a:pt x="0" y="25423"/>
                </a:lnTo>
                <a:close/>
              </a:path>
              <a:path fill="lightenLess" w="21600" h="254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23">
                <a:moveTo>
                  <a:pt x="21600" y="0"/>
                </a:moveTo>
                <a:lnTo>
                  <a:pt x="21600" y="25423"/>
                </a:lnTo>
                <a:lnTo>
                  <a:pt x="20200" y="24023"/>
                </a:lnTo>
                <a:lnTo>
                  <a:pt x="20200" y="1400"/>
                </a:lnTo>
                <a:close/>
              </a:path>
              <a:path fill="darkenLess" w="21600" h="25423">
                <a:moveTo>
                  <a:pt x="21600" y="25423"/>
                </a:moveTo>
                <a:lnTo>
                  <a:pt x="0" y="25423"/>
                </a:lnTo>
                <a:lnTo>
                  <a:pt x="1400" y="24023"/>
                </a:lnTo>
                <a:lnTo>
                  <a:pt x="20200" y="24023"/>
                </a:lnTo>
                <a:close/>
              </a:path>
              <a:path fill="lighten" w="21600" h="25423">
                <a:moveTo>
                  <a:pt x="0" y="254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23"/>
                </a:lnTo>
                <a:close/>
              </a:path>
              <a:path fill="darken" w="21600" h="25423">
                <a:moveTo>
                  <a:pt x="3794" y="12712"/>
                </a:moveTo>
                <a:lnTo>
                  <a:pt x="17806" y="5705"/>
                </a:lnTo>
                <a:lnTo>
                  <a:pt x="17806" y="197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723960" y="4381560"/>
            <a:ext cx="6400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а  краю 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p79_comicbird"/>
          <p:cNvPicPr/>
          <p:nvPr/>
        </p:nvPicPr>
        <p:blipFill>
          <a:blip r:embed="rId1"/>
          <a:stretch/>
        </p:blipFill>
        <p:spPr>
          <a:xfrm>
            <a:off x="419040" y="357120"/>
            <a:ext cx="41785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о  всех  ли  лицах  глаголы  1  и  2  спряжения  различаются  по  окончания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7658280" y="6229440"/>
            <a:ext cx="780840" cy="399960"/>
          </a:xfrm>
          <a:custGeom>
            <a:avLst/>
            <a:gdLst>
              <a:gd name="textAreaLeft" fmla="*/ 25920 w 780840"/>
              <a:gd name="textAreaRight" fmla="*/ 754920 w 78084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42151" h="21600">
                <a:moveTo>
                  <a:pt x="0" y="0"/>
                </a:moveTo>
                <a:lnTo>
                  <a:pt x="42151" y="0"/>
                </a:lnTo>
                <a:lnTo>
                  <a:pt x="42151" y="21600"/>
                </a:lnTo>
                <a:lnTo>
                  <a:pt x="0" y="21600"/>
                </a:lnTo>
                <a:close/>
              </a:path>
              <a:path fill="lightenLess" w="42151" h="21600">
                <a:moveTo>
                  <a:pt x="0" y="0"/>
                </a:moveTo>
                <a:lnTo>
                  <a:pt x="42151" y="0"/>
                </a:lnTo>
                <a:lnTo>
                  <a:pt x="40751" y="1400"/>
                </a:lnTo>
                <a:lnTo>
                  <a:pt x="1400" y="1400"/>
                </a:lnTo>
                <a:close/>
              </a:path>
              <a:path fill="darken" w="42151" h="21600">
                <a:moveTo>
                  <a:pt x="42151" y="0"/>
                </a:moveTo>
                <a:lnTo>
                  <a:pt x="42151" y="21600"/>
                </a:lnTo>
                <a:lnTo>
                  <a:pt x="40751" y="20200"/>
                </a:lnTo>
                <a:lnTo>
                  <a:pt x="40751" y="1400"/>
                </a:lnTo>
                <a:close/>
              </a:path>
              <a:path fill="darkenLess" w="42151" h="21600">
                <a:moveTo>
                  <a:pt x="42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51" y="20200"/>
                </a:lnTo>
                <a:close/>
              </a:path>
              <a:path fill="lighten" w="42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51" h="21600">
                <a:moveTo>
                  <a:pt x="14069" y="3794"/>
                </a:moveTo>
                <a:lnTo>
                  <a:pt x="28082" y="10800"/>
                </a:lnTo>
                <a:lnTo>
                  <a:pt x="1406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 rot="5400000">
            <a:off x="6667560" y="6143760"/>
            <a:ext cx="409680" cy="542880"/>
          </a:xfrm>
          <a:custGeom>
            <a:avLst/>
            <a:gdLst>
              <a:gd name="textAreaLeft" fmla="*/ 26280 w 409680"/>
              <a:gd name="textAreaRight" fmla="*/ 383400 w 409680"/>
              <a:gd name="textAreaTop" fmla="*/ 26280 h 542880"/>
              <a:gd name="textAreaBottom" fmla="*/ 516600 h 542880"/>
            </a:gdLst>
            <a:ahLst/>
            <a:rect l="textAreaLeft" t="textAreaTop" r="textAreaRight" b="textAreaBottom"/>
            <a:pathLst>
              <a:path w="21600" h="28617">
                <a:moveTo>
                  <a:pt x="0" y="0"/>
                </a:moveTo>
                <a:lnTo>
                  <a:pt x="21600" y="0"/>
                </a:lnTo>
                <a:lnTo>
                  <a:pt x="21600" y="28617"/>
                </a:lnTo>
                <a:lnTo>
                  <a:pt x="0" y="28617"/>
                </a:lnTo>
                <a:close/>
              </a:path>
              <a:path fill="lightenLess" w="21600" h="286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7">
                <a:moveTo>
                  <a:pt x="21600" y="0"/>
                </a:moveTo>
                <a:lnTo>
                  <a:pt x="21600" y="28617"/>
                </a:lnTo>
                <a:lnTo>
                  <a:pt x="20200" y="27217"/>
                </a:lnTo>
                <a:lnTo>
                  <a:pt x="20200" y="1400"/>
                </a:lnTo>
                <a:close/>
              </a:path>
              <a:path fill="darkenLess" w="21600" h="28617">
                <a:moveTo>
                  <a:pt x="21600" y="28617"/>
                </a:moveTo>
                <a:lnTo>
                  <a:pt x="0" y="28617"/>
                </a:lnTo>
                <a:lnTo>
                  <a:pt x="1400" y="27217"/>
                </a:lnTo>
                <a:lnTo>
                  <a:pt x="20200" y="27217"/>
                </a:lnTo>
                <a:close/>
              </a:path>
              <a:path fill="lighten" w="21600" h="28617">
                <a:moveTo>
                  <a:pt x="0" y="286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7"/>
                </a:lnTo>
                <a:close/>
              </a:path>
              <a:path fill="darken" w="21600" h="28617">
                <a:moveTo>
                  <a:pt x="3794" y="14308"/>
                </a:moveTo>
                <a:lnTo>
                  <a:pt x="17806" y="7302"/>
                </a:lnTo>
                <a:lnTo>
                  <a:pt x="17806" y="2131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476280" y="3981600"/>
            <a:ext cx="815328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6" descr="j0213506.gif"/>
          <p:cNvPicPr/>
          <p:nvPr/>
        </p:nvPicPr>
        <p:blipFill>
          <a:blip r:embed="rId1"/>
          <a:stretch/>
        </p:blipFill>
        <p:spPr>
          <a:xfrm>
            <a:off x="419040" y="533520"/>
            <a:ext cx="2057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  каким  падежом  больше  всего  употребляется  предлогов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Georgia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  родительным  падежом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Управляющая кнопка: далее 3"/>
          <p:cNvSpPr/>
          <p:nvPr/>
        </p:nvSpPr>
        <p:spPr>
          <a:xfrm>
            <a:off x="7391520" y="6267600"/>
            <a:ext cx="457200" cy="323640"/>
          </a:xfrm>
          <a:custGeom>
            <a:avLst/>
            <a:gdLst>
              <a:gd name="textAreaLeft" fmla="*/ 20880 w 457200"/>
              <a:gd name="textAreaRight" fmla="*/ 436320 w 4572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0504" h="21600">
                <a:moveTo>
                  <a:pt x="0" y="0"/>
                </a:moveTo>
                <a:lnTo>
                  <a:pt x="30504" y="0"/>
                </a:lnTo>
                <a:lnTo>
                  <a:pt x="30504" y="21600"/>
                </a:lnTo>
                <a:lnTo>
                  <a:pt x="0" y="21600"/>
                </a:lnTo>
                <a:close/>
              </a:path>
              <a:path fill="lightenLess" w="30504" h="21600">
                <a:moveTo>
                  <a:pt x="0" y="0"/>
                </a:moveTo>
                <a:lnTo>
                  <a:pt x="30504" y="0"/>
                </a:lnTo>
                <a:lnTo>
                  <a:pt x="29104" y="1400"/>
                </a:lnTo>
                <a:lnTo>
                  <a:pt x="1400" y="1400"/>
                </a:lnTo>
                <a:close/>
              </a:path>
              <a:path fill="darken" w="30504" h="21600">
                <a:moveTo>
                  <a:pt x="30504" y="0"/>
                </a:moveTo>
                <a:lnTo>
                  <a:pt x="30504" y="21600"/>
                </a:lnTo>
                <a:lnTo>
                  <a:pt x="29104" y="20200"/>
                </a:lnTo>
                <a:lnTo>
                  <a:pt x="29104" y="1400"/>
                </a:lnTo>
                <a:close/>
              </a:path>
              <a:path fill="darkenLess" w="30504" h="21600">
                <a:moveTo>
                  <a:pt x="30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4" y="20200"/>
                </a:lnTo>
                <a:close/>
              </a:path>
              <a:path fill="lighten" w="30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4" h="21600">
                <a:moveTo>
                  <a:pt x="8246" y="3794"/>
                </a:moveTo>
                <a:lnTo>
                  <a:pt x="22258" y="10800"/>
                </a:lnTo>
                <a:lnTo>
                  <a:pt x="8246" y="17806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далее 4"/>
          <p:cNvSpPr/>
          <p:nvPr/>
        </p:nvSpPr>
        <p:spPr>
          <a:xfrm rot="16200000">
            <a:off x="6419880" y="6285960"/>
            <a:ext cx="399960" cy="247680"/>
          </a:xfrm>
          <a:custGeom>
            <a:avLst/>
            <a:gdLst>
              <a:gd name="textAreaLeft" fmla="*/ 15840 w 399960"/>
              <a:gd name="textAreaRight" fmla="*/ 384120 w 399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34861" h="21600">
                <a:moveTo>
                  <a:pt x="0" y="0"/>
                </a:moveTo>
                <a:lnTo>
                  <a:pt x="34861" y="0"/>
                </a:lnTo>
                <a:lnTo>
                  <a:pt x="34861" y="21600"/>
                </a:lnTo>
                <a:lnTo>
                  <a:pt x="0" y="21600"/>
                </a:lnTo>
                <a:close/>
              </a:path>
              <a:path fill="lightenLess" w="34861" h="21600">
                <a:moveTo>
                  <a:pt x="0" y="0"/>
                </a:moveTo>
                <a:lnTo>
                  <a:pt x="34861" y="0"/>
                </a:lnTo>
                <a:lnTo>
                  <a:pt x="33461" y="1400"/>
                </a:lnTo>
                <a:lnTo>
                  <a:pt x="1400" y="1400"/>
                </a:lnTo>
                <a:close/>
              </a:path>
              <a:path fill="darken" w="34861" h="21600">
                <a:moveTo>
                  <a:pt x="34861" y="0"/>
                </a:moveTo>
                <a:lnTo>
                  <a:pt x="34861" y="21600"/>
                </a:lnTo>
                <a:lnTo>
                  <a:pt x="33461" y="20200"/>
                </a:lnTo>
                <a:lnTo>
                  <a:pt x="33461" y="1400"/>
                </a:lnTo>
                <a:close/>
              </a:path>
              <a:path fill="darkenLess" w="34861" h="21600">
                <a:moveTo>
                  <a:pt x="34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61" y="20200"/>
                </a:lnTo>
                <a:close/>
              </a:path>
              <a:path fill="lighten" w="34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61" h="21600">
                <a:moveTo>
                  <a:pt x="10424" y="3794"/>
                </a:moveTo>
                <a:lnTo>
                  <a:pt x="24437" y="10800"/>
                </a:lnTo>
                <a:lnTo>
                  <a:pt x="10424" y="17806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5" descr="J0076161.GIF"/>
          <p:cNvPicPr/>
          <p:nvPr/>
        </p:nvPicPr>
        <p:blipFill>
          <a:blip r:embed="rId1"/>
          <a:stretch/>
        </p:blipFill>
        <p:spPr>
          <a:xfrm>
            <a:off x="900000" y="8002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7"/>
          <p:cNvSpPr txBox="1"/>
          <p:nvPr/>
        </p:nvSpPr>
        <p:spPr>
          <a:xfrm>
            <a:off x="1338120" y="1933560"/>
            <a:ext cx="6562800" cy="27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м спасибо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гра окончен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421" name="Picture 5" descr="p79_comicbird"/>
          <p:cNvPicPr/>
          <p:nvPr/>
        </p:nvPicPr>
        <p:blipFill>
          <a:blip r:embed="rId1"/>
          <a:stretch/>
        </p:blipFill>
        <p:spPr>
          <a:xfrm>
            <a:off x="-1790640" y="0"/>
            <a:ext cx="41781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1.11111E-006 C -0.00903 0.09074 -0.01806 0.18148 0.00208 0.21944 C 0.02222 0.25741 0.08402 0.20278 0.12083 0.22778 C 0.15763 0.25278 0.17708 0.37037 0.22291 0.36944 C 0.26874 0.36852 0.34826 0.27778 0.39565 0.22222 C 0.44322 0.16666 0.45798 0.03842 0.50833 0.03611 C 0.55867 0.03379 0.65208 0.1787 0.69791 0.20833 C 0.74374 0.23796 0.79305 0.18796 0.78315 0.21389 C 0.7736 0.23981 0.71874 0.31342 0.63958 0.36389 C 0.56041 0.41435 0.35659 0.48148 0.30833 0.51666 C 0.26006 0.55185 0.30503 0.56342 0.34999 0.575 E">
                                      <p:cBhvr>
                                        <p:cTn id="893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Что изучает фонетика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Rectangle 4">
            <a:hlinkClick r:id="rId1"/>
          </p:cNvPr>
          <p:cNvSpPr/>
          <p:nvPr/>
        </p:nvSpPr>
        <p:spPr>
          <a:xfrm>
            <a:off x="7704360" y="5954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afbd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3" descr="AG00309_.GIF"/>
          <p:cNvPicPr/>
          <p:nvPr/>
        </p:nvPicPr>
        <p:blipFill>
          <a:blip r:embed="rId3"/>
          <a:stretch/>
        </p:blipFill>
        <p:spPr>
          <a:xfrm>
            <a:off x="885960" y="3405240"/>
            <a:ext cx="1704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Фонетика – раздел  науки  о  языке, в  котором  изучаются  звуки  языка, ударение, слог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AutoShape 5">
            <a:hlinkClick r:id="rId1" action="ppaction://hlinksldjump"/>
          </p:cNvPr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4:49:57Z</dcterms:created>
  <dc:creator>Сабинская средняя общеобразовательная</dc:creator>
  <dc:description/>
  <dc:language>en-US</dc:language>
  <cp:lastModifiedBy>Admin</cp:lastModifiedBy>
  <dcterms:modified xsi:type="dcterms:W3CDTF">2011-04-04T16:22:13Z</dcterms:modified>
  <cp:revision>248</cp:revision>
  <dc:subject/>
  <dc:title> Мир информатики</dc:title>
</cp:coreProperties>
</file>