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48A-3EA6-43FB-AEAF-6BA7CF96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921-ED39-469F-BCB4-5A284BAB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645-C79C-45E4-985E-3E7EFD49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F8F-7866-41D8-912C-BA1FEFC3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BEA-309D-4B22-8BB1-8083E345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464-DD8D-422A-83F6-2436AEF0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B8F-3135-4310-8311-225B786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1A6-3F5C-4E23-8AB0-AC926875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613-F251-46B2-9C44-EB70D70D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BD7-E060-44A3-A11C-FC23A571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450-B7D3-4C92-BB03-BE3FD9A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ACA-0652-454B-8F8A-1C38EE6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D559-B4F7-4AAC-B6CC-B939B83D0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s45.radikal.ru/i108/0901/63/c7e129653ad4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57.radikal.ru/i157/0910/f6/c2f123f5bdbc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4718160" y="1463760"/>
            <a:ext cx="3597120" cy="3925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575440" y="33336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литературы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Галя\Documents\Уроки\Есенин Сергей\Фото\Есенин.jpg"/>
          <p:cNvPicPr/>
          <p:nvPr/>
        </p:nvPicPr>
        <p:blipFill>
          <a:blip r:embed="rId2"/>
          <a:stretch/>
        </p:blipFill>
        <p:spPr>
          <a:xfrm>
            <a:off x="1692360" y="1341360"/>
            <a:ext cx="2232000" cy="301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4105440" y="1397160"/>
            <a:ext cx="460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 зимние месяцы 1924/25 гг., когда Есенин жил в Батуме, он познакомился там с молодой женщиной, тогда учительниц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усского языка - Шаганэ (Шагандух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ерсесовной Тальян (в замужестве Тертерян). Они несколько раз встречались, Есенин подарил ей свой сборник с дарственной надпис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о с его отъездом из Бату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накомство оборвалось, и в последующие месяцы он никаких усилий к его возобновлению не прилагал, хотя имя Шаганэ вновь возникло в стихах, написанных в марте, а потом в августе 192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182480" y="395280"/>
            <a:ext cx="437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Тальян Шаганэ Нерсес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900 - 19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23200" y="5094360"/>
            <a:ext cx="404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Шаганэ ты моя, Шаганэ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Потому, что я с севера, что 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Я готов рассказать тебе п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Про волнистую рожь при лу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Шаганэ ты моя, Шаган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Галя\Documents\Уроки\Есенин Сергей\Фото\Шагане Тальян.jpg"/>
          <p:cNvPicPr/>
          <p:nvPr/>
        </p:nvPicPr>
        <p:blipFill>
          <a:blip r:embed="rId1"/>
          <a:srcRect l="4538" t="3031" r="7005" b="11150"/>
          <a:stretch/>
        </p:blipFill>
        <p:spPr>
          <a:xfrm>
            <a:off x="900000" y="422280"/>
            <a:ext cx="2592360" cy="376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3867120" y="1214280"/>
            <a:ext cx="4714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начале 1925 года поэт познаком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 внучкой Льва Толстого Софьей. Как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ольшинство интеллигентных дев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того времени, она была влюблена в поэз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Есенина и немножко в самого поэта. В ию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1925 года состоялась скромная сва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онечка была готова, как и ее знамени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абушка, посвятить всю жизнь мужу и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творчеству. Все было на удивление хорош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У поэта появился дом, любящая жена, 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и помощник. Софья занималась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здоровьем, готовила его стихи для собр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очинений. И была абсолютно счаст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А Есенин, встретив приятеля, отвечал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опро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- Как жизн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отовлю собрание сочинений в трех то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и живу с нелюбимой жен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116080" y="395280"/>
            <a:ext cx="5581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Толстая-Есенина Софья Андр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900-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Users\Галя\Documents\Уроки\Есенин Сергей\Фото\Есенин и С.А.Толстая.jpg"/>
          <p:cNvPicPr/>
          <p:nvPr/>
        </p:nvPicPr>
        <p:blipFill>
          <a:blip r:embed="rId1"/>
          <a:stretch/>
        </p:blipFill>
        <p:spPr>
          <a:xfrm>
            <a:off x="755640" y="1285920"/>
            <a:ext cx="2478240" cy="393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2728440" y="928800"/>
            <a:ext cx="548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первые увидела Есенина во время вы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1916 году. Встретилась с ним в 1920 год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ез памяти влюбилась, мучительно ревно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его к Айседоре Дункан, с 1923 и вплоть до 192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занималась его издательскими делами. Дел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 ним кров в последние месяцы его жизни. Её му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е пережил измены и застрелился. После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Есенина Бениславская оказалась в психиатр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клинике. Жизнь для не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теряла смысл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3162960" y="142920"/>
            <a:ext cx="5193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Бениславская Галина Арту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897-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87520" y="4429080"/>
            <a:ext cx="491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алина покончила жиз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самоубийством на могиле Есен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3 декабря 1926 года. Самоубийство Гал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Бениславской всех потряс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хоронили её рядом с Есениным 7 дека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а памятнике начертали слова: “Верная Галя”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Галя\Documents\Уроки\Есенин Сергей\Фото\Галина Артуровна Бениславская.jpg"/>
          <p:cNvPicPr/>
          <p:nvPr/>
        </p:nvPicPr>
        <p:blipFill>
          <a:blip r:embed="rId1"/>
          <a:stretch/>
        </p:blipFill>
        <p:spPr>
          <a:xfrm>
            <a:off x="539640" y="627120"/>
            <a:ext cx="1811520" cy="32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http://s45.radikal.ru/i108/0901/63/c7e129653ad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429000"/>
            <a:ext cx="251928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6"/>
          <p:cNvSpPr/>
          <p:nvPr/>
        </p:nvSpPr>
        <p:spPr>
          <a:xfrm>
            <a:off x="4572000" y="928800"/>
            <a:ext cx="4560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стретились в 1919 году. Страсть Сергея Есенина не находила ответа в душе Надежды почти три года. Они часто ссорились из-за литературных пристрастий. Подумывая жениться на Вольпин, Есенин ставил ей непременное условие: она должна была бросить писать стих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162600" y="142920"/>
            <a:ext cx="4889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Вольпин Надежда Давыд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900-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85280" y="3929040"/>
            <a:ext cx="423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Их сын, Александр Сергеевич Есени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родился 12 мая 1924 года в Ленингр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тцу и сыну не суждено бы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стретиться. Мать не хо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казывать ребенка Есен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Есенин: Так и должно бы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эта женщина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чень меня любила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Галя\Documents\Уроки\Есенин Сергей\Фото\Надежда Вольпин с сыном Александром.jpg"/>
          <p:cNvPicPr/>
          <p:nvPr/>
        </p:nvPicPr>
        <p:blipFill>
          <a:blip r:embed="rId1"/>
          <a:stretch/>
        </p:blipFill>
        <p:spPr>
          <a:xfrm>
            <a:off x="214200" y="806400"/>
            <a:ext cx="3932280" cy="26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Галя\Documents\Уроки\Есенин Сергей\Фото\Надежда Вольпин.jpg"/>
          <p:cNvPicPr/>
          <p:nvPr/>
        </p:nvPicPr>
        <p:blipFill>
          <a:blip r:embed="rId2"/>
          <a:stretch/>
        </p:blipFill>
        <p:spPr>
          <a:xfrm>
            <a:off x="5086440" y="3643200"/>
            <a:ext cx="1985760" cy="263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Галя\Documents\Уроки\Есенин Сергей\Фото\Вольпина Надежда Давыдовна 1900-1998.jpg"/>
          <p:cNvPicPr/>
          <p:nvPr/>
        </p:nvPicPr>
        <p:blipFill>
          <a:blip r:embed="rId3"/>
          <a:stretch/>
        </p:blipFill>
        <p:spPr>
          <a:xfrm>
            <a:off x="7286760" y="4500720"/>
            <a:ext cx="1714320" cy="1725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5227200" y="635796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ереводчица, поэт, мемуар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/>
          <p:cNvSpPr/>
          <p:nvPr/>
        </p:nvSpPr>
        <p:spPr>
          <a:xfrm>
            <a:off x="1772640" y="621504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1895 - 19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5095440" y="1862280"/>
            <a:ext cx="36738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«Много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47008e"/>
                </a:solidFill>
                <a:latin typeface="Calibri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           </a:t>
            </a: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меня люби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47008e"/>
                </a:solidFill>
                <a:latin typeface="Calibri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Да и сам я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           </a:t>
            </a: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не одн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7008e"/>
                </a:solidFill>
                <a:latin typeface="Calibri"/>
                <a:ea typeface="Aria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                     </a:t>
            </a:r>
            <a:r>
              <a:rPr b="1" i="1" lang="ru-RU" sz="3200" spc="-1" strike="noStrike">
                <a:solidFill>
                  <a:srgbClr val="47008e"/>
                </a:solidFill>
                <a:latin typeface="Calibri"/>
                <a:ea typeface="Arial"/>
              </a:rPr>
              <a:t>С.Есе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Картинка 19 из 79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307800"/>
            <a:ext cx="3311640" cy="426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6"/>
          <p:cNvSpPr/>
          <p:nvPr/>
        </p:nvSpPr>
        <p:spPr>
          <a:xfrm>
            <a:off x="2928960" y="1071720"/>
            <a:ext cx="6000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школьная любовь Есенина. Внуча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лемянница отца Ивана (И. Я. Смирнова,  священника села Константиново), она вместе с матерью, сестрой и братом часто приезжала к нему и часто проводила в Константинове все лето. Во второй половине июня 1916 г.  Есенин, получив краткосрочный отпуск с во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лужбы, ездил к себе на родину и там виделся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ардановской. В 1918 г. она вышла замуж, скончалась родами 7 апреля 19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544200" y="214200"/>
            <a:ext cx="50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Сардановская Ан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(1896-19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Users\Галя\Documents\Уроки\Есенин Сергей\Фото\Анна Алексеевна Сардановская.jpg"/>
          <p:cNvPicPr/>
          <p:nvPr/>
        </p:nvPicPr>
        <p:blipFill>
          <a:blip r:embed="rId1"/>
          <a:stretch/>
        </p:blipFill>
        <p:spPr>
          <a:xfrm>
            <a:off x="214200" y="142920"/>
            <a:ext cx="2554560" cy="385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299520" y="4451400"/>
            <a:ext cx="396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 «доме с голубыми ставням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Есенин встретил свою пер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любовь, озорную, черноглаз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муглянку Анюту Сардановск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Это к ней относятся стро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801320" y="4071960"/>
            <a:ext cx="387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В пятнадцать лет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Взлюбил я до печёнок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И сладко думал, 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Лишь уединюсь,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Что я на этой,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Лучшей из девчонок,</a:t>
            </a:r>
            <a:br>
              <a:rPr sz="1800"/>
            </a:b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 Достигнув возраста, женю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6"/>
          <p:cNvSpPr/>
          <p:nvPr/>
        </p:nvSpPr>
        <p:spPr>
          <a:xfrm>
            <a:off x="3886200" y="1562040"/>
            <a:ext cx="493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руга Анны Сардановс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уг юности поэта. Родилась в с.Дединово Рязанской губернии в семье дьякона. Окончила Рязанское женское епархиальное училище, работала учительницей в с.Калитинки Рязанской губер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воей переписке Есенин называет её «милой Маней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нно Мария Бальзамова стала источником поэ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а стихотворения «Не бродить, не мять в кустах багряных...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писанного в 1916 г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168000" y="301680"/>
            <a:ext cx="58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Бальзамова Мария Пармё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(1896-19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50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1-567-"/>
          <p:cNvPicPr/>
          <p:nvPr/>
        </p:nvPicPr>
        <p:blipFill>
          <a:blip r:embed="rId1"/>
          <a:stretch/>
        </p:blipFill>
        <p:spPr>
          <a:xfrm>
            <a:off x="755640" y="838080"/>
            <a:ext cx="2766960" cy="4235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542160" y="5811840"/>
            <a:ext cx="30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Бальзамова М.П. (сл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d2884"/>
                </a:solidFill>
                <a:latin typeface="Arial"/>
                <a:ea typeface="Arial"/>
              </a:rPr>
              <a:t>и Сардановская А.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6"/>
          <p:cNvSpPr/>
          <p:nvPr/>
        </p:nvSpPr>
        <p:spPr>
          <a:xfrm>
            <a:off x="3000240" y="968400"/>
            <a:ext cx="585792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Знакомая поэта, последняя константиновская помещица. Сергей Есенин бывал в её доме. Она стала одним из прототипов Анны Снегиной, к ней обращено стихотворение "Не напрасно дули ветры". Однажды Есенин с волнующей хрипотцой в голосе сказал Лидии Ивановне: «Встреча с вами... она так мне дорога. Я буду вспоминать о ней в Царском Селе. Вы не осерчаете, если ... - тут он запнулся и покраснел, облизал пересохшие губы, - если когда-нибудь вы увидите стихи, посвященные вам. Я ... Я хотел бы посвятить самое лучшее стихотворение только вам. Так не шибко ругайте меня за это, ладно?»  Так возникло стихотворение «Зеленая прическ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Arial"/>
              </a:rPr>
              <a:t>Лидия Иванова была для Есенина «песней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834720" y="214200"/>
            <a:ext cx="40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Кашина Лидия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(1886-19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Галя\Documents\Уроки\Есенин Сергей\Фото\Кашина Лидия.jpg"/>
          <p:cNvPicPr/>
          <p:nvPr/>
        </p:nvPicPr>
        <p:blipFill>
          <a:blip r:embed="rId1"/>
          <a:stretch/>
        </p:blipFill>
        <p:spPr>
          <a:xfrm>
            <a:off x="142920" y="3905280"/>
            <a:ext cx="1857240" cy="2738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Галя\Documents\Уроки\Есенин Сергей\Фото\Лидия Ивановна Кашина.jpg"/>
          <p:cNvPicPr/>
          <p:nvPr/>
        </p:nvPicPr>
        <p:blipFill>
          <a:blip r:embed="rId2"/>
          <a:srcRect l="0" t="0" r="0" b="3782"/>
          <a:stretch/>
        </p:blipFill>
        <p:spPr>
          <a:xfrm>
            <a:off x="214200" y="142920"/>
            <a:ext cx="2571840" cy="36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Галя\Documents\Уроки\Есенин Сергей\Фото\Дом Кашиной.jpg"/>
          <p:cNvPicPr/>
          <p:nvPr/>
        </p:nvPicPr>
        <p:blipFill>
          <a:blip r:embed="rId3"/>
          <a:stretch/>
        </p:blipFill>
        <p:spPr>
          <a:xfrm>
            <a:off x="2143080" y="4152960"/>
            <a:ext cx="3357720" cy="2490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Галя\Documents\Уроки\Есенин Сергей\Фото\Дом Кашиной Л.И..jpg"/>
          <p:cNvPicPr/>
          <p:nvPr/>
        </p:nvPicPr>
        <p:blipFill>
          <a:blip r:embed="rId4"/>
          <a:stretch/>
        </p:blipFill>
        <p:spPr>
          <a:xfrm>
            <a:off x="5643720" y="412596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Галя\Documents\Уроки\Есенин Сергей\Фото\Изряднова с сыном Юрой.jpg"/>
          <p:cNvPicPr/>
          <p:nvPr/>
        </p:nvPicPr>
        <p:blipFill>
          <a:blip r:embed="rId1"/>
          <a:stretch/>
        </p:blipFill>
        <p:spPr>
          <a:xfrm>
            <a:off x="6084720" y="3714840"/>
            <a:ext cx="2219400" cy="270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Галя\Documents\Уроки\Есенин Сергей\Фото\Изряднова А.Р..jpg"/>
          <p:cNvPicPr/>
          <p:nvPr/>
        </p:nvPicPr>
        <p:blipFill>
          <a:blip r:embed="rId2"/>
          <a:stretch/>
        </p:blipFill>
        <p:spPr>
          <a:xfrm>
            <a:off x="1332000" y="3714840"/>
            <a:ext cx="359712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Галя\Documents\Уроки\Есенин Сергей\Фото\Анна Романовна Изряднова.jpg"/>
          <p:cNvPicPr/>
          <p:nvPr/>
        </p:nvPicPr>
        <p:blipFill>
          <a:blip r:embed="rId3"/>
          <a:stretch/>
        </p:blipFill>
        <p:spPr>
          <a:xfrm>
            <a:off x="816120" y="404640"/>
            <a:ext cx="2266920" cy="2910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3908880" y="1071720"/>
            <a:ext cx="458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Гражданская жена Сергея Ес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ни познакомились в типографии Сы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1913 году.  Сняли квартиру в Москв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а через год у них родился сын Юр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(Его судьба сложилась трагично. В 22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Юрий был расстрелян в подвалах Лубянк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сле разрыва поддерживал друж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тнош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4161960" y="214200"/>
            <a:ext cx="45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Изряднова Анна Ром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(1891-194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3489120" y="1397160"/>
            <a:ext cx="504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Жена Сергея Есенина (1917-1921). Обвенч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тайно под Вологдой в сельской церкви. Род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оэту двоих детей Татьяну и Констант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В мемуарах Анатолия Мариенгофа эта женщ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названа "единственной любовью поэ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которую он упустил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4021200" y="395280"/>
            <a:ext cx="4258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Райх Зинаид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894-19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Галя\Documents\Уроки\Есенин Сергей\Фото\Зинаида Райх-жена Есенина.jpg"/>
          <p:cNvPicPr/>
          <p:nvPr/>
        </p:nvPicPr>
        <p:blipFill>
          <a:blip r:embed="rId1"/>
          <a:stretch/>
        </p:blipFill>
        <p:spPr>
          <a:xfrm>
            <a:off x="142920" y="142920"/>
            <a:ext cx="2717640" cy="364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Галя\Documents\Уроки\Есенин Сергей\Фото\Райх З.jpg"/>
          <p:cNvPicPr/>
          <p:nvPr/>
        </p:nvPicPr>
        <p:blipFill>
          <a:blip r:embed="rId2"/>
          <a:stretch/>
        </p:blipFill>
        <p:spPr>
          <a:xfrm>
            <a:off x="3095640" y="3643200"/>
            <a:ext cx="2262240" cy="3063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Галя\Documents\Уроки\Есенин Сергей\Фото\Зинаида Райх с детьми Татьяной и Константином.jpg"/>
          <p:cNvPicPr/>
          <p:nvPr/>
        </p:nvPicPr>
        <p:blipFill>
          <a:blip r:embed="rId3"/>
          <a:stretch/>
        </p:blipFill>
        <p:spPr>
          <a:xfrm>
            <a:off x="5572080" y="3770280"/>
            <a:ext cx="3429000" cy="3016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392400" y="4286160"/>
            <a:ext cx="2552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Актриса теа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Всевол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Мейерхоль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Зверски уб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(8 ножевых ран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3168360" y="1397160"/>
            <a:ext cx="541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Американская танцовщица свободного сти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Дункан была старше Есенина на 17 лет и 8 меся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ни расписались в Москве 10 мая 1922 год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уехали за границу. Но в 1924 году их отно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закончились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4004280" y="395280"/>
            <a:ext cx="2921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Айседора Дун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Arial"/>
              </a:rPr>
              <a:t>/Дора Анджела Дункан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877-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394920" y="3959280"/>
            <a:ext cx="5185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14 сентября 1927 года. Фран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Ей было 49 лет. Дункан любила нос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длинные шарфы. Один из них е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погубил. Шарф намотался на задн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колесо автомобиля, в который она се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Когда машина рванула с мес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женщину буквально выдернуло из автомоби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Дункан протащило по дороге еще несколько метр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пока водитель понял, что произошло. Перелом шеи уб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танцовщицу на мест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Галя\Documents\Уроки\Есенин Сергей\Фото\Есенин и Дункан 1923.jpg"/>
          <p:cNvPicPr/>
          <p:nvPr/>
        </p:nvPicPr>
        <p:blipFill>
          <a:blip r:embed="rId1"/>
          <a:stretch/>
        </p:blipFill>
        <p:spPr>
          <a:xfrm>
            <a:off x="6143760" y="4276800"/>
            <a:ext cx="2852640" cy="2224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Галя\Documents\Уроки\Есенин Сергей\Фото\Айседора Дункан.jpg"/>
          <p:cNvPicPr/>
          <p:nvPr/>
        </p:nvPicPr>
        <p:blipFill>
          <a:blip r:embed="rId2"/>
          <a:stretch/>
        </p:blipFill>
        <p:spPr>
          <a:xfrm>
            <a:off x="466560" y="214200"/>
            <a:ext cx="2248200" cy="3556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Галя\Documents\Уроки\Есенин Сергей\Фото\Дункан А.gif"/>
          <p:cNvPicPr/>
          <p:nvPr/>
        </p:nvPicPr>
        <p:blipFill>
          <a:blip r:embed="rId3"/>
          <a:stretch/>
        </p:blipFill>
        <p:spPr>
          <a:xfrm>
            <a:off x="4214880" y="3000240"/>
            <a:ext cx="1714320" cy="2476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285840" y="1227240"/>
            <a:ext cx="4782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В августе 1923 года произошла встреча Есенина с актрисой Московского Камерного театра.  Вскоре Августа Миклашевская стала счастливой соперницей Дункан. Но несмотря на страстную увлечённость молодым поэтом, она смогла подчинить сердце разуму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Этой женщине с "задумчивыми глазами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как назвал ее поэт-эпиграммист Герман, Есенин посвятил целый цикл лирических стихотворений.  Среди них такие известные,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"Ты такая же простая, как все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"Вечер черные брови насопил: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"Пускай ты выпита другим", и т. 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А на сборнике "Москва кабацкая" он подписа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"Милой Августе Леонидовне со всеми нежными чувствами, которые выражены в этой книге"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030040" y="395280"/>
            <a:ext cx="5764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Миклашевская Августа Леонид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(1891-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5219640" y="5022720"/>
            <a:ext cx="325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Я б навеки пошёл за то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Хоть в свои, хоть в чужие дали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В первый раз я запел про любов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В первый раз отрекаю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0070"/>
                </a:solidFill>
                <a:latin typeface="Calibri"/>
                <a:ea typeface="Arial"/>
              </a:rPr>
              <a:t>скандал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Users\Галя\Documents\Уроки\Есенин Сергей\Фото\Августа Миклашевская.jpg"/>
          <p:cNvPicPr/>
          <p:nvPr/>
        </p:nvPicPr>
        <p:blipFill>
          <a:blip r:embed="rId1"/>
          <a:stretch/>
        </p:blipFill>
        <p:spPr>
          <a:xfrm>
            <a:off x="6143760" y="1285920"/>
            <a:ext cx="2390760" cy="361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8:00:17Z</dcterms:created>
  <dc:creator>Галя</dc:creator>
  <dc:description/>
  <dc:language>en-US</dc:language>
  <cp:lastModifiedBy>Юра</cp:lastModifiedBy>
  <dcterms:modified xsi:type="dcterms:W3CDTF">2018-07-27T19:37:00Z</dcterms:modified>
  <cp:revision>65</cp:revision>
  <dc:subject/>
  <dc:title>Слайд 1</dc:title>
</cp:coreProperties>
</file>