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965-E9F2-49BF-80A3-B3E7F39B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175-5CF2-4CCE-9017-5E7598FE8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11F9-73AC-476F-87E8-8067B5FF7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21E7-238D-48FA-B67E-B761578DC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CB69-BBAF-458D-AD8B-DBA126E83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103C1-828A-4A17-B5C1-9A5AD79EC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F7479-F088-4FB6-8441-8C1996A3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606D-E5EF-40B6-92C3-4264F0AA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6A443-C9D7-4495-8BA3-F3FAC44D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C64B-FFA3-4E99-8C88-485819E6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9E71-172A-4EFD-BB33-B45A6299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46FD-7308-49CD-BC7D-B1B77BBA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A6BE-52D8-492F-944A-03DCA6A6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BB27-F38A-42C0-AC60-88770EA0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43C9D-234B-48AC-BE4B-FB054B7D2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52FE-9B2E-4133-B4F8-5825EA136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0FFFB-1621-4CE6-8DCC-0ED453DF9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EB9B-08B8-463D-B46C-D2B5FF71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8BBA-6920-47F8-91BB-F6C8FD850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B408-428E-44AE-9C9D-A7910D50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981-76F4-4F58-BAC2-CB5D0801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C1FB-884B-4DBD-BDFB-E38A4366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EBC-6CA9-4879-AE6D-EC958F25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082-81C2-4A4C-9D8B-9501A56A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730C-83A4-46B8-8F6D-9D53EE13BAC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B861-8E44-48FD-9446-DEE79596D95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ДВИЖЕНИЕ МОЛОДЕЖНЫХ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ЕКТОВ В УЧРЕЖДЕНИЯХ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ЛОДЕЖНОЙ ПОЛИТИКИ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86200" y="3857400"/>
            <a:ext cx="401328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ожительные стороны виртуального общ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интернете люди могут общаться вне зависимости от их социальных статус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интернете возрастает вероятность найти собеседников по интересам и взгляда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ртуальное общение развивает способность письменного выражения собственных мысл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 проблемы виртуал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Проведение семинаров, направленных на привлечение молодёжи к реальной жизн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Организация досуг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Развитие программ по очистке Интернета от вредной, ненужной информ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Специализированные лагеря для молодёжи с отсутствием или ограничением связ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вила молодежного маркет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ужно привлекать их внимание. С этой аудиторией нельзя общаться тоном ментора. Их надо зацепить резкими высказываниями, словами или провоцирующими словосочетаниями. Каждое сообщение, адресованное этой аудитории должно быть ярким и дерзким. Главное здесь – не стеснятся говорить на их языке, ведь ни для кого не секрет, что молодежная аудитория наименее подвержена конформизму и политкоррект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общение должно провоцировать молодых на дискуссию и обсуждение. Задача здесь - добиться эффекта сарафанного радио, когда ваше сообщение распространяется самой аудиторией внутри себ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вила молодежного маркет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ужно говорить четко и ясно, ведь у них столько всего в голове и столько всего интересного вокруг, что никто не будет решать логические цепочки, разгадывать тонкие метафоры и потом восхищаться вашим гениальным креативом. Сообщение должно быть четким и понятным с первого раза, иначе оно вызовет только отторже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заимодействуйте с ними, вовлекайте их, работайте вместе. Когда человек участвует в разработке идеи, ему намного проще принять финальный вариант, чем в случае, когд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му будут просто навязывать готовое реше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61480" y="433080"/>
            <a:ext cx="772524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убъекты инновационного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цесса в культ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оваторы (2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нние реципиенты (9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нее большинство (27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ольшинство (49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стающ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(13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хема развития культурной иннов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дивидуа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куль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ультурно-информационное сообще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ссовое производство, культура мейнстр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ы отношений между поколения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минирование старшего поко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вноправ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минирование младшего поко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Ответы на вопрос «Согласны ли Вы с утверждением: «При нынешнем положении дел нашему поколению будет гораздо труднее добиться комфортной жизни, чем предыдущим»?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а – 3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т-1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знаю -22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е зависит от нас -16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 нас другие цели – 7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думали об этом – 3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ругое – 7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тветы на вопрос «Согласны ли Вы с ценностями и идеалами, в которые верят 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аши родители?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а – 17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т-34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знаю – 29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думал об этом – 18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ругое – 2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тветы на вопрос «Согласны ли родители с ценностями и идеалами, в которые верите Вы?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а – 23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т- 33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знаю – 2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думал об этом – 16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ругое – 8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молодежи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71360" y="24285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збыток энерг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итика настоящего положения вещ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юбовь к перемена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ксимализм и несклонность к компромисса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сутствие жизненного опы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требность в сильном лидер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умение адекватно оценивать себя и други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тветы на вопрос «Отличаются ли Ваши культурные предпочтения от предпочтений Ваших родителей?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а- 29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т-34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знаю-2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ругое – 12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заимодействие с молодежь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 Интерактивность. Молодежь -самые активные интернет-пользователи. Они вовлечены в широкий спектр мероприятий в Интернете, включаясоциальные сет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 развлечения. Поэтому чтобы обращаться к этой аудитории, маркетологам необходимо повышать свое виртуальное присутствие в Се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.Развлечения.Реклама для молодежи должна ориентироваться на чувство юмора, свойственное молодым людям, и их эмоции, используя для этого образы «живых людей» в сочетании с эпизодами из реальной жизни. Нужно привлечь внимание молодежной аудитории, рассказывая о жизни и развлечениях. Если интерес возникнет, то молодые потребители сами узнают все техническую информацию из Интернета или от друз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3. Доступность. Молодежь  активно используют Интернет. Для них важно, чтобы доступ к информации и услугам существовал в режиме 24/7, поэтому сервис для молодых людей должен быть круглосуточны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Этапы медиапланирования при продвижении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олодежных проектов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) анализ информационного фона, выявление целевой аудитории и определение медиастратеги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)определение целей информ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)определение категорий средств массовой информации, размещение информации о проекте в которых оптимально и максимально эффективно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) расчет оптимальных значений показателей эффективности (Reach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/Coverage, TRP, Frequency и других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)планирование во времени (с учетом сезонности, наличия конкуренции и других факторов) этапов информационной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мпании (подготовительный, начальный, этап поддержания, этап усиления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е) определение, обоснование и распределение бюджета по категориям С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сихологические особенности молодёж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устойчивая психика (психологические срывы, суициды, наркотики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сформированное сознание (желание скорее достичь желаемого приводит к различным формам асоциального поведение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енняя противоречивость (неспособность быть толерантным, как результат –постоянны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ликты с окружающи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ы социализации молодеж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формизм -личность признает как общественные идеалы, так и способы (нормы) их достиж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новация -идеалы признает, нормы -н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итуализм-идеалы не признает, нормы соблюда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унт -не признает ни идеалов, ни нор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даптац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грац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аморазвит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амореализац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цессы социал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тветы на вопрос «Откуда Вы преимущественно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олучаете информацию о событиях культурной жизни?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57160" y="2428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циальные сети -73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ализированные сайты-4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азеты-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формационные стенды-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левидение -7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дио-5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ругое -7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43120" y="702000"/>
            <a:ext cx="7761960" cy="112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аналы распространения информации о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олодежных проектах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руппы в социальных сетя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формационные стенд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спространение информации через образовательные организ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чтовая рассыл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щение информации в муниципальной и региональной пресс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теле-и радиопереда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ие в выставках, ярмарках, конференция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формирование по линии комитета / отдела по молодежной полити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чины преобладания виртуального общения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олодёжи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Жажда приключе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ниженная или завышенная самооцен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езнадзор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изическое, эмоционально-психологическое насилие со стороны одноклассников и сверстни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остаток общения с родителями, сверстниками, одноклассни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блемы в семье (алкогольная зависимость родителей, жестокое обращение в семь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рицательные стороны виртуального общ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2349000"/>
            <a:ext cx="7693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жедневное пребывание подростка в сети приводит к снижению навыков невербального общения: жестами, мимикой, положением тела и т.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жедневное пребывание в сети приводит к замкнутости, заторможенности и мало эмоциональ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ртуальное общение часто приводит к развитию комплексов. Иногда это заканчивается тем, что подросток вовсе перестает общаться со сверстни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ртуальное общение часто способствует развитию чувства безнаказанности и жестокости (при виртуальном общении отсутствуют естественные ограничители агрессивного поведения, которые при реальном общении присутствуют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бовь Анатольевна</dc:creator>
  <dc:description/>
  <dc:language>en-US</dc:language>
  <cp:lastModifiedBy>Любовь Анатольевна</cp:lastModifiedBy>
  <dcterms:modified xsi:type="dcterms:W3CDTF">2018-07-26T13:43:46Z</dcterms:modified>
  <cp:revision>28</cp:revision>
  <dc:subject/>
  <dc:title>PowerPoint Presentation</dc:title>
</cp:coreProperties>
</file>