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E95B-4A52-4DA8-8D9A-9CD0EC856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1380-9109-410D-A6AB-7416A2C9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0695-184D-4885-B1B0-93D8E10F2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B7C9-4FEE-4363-B732-1D8F5197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CC42-39A4-486A-8E63-030C9896F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A20EF-A9F3-488A-8674-B6B0FFC1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D49A3-AB3E-4CD3-84F5-08B4D98F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CF18-C6C9-4DC5-B1E1-A0117130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716D8-88C8-4015-9FC1-788FBB3C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FF6B6-B8D2-43F9-B408-CF92C2CF4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2564-D0D1-4D49-87C3-F1D2C10A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742C-AFFD-4A2D-90B1-84EB0F7F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F6D1A-58F7-43A5-9E66-FD766257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D6C6E-2B51-48CB-97F5-D153D3362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F66B-A6E6-44AB-9796-D0564A536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3840D-8E89-4E8B-BF32-B1FC962A6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8B9DE-91B6-47F3-B9A3-8A071BB13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60F4-2614-4802-9792-E7C48C3C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0292-11F9-401F-AA19-4268E757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053F-8A0B-4083-8EAF-E2535A6EC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C74E-4927-4EC3-9AC9-CC43C046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908-FE73-4CC8-AEC2-7CD7C9F7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AE2F-F110-4A1F-AC38-BE2478E0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79AA-4FCD-4376-9110-073CA7F75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755D-6410-4C2A-A468-E4655029C0D8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D7A22-80F1-4E36-B9C8-FAD55AA632C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РОДВИЖЕНИЕ МОЛОДЕЖНЫХ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ПРОЕКТОВ В УЧРЕЖДЕНИЯХ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ЛОДЕЖНОЙ ПОЛИТИКИ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786200" y="3857400"/>
            <a:ext cx="401328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6666"/>
                </a:solidFill>
                <a:latin typeface="Arial"/>
              </a:rPr>
              <a:t>             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ожительные стороны виртуального общ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интернете люди могут общаться вне зависимости от их социальных статус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 интернете возрастает вероятность найти собеседников по интересам и взглядам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ртуальное общение развивает способность письменного выражения собственных мысле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Решение проблемы виртуализ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1.Проведение семинаров, направленных на привлечение молодёжи к реальной жизн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2.Организация досуг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3.Развитие программ по очистке Интернета от вредной, ненужной информац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4.Специализированные лагеря для молодёжи с отсутствием или ограничением связ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авила молодежного маркет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2320"/>
            <a:ext cx="7693200" cy="38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ужно привлекать их внимание. С этой аудиторией нельзя общаться тоном ментора. Их надо зацепить резкими высказываниями, словами или провоцирующими словосочетаниями. Каждое сообщение, адресованное этой аудитории должно быть ярким и дерзким. Главное здесь – не стеснятся говорить на их языке, ведь ни для кого не секрет, что молодежная аудитория наименее подвержена конформизму и политкорректност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ообщение должно провоцировать молодых на дискуссию и обсуждение. Задача здесь - добиться эффекта сарафанного радио, когда ваше сообщение распространяется самой аудиторией внутри себя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авила молодежного маркетинг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2320"/>
            <a:ext cx="76932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ужно говорить четко и ясно, ведь у них столько всего в голове и столько всего интересного вокруг, что никто не будет решать логические цепочки, разгадывать тонкие метафоры и потом восхищаться вашим гениальным креативом. Сообщение должно быть четким и понятным с первого раза, иначе оно вызовет только отторжени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заимодействуйте с ними, вовлекайте их, работайте вместе. Когда человек участвует в разработке идеи, ему намного проще принять финальный вариант, чем в случае, когда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ему будут просто навязывать готовое решени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61480" y="433080"/>
            <a:ext cx="7725240" cy="137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убъекты инновационного </a:t>
            </a:r>
            <a:br>
              <a:rPr sz="3600"/>
            </a:b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цесса в культуре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оваторы (2%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нние реципиенты (9%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нее большинство (27%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ольшинство (49%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тстающие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серваторы(13%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хема развития культурной инновац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дивидуальнос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убкультур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ультурно-информационное сообществ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ассовое производство, культура мейнстрима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ы отношений между поколениям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минирование старшего покол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авноправ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оминирование младшего покол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Ответы на вопрос «Согласны ли Вы с утверждением: «При нынешнем положении дел нашему поколению будет гораздо труднее добиться комфортной жизни, чем предыдущим»?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а – 30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т-15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знаю -22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Все зависит от нас -16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 нас другие цели – 7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думали об этом – 3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ругое – 7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тветы на вопрос «Согласны ли Вы с ценностями и идеалами, в которые верят 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Ваши родители?»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а – 17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т-34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знаю – 29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думал об этом – 18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ругое – 2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66"/>
                </a:solidFill>
                <a:latin typeface="Arial"/>
              </a:rPr>
              <a:t>Ответы на вопрос «Согласны ли родители с ценностями и идеалами, в которые верите Вы?»</a:t>
            </a: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а – 23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т- 33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знаю – 20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думал об этом – 16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ругое – 8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собенности молодежи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71360" y="2428560"/>
            <a:ext cx="7692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збыток энергии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ритика настоящего положения веще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любовь к перемена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аксимализм и несклонность к компромиссам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Отсутствие жизненного опыт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требность в сильном лидер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умение адекватно оценивать себя и други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тветы на вопрос «Отличаются ли Ваши культурные предпочтения от предпочтений Ваших родителей?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а- 29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т-34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е знаю-25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ругое – 12%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Взаимодействие с молодежью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1. Интерактивность. Молодежь -самые активные интернет-пользователи. Они вовлечены в широкий спектр мероприятий в Интернете, включаясоциальные сети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и развлечения. Поэтому чтобы обращаться к этой аудитории, маркетологам необходимо повышать свое виртуальное присутствие в Сети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2.Развлечения.Реклама для молодежи должна ориентироваться на чувство юмора, свойственное молодым людям, и их эмоции, используя для этого образы «живых людей» в сочетании с эпизодами из реальной жизни. Нужно привлечь внимание молодежной аудитории, рассказывая о жизни и развлечениях. Если интерес возникнет, то молодые потребители сами узнают все техническую информацию из Интернета или от друзей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3. Доступность. Молодежь  активно используют Интернет. Для них важно, чтобы доступ к информации и услугам существовал в режиме 24/7, поэтому сервис для молодых людей должен быть круглосуточным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Этапы медиапланирования при продвижении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молодежных проектов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а) анализ информационного фона, выявление целевой аудитории и определение медиастратеги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б)определение целей информирования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в)определение категорий средств массовой информации, размещение информации о проекте в которых оптимально и максимально эффективно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) расчет оптимальных значений показателей эффективности (Reach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/Coverage, TRP, Frequency и других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д)планирование во времени (с учетом сезонности, наличия конкуренции и других факторов) этапов информационной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кампании (подготовительный, начальный, этап поддержания, этап усиления)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е) определение, обоснование и распределение бюджета по категориям СМ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сихологические особенности молодёж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устойчивая психика (психологические срывы, суициды, наркотики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есформированное сознание (желание скорее достичь желаемого приводит к различным формам асоциального поведение)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нутренняя противоречивость (неспособность быть толерантным, как результат –постоянные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онфликты с окружающим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Типы социализации молодеж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онформизм -личность признает как общественные идеалы, так и способы (нормы) их достиже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Инновация -идеалы признает, нормы -н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Ритуализм-идеалы не признает, нормы соблюдае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унт -не признает ни идеалов, ни норм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Адаптац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теграц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аморазвити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Самореализац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оцессы социализац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тветы на вопрос «Откуда Вы преимущественно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олучаете информацию о событиях культурной жизни?»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57160" y="24285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оциальные сети -73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пециализированные сайты-4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азеты-2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нформационные стенды-2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Телевидение -7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Радио-5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ругое -7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43120" y="702000"/>
            <a:ext cx="7761960" cy="112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Каналы распространения информации о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молодежных проектах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8080" y="2362320"/>
            <a:ext cx="769320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Группы в социальных сетя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формационные стенд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спространение информации через образовательные организации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очтовая рассыл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Размещение информации в муниципальной и региональной пресс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спользование теле-и радиопередач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Участие в выставках, ярмарках, конференциях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нформирование по линии комитета / отдела по молодежной политик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Причины преобладания виртуального общения </a:t>
            </a:r>
            <a:br>
              <a:rPr sz="2400"/>
            </a:b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молодёжи</a:t>
            </a:r>
            <a:br>
              <a:rPr sz="2400"/>
            </a:b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Жажда приключени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ниженная или завышенная самооценка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Безнадзорность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Физическое, эмоционально-психологическое насилие со стороны одноклассников и сверстников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Недостаток общения с родителями, сверстниками, одноклассник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Проблемы в семье (алкогольная зависимость родителей, жестокое обращение в семье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Отрицательные стороны виртуального общ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55640" y="2349000"/>
            <a:ext cx="769320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Ежедневное пребывание подростка в сети приводит к снижению навыков невербального общения: жестами, мимикой, положением тела и т.д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Ежедневное пребывание в сети приводит к замкнутости, заторможенности и мало эмоциональности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ртуальное общение часто приводит к развитию комплексов. Иногда это заканчивается тем, что подросток вовсе перестает общаться со сверстниками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Виртуальное общение часто способствует развитию чувства безнаказанности и жестокости (при виртуальном общении отсутствуют естественные ограничители агрессивного поведения, которые при реальном общении присутствуют)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Любовь Анатольевна</dc:creator>
  <dc:description/>
  <dc:language>en-US</dc:language>
  <cp:lastModifiedBy>Любовь Анатольевна</cp:lastModifiedBy>
  <dcterms:modified xsi:type="dcterms:W3CDTF">2018-07-26T13:43:46Z</dcterms:modified>
  <cp:revision>28</cp:revision>
  <dc:subject/>
  <dc:title>PowerPoint Presentation</dc:title>
</cp:coreProperties>
</file>