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F6A7-004D-430B-910F-53D2D69E9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DAD9-43BC-4E9F-9851-7A6564D0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9FCF-DF9D-4CB1-8266-B48DBF089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88E7-31F9-4CEE-A288-1527D8917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3E72-2EFB-47AF-A5EB-A664E59C7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9E7E-75C1-46EF-88D3-CFF8BDA5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9C376-3402-4E0F-B7E0-37968028E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03FB8-C3B0-4990-BA8C-B7ED383A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E52F6-1321-4B0F-8DAB-C91F7377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4F03-D553-4318-B799-E0EF9578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AC92-11B5-4329-82F1-062909B7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B311-1F74-4644-9952-12F00982C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FC7C1-0407-4BD3-9FBB-8F242E52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9088-994D-458B-BACD-EC682C433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BBCC-71BA-4B44-8098-6151FC08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5D6F-B683-41B5-84DE-43BE890C9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BDBFF-96A4-4195-BE09-F8BDABEE1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272B-0F62-4710-86D9-99349045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2820-60F3-4A70-AD92-9BFE5D92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79CC-EC7F-4DFB-ADDE-1360A65B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3AD6-D0F9-4FED-8EF2-5CF042F3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C648-85D2-45AE-8BD4-FAF7B3C2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A63E-C442-4630-953F-70EBB38B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7F2D-7A83-4024-9448-3F21D632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5AA7-28CD-4EF5-A4CE-F2320D72859A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AB15-55BE-4ECA-B914-9D0CED64EB6F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Good morning!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835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                        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Times New Roman"/>
              </a:rPr>
              <a:t>Match</a:t>
            </a:r>
            <a:r>
              <a:rPr b="0" lang="ru-RU" sz="40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6666"/>
                </a:solidFill>
                <a:latin typeface="Times New Roman"/>
              </a:rPr>
              <a:t>the  English phrases with the Russian one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To keep someone company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To look alik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To get on someone’s nerve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To be annoying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To look out for someon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To feel bad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To make someone cry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To get on well with someon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To fight about everything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To be upset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Заставлять кого-то плакат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Следить, присматриват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Быть раздраженным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Ссориться по любому поводу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Чувствовать плохо(расстраиваться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Действовать на нерв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Ладить с кем – либо хорошо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Выглядеть похожими(одинаково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Быть расстроенным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Составлять кому – либо компанию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280" y="1125360"/>
            <a:ext cx="771516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6666"/>
                </a:solidFill>
                <a:latin typeface="Times New Roman"/>
              </a:rPr>
              <a:t>The family is a mirror of the society where we live. Our society will be better if we try to understand each other”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42920" y="2276280"/>
            <a:ext cx="73454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66"/>
                </a:solidFill>
                <a:latin typeface="Verdana"/>
              </a:rPr>
              <a:t>“</a:t>
            </a:r>
            <a:r>
              <a:rPr b="0" lang="en-US" sz="4800" spc="-1" strike="noStrike">
                <a:solidFill>
                  <a:srgbClr val="006666"/>
                </a:solidFill>
                <a:latin typeface="Verdana"/>
              </a:rPr>
              <a:t>Generation gap or misunderstanding between parents and children”.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Find whose words are these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7200" y="1600200"/>
          <a:ext cx="8229600" cy="5060880"/>
        </p:xfrm>
        <a:graphic>
          <a:graphicData uri="http://schemas.openxmlformats.org/drawingml/2006/table">
            <a:tbl>
              <a:tblPr/>
              <a:tblGrid>
                <a:gridCol w="1811160"/>
                <a:gridCol w="6418440"/>
              </a:tblGrid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Times are changing, why shouldn’t parents move along as well.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Everyone has the right to do what they want and look they want, within reason, of course.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I guess parents shouldn’t try to be trendy, they should just be themselves.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I believe trendy parents are a bad idea because they’re adults and we’re teenagers and there need to be a clear line between the two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I think music, clothes, mobile phones and slang are some of factors that make up the way we identity “youth culture”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It’s okay for celebrity parents like Madonna to be trendy because she’s famous and it’s part of her job.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The fact that people feel they have to be trendy to be accepted is wrong especially adults.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They shouldn’t act exactly the same as their kids because it’s too embarrassing.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Homework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ow can we cope with some conflict situations that can happen between adults and teenagers? </a:t>
            </a:r>
            <a:r>
              <a:rPr b="0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Write down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your suggestions of overcoming the misunderstanding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508720" y="3860640"/>
            <a:ext cx="20876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Thank you for your work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55436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0T17:16:43Z</dcterms:created>
  <dc:creator>Admin</dc:creator>
  <dc:description/>
  <dc:language>en-US</dc:language>
  <cp:lastModifiedBy>Admin</cp:lastModifiedBy>
  <dcterms:modified xsi:type="dcterms:W3CDTF">2017-11-21T16:38:51Z</dcterms:modified>
  <cp:revision>5</cp:revision>
  <dc:subject/>
  <dc:title>Good morning!</dc:title>
</cp:coreProperties>
</file>