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C3C8-DCF1-49BD-9BD6-EDBD9110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EF93-7800-41CE-8724-50A6B802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75EB-FEFB-4BE9-AFF8-BC017F1B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273-BAEE-4DFC-B34F-4DBF84B9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6CBB-3657-4CDA-8290-CEBCBD6D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0A00-942F-4248-95C0-FCD24F76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02397-7894-4FE6-80B6-BA0967DF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E5D8-585B-4C45-9895-5D1D16DCB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741E-4239-4D2E-8FF9-CF0C4986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9F1D-58FF-47C6-BC88-757BC8CB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D0AC-75E9-4B4B-A5B8-D02D757E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85F2-44F3-4D94-B54E-1B8D92E0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88B18-794C-42EA-A6B5-5E5113926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EB72-90CA-4173-BA99-6627232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20A54-D1BB-4C78-A321-EDCEE72D0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6D83-A329-4EEF-A142-5FFB444D8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536D8-91BA-4C23-8119-73E8D3191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9E4-D280-4772-A911-B5B356F29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46E8-84FB-4517-A05C-E8059AE23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18E3-8FF4-4FFE-B902-B4233B45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61E6-D6C1-4A32-AA48-CD7608243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884-B613-402E-AE41-003E7D67F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554A-FD8F-453C-A773-42EFA002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0A3C-AFDE-4D61-B8CE-9334AFE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E317-BD14-464F-AA6D-1AB25B12B9AE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B00B-90A7-4298-846E-D259CA9D04E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Good morning!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835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                        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Match</a:t>
            </a:r>
            <a:r>
              <a:rPr b="0" lang="ru-RU" sz="40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6666"/>
                </a:solidFill>
                <a:latin typeface="Times New Roman"/>
              </a:rPr>
              <a:t>the  English phrases with the Russian one</a:t>
            </a: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keep someone compan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look alik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get on someone’s nerves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be annoy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look out for someo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feel bad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make someone cry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get on well with someone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fight about everything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To be upset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Заставлять кого-то плак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ледить, присматрив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ыть раздраженн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сориться по любому поводу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Чувствовать плохо(расстраиваться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Действовать на нервы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Ладить с кем – либо хорошо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Выглядеть похожими(одинаково)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Быть расстроенным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Verdana"/>
              </a:rPr>
              <a:t>Составлять кому – либо компанию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280" y="1125360"/>
            <a:ext cx="7715160" cy="29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The family is a mirror of the society where we live. Our society will be better if we try to understand each other”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920" y="2276280"/>
            <a:ext cx="73454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“</a:t>
            </a:r>
            <a:r>
              <a:rPr b="0" lang="en-US" sz="4800" spc="-1" strike="noStrike">
                <a:solidFill>
                  <a:srgbClr val="006666"/>
                </a:solidFill>
                <a:latin typeface="Verdana"/>
              </a:rPr>
              <a:t>Generation gap or misunderstanding between parents and children”.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Verdana"/>
              </a:rPr>
              <a:t>Find whose words are these.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457200" y="1600200"/>
          <a:ext cx="8229600" cy="5060880"/>
        </p:xfrm>
        <a:graphic>
          <a:graphicData uri="http://schemas.openxmlformats.org/drawingml/2006/table">
            <a:tbl>
              <a:tblPr/>
              <a:tblGrid>
                <a:gridCol w="1811160"/>
                <a:gridCol w="6418440"/>
              </a:tblGrid>
              <a:tr h="54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imes are changing, why shouldn’t parents move along as well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Everyone has the right to do what they want and look they want, within reason, of course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 guess parents shouldn’t try to be trendy, they should just be themselves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 believe trendy parents are a bad idea because they’re adults and we’re teenagers and there need to be a clear line between the two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 think music, clothes, mobile phones and slang are some of factors that make up the way we identity “youth culture”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It’s okay for celebrity parents like Madonna to be trendy because she’s famous and it’s part of her job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he fact that people feel they have to be trendy to be accepted is wrong especially adults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99"/>
                          </a:solidFill>
                          <a:latin typeface="Times New Roman"/>
                        </a:rPr>
                        <a:t>They shouldn’t act exactly the same as their kids because it’s too embarrassing.</a:t>
                      </a:r>
                      <a:endParaRPr b="0" lang="en-US" sz="1800" spc="-1" strike="noStrike">
                        <a:solidFill>
                          <a:srgbClr val="0066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Homework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How can we cope with some conflict situations that can happen between adults and teenagers? </a:t>
            </a:r>
            <a:r>
              <a:rPr b="0" lang="en-US" sz="3200" spc="-1" strike="noStrike" u="sng">
                <a:solidFill>
                  <a:srgbClr val="006699"/>
                </a:solidFill>
                <a:uFillTx/>
                <a:latin typeface="Verdana"/>
              </a:rPr>
              <a:t>Write down</a:t>
            </a: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 your suggestions of overcoming the misunderstanding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508720" y="3860640"/>
            <a:ext cx="20876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Thank you for your work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54364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0T17:16:43Z</dcterms:created>
  <dc:creator>Admin</dc:creator>
  <dc:description/>
  <dc:language>en-US</dc:language>
  <cp:lastModifiedBy>Admin</cp:lastModifiedBy>
  <dcterms:modified xsi:type="dcterms:W3CDTF">2017-11-21T16:38:51Z</dcterms:modified>
  <cp:revision>5</cp:revision>
  <dc:subject/>
  <dc:title>Good morning!</dc:title>
</cp:coreProperties>
</file>