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14.jpeg" ContentType="image/jpeg"/>
  <Override PartName="/ppt/media/image15.jpeg" ContentType="image/jpeg"/>
  <Override PartName="/ppt/media/image67.jpeg" ContentType="image/jpeg"/>
  <Override PartName="/ppt/media/image41.jpeg" ContentType="image/jpeg"/>
  <Override PartName="/ppt/media/image66.png" ContentType="image/pn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38.jpeg" ContentType="image/jpeg"/>
  <Override PartName="/ppt/media/image49.jpeg" ContentType="image/jpeg"/>
  <Override PartName="/ppt/media/image7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F892-DED4-4531-811E-7F58CF69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456C-B8FD-40B7-98B3-2F6DD11E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BAEC-C6ED-4C6E-AD7E-3A8027D80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0003-758B-4416-A520-17815BF4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7616-128F-471E-97AB-B1197DF7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F6A1-D7BA-484A-8245-1DD4E641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913E-8131-4D2A-8873-C0F641B0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3D78-FCCD-49CB-9EFD-CCA6091F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7E1E-FB2F-4535-B641-A699F290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573B-FE7D-493A-B934-DE05958F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16C4-32F6-4DE5-A4BA-33856669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DB64-9F8B-465C-9CEF-DF08E0B6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2F0C-6009-432D-BB1B-5E581AB9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0259-EAF3-4111-9B34-33A628F8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B10E-AE6B-4A32-BADF-8B584162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90E2-AE3C-468B-A16D-7DF5AC76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4D6E-41B7-4D3E-9550-BF799153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4FF6-AEBB-4E04-9F7C-58F9027C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A6D8-FC87-4ACA-915A-BB9360F1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F207-17EC-490C-B614-2988E7FF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A20E-DD1F-408C-8560-1BB99F29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70F5-6884-4599-8EBF-40A3CFC6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4FE2-47C8-41A2-B086-C21A3291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6527-4944-4115-A82F-2EED5B56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0F8D-6CA3-4442-9A43-004082F6381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E812-10F7-40AD-9C13-95BE924FA75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6/Tanker_offshore_terminal.jpg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48;&#1090;&#1072;&#1083;&#1100;&#1103;&#1085;&#1089;&#1082;&#1080;&#1081;_&#1103;&#1079;&#1099;&#1082;" TargetMode="External"/><Relationship Id="rId3" Type="http://schemas.openxmlformats.org/officeDocument/2006/relationships/hyperlink" Target="http://ru.wikipedia.org/wiki/&#1048;&#1090;&#1072;&#1083;&#1100;&#1103;&#1085;&#1089;&#1082;&#1080;&#1081;_&#1103;&#1079;&#1099;&#1082;" TargetMode="External"/><Relationship Id="rId4" Type="http://schemas.openxmlformats.org/officeDocument/2006/relationships/hyperlink" Target="http://ru.wikipedia.org/wiki/&#1050;&#1074;&#1072;&#1088;&#1094;" TargetMode="External"/><Relationship Id="rId5" Type="http://schemas.openxmlformats.org/officeDocument/2006/relationships/hyperlink" Target="http://granit-stroi.ru/wp-content/uploads/granit55743t.jpg" TargetMode="External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ost-spb.ru/dvortcovy/dvortcovy_foto/dvortcovy_foto38.jpg" TargetMode="External"/><Relationship Id="rId3" Type="http://schemas.openxmlformats.org/officeDocument/2006/relationships/image" Target="../media/image34.jpeg"/><Relationship Id="rId4" Type="http://schemas.openxmlformats.org/officeDocument/2006/relationships/hyperlink" Target="http://www.indostan.ru/indiya/foto-video/546/969_3_o.jpg" TargetMode="External"/><Relationship Id="rId5" Type="http://schemas.openxmlformats.org/officeDocument/2006/relationships/image" Target="../media/image35.jpeg"/><Relationship Id="rId6" Type="http://schemas.openxmlformats.org/officeDocument/2006/relationships/hyperlink" Target="http://www.globalmarket.com.ua/data/487784_2.jpg" TargetMode="External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litmramor.ru/images/398168224_a14e904ac5_o.jpg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www.peter-stroy.ru/foto/all.jpg" TargetMode="External"/><Relationship Id="rId4" Type="http://schemas.openxmlformats.org/officeDocument/2006/relationships/image" Target="../media/image38.jpeg"/><Relationship Id="rId5" Type="http://schemas.openxmlformats.org/officeDocument/2006/relationships/hyperlink" Target="http://www.mramolis.ru/images/%C3%EB%E0%E2%ED%E0%FF%20%F1%F2%F0%E0%ED%E8%F6%E0/lestnici1.jpg" TargetMode="External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48;&#1089;&#1082;&#1086;&#1087;&#1072;&#1077;&#1084;&#1086;&#1077;_&#1090;&#1086;&#1087;&#1083;&#1080;&#1074;&#1086;" TargetMode="External"/><Relationship Id="rId3" Type="http://schemas.openxmlformats.org/officeDocument/2006/relationships/hyperlink" Target="http://ru.wikipedia.org/wiki/&#1055;&#1072;&#1087;&#1086;&#1088;&#1086;&#1090;&#1085;&#1080;&#1082;" TargetMode="External"/><Relationship Id="rId4" Type="http://schemas.openxmlformats.org/officeDocument/2006/relationships/hyperlink" Target="http://ru.wikipedia.org/wiki/&#1061;&#1074;&#1086;&#1097;" TargetMode="External"/><Relationship Id="rId5" Type="http://schemas.openxmlformats.org/officeDocument/2006/relationships/hyperlink" Target="http://ru.wikipedia.org/wiki/&#1055;&#1083;&#1072;&#1091;&#1085;" TargetMode="External"/><Relationship Id="rId6" Type="http://schemas.openxmlformats.org/officeDocument/2006/relationships/hyperlink" Target="http://megadoski.ru/s_images/12010744551985.jpg" TargetMode="Externa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ntacity.narod.ru/img/con_work_1.jpg" TargetMode="External"/><Relationship Id="rId3" Type="http://schemas.openxmlformats.org/officeDocument/2006/relationships/image" Target="../media/image42.jpeg"/><Relationship Id="rId4" Type="http://schemas.openxmlformats.org/officeDocument/2006/relationships/hyperlink" Target="http://www.pics.am/data/media/48/www_pics_am-power1437.jpg" TargetMode="External"/><Relationship Id="rId5" Type="http://schemas.openxmlformats.org/officeDocument/2006/relationships/image" Target="../media/image43.jpeg"/><Relationship Id="rId6" Type="http://schemas.openxmlformats.org/officeDocument/2006/relationships/hyperlink" Target="http://focus.in.ua/i/art/38187b.jpg" TargetMode="External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54;&#1089;&#1072;&#1076;&#1086;&#1095;&#1085;&#1099;&#1077;_&#1075;&#1086;&#1088;&#1085;&#1099;&#1077;_&#1087;&#1086;&#1088;&#1086;&#1076;&#1099;" TargetMode="External"/><Relationship Id="rId3" Type="http://schemas.openxmlformats.org/officeDocument/2006/relationships/hyperlink" Target="http://ru.wikipedia.org/wiki/&#1042;&#1086;&#1076;&#1072;" TargetMode="External"/><Relationship Id="rId4" Type="http://schemas.openxmlformats.org/officeDocument/2006/relationships/hyperlink" Target="http://ru.wikipedia.org/wiki/&#1050;&#1072;&#1088;&#1089;&#1090;" TargetMode="External"/><Relationship Id="rId5" Type="http://schemas.openxmlformats.org/officeDocument/2006/relationships/hyperlink" Target="http://ru.wikipedia.org/wiki/&#1055;&#1077;&#1097;&#1077;&#1088;&#1072;" TargetMode="External"/><Relationship Id="rId6" Type="http://schemas.openxmlformats.org/officeDocument/2006/relationships/hyperlink" Target="http://ru.wikipedia.org/wiki/&#1052;&#1080;&#1085;&#1077;&#1088;&#1072;&#1083;&#1100;&#1085;&#1072;&#1103;_&#1074;&#1086;&#1076;&#1072;" TargetMode="External"/><Relationship Id="rId7" Type="http://schemas.openxmlformats.org/officeDocument/2006/relationships/hyperlink" Target="http://www.museum.ru/imgB.asp?31227" TargetMode="External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ic.cc-cv.ru/v/12/121624c50a1f.jpg" TargetMode="External"/><Relationship Id="rId3" Type="http://schemas.openxmlformats.org/officeDocument/2006/relationships/image" Target="../media/image46.jpeg"/><Relationship Id="rId4" Type="http://schemas.openxmlformats.org/officeDocument/2006/relationships/hyperlink" Target="http://veskrym.ru/uploads/posts/2008-06/thumbs/1212585509_f_10.jpg" TargetMode="External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fstroy.ru/PSC_BASE/firmpages/P/Poltavsky/img/izvB.jpg" TargetMode="External"/><Relationship Id="rId3" Type="http://schemas.openxmlformats.org/officeDocument/2006/relationships/image" Target="../media/image48.jpeg"/><Relationship Id="rId4" Type="http://schemas.openxmlformats.org/officeDocument/2006/relationships/hyperlink" Target="http://www.spb-kamen.ru/img/catalog/c70b.jpg" TargetMode="External"/><Relationship Id="rId5" Type="http://schemas.openxmlformats.org/officeDocument/2006/relationships/image" Target="../media/image49.jpeg"/><Relationship Id="rId6" Type="http://schemas.openxmlformats.org/officeDocument/2006/relationships/hyperlink" Target="http://mega.km.ru/goldenring/Pict/1140003.jpg" TargetMode="External"/><Relationship Id="rId7" Type="http://schemas.openxmlformats.org/officeDocument/2006/relationships/image" Target="../media/image50.jpeg"/><Relationship Id="rId8" Type="http://schemas.openxmlformats.org/officeDocument/2006/relationships/hyperlink" Target="http://www.x-team.ru/resources/20966-original.jpeg" TargetMode="External"/><Relationship Id="rId9" Type="http://schemas.openxmlformats.org/officeDocument/2006/relationships/image" Target="../media/image51.jpe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jpeg"/><Relationship Id="rId3" Type="http://schemas.openxmlformats.org/officeDocument/2006/relationships/hyperlink" Target="http://upload.wikimedia.org/wikipedia/commons/2/2c/Clay-ss-2005.jpg" TargetMode="External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43;&#1086;&#1085;&#1095;&#1072;&#1088;" TargetMode="External"/><Relationship Id="rId3" Type="http://schemas.openxmlformats.org/officeDocument/2006/relationships/hyperlink" Target="http://ru.wikipedia.org/wiki/&#1050;&#1080;&#1088;&#1087;&#1080;&#1095;" TargetMode="External"/><Relationship Id="rId4" Type="http://schemas.openxmlformats.org/officeDocument/2006/relationships/hyperlink" Target="http://www.nara-grad.ru/images/n_stroy_clip_image003.jpg" TargetMode="External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png"/><Relationship Id="rId6" Type="http://schemas.openxmlformats.org/officeDocument/2006/relationships/image" Target="../media/image67.jpeg"/><Relationship Id="rId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cor.edu.27.ru/dlrstore/d/d77a30c0-8cff-11db-b606-0800200c9a66/02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0;&#1072;&#1083;&#1100;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terros.ru/content/publications/images/image_340.gif" TargetMode="External"/><Relationship Id="rId3" Type="http://schemas.openxmlformats.org/officeDocument/2006/relationships/image" Target="../media/image16.png"/><Relationship Id="rId4" Type="http://schemas.openxmlformats.org/officeDocument/2006/relationships/hyperlink" Target="http://www.scm.com.ua/img/photogallery/20857?photoId=20857&amp;imageType=0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i033.radikal.ru/0806/ab/2290f38fdc5d.jpg" TargetMode="External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jpe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43;&#1088;&#1077;&#1095;&#1077;&#1089;&#1082;&#1080;&#1081;_&#1103;&#1079;&#1099;&#1082;" TargetMode="External"/><Relationship Id="rId3" Type="http://schemas.openxmlformats.org/officeDocument/2006/relationships/hyperlink" Target="http://ru.wikipedia.org/wiki/&#1046;&#1080;&#1076;&#1082;&#1086;&#1089;&#1090;&#1100;" TargetMode="External"/><Relationship Id="rId4" Type="http://schemas.openxmlformats.org/officeDocument/2006/relationships/hyperlink" Target="http://ru.wikipedia.org/wiki/&#1047;&#1077;&#1084;&#1083;&#1103;" TargetMode="External"/><Relationship Id="rId5" Type="http://schemas.openxmlformats.org/officeDocument/2006/relationships/hyperlink" Target="http://ru.wikipedia.org/wiki/Homo_sapiens" TargetMode="External"/><Relationship Id="rId6" Type="http://schemas.openxmlformats.org/officeDocument/2006/relationships/hyperlink" Target="http://ru.wikipedia.org/wiki/&#1055;&#1086;&#1083;&#1077;&#1079;&#1085;&#1099;&#1077;_&#1080;&#1089;&#1082;&#1086;&#1087;&#1072;&#1077;&#1084;&#1099;&#1077;" TargetMode="External"/><Relationship Id="rId7" Type="http://schemas.openxmlformats.org/officeDocument/2006/relationships/hyperlink" Target="http://ubr.ua/files/video/preview_full/3272.jpg" TargetMode="External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7/Portugal_pipeline.jpg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Полезные ископаемы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93840" y="1122480"/>
            <a:ext cx="432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Урок окружающего ми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3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грузка нефти в танке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4" name="" descr="Файл:Tanker offshore termina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125360"/>
            <a:ext cx="79218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рани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2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рани́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итал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granit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 — зерно) —Состоит из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кварц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калиевого полевого шпата и слюд. Граниты очень широко распространены в континентальной земной коре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Картинка 226 из 2387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40360" y="1484280"/>
            <a:ext cx="475272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-15804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680" y="259920"/>
            <a:ext cx="923904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" descr="Картинка 39 из 2387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72040" y="2276640"/>
            <a:ext cx="4071960" cy="30542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Картинка 103 из 1759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333360"/>
            <a:ext cx="4248000" cy="35402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Картинка 143 из 2387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6920" y="4221000"/>
            <a:ext cx="3456000" cy="23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Картинка 139 из 175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60280"/>
            <a:ext cx="3687840" cy="27766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Картинка 100 из 2387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1197000"/>
            <a:ext cx="3926160" cy="2776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Картинка 90 из 2387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4000" y="3925800"/>
            <a:ext cx="3522600" cy="2643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5508720" y="4508640"/>
            <a:ext cx="21384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аменный угол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6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́гол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был первым из используемых человеком видов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ископаемого топли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менный угол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— осадочная порода, представляющая собой продукт глубокого разложения остатков растений (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папоротник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хвоще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плаун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ьшинство залежей каменного угля было образовано примерно 300-350 миллионов лет тому наза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" descr="Картинка 4 из 122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00720" y="2205000"/>
            <a:ext cx="4267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Шах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404280"/>
            <a:ext cx="85406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" descr="Картинка 7 из 295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76720" y="9810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Картинка 16 из 295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4000" y="3429000"/>
            <a:ext cx="4679640" cy="31701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Картинка 49 из 295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4000" y="549360"/>
            <a:ext cx="32511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звестня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320" y="1267920"/>
            <a:ext cx="38386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вестня́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—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осадочная горная пород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органического,  происхождения. В малых количествах растворяется в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вод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Разлагаясь способствует образованию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карстовы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пеще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а также на больших глубинах под действием глубинного тепла земли, даёт источник газа для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минеральных вод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" descr="Картинка 15 из 576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356000" y="1773360"/>
            <a:ext cx="46260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арстовые пеще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Картинка 4 из 89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1844640"/>
            <a:ext cx="3457440" cy="38098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Картинка 12 из 89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1844640"/>
            <a:ext cx="3324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Картинка 10 из 4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89000"/>
            <a:ext cx="4392720" cy="2752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Картинка 15 из 44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19640" y="333360"/>
            <a:ext cx="3071880" cy="3095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Картинка 28 из 44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4000" y="3068640"/>
            <a:ext cx="2890800" cy="3438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Картинка 43 из 44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067280" y="3716280"/>
            <a:ext cx="4124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л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Глина — это вторичный продукт земной коры, осадочная горная порода, образовавшаяся в результате разрушения скальных пород в процессе выветривания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724360" y="765000"/>
            <a:ext cx="3044880" cy="2705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Файл:Clay-ss-2005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3716280"/>
            <a:ext cx="376236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560" y="360360"/>
            <a:ext cx="8685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олезные ископаемые- это горны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7821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Verdana"/>
              </a:rPr>
              <a:t>породы и минералы, которы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2349360"/>
            <a:ext cx="8496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человек использует в хозяйств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Применение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лина является основой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гончарного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кирпичного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производств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" descr="Картинка 11 из 1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43280" y="4581360"/>
            <a:ext cx="2554200" cy="20941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324000" y="2997360"/>
            <a:ext cx="2288880" cy="2374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Картинка 10 из 17"/>
          <p:cNvPicPr/>
          <p:nvPr/>
        </p:nvPicPr>
        <p:blipFill>
          <a:blip r:embed="rId7"/>
          <a:stretch/>
        </p:blipFill>
        <p:spPr>
          <a:xfrm>
            <a:off x="5611680" y="2892600"/>
            <a:ext cx="2637000" cy="25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Картинка 41 из 1950"/>
          <p:cNvPicPr/>
          <p:nvPr/>
        </p:nvPicPr>
        <p:blipFill>
          <a:blip r:embed="rId2"/>
          <a:stretch/>
        </p:blipFill>
        <p:spPr>
          <a:xfrm>
            <a:off x="755640" y="4365720"/>
            <a:ext cx="2808360" cy="2106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Картинка 48 из 1950"/>
          <p:cNvPicPr/>
          <p:nvPr/>
        </p:nvPicPr>
        <p:blipFill>
          <a:blip r:embed="rId3"/>
          <a:stretch/>
        </p:blipFill>
        <p:spPr>
          <a:xfrm>
            <a:off x="6084720" y="2997360"/>
            <a:ext cx="2718000" cy="35985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Картинка 79 из 1950"/>
          <p:cNvPicPr/>
          <p:nvPr/>
        </p:nvPicPr>
        <p:blipFill>
          <a:blip r:embed="rId4"/>
          <a:stretch/>
        </p:blipFill>
        <p:spPr>
          <a:xfrm>
            <a:off x="1187280" y="260280"/>
            <a:ext cx="4897440" cy="36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116000" y="1484280"/>
            <a:ext cx="3009960" cy="43210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Картинка 25 из 199"/>
          <p:cNvPicPr/>
          <p:nvPr/>
        </p:nvPicPr>
        <p:blipFill>
          <a:blip r:embed="rId3"/>
          <a:stretch/>
        </p:blipFill>
        <p:spPr>
          <a:xfrm>
            <a:off x="4716360" y="1628640"/>
            <a:ext cx="40608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63760" y="2708280"/>
            <a:ext cx="1626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вестня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443640" y="2060640"/>
            <a:ext cx="1125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еф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6080" y="4292640"/>
            <a:ext cx="2172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Железная 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05960" y="5300640"/>
            <a:ext cx="1215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ран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203640" y="4941720"/>
            <a:ext cx="2592360" cy="16225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332880" y="5516640"/>
            <a:ext cx="2373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Каменный уг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132000" y="2492280"/>
            <a:ext cx="2633760" cy="19749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026240" y="3259080"/>
            <a:ext cx="1091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796000" y="1197000"/>
            <a:ext cx="3168720" cy="19810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0" y="4149720"/>
            <a:ext cx="2916360" cy="18907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0" y="1197000"/>
            <a:ext cx="3132000" cy="20876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5867280" y="4005360"/>
            <a:ext cx="28972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7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8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9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0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1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2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Железная ру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17672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Твёрдое, плотное, непрозрачное полезное ископаемо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.Цвет  темно-серый, ярко- желтый, пурпурный, ржавый красный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3.Железную руду используют для изготовления чугуна, который является одним из основных сырьевых ресурсов для изготовления  стали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Картинка 11 из 129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1989000"/>
            <a:ext cx="41749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3247920" cy="39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Эта гора железной руды будет использована в производстве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стали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419640" y="1828800"/>
            <a:ext cx="552420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Изделия из стал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125360"/>
            <a:ext cx="4194000" cy="49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Verdana"/>
              </a:rPr>
              <a:t>Буровая стал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47560" y="3587760"/>
            <a:ext cx="1785960" cy="1393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50920" y="1557360"/>
            <a:ext cx="1944720" cy="1555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77920" y="3213000"/>
            <a:ext cx="21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Листовая ста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5867280" y="5229360"/>
            <a:ext cx="1866960" cy="1396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5651640" y="4076640"/>
            <a:ext cx="1717560" cy="878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4284720" y="2060640"/>
            <a:ext cx="1265040" cy="1584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2340000" y="5157720"/>
            <a:ext cx="1693800" cy="1270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5940360" y="2637000"/>
            <a:ext cx="1332000" cy="1234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2771640" y="299736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0"/>
          <a:stretch/>
        </p:blipFill>
        <p:spPr>
          <a:xfrm>
            <a:off x="7643880" y="2492280"/>
            <a:ext cx="1289160" cy="1441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1"/>
          <a:stretch/>
        </p:blipFill>
        <p:spPr>
          <a:xfrm>
            <a:off x="6012000" y="1197000"/>
            <a:ext cx="1649160" cy="10954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2"/>
          <a:stretch/>
        </p:blipFill>
        <p:spPr>
          <a:xfrm>
            <a:off x="7907400" y="4076640"/>
            <a:ext cx="1236600" cy="1236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3"/>
          <a:stretch/>
        </p:blipFill>
        <p:spPr>
          <a:xfrm>
            <a:off x="2700360" y="1197000"/>
            <a:ext cx="14288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оменная печь используется для получения желез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3" name="" descr="Картинка 18 из 86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64000" y="1700280"/>
            <a:ext cx="3210120" cy="1904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Картинка 27 из 86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88000" y="4149720"/>
            <a:ext cx="3816360" cy="2541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Картинка 35 из 86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8360" y="2349360"/>
            <a:ext cx="388944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зделия из металл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1295280" cy="2049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924360" y="1341360"/>
            <a:ext cx="1400040" cy="10479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4788000" y="2276640"/>
            <a:ext cx="1931760" cy="1314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6948360" y="1638360"/>
            <a:ext cx="1800360" cy="1344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1979640" y="2205000"/>
            <a:ext cx="2016000" cy="1820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6877080" y="3500280"/>
            <a:ext cx="1493640" cy="15512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3708360" y="3357720"/>
            <a:ext cx="1784520" cy="1155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395280" y="4282920"/>
            <a:ext cx="1800360" cy="1251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0"/>
          <a:stretch/>
        </p:blipFill>
        <p:spPr>
          <a:xfrm>
            <a:off x="2479680" y="4508640"/>
            <a:ext cx="1316160" cy="1566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1"/>
          <a:stretch/>
        </p:blipFill>
        <p:spPr>
          <a:xfrm>
            <a:off x="3924360" y="479736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2"/>
          <a:stretch/>
        </p:blipFill>
        <p:spPr>
          <a:xfrm>
            <a:off x="5292720" y="4365720"/>
            <a:ext cx="18730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еф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6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Нефть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греч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Verdana"/>
              </a:rPr>
              <a:t>ναφθα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— вспыхивать, воспламеняться) — горючая маслянистая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жидкость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красно-коричневого, иногда почти чёрного цвета, хотя иногда встречается и слабо окрашенная в жёлто-зелёный цвет и даже бесцветная нефть, имеет специфический запах, распространена в осадочной оболочке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Земл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; одно из важнейших для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человечеств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полезных ископаемых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284720" y="1989000"/>
            <a:ext cx="446400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ефтепровод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2" name="" descr="Файл:Portugal pipelin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125360"/>
            <a:ext cx="831708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7:11:16Z</dcterms:created>
  <dc:creator>Натулька</dc:creator>
  <dc:description/>
  <dc:language>en-US</dc:language>
  <cp:lastModifiedBy>Admin</cp:lastModifiedBy>
  <dcterms:modified xsi:type="dcterms:W3CDTF">2014-03-06T10:40:11Z</dcterms:modified>
  <cp:revision>64</cp:revision>
  <dc:subject/>
  <dc:title>Полезные ископаемые</dc:title>
</cp:coreProperties>
</file>