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D6555-A8EC-46EC-9FA1-AF375EB7E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5AA23-8411-4780-A9A4-EE9226B6B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44EC9-9578-4B07-97F6-8C42FBE03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2A512-04EE-40A8-91A2-8A1ED022F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60937D-28DB-49A7-9286-B51ACE6AC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BAF3CD-96D7-48EB-8D3E-7F8D569D0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D14400-8A7A-4837-A2C5-4150CB3CB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5BEF06-1177-445C-ADDF-548AD55B9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65789A-9916-4AD1-81C9-944BB9DEB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0EA52F-10C1-4FF4-9EC1-CFE1FDB3F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F601B3-4E10-4EA0-B83A-9743C27A1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7982D-AC58-4934-808E-1D2734D2A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E4B1FC-6294-4D44-B26A-680C802E7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055EB0-9310-4667-9F05-B09963176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701348-D39C-416B-BD9F-DA7BB42D5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54DB44-9135-41A7-9C84-9D93CE522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0D2024-5220-4392-9D40-B9BDADF74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E07CC-3902-426A-B425-C272E4EB1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2B2EE-BFD7-40BC-B645-4DC6E0AAE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30001-8F48-469D-8513-D875B5A98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7A801-D9AE-4CF6-8FE6-E1B56B993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033E2-95AF-46A6-B794-C3434BE8E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7435F-02BA-4158-84CA-31D42FC41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95B75-A8C4-4F5D-8F5E-894E68E09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1EAA2-B8C4-4061-8B12-F08183A10DC9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14C75-3309-40DB-A87C-5111E650D2E6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1.jpeg"/><Relationship Id="rId4" Type="http://schemas.openxmlformats.org/officeDocument/2006/relationships/image" Target="../media/image10.jpeg"/><Relationship Id="rId5" Type="http://schemas.openxmlformats.org/officeDocument/2006/relationships/image" Target="../media/image16.jpeg"/><Relationship Id="rId6" Type="http://schemas.openxmlformats.org/officeDocument/2006/relationships/image" Target="../media/image4.jpeg"/><Relationship Id="rId7" Type="http://schemas.openxmlformats.org/officeDocument/2006/relationships/image" Target="../media/image15.jpeg"/><Relationship Id="rId8" Type="http://schemas.openxmlformats.org/officeDocument/2006/relationships/image" Target="../media/image18.jpeg"/><Relationship Id="rId9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10199"/>
                </a:solidFill>
                <a:latin typeface="Tahoma"/>
              </a:rPr>
              <a:t>Животные севера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5562720" y="4800600"/>
            <a:ext cx="30477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ыполнила: воспитатель Лукина Ю.В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                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Касатк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380880" y="1905120"/>
            <a:ext cx="8229600" cy="41148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304920" y="1828800"/>
            <a:ext cx="853416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5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-5196240"/>
            <a:ext cx="38088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380880"/>
            <a:ext cx="82296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Существует 3 вида касатка-фереза, большая и черная. Белые пятна находятся над глазами, а у самцов и сзади спинного плавника. Питаются рыбой и морскими млекопитающими, моллюсками. Держатся небольшими группами, и при ловле добычи каждая группа пользуется своим акустическим репертуаром. Для людей это воспринимается как щелчки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            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Морской лев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457200" y="1828800"/>
            <a:ext cx="8229600" cy="41911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457200" y="1782720"/>
            <a:ext cx="8229600" cy="42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36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5158080"/>
            <a:ext cx="7632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3808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Сивуч - самый крупный вид ушастых тюленей. Покрыты мехом, окрас которого меняется в зависимости от возраста и пола. Морда тупая с вздернутым носом. Питаются моллюсками и морской рыбой, погружаясь за ней на глубину 227 м. А самцы могут охотиться и на детенышей морских котиков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         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Белый медведь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457200" y="1905120"/>
            <a:ext cx="8229600" cy="449568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309600" y="1828800"/>
            <a:ext cx="852480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2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2000"/>
                            </p:stCondLst>
                            <p:childTnLst>
                              <p:par>
                                <p:cTn id="15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80880" y="-5196240"/>
            <a:ext cx="7632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199"/>
                </a:solidFill>
                <a:latin typeface="Tahoma"/>
              </a:rPr>
              <a:t>Белые медведи живут 25-30 лет и рожают за этот период до 15 детенышей. Питаются рыбой, падалью, тюленями, птенцами и яйцами. Как в поисках пищи, так и из-за любопытства могут подбираться к человеческому жилью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             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Горностай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380880" y="1600200"/>
            <a:ext cx="8305920" cy="441972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380880" y="1600200"/>
            <a:ext cx="838224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000"/>
                            </p:stCondLst>
                            <p:childTnLst>
                              <p:par>
                                <p:cTn id="1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-5196240"/>
            <a:ext cx="7632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609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Это небольшой зверек на коротких лапах и треугольной головой, походит на маленькую ласку. Зимой белого цвета шерстка, а летом буровато-желтого, ну а кончик хвоста всегда черный. В помете 4-9 детенышей, растит их самка. Питаются в основном грызунами, лягушками, бывает, что и рыбой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                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Нарвал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457200" y="1905120"/>
            <a:ext cx="8229600" cy="414324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457200" y="1905120"/>
            <a:ext cx="82296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8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500"/>
                            </p:stCondLst>
                            <p:childTnLst>
                              <p:par>
                                <p:cTn id="195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80880" y="-5196240"/>
            <a:ext cx="7632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3808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Они живут среди льдов в разводьях, а если они замерзают, самцы пробивают отверстия, через которое дышит все стадо. Хвост их напоминает якорь, а окрас тела светлый. В неволе животные быстро гибнут, а в своей естественной среде могут дожить до 55 лет. Питаются палтусом, сайкой, треской, за добычей могут нырять на глубину до километра. Они занесены в Красную книгу, в мире их всего 50 тысяч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001000" cy="62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              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Северный олень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0" y="990720"/>
            <a:ext cx="9144000" cy="5295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0" y="1066680"/>
            <a:ext cx="9144000" cy="51721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380880" y="304920"/>
            <a:ext cx="8458200" cy="598176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304920" y="304920"/>
            <a:ext cx="8610480" cy="639108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304920" y="304920"/>
            <a:ext cx="8610480" cy="632448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304920" y="457200"/>
            <a:ext cx="8610480" cy="640080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6"/>
          <a:stretch/>
        </p:blipFill>
        <p:spPr>
          <a:xfrm>
            <a:off x="380880" y="228600"/>
            <a:ext cx="8534520" cy="640080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7"/>
          <a:stretch/>
        </p:blipFill>
        <p:spPr>
          <a:xfrm>
            <a:off x="304920" y="228600"/>
            <a:ext cx="8605800" cy="624852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8"/>
          <a:stretch/>
        </p:blipFill>
        <p:spPr>
          <a:xfrm>
            <a:off x="380880" y="228600"/>
            <a:ext cx="861084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8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8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8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8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1000"/>
                            </p:stCondLst>
                            <p:childTnLst>
                              <p:par>
                                <p:cTn id="230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2000"/>
                            </p:stCondLst>
                            <p:childTnLst>
                              <p:par>
                                <p:cTn id="23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3000"/>
                            </p:stCondLst>
                            <p:childTnLst>
                              <p:par>
                                <p:cTn id="242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3500"/>
                            </p:stCondLst>
                            <p:childTnLst>
                              <p:par>
                                <p:cTn id="25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4500"/>
                            </p:stCondLst>
                            <p:childTnLst>
                              <p:par>
                                <p:cTn id="257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33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      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Спасибо за внимание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76320" cy="7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9160" bIns="29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5196240"/>
            <a:ext cx="7632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Крупный зверь с небольшими конечностями и удлиненным телом. Красивая грива образуется из волос на шее. Самки, как и самцы имеют рога. Живет в стаде из одного самца и 3-13 самок. Кочует в поисках корма и хорошо плавает. Питается лишайниками, побегами и травой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291600"/>
            <a:ext cx="7467480" cy="115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            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Пингвины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380880" y="1676520"/>
            <a:ext cx="838224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000"/>
                            </p:stCondLst>
                            <p:childTnLst>
                              <p:par>
                                <p:cTn id="3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-5081400"/>
            <a:ext cx="7632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8240"/>
            <a:ext cx="82296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Их перья покрыты особым влагостойким веществом, благодаря чему они великолепно плавают и не мокнут. Живут в открытом море до брачного сезона, потом перебираются в места гнездования. Питаются крилем. Вырастают до 1 метра и весом до 15 кг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600200" y="3733920"/>
            <a:ext cx="525780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                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Песец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457200" y="1905120"/>
            <a:ext cx="8229600" cy="41148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380880" y="1762200"/>
            <a:ext cx="853452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-5196240"/>
            <a:ext cx="7632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Полярная лисица или песец — единственный представитель своего рода, бывает голубой или белый. Песец — единственный хищник, заселивший всю тундру Северного полушария, водится даже на Северном полюсе! Живет недалеко от воды, выкапывая нору в каменистом грунте, а зимой в норе из снега. Всеядный. В год приносит до 17 детеныше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7720" y="291960"/>
            <a:ext cx="7543800" cy="12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                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Морж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457200" y="1523880"/>
            <a:ext cx="8229600" cy="48895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457200" y="1523880"/>
            <a:ext cx="845820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5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5196240"/>
            <a:ext cx="7632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3808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Это одни из самых крупных ластоногих, а их клыки похожи на бивни. Волосяной покров очен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редкий, вес достигает 1.5 тонны. Питаются моллюсками, раздавливая их щечными зубами, а осколки отрыгивает. Летом они образуют береговые лежбища, а зимой обитают на ледяных полях. Единственным врагом является касатка, от нее спасаются выбираясь на берег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25T05:15:05Z</dcterms:created>
  <dc:creator>Lukin Alexey</dc:creator>
  <dc:description/>
  <dc:language>en-US</dc:language>
  <cp:lastModifiedBy>Alexey</cp:lastModifiedBy>
  <dcterms:modified xsi:type="dcterms:W3CDTF">2018-07-27T11:03:56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