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7668-01A9-45C4-9A1B-E8942213E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2DD7-1B49-42DA-8EA4-69F7176E6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4037-43D3-4ACA-B9DE-CDBCA32F9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1822-E304-4EE4-B33D-DB95B5187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4337C4-9C12-4C1F-98C9-F51B35016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88BC43-06D0-4DB0-87BC-F6CDF0E22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BCDE07-D214-4741-96D7-33074D4CB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1025F8-5434-4A6F-AC2D-69188761A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DECFDB-4802-434A-B750-6C0DB95DF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68EC5C-53C7-4CAD-BEB5-61209752A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DB5EB5-EDA1-4094-BDD4-F60126AC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28DC-8565-41D8-AB17-05A097806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6C0A75-C4D9-4D71-B856-4D802147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E79305-6E83-4BA5-8064-B9B3B8C8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FB7021-FE8E-4E3D-94C0-171CA0255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30588F-27AA-4E6A-9E1E-81A9C5BE3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2B1712-A73F-41FA-9673-5355E0417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04F7-4445-42F8-82B6-E57E4A60C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296F-28BD-4B4D-A0C8-C1711BE40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17B5-4F03-4C32-A0BE-E41CC9793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BDC9-2A5E-44A4-B6A0-79626FEB4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1BA3-5388-43FC-914B-8FE4A81F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F8C3-7128-4C96-BFD8-42A09675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2B0F-5ABD-4DF9-9D68-C6AAD19A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1B5E1-854F-49BD-B7AD-2A60DAC53B6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B0F0E-822B-4E73-B849-1BA3BBB509A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1.jpeg"/><Relationship Id="rId4" Type="http://schemas.openxmlformats.org/officeDocument/2006/relationships/image" Target="../media/image10.jpeg"/><Relationship Id="rId5" Type="http://schemas.openxmlformats.org/officeDocument/2006/relationships/image" Target="../media/image16.jpeg"/><Relationship Id="rId6" Type="http://schemas.openxmlformats.org/officeDocument/2006/relationships/image" Target="../media/image4.jpeg"/><Relationship Id="rId7" Type="http://schemas.openxmlformats.org/officeDocument/2006/relationships/image" Target="../media/image15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10199"/>
                </a:solidFill>
                <a:latin typeface="Tahoma"/>
              </a:rPr>
              <a:t>Животные севера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562720" y="4800600"/>
            <a:ext cx="3047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ыполнила: воспитатель Лукина Ю.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Касат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80880" y="1905120"/>
            <a:ext cx="8229600" cy="4114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304920" y="1828800"/>
            <a:ext cx="85341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5196240"/>
            <a:ext cx="3808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Существует 3 вида касатка-фереза, большая и черная. Белые пятна находятся над глазами, а у самцов и сзади спинного плавника. Питаются рыбой и морскими млекопитающими, моллюсками. Держатся небольшими группами, и при ловле добычи каждая группа пользуется своим акустическим репертуаром. Для людей это воспринимается как щелчк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Морской ле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57200" y="1828800"/>
            <a:ext cx="8229600" cy="4191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57200" y="1782720"/>
            <a:ext cx="8229600" cy="42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5158080"/>
            <a:ext cx="76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3808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Сивуч - самый крупный вид ушастых тюленей. Покрыты мехом, окрас которого меняется в зависимости от возраста и пола. Морда тупая с вздернутым носом. Питаются моллюсками и морской рыбой, погружаясь за ней на глубину 227 м. А самцы могут охотиться и на детенышей морских котик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Белый медвед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309600" y="1828800"/>
            <a:ext cx="85248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-5196240"/>
            <a:ext cx="76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Белые медведи живут 25-30 лет и рожают за этот период до 15 детенышей. Питаются рыбой, падалью, тюленями, птенцами и яйцами. Как в поисках пищи, так и из-за любопытства могут подбираться к человеческому жиль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Горноста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80880" y="1600200"/>
            <a:ext cx="8305920" cy="44197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380880" y="1600200"/>
            <a:ext cx="83822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5196240"/>
            <a:ext cx="76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609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Это небольшой зверек на коротких лапах и треугольной головой, походит на маленькую ласку. Зимой белого цвета шерстка, а летом буровато-желтого, ну а кончик хвоста всегда черный. В помете 4-9 детенышей, растит их самка. Питаются в основном грызунами, лягушками, бывает, что и рыбо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Нарва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8229600" cy="4143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457200" y="190512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-5196240"/>
            <a:ext cx="76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3808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ни живут среди льдов в разводьях, а если они замерзают, самцы пробивают отверстия, через которое дышит все стадо. Хвост их напоминает якорь, а окрас тела светлый. В неволе животные быстро гибнут, а в своей естественной среде могут дожить до 55 лет. Питаются палтусом, сайкой, треской, за добычей могут нырять на глубину до километра. Они занесены в Красную книгу, в мире их всего 50 тысяч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00100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Северный олен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5295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0" y="1066680"/>
            <a:ext cx="9144000" cy="51721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8458200" cy="59817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8610480" cy="63910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304920" y="304920"/>
            <a:ext cx="8610480" cy="63244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304920" y="457200"/>
            <a:ext cx="8610480" cy="64008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>
            <a:off x="380880" y="228600"/>
            <a:ext cx="8534520" cy="64008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304920" y="228600"/>
            <a:ext cx="8605800" cy="62485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8"/>
          <a:stretch/>
        </p:blipFill>
        <p:spPr>
          <a:xfrm>
            <a:off x="380880" y="228600"/>
            <a:ext cx="861084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3000"/>
                            </p:stCondLst>
                            <p:childTnLst>
                              <p:par>
                                <p:cTn id="24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500"/>
                            </p:stCondLst>
                            <p:childTnLst>
                              <p:par>
                                <p:cTn id="24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4500"/>
                            </p:stCondLst>
                            <p:childTnLst>
                              <p:par>
                                <p:cTn id="25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пасибо за внима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7632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5196240"/>
            <a:ext cx="76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Крупный зверь с небольшими конечностями и удлиненным телом. Красивая грива образуется из волос на шее. Самки, как и самцы имеют рога. Живет в стаде из одного самца и 3-13 самок. Кочует в поисках корма и хорошо плавает. Питается лишайниками, побегами и траво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291600"/>
            <a:ext cx="7467480" cy="11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ингвин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80880" y="1676520"/>
            <a:ext cx="838224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5081400"/>
            <a:ext cx="76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82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Их перья покрыты особым влагостойким веществом, благодаря чему они великолепно плавают и не мокнут. Живут в открытом море до брачного сезона, потом перебираются в места гнездования. Питаются крилем. Вырастают до 1 метра и весом до 15 к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600200" y="3733920"/>
            <a:ext cx="52578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есец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8229600" cy="4114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380880" y="1762200"/>
            <a:ext cx="85345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5196240"/>
            <a:ext cx="76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Полярная лисица или песец — единственный представитель своего рода, бывает голубой или белый. Песец — единственный хищник, заселивший всю тундру Северного полушария, водится даже на Северном полюсе! Живет недалеко от воды, выкапывая нору в каменистом грунте, а зимой в норе из снега. Всеядный. В год приносит до 17 детеныш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291960"/>
            <a:ext cx="754380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Морж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8229600" cy="48895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57200" y="1523880"/>
            <a:ext cx="84582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5196240"/>
            <a:ext cx="76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3808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Это одни из самых крупных ластоногих, а их клыки похожи на бивни. Волосяной покров очен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редкий, вес достигает 1.5 тонны. Питаются моллюсками, раздавливая их щечными зубами, а осколки отрыгивает. Летом они образуют береговые лежбища, а зимой обитают на ледяных полях. Единственным врагом является касатка, от нее спасаются выбираясь на бере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5T05:15:05Z</dcterms:created>
  <dc:creator>Lukin Alexey</dc:creator>
  <dc:description/>
  <dc:language>en-US</dc:language>
  <cp:lastModifiedBy>Alexey</cp:lastModifiedBy>
  <dcterms:modified xsi:type="dcterms:W3CDTF">2018-07-27T11:03:56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