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chimes.wav" ContentType="audio/x-wav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gif" ContentType="image/gi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64A2-A0F2-46A9-8CEA-DE43D3805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682A-9872-48D6-8890-AB16CC3E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F71F43-9F9F-478F-9483-E9D4C6E1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2C75C3-CA34-4CB4-931A-8971DA0C9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99DED1-0E47-4977-B021-C3A95413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D7D10-219A-47B6-AEF6-86E0D10C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7CE049-5637-465D-B9A2-EB0EF276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6C5454-2030-46BE-8325-D2EC86A6F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5D240B-E709-418D-8479-F7FB18951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2182DF-40C9-46FD-B489-63B7165CE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137AF1-2B04-40E1-81E0-F2585904A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6A7B9-FFF7-4EFF-89E2-6DFA71DD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11B2-64B3-44FD-87AC-45DC9565F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E41624-9AFD-4F39-9A5F-80F00130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B6B830-C4B5-474D-97C3-87E9FEA5D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AC6431-56C5-4BAA-91B3-19C9128CD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CD082-5308-40AF-9825-BD7EE6A8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CE5E7-F6BC-4060-8B72-FB5116D4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F65F82-9D1F-4512-A0A4-E667A27C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4E1D42-A45D-41C8-8B22-9263AFA4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C048AC-847C-48F7-B483-2979401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D3C6A4-42DB-4767-8307-6AD19D55E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B8F054-57AC-43EF-B528-353A8F65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201C-E828-40BB-BAA0-C50EAA765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93D8A-2AC7-44DB-9665-A92CE09A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43FA90-5CAD-4A56-ADE2-CE9F34D5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594AEF-9655-466B-94C1-A10175D52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662FF3-66E7-49E4-9C48-3978FFA1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D4358E-20D7-49D4-ADD2-FDEA27D2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7E682C-1F6F-424C-8273-A08778BD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BD8E2-DF69-4488-AFC5-9AD7EE2B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439D8-2A86-4DF9-8455-BCA9FCBB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11E1D0-B1F7-41BF-AFBB-CA3445D7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84670-0D5C-4A8F-A892-5F004DE0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1996-850D-428F-B388-52C6372B8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517947-5CFB-4ABE-992A-189E023B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1C14F-83BE-4C1A-A715-923304E4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DEDAD1-0C75-48E7-A2AF-2ADD41B9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4060BA-FFDF-4A0F-884C-1B1155613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D242DF-2077-4799-9BAE-05DE0746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C76139-54D3-45E7-8C59-7D7E68CF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BCB497-8AD9-4626-81BA-B2AA8173A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C97E3-CD1E-45DA-A67F-926C12C34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475307-EF31-483E-B591-850D1ED8F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D24A9-53BD-4688-840C-2536246C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44A3-CAA3-47AC-803E-6125530E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699C94-0E80-4CD2-8FDE-7C2F94E0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5C7355-8EB9-4D67-821E-4F2BAD38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CC5114-2AF1-428D-BAA8-3600B698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9887D3-FD08-4806-AC84-B485EA8C9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5EE5D1-5AA4-42F5-A6DD-D4E7B07C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CFB38E-34A4-4127-9EB2-EBC94B4C4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E3AACE-9C20-4342-B747-7FE604D9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0CAE95-2F42-478F-A124-701651F6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B93003-1D80-415F-A29D-6F5CD464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5541A0-F6D5-4133-9D9D-86BB8D62F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F2C6-43BA-4EDF-AD69-0C3D555D2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F998B-C972-464B-B87D-6F8150FA7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32570C-1C4F-495F-BB07-4D3B6BF9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199935-831A-4A13-A511-CF3E20F5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FCFDA3-915B-4383-AEC7-B4D17E62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8DB802-A12D-41FA-868B-2E182620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EB551D-B891-4280-B70B-4AA6F7AE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BCEB5F-71FD-423F-B865-A2DE6F8D7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7EFD-C667-41E9-88A9-500050973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B682-E401-45AA-9C55-C86EE84E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54A0-71EC-4D45-A2B0-4D733498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8F96B-5278-4805-8B2D-5687E6D8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6428-6F57-4A4D-A9F0-D3580C1D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83AC-D0D3-4FB8-BCD9-C91C3BC48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09816-5E4B-4D41-8453-142C6686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0547F-EC9C-45F3-854A-435EBC95A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C580-6DC9-4A40-8AC3-4349A8BF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8DF6-CE7B-49FE-9EDD-1D819C89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D5415-A820-4727-BD52-1461C3984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E364F-463A-4CCC-ABC3-405416E6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64468-55C4-438A-B913-20D643FC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D54A3-0010-4ED3-AAD7-1878EA5A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90D42-C2E5-4256-9FE4-C4F76A64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56EE-604C-40B3-94C3-A442C478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46AB32-CFFE-45A7-8954-094029C2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821B1-ED2E-4CFB-92F0-57889D99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B0E6A-D829-4480-B30E-23612DE09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2801-1A03-4BA8-8A78-2BA12E3F9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518F1-8ED3-4A26-A035-E32A94BB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FF5E3-0755-46DA-BB0F-FAE2765F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4C0E-F072-4DA7-8216-998E10D9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BD05B-DB58-4CC9-99DF-89BECA4C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F6F3E-A65B-442F-953C-0D1165C9E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7DA73C-64F8-4608-8C8F-33B50D0E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8AB6-2EA9-4521-9800-CC8B3F2F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B1A96-5CC1-4561-9F14-4EC58236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AB6FF1-DDF8-4A62-9EBF-8A7D21EF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0DD13-CAFA-41AA-9562-0808B69D7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1EE43-BEE1-4EB6-871A-7BC15A06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C285F-984E-4FD8-B25B-33A449E7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6B82B-B9D8-4BF5-8260-F21C78F5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A01D2-6CD0-44AF-8B92-245C4264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F2107-293E-45F5-8A19-5C169E6F1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0AF7A-4EF3-4200-B8F8-FFA733956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8F444-0EBA-4E87-832F-326A92602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5CEF-9B07-467F-943D-91D19A1C4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BD43-35C7-442E-B698-2E998DC04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9FDB1-3DD4-4624-8CB3-17AFD622B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8EF59-BB93-40C1-B13E-182D58AD5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EF4B5-6D76-421A-9B73-EFF0D8E5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D7212-B424-4672-8986-8A079280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DE202-4762-4942-A1B0-41F835E9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3E0318-25CD-4950-86B9-A5AB0D92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7F12F-013D-4C18-A8E4-BA5418BAA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16731-78C3-45D0-BC8E-013B0B72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0EC94-C4A5-40E6-BB0F-88F5120F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D9EF-A016-4A3A-B7DD-EA40C72A9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60C77-C5C0-4A06-B35D-9BBAADF6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34F04-C0BC-4AC3-AD0F-C16B46BF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489AA-00CF-4472-AA96-AD82B175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5130E-45CC-4173-BE85-8FBC68C1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C0E12C-795C-4E3C-9F05-60CF35983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3E094-A290-42D2-88E1-E5DB120F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55A25E-C631-4D51-8B9E-71EACD97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04BCD-9EB3-47FB-B7BC-958D7EA8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45FC4-8AA6-4CCB-8A16-1AD61CA4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2B466-CCA3-4EFD-B573-CE44F6D8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9D76-73D4-4748-8946-6D0BB3F7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1E1BF-783A-408F-83CC-6F4268F5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5E4A32-EDB5-462A-BD35-2123303D7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D387E-B8C9-4929-B3AE-37B4F2C77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11960-0675-45E7-8EBA-0EDCFA6B4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ED3BDF-6479-4079-B568-C0E87EF9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39DAE-3D25-43FD-BA4B-48F9ACC1D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FD40E-6855-434A-97DF-620904FFD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BB752-BD99-4622-986D-2F4C515F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79158B-8F63-4AC4-9448-89B7F5171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88216C-853F-4220-ACFD-133A2E28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39A-5E3D-487B-B3F7-65462701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BCAF6B-3A63-4992-AB7E-FB16EF91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6155D-E3B1-414D-A81E-FC882FF44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ED1204-3718-43A1-8B8E-58EA00E6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7FA4B-C0C5-46A7-9BEC-074562E5E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C26DF4-564E-42AD-A582-0538560BC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5995EF-12E4-4602-999C-95328530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14F44-D4BA-4A6A-B694-C55FBCBA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31F83-4BED-45DB-8CA8-6DE3482A8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7CF654-CEB2-4F5F-8F6E-7D4506C1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1E35E-0D1F-47AF-9269-87BDDF55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5764-AFA3-4D1E-96A2-AF17FB27A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0661FD-F808-453C-BA77-290C4E26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C7536-4496-41B3-9A8B-F1D883C1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7AD4C-75E0-4AA1-B4DA-0001D0F7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F4206-1AE0-4D29-A0E3-23C9B671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1361A-FFEB-48D2-88B8-8EC02FAB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3A9DD2-7C53-4FE3-802E-52775F2D8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D45E9-A105-4828-B8A9-B8BB6954A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D3AB4-6FC5-46A8-9295-050A701AE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82F6A-7306-461B-93DA-185D1CDA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F03AF3-7E6E-423F-9E5C-18DF27EB3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8B5A-3FCB-4232-82BC-8AC3A51B04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B6B1-6791-4363-A04E-AD7D3D7C688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3BED-3066-42B5-9FAF-8925FC486C9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47E2F-3A45-46AC-A968-8E377993D8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213C-95F4-48EB-9598-8D1B254874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7F1F-4D8B-4238-A8A2-74DA631EFBD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5F3D-61BD-49DC-A0CF-8FEA25C620D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2717-6D27-4514-B095-50B7234609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0D7F-A67C-41DE-9663-9703073F42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EDEAA-57E6-4445-98A1-48152E50C09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85D8-2429-498D-893F-8C7C3BD2062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3369-C237-4F27-B185-55A87E4053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C056-3D3F-41DE-9252-87A2CBC3A2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WordArt 10"/>
          <p:cNvSpPr txBox="1"/>
          <p:nvPr/>
        </p:nvSpPr>
        <p:spPr>
          <a:xfrm>
            <a:off x="1042920" y="115920"/>
            <a:ext cx="7201080" cy="39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ArchUpPour">
              <a:avLst>
                <a:gd name="adj1" fmla="val 10800007"/>
                <a:gd name="adj2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53753" dir="2700000" blurRad="0" rotWithShape="0">
                    <a:srgbClr val="808080">
                      <a:alpha val="50000"/>
                    </a:srgbClr>
                  </a:outerShdw>
                </a:effectLst>
                <a:latin typeface="Impact"/>
              </a:rPr>
              <a:t> 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63" name="WordArt 11"/>
          <p:cNvSpPr txBox="1"/>
          <p:nvPr/>
        </p:nvSpPr>
        <p:spPr>
          <a:xfrm>
            <a:off x="0" y="428760"/>
            <a:ext cx="9144000" cy="285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Inverted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иды языковых и коммуникативных иг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обучения иностранному языку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ошкольников и младших 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64" name="TextBox 4"/>
          <p:cNvSpPr/>
          <p:nvPr/>
        </p:nvSpPr>
        <p:spPr>
          <a:xfrm>
            <a:off x="214200" y="4643280"/>
            <a:ext cx="842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4574"/>
                </a:solidFill>
                <a:latin typeface="Arial"/>
              </a:rPr>
              <a:t>Как научить дошкольников и младших школьников основам неродного языка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6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2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68680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-   Коммуникативно-игровая методика обучения (КИМО) иностранному языку предполагает проведение занятий, полностью состоящих  из различных видов игр, плавно переходящих одна в другую и сопровождающихся комментариями на изучаемом языке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-    Предложенная оптимальная схема занятия с  детьми дошкольного и младшего школьного возраста с учетом коммуникативной направленности обучения и рационального распределения учебного времени позволяет избежать педагогического давления и переутомления учащихся на уроке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00"/>
                </a:solidFill>
                <a:latin typeface="Arial"/>
              </a:rPr>
              <a:t>-    КИМО возможно применять не только на уроках с дошкольниками и младшими школьниками, но его элементы оживят работу по иностранному языку и в более старшей аудитор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WordArt 9"/>
          <p:cNvSpPr txBox="1"/>
          <p:nvPr/>
        </p:nvSpPr>
        <p:spPr>
          <a:xfrm>
            <a:off x="3419640" y="189000"/>
            <a:ext cx="1742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Выводы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2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2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2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2000" fill="hold"/>
                                        <p:tgtEl>
                                          <p:spTgt spid="7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6" dur="2000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7" dur="2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2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2000" fill="hold"/>
                                        <p:tgtEl>
                                          <p:spTgt spid="7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20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20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2000" fill="hold"/>
                                        <p:tgtEl>
                                          <p:spTgt spid="7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1116000" y="-360"/>
            <a:ext cx="8028000" cy="5373720"/>
          </a:xfrm>
          <a:prstGeom prst="rect">
            <a:avLst/>
          </a:prstGeom>
          <a:solidFill>
            <a:srgbClr val="003e68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ww.cambridge.org/elt/playw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www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oofs2@transit.samara.ru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www.р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yground.ru/new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www.corncoolio.narod.ru/nashe/gistology/metoda/11.h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www.el.uz/cgi-bin/product.cgi?r=3&amp;p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www.coolpics.ru/new.9.h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www.Referatik.Ru 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WordArt 10"/>
          <p:cNvSpPr txBox="1"/>
          <p:nvPr/>
        </p:nvSpPr>
        <p:spPr>
          <a:xfrm rot="5400000">
            <a:off x="-2381400" y="2705040"/>
            <a:ext cx="5934240" cy="5238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"/>
              </a:rPr>
              <a:t>Использованные источни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500"/>
                                        <p:tgtEl>
                                          <p:spTgt spid="7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3" dur="500"/>
                                        <p:tgtEl>
                                          <p:spTgt spid="7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7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7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7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7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7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/>
          </p:nvPr>
        </p:nvSpPr>
        <p:spPr>
          <a:xfrm>
            <a:off x="323640" y="1341000"/>
            <a:ext cx="8675640" cy="5031000"/>
          </a:xfrm>
          <a:prstGeom prst="rect">
            <a:avLst/>
          </a:prstGeom>
          <a:solidFill>
            <a:srgbClr val="8ed1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Определить цели  обучения  английскому  языку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в  раннем  возраст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Рассмотреть особенности  преподавания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неродного языка на начальном этап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Рассказать о КИМО (коммуникативно-игрово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методике) как эффективном и универсальном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средстве обучения иностранному язы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Показать специфическую структуру урока 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     </a:t>
            </a:r>
            <a:r>
              <a:rPr b="1" i="1" lang="ru-RU" sz="2400" spc="-1" strike="noStrike">
                <a:solidFill>
                  <a:srgbClr val="ffff00"/>
                </a:solidFill>
                <a:latin typeface="Gungsuh"/>
              </a:rPr>
              <a:t>иностранному языку для младших школьников.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WordArt 13"/>
          <p:cNvSpPr txBox="1"/>
          <p:nvPr/>
        </p:nvSpPr>
        <p:spPr>
          <a:xfrm>
            <a:off x="179280" y="189000"/>
            <a:ext cx="10861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Цель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67" name="WordArt 17"/>
          <p:cNvSpPr txBox="1"/>
          <p:nvPr/>
        </p:nvSpPr>
        <p:spPr>
          <a:xfrm>
            <a:off x="179280" y="1341360"/>
            <a:ext cx="1648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дачи: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668" name="WordArt 22"/>
          <p:cNvSpPr txBox="1"/>
          <p:nvPr/>
        </p:nvSpPr>
        <p:spPr>
          <a:xfrm>
            <a:off x="1692360" y="189000"/>
            <a:ext cx="6769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следовать методы и приемы работы с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69" name="WordArt 23"/>
          <p:cNvSpPr txBox="1"/>
          <p:nvPr/>
        </p:nvSpPr>
        <p:spPr>
          <a:xfrm>
            <a:off x="2268360" y="765000"/>
            <a:ext cx="5840640" cy="61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ладшими школьниками по иностранному языку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70" name="Picture 24" descr="blest20[1]"/>
          <p:cNvPicPr/>
          <p:nvPr/>
        </p:nvPicPr>
        <p:blipFill>
          <a:blip r:embed="rId1"/>
          <a:stretch/>
        </p:blipFill>
        <p:spPr>
          <a:xfrm>
            <a:off x="8115480" y="5589720"/>
            <a:ext cx="1028520" cy="10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6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6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" dur="80"/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28,-12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80"/>
                                        <p:tgtEl>
                                          <p:spTgt spid="6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8229600" cy="4525920"/>
          </a:xfrm>
          <a:prstGeom prst="rect">
            <a:avLst/>
          </a:prstGeom>
          <a:solidFill>
            <a:srgbClr val="0066ab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ение второму языку в раннем возрасте, когда дети еще не умеют читать и писать, преследует практические и образовательно-воспитательные це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ческая  цель состоит в том, чтобы научить детей основам речевой деятельности на  неродном языке в устной форм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ой образовательно-воспитательной целью обучения неродном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зыку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на начальном  этапе выступает </a:t>
            </a: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личностное  развитие  каждого ребёнка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редствами  второго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учение иностранного языка в раннем возрасте благотворно влияет на психическое, эмоциональное и творческое развитие ребен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учение дошкольников и младших школьников основам  иностранного  языка является отправной точкой для дальнейшей более углубленной  работы над язык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WordArt 7"/>
          <p:cNvSpPr txBox="1"/>
          <p:nvPr/>
        </p:nvSpPr>
        <p:spPr>
          <a:xfrm>
            <a:off x="250920" y="476280"/>
            <a:ext cx="6948360" cy="73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Цели  обучения  иностранному  языку  в  раннем  возрасте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2000"/>
                                        <p:tgtEl>
                                          <p:spTgt spid="6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2000"/>
                                        <p:tgtEl>
                                          <p:spTgt spid="6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6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2000"/>
                                        <p:tgtEl>
                                          <p:spTgt spid="6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2000"/>
                                        <p:tgtEl>
                                          <p:spTgt spid="6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-360" y="2491920"/>
            <a:ext cx="8893080" cy="4815000"/>
          </a:xfrm>
          <a:prstGeom prst="rect">
            <a:avLst/>
          </a:prstGeom>
          <a:solidFill>
            <a:srgbClr val="004e82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       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Усвоение устной иноязычной  речи дошкольниками зависит от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их </a:t>
            </a:r>
            <a:r>
              <a:rPr b="1" i="1" lang="ru-RU" sz="1800" spc="-1" strike="noStrike">
                <a:solidFill>
                  <a:srgbClr val="ffffff"/>
                </a:solidFill>
                <a:latin typeface="Gungsuh"/>
              </a:rPr>
              <a:t>желания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общаться с окружающими сверстниками и взрослыми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говорящими на неродном язы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На занятиях с дошкольниками и младшими школьниками следует  разыгрывать реальные и необычные нереальные ситуации с обычными неодушевленными предметами, необходимо присутствие элемента сказки, веселья и баловств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В процессе обучения общению на  неродном языке следует использовать интересные детям необычные ситуации, приключения игрушек и книжек, дополнительную увлекательную информаци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Для  знакомства с английской культурой и традициями следует разучивать и инсценировать стихи, песни, скороговорки и сказки на изучаемом язы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        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Для воссоздания национального колорита необходим специально оформленный кабинет с большим количеством фотографий, сувениров, репродукций картин, наборами книг на изучаемом языке. В нем также должны быть средства для организации творческих и практически-прикладных детских работ (карандаши, цветная бумага, пластилин, книжки-раскраски). В кабинете должны находится всевозможные средства ТСО (магнитофон, проектор, видеомагнитофон, наборы  аудио и видео кассет) для интенсификации процесса ознакомления с новым материалом и закрепления пройденного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WordArt 13"/>
          <p:cNvSpPr txBox="1"/>
          <p:nvPr/>
        </p:nvSpPr>
        <p:spPr>
          <a:xfrm>
            <a:off x="3276720" y="189000"/>
            <a:ext cx="5327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latin typeface="Arial"/>
              </a:rPr>
              <a:t>Особенности  методики  преподавания 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6" name="WordArt 14"/>
          <p:cNvSpPr txBox="1"/>
          <p:nvPr/>
        </p:nvSpPr>
        <p:spPr>
          <a:xfrm>
            <a:off x="2340000" y="981000"/>
            <a:ext cx="65530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66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ностранного языка   на  начальном  этапе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66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600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6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00" fill="hold"/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600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6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00" fill="hold"/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600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6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6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00" fill="hold"/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600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6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6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600" fill="hold"/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600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6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6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00" fill="hold"/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600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6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00" fill="hold"/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600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6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6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600" fill="hold"/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6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187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8013960" cy="5300640"/>
          </a:xfrm>
          <a:prstGeom prst="rect">
            <a:avLst/>
          </a:prstGeom>
          <a:solidFill>
            <a:srgbClr val="005c9b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Коммуникативно-игровой метод обучения (КИМО) предусматривает особую структуру  проведения занятий по иностранному языку, рассчитанную  на органическое включение различных видов игр и игровых упражнений в учебный процесс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С помощью игр на уроке для маленьких – «языковом шаге» создаются проблемные ситуации, которые моделируют процесс реальной коммуник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Созданная система упражнений позволяет с начала этапа презентации языкового материала обучать устной речи в благоприятных для учащегося психологических условиях, развивать его самостоятельность, инициативность, активность и гибкость речи, а также необходимые для коммуниканта качества – волю, внимание, воображ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В качестве средств обучения по КИМО рекомендуется использование на занятиях современные обучающие технологии и подключение различных аудиовизуальных комплексов и невербальных средств общения с учетом возраста и языковых возможностей учащихся через различные языковые  игр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При обучении детей коммуникативно-игровым методом следует учитывать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      </a:t>
            </a: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а) принцип новизны и интереса учащихся к вводимому материалу; б) принцип обучения через </a:t>
            </a:r>
            <a:r>
              <a:rPr b="0" i="1" lang="ru-RU" sz="1600" spc="-1" strike="noStrike">
                <a:solidFill>
                  <a:srgbClr val="ffffff"/>
                </a:solidFill>
                <a:latin typeface="Gungsuh"/>
              </a:rPr>
              <a:t>стандартные речевые конструкции,</a:t>
            </a: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 которые могли бы легко комбинироваться для выражения тех мыслей, которые впервые или  повторно возникают в голове у  учащего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Gungsuh"/>
              </a:rPr>
              <a:t>«Точечный  приём»  обучения иностранному алфавиту предполагает знакомство учащихся с элементами  письма на 2 году обучения неродному язык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WordArt 10"/>
          <p:cNvSpPr txBox="1"/>
          <p:nvPr/>
        </p:nvSpPr>
        <p:spPr>
          <a:xfrm>
            <a:off x="684360" y="0"/>
            <a:ext cx="7848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Коммуникативно-игровая методика (КИМО)  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680" name="WordArt 11"/>
          <p:cNvSpPr txBox="1"/>
          <p:nvPr/>
        </p:nvSpPr>
        <p:spPr>
          <a:xfrm rot="186600">
            <a:off x="2050560" y="836640"/>
            <a:ext cx="5186520" cy="69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974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к инструмент  обучения неродному языку.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974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77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4" dur="770" fill="hold"/>
                                        <p:tgtEl>
                                          <p:spTgt spid="6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6" dur="77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77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770" fill="hold"/>
                                        <p:tgtEl>
                                          <p:spTgt spid="6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7" dur="77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9" dur="77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/>
          </p:nvPr>
        </p:nvSpPr>
        <p:spPr>
          <a:xfrm>
            <a:off x="468000" y="1484280"/>
            <a:ext cx="8675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1. Создание языковой атмосферы и мимическая разминка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2. Фонетическая зарядка (с отработкой знаков транскрипции) и фонетические игры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3. Закрепление ранее пройденного материала с одновременным контролем того, как он понят и усвоен детьм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4. Проведение смоделированных игр-упражнений для активизации речевой деятельност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5. Гимнастика-физкультминутка при словесном или музыкальном сопровождении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6. Представление нового  материала, обязательные игры-упражнения на употребление новых слов и фраз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7. Подвижная игра со словесным сопровождением на английском языке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8. Шуточное подведение итогов урока и прощание на  изучаемом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</a:t>
            </a:r>
            <a:r>
              <a:rPr b="1" lang="ru-RU" sz="1600" spc="-1" strike="noStrike">
                <a:solidFill>
                  <a:srgbClr val="6600cc"/>
                </a:solidFill>
                <a:latin typeface="Gungsuh"/>
              </a:rPr>
              <a:t>язы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66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2" name="Picture 4" descr="lines23[1]"/>
          <p:cNvPicPr/>
          <p:nvPr/>
        </p:nvPicPr>
        <p:blipFill>
          <a:blip r:embed="rId1"/>
          <a:stretch/>
        </p:blipFill>
        <p:spPr>
          <a:xfrm>
            <a:off x="1763640" y="4437000"/>
            <a:ext cx="5472360" cy="360360"/>
          </a:xfrm>
          <a:prstGeom prst="rect">
            <a:avLst/>
          </a:prstGeom>
          <a:ln w="0">
            <a:noFill/>
          </a:ln>
        </p:spPr>
      </p:pic>
      <p:sp>
        <p:nvSpPr>
          <p:cNvPr id="683" name="WordArt 7"/>
          <p:cNvSpPr txBox="1"/>
          <p:nvPr/>
        </p:nvSpPr>
        <p:spPr>
          <a:xfrm>
            <a:off x="1979640" y="189000"/>
            <a:ext cx="6840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Структура урока иностранного языка –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684" name="WordArt 8"/>
          <p:cNvSpPr txBox="1"/>
          <p:nvPr/>
        </p:nvSpPr>
        <p:spPr>
          <a:xfrm>
            <a:off x="2050920" y="981000"/>
            <a:ext cx="6481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«языкового шага» для до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3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6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0" fill="hold"/>
                                        <p:tgtEl>
                                          <p:spTgt spid="6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0" fill="hold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0" fill="hold"/>
                                        <p:tgtEl>
                                          <p:spTgt spid="6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0" fill="hold"/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0" fill="hold"/>
                                        <p:tgtEl>
                                          <p:spTgt spid="6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0" fill="hold"/>
                                        <p:tgtEl>
                                          <p:spTgt spid="6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0" fill="hold"/>
                                        <p:tgtEl>
                                          <p:spTgt spid="6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0" fill="hold"/>
                                        <p:tgtEl>
                                          <p:spTgt spid="6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0" fill="hold"/>
                                        <p:tgtEl>
                                          <p:spTgt spid="68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2286000" y="15526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7"/>
          <p:cNvSpPr/>
          <p:nvPr/>
        </p:nvSpPr>
        <p:spPr>
          <a:xfrm>
            <a:off x="0" y="1822320"/>
            <a:ext cx="6985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коммуникативно-игровой  методике  обучения следует  использовать следующие  виды  игр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южетно-ролевые игры («Магазин», «У доктора», «Летнее кафе», «Экскурсия по зоопарку», «Веселые зверушки») и т.п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стольно-печатные (лото, домино, путеводители, морские путешествия) и т.п.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мимические игры (изображение предмет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животных с помощью мимики и жестов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льчиковые игры (сопровождение стихов и песен кодированными движениями пальцев рук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гнитные игры с фруктами, овощами, цифр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00000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намичные (подвижные) иг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8" name="Picture 9" descr="av-534[1]"/>
          <p:cNvPicPr/>
          <p:nvPr/>
        </p:nvPicPr>
        <p:blipFill>
          <a:blip r:embed="rId1"/>
          <a:stretch/>
        </p:blipFill>
        <p:spPr>
          <a:xfrm>
            <a:off x="6588000" y="3789360"/>
            <a:ext cx="2556000" cy="3068640"/>
          </a:xfrm>
          <a:prstGeom prst="rect">
            <a:avLst/>
          </a:prstGeom>
          <a:ln w="0">
            <a:noFill/>
          </a:ln>
        </p:spPr>
      </p:pic>
      <p:sp>
        <p:nvSpPr>
          <p:cNvPr id="689" name="WordArt 11"/>
          <p:cNvSpPr txBox="1"/>
          <p:nvPr/>
        </p:nvSpPr>
        <p:spPr>
          <a:xfrm>
            <a:off x="1222200" y="476280"/>
            <a:ext cx="792180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как главный методический прием обучен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90" name="WordArt 12"/>
          <p:cNvSpPr txBox="1"/>
          <p:nvPr/>
        </p:nvSpPr>
        <p:spPr>
          <a:xfrm>
            <a:off x="2771640" y="1197000"/>
            <a:ext cx="597564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дошкольников и младших школьник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0" dur="2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2000"/>
                                        <p:tgtEl>
                                          <p:spTgt spid="6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2000"/>
                                        <p:tgtEl>
                                          <p:spTgt spid="6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1" dur="2000"/>
                                        <p:tgtEl>
                                          <p:spTgt spid="6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4" dur="2000"/>
                                        <p:tgtEl>
                                          <p:spTgt spid="6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9" dur="2000"/>
                                        <p:tgtEl>
                                          <p:spTgt spid="6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4" dur="2000"/>
                                        <p:tgtEl>
                                          <p:spTgt spid="6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9" dur="2000"/>
                                        <p:tgtEl>
                                          <p:spTgt spid="6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 txBox="1"/>
          <p:nvPr/>
        </p:nvSpPr>
        <p:spPr>
          <a:xfrm>
            <a:off x="-360" y="738000"/>
            <a:ext cx="4506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1 год обучения (5-6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1. Я и моя семь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2. Мои игрушк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3. Домашние живот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4. Дикие животны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5. Все цвета радуг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6. Овощи и фрук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7. Наша одеж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8. Времена года. По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9. Пища и посу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Gungsuh"/>
              </a:rPr>
              <a:t>10. Наш д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4427280" y="260280"/>
            <a:ext cx="5252760" cy="674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i="1" lang="ru-RU" sz="2800" spc="-1" strike="noStrike">
                <a:solidFill>
                  <a:srgbClr val="000099"/>
                </a:solidFill>
                <a:latin typeface="Arial"/>
              </a:rPr>
              <a:t>2 год обучения (6-7 лет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1. Наш город. Где мы живем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2. Виды транспорт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3. Мебель в дом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4. У доктора. Части тел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5. Личная гигиена и здоровье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6. Професси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7. Скоро в школу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8. Спорт. Глаголы движения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9. Наши праздники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Gungsuh"/>
              </a:rPr>
              <a:t>10. Телефонный разговор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4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8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9"/>
          <p:cNvSpPr/>
          <p:nvPr/>
        </p:nvSpPr>
        <p:spPr>
          <a:xfrm>
            <a:off x="4427640" y="620640"/>
            <a:ext cx="0" cy="623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WordArt 12"/>
          <p:cNvSpPr txBox="1"/>
          <p:nvPr/>
        </p:nvSpPr>
        <p:spPr>
          <a:xfrm>
            <a:off x="1476360" y="333360"/>
            <a:ext cx="6153120" cy="523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итуации учебного общен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 fill="hold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6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6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6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6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9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20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6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6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6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6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6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6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6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6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6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-360" y="3499920"/>
            <a:ext cx="6156360" cy="335772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Gungsuh"/>
              </a:rPr>
              <a:t>       </a:t>
            </a: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Предлагаемая вашему вниманию книга "Весёлые шаги"  открывает серию учебных пособий, предназначенных для проведения уроков иностранного  языка в период предварительного устного курса в детских садах, клубах, детских студиях, в подготовительных классах школ, гимназий и для занятий с детьми дома.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         </a:t>
            </a: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Пособие адресовано преподавателям иностранного языка, работающим с детьми пяти- семилетнего возраста, а также воспитателям детских садов, студентам педагогических университетов и родителям, владеющим основами иностранного языка; может быть использовано для индивидуальных и групповых занятий.</a:t>
            </a:r>
            <a:r>
              <a:rPr b="1" lang="ru-RU" sz="1600" spc="-1" strike="noStrike">
                <a:solidFill>
                  <a:srgbClr val="ffffff"/>
                </a:solidFill>
                <a:latin typeface="Gungsuh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7" name="Picture 6" descr="Веселые шаги: Обучаем дошкольников русскому языку как иностранному."/>
          <p:cNvPicPr/>
          <p:nvPr/>
        </p:nvPicPr>
        <p:blipFill>
          <a:blip r:embed="rId1"/>
          <a:stretch/>
        </p:blipFill>
        <p:spPr>
          <a:xfrm>
            <a:off x="6012000" y="2997360"/>
            <a:ext cx="2952720" cy="3744720"/>
          </a:xfrm>
          <a:prstGeom prst="rect">
            <a:avLst/>
          </a:prstGeom>
          <a:ln w="0">
            <a:noFill/>
          </a:ln>
        </p:spPr>
      </p:pic>
      <p:sp>
        <p:nvSpPr>
          <p:cNvPr id="698" name="Text Box 7"/>
          <p:cNvSpPr/>
          <p:nvPr/>
        </p:nvSpPr>
        <p:spPr>
          <a:xfrm>
            <a:off x="3708360" y="0"/>
            <a:ext cx="5651640" cy="2898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     </a:t>
            </a: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Авторская коммуникативно-игровая методика обучения русскому языку как иностранному является универсальной и может быть применена для изучения любого  неродного языка </a:t>
            </a:r>
            <a:r>
              <a:rPr b="1" lang="ru-RU" sz="1600" spc="-1" strike="noStrike">
                <a:solidFill>
                  <a:srgbClr val="000099"/>
                </a:solidFill>
                <a:latin typeface="Arial"/>
              </a:rPr>
              <a:t>на начальном этапе.</a:t>
            </a: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    </a:t>
            </a:r>
            <a:r>
              <a:rPr b="1" lang="ru-RU" sz="1600" spc="-1" strike="noStrike">
                <a:solidFill>
                  <a:srgbClr val="000099"/>
                </a:solidFill>
                <a:latin typeface="Gungsuh"/>
              </a:rPr>
              <a:t>Подробное описание КИМО, языковых игр, игр-упражнений, «точечного метода» изучения алфавита, коммуникативных песен, считалок, рифмовок и много другого полезного в работе по иностранному языку на начальном этапе можно найти в  книге О.Е. Сергеевой  «Веселые шаги»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WordArt 10"/>
          <p:cNvSpPr txBox="1"/>
          <p:nvPr/>
        </p:nvSpPr>
        <p:spPr>
          <a:xfrm>
            <a:off x="179280" y="115920"/>
            <a:ext cx="32482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Веселые шаги»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00" name="Text Box 11"/>
          <p:cNvSpPr/>
          <p:nvPr/>
        </p:nvSpPr>
        <p:spPr>
          <a:xfrm>
            <a:off x="0" y="1484280"/>
            <a:ext cx="3708360" cy="15858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еселые шаги: Обучаем дошкольников русскому языку как иностранном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втор: Сергеева О.Е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здательство: "Русский язык. Курсы"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од издания: 2005, страниц: 183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ISBN: 5-88337-069-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3000" fill="hold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4" dur="3000"/>
                                        <p:tgtEl>
                                          <p:spTgt spid="6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3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3000" fill="hold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3000"/>
                                        <p:tgtEl>
                                          <p:spTgt spid="6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3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000" fill="hold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3000"/>
                                        <p:tgtEl>
                                          <p:spTgt spid="6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30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3000" fill="hold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3000"/>
                                        <p:tgtEl>
                                          <p:spTgt spid="6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30T18:09:57Z</dcterms:created>
  <dc:creator>ОЛЯ</dc:creator>
  <dc:description/>
  <dc:language>en-US</dc:language>
  <cp:lastModifiedBy>777</cp:lastModifiedBy>
  <dcterms:modified xsi:type="dcterms:W3CDTF">2018-07-27T08:10:53Z</dcterms:modified>
  <cp:revision>50</cp:revision>
  <dc:subject/>
  <dc:title>Английский  для  малышей</dc:title>
</cp:coreProperties>
</file>