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chimes.wav" ContentType="audio/x-wav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7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AADB-D146-4BD8-9304-044FCD06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8844-9C32-4B0D-854B-F1BDCD3E5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B4859-35ED-4EAB-9B06-66893838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466DF-7BFB-4E61-9302-9DF05EE15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D6512-8C5B-4BBD-AA12-629774A2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67E2B-FD09-4EE5-BAD0-5D5CC265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32718-CFCB-40E2-B025-5450A11A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FF6E6D-81BC-424C-A074-7776DCEB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A2EBF-E7E5-4515-ADA1-EE9A2E1E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02C89D-84BF-47D1-8A88-10C3E0904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C027A-71DF-4985-B3E5-3F72B0893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4364CF-519A-47A2-8730-86E9D2CD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AD66-D1F4-4C6A-86E5-67FC3A9B6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C18F90-ED23-49EE-AE16-4C1B397C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AA964D-6639-4A4C-8CA3-F5EACE44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1865A-3BEF-4657-A4EA-8911AA2E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92A2A-62F6-4152-8E15-CA6C2719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980B8-2E5D-40D5-958F-7C374005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BF40E-549D-45ED-9835-86FE0F6D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037554-E119-48B3-9F55-63B10050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D89FE5-3BF5-4560-9DF8-E25C990D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EB54E-BEC6-4AA9-B18B-FE2F4DB2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0B3FAA-E034-4B25-8EE6-135999A2E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2945-9A10-4CA6-A35E-D989B0F9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EB139-C441-4447-B4BE-7BD03AF3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1EAB5-DCCE-4EBC-8151-5ED854844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B9BE6-1C5E-4432-92C3-D6F47F6E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B14BB-6FF9-4E3D-8D0D-B081967B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0F8799-D861-4E33-BA0C-3365F96C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3996D-5B8F-42A1-8087-C4005C9C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3FEC9-6849-40CE-9620-D9B71A01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87C5B-CFD1-4EE9-B03C-70A845DC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200DFB-84E0-4981-A959-F8ACFA6CA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AE13E8-A46B-45AB-BB50-5DCB8385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D1B61-6D89-4713-BCB2-5CEA0FAD4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205CE-927F-4D28-8B78-5C5D43EE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D81A0-9C8A-4C33-A912-D90043A7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8AE24-69A1-40AA-9E35-F988F8D3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F79B7-6C8E-415B-ADB7-7FA6E521F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DDC61B-6FB1-4EA7-A71F-6D3A935E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272DB7-F521-4C2C-AD4B-DC5BACB2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47909-AD7A-4C0B-9B2F-9C1BDFB4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2B99E-4996-4842-9F1A-76089294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6A1FC8-F0F5-46FB-B204-CC3C5255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C80E3-C9BC-43FD-823F-6AC54440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1B32-664D-4FF8-9F55-65C10E1F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C108C-0A1D-4867-9290-A346BD0A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03C806-C891-4AF1-8FC8-4B680D8C6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24393-E41E-4F94-B6FF-97B31017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0EEABA-CD3B-4F9B-95BE-D6082EEF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BB19D-C6B0-4A48-9355-F5B1ABFF4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2317F-06C1-49C8-B804-BB22D8D9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61F57-D5F9-4772-85FF-73A219CE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4229F8-BF4D-4168-9859-8CB405FC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FFD14A-1D5E-4CC6-BD1B-6D51B3A8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C4C06F-D0EF-4EE8-A7FA-B234559FE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1B42-EA9F-408F-B419-CCE715E82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93BF9-CB87-41CD-9553-71104741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00119E-2DB0-4B7B-9F1C-FE82BD0F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6267A-5772-41B8-BD07-9BC6A91E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D80B9A-A510-4275-9CD7-2551D0D8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C9B791-29D2-4FD8-B964-155910A5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CF8FF6-A3C0-47B3-81E7-509CEB797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42FF1C-30F1-43A7-B109-4CA69B2BF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BB53-5C2F-441F-AA12-C1D037A5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E165-C26F-4C6F-8C96-542BFF51B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4D0C-D217-42CD-BD24-D2881185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96A3-82D3-47F3-AFCC-F4D6C45B9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DE81-6C5B-48D7-AFBD-FD95189E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ECFE-3379-463F-9895-F331E91B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5FDC-4E10-4F64-8B77-6723DE42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15A2-29DC-4B37-96CD-47E6166D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34AA6-75D1-421E-8835-E8051F69C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6A9F-B6F7-4ECF-AC7B-75C7882B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69BE0-E028-4BA0-906C-0CA2A7CF3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C9B9D-617D-44AB-831E-386AB667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89A51-2ABC-431C-A493-7EFDC64D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C660B-15C3-4A1D-B613-EE1100CF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5FB55-0A89-4C63-9EA1-038D0FFB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4B27-7821-4813-94C1-4FBE4E0A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07377-BDCD-4380-91E5-A2A36EC3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768BD-F39A-4BC7-9246-9F9C2003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01698-E4C8-49C9-B6EA-29931E46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D64E7-D984-4261-A33B-A7B85A50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98BA0-BA41-46A5-9BD4-CA3ED8CE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99C0C-C170-4C42-82E0-7BD03E268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95104-B736-4391-9097-B90A415C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3F2CA-CE3E-4D8D-A068-89140465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89097-67BE-41DD-BB24-140A5917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E6CBA-2B6B-42EC-A2E5-BE7EA1C8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3CD1-5EF3-479F-9145-47758635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28C50-CA87-418A-8924-6DDE1F38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51EC4-49D0-4C49-9D91-178D9537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ABEE2-58B6-4820-8219-9110AB0E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85543-AAAF-4970-81FD-5452C188F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E501E-3B68-4318-9E91-A808DBD1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0F1D6-9FE9-4F3F-A821-FFA9F1A2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F3EFD-BB19-48DF-8B54-93384BFE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76970-2714-4857-BA89-0EAA446CB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7D1FA-74A2-489C-B50B-21CE88934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2CA48-C815-44EE-8816-160965B3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4EB3-F0E9-4E8D-B530-DC25D6CCD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FF1E2-DFF8-4797-8FA1-4FB092A6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531AD-6824-4D87-B89E-65D0E62F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5E826-8C6E-402A-8798-71C68C7C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BA550-68A6-4B3C-949F-EE3AAB02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2CA79-6D96-43A4-9AB5-4E062813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55322-6F5F-4B2C-8E6F-8D9D02D7A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859A0-6E01-4758-B710-24C86A59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5DCBF-07DE-4176-B45F-87CA0366F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D9709-1CA6-4B69-AC95-89B4105F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94AF9-074F-4BCD-8304-60538F05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9775-43E9-4478-872C-7124B0A0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529E8-7723-4BCB-9221-682A15648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570A3-DFBA-4B99-935D-45F7959F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3D4E8-F034-4E36-B880-3925473A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F3C35-378D-44AE-9E05-2EF30AAB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D5BDD-8A61-4EAC-87C2-F2683E30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119B5-D12E-43AC-8D40-B3D9CCB1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F6331-75BC-46C7-B9A6-70CA61CE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F2121-8199-4858-8262-ACA8F387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AF62B-4DD0-43AE-8C0F-B3B7AD02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650F9-B52C-44FA-9D93-81E64D10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BCF7-2918-498D-A68E-9612B8BA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B730B-58BE-4C34-9681-CF3077F3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9FFCF-1BD4-4D36-A6A8-4BB90FA7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FE17A-A80C-4302-BEEE-1F4D1669B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38AE8-1EC0-4529-BE58-DC9489053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B4A40-5467-4910-B53C-F58B99B4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B322F-24AB-48A3-A908-2A95C659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CF97D-A55A-4019-A496-F1BD8992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A4E87-460E-4839-A5FA-6F821D5CA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47BD8-DAB7-478D-A70E-E29F7FF2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404B1-6936-4D21-A62B-65AFB9BD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CEF3-3A50-4F35-819C-E865E5A6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ABFFB-FFB1-44A3-BC70-6662B1D6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1594F-2BA0-4AE3-AD6A-AE26326B4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BDFE4-F580-4C4E-96EB-715D2659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11FC2-2F94-431C-B753-5AE784A3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8DA10-9480-4092-A693-C52DCBC2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509A9-F4D8-4ECB-AEFE-A59EE3565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A0B864-71DB-47B3-87F1-0135DCF84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894FD-A118-490F-B964-D1DE7BA8C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5BCDF-3027-40C1-9773-BA9B8E83E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36F0B-46A7-492E-ACBA-A5E70ECC9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F2EB-68B7-463D-97A0-FE58B0CC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F7A01-0199-47CD-85BA-A7FB4B17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D1254-99E4-4B60-BA77-8CAF8CFD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76521-996A-4AB2-A6D9-D301F1C8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6A1CBC-D7EA-4850-AD06-191297730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4006C-7CF2-4FC7-AE8B-975F59F6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0B3D83-ECC8-45C0-9C42-4C7D9D293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34541-D6D9-4D4C-A509-3933EFEA9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BE7110-520D-49DB-AC2C-DEDF32FB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97D506-0F23-482B-95F7-9D79DEEB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03FCE-C7B9-49E7-8771-4E2CC8F7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80D8-5226-4FC8-AEDF-C7710BF485F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C1D3-0F1A-4343-BEC2-D400F652DB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8001-602E-47D2-BFF5-ABD43AB2A2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3E12-A669-4C75-BB86-C960FC19F3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86ED-3144-4B21-8D60-AC5F248875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D859-7538-4254-8D68-01331F2DBF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D559-688B-4A57-AE52-E962638574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150E-90B8-4A68-9931-03A30D7A5B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8FFD-DBD2-4964-93FA-BC05AAE3225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6E96-9A00-44AF-A8B0-BDCAFA6020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5375-69C5-489D-A77C-0597048688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060A-37AF-49F0-AEB7-2E25BED41E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1706-3619-438F-AEA7-737BED5A9C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WordArt 10"/>
          <p:cNvSpPr txBox="1"/>
          <p:nvPr/>
        </p:nvSpPr>
        <p:spPr>
          <a:xfrm>
            <a:off x="1042920" y="115920"/>
            <a:ext cx="7201080" cy="39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7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3" name="WordArt 11"/>
          <p:cNvSpPr txBox="1"/>
          <p:nvPr/>
        </p:nvSpPr>
        <p:spPr>
          <a:xfrm>
            <a:off x="0" y="428760"/>
            <a:ext cx="914400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иды языковых и коммуникативных и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обучения иностранному язы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школьников и младших шк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4" name="TextBox 4"/>
          <p:cNvSpPr/>
          <p:nvPr/>
        </p:nvSpPr>
        <p:spPr>
          <a:xfrm>
            <a:off x="214200" y="464328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4574"/>
                </a:solidFill>
                <a:latin typeface="Arial"/>
              </a:rPr>
              <a:t>Как научить дошкольников и младших школьников основам неродного языка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686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-   Коммуникативно-игровая методика обучения (КИМО) иностранному языку предполагает проведение занятий, полностью состоящих  из различных видов игр, плавно переходящих одна в другую и сопровождающихся комментариями на изучаемом языке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-    Предложенная оптимальная схема занятия с  детьми дошкольного и младшего школьного возраста с учетом коммуникативной направленности обучения и рационального распределения учебного времени позволяет избежать педагогического давления и переутомления учащихся на урок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-    КИМО возможно применять не только на уроках с дошкольниками и младшими школьниками, но его элементы оживят работу по иностранному языку и в более старшей аудито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WordArt 9"/>
          <p:cNvSpPr txBox="1"/>
          <p:nvPr/>
        </p:nvSpPr>
        <p:spPr>
          <a:xfrm>
            <a:off x="3419640" y="189000"/>
            <a:ext cx="1742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1116000" y="-360"/>
            <a:ext cx="8028000" cy="5373720"/>
          </a:xfrm>
          <a:prstGeom prst="rect">
            <a:avLst/>
          </a:prstGeom>
          <a:solidFill>
            <a:srgbClr val="003e6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ww.cambridge.org/elt/play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oofs2@transit.samara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www.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yground.ru/new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www.corncoolio.narod.ru/nashe/gistology/metoda/11.h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www.el.uz/cgi-bin/product.cgi?r=3&amp;p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www.coolpics.ru/new.9.h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www.Referatik.Ru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WordArt 10"/>
          <p:cNvSpPr txBox="1"/>
          <p:nvPr/>
        </p:nvSpPr>
        <p:spPr>
          <a:xfrm rot="5400000">
            <a:off x="-2381400" y="2705040"/>
            <a:ext cx="59342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спользованные источн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031000"/>
          </a:xfrm>
          <a:prstGeom prst="rect">
            <a:avLst/>
          </a:prstGeom>
          <a:solidFill>
            <a:srgbClr val="8ed1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Определить цели  обучения  английскому  языку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в  раннем  возрас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Рассмотреть особенности  преподава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неродного языка на начальном этап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Рассказать о КИМО (коммуникативно-игро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методике) как эффективном и универсаль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средстве обучения иностранному язы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Показать специфическую структуру урока 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иностранному языку для младших школьников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WordArt 13"/>
          <p:cNvSpPr txBox="1"/>
          <p:nvPr/>
        </p:nvSpPr>
        <p:spPr>
          <a:xfrm>
            <a:off x="179280" y="189000"/>
            <a:ext cx="10861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Ц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67" name="WordArt 17"/>
          <p:cNvSpPr txBox="1"/>
          <p:nvPr/>
        </p:nvSpPr>
        <p:spPr>
          <a:xfrm>
            <a:off x="179280" y="1341360"/>
            <a:ext cx="164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адачи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68" name="WordArt 22"/>
          <p:cNvSpPr txBox="1"/>
          <p:nvPr/>
        </p:nvSpPr>
        <p:spPr>
          <a:xfrm>
            <a:off x="1692360" y="189000"/>
            <a:ext cx="676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следовать методы и приемы работы с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9" name="WordArt 23"/>
          <p:cNvSpPr txBox="1"/>
          <p:nvPr/>
        </p:nvSpPr>
        <p:spPr>
          <a:xfrm>
            <a:off x="2268360" y="765000"/>
            <a:ext cx="584064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ладшими школьниками по иностранному языку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0" name="Picture 24" descr="blest20[1]"/>
          <p:cNvPicPr/>
          <p:nvPr/>
        </p:nvPicPr>
        <p:blipFill>
          <a:blip r:embed="rId1"/>
          <a:stretch/>
        </p:blipFill>
        <p:spPr>
          <a:xfrm>
            <a:off x="8115480" y="5589720"/>
            <a:ext cx="1028520" cy="10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229600" cy="4525920"/>
          </a:xfrm>
          <a:prstGeom prst="rect">
            <a:avLst/>
          </a:prstGeom>
          <a:solidFill>
            <a:srgbClr val="0066a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ение второму языку в раннем возрасте, когда дети еще не умеют читать и писать, преследует практические и образовательно-воспитательные ц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ческая  цель состоит в том, чтобы научить детей основам речевой деятельности на  неродном языке в устной фор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ой образовательно-воспитательной целью обучения неродном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ык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 начальном  этапе выступает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ичностное  развитие  каждого ребёнка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ствами  второго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иностранного языка в раннем возрасте благотворно влияет на психическое, эмоциональное и творческое развитие ребе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ение дошкольников и младших школьников основам  иностранного  языка является отправной точкой для дальнейшей более углубленной  работы над язык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WordArt 7"/>
          <p:cNvSpPr txBox="1"/>
          <p:nvPr/>
        </p:nvSpPr>
        <p:spPr>
          <a:xfrm>
            <a:off x="250920" y="476280"/>
            <a:ext cx="694836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Цели  обучения  иностранному  языку  в  раннем  возраст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6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-360" y="2491920"/>
            <a:ext cx="8893080" cy="4815000"/>
          </a:xfrm>
          <a:prstGeom prst="rect">
            <a:avLst/>
          </a:prstGeom>
          <a:solidFill>
            <a:srgbClr val="004e8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            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Усвоение устной иноязычной  речи дошкольниками зависит о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их </a:t>
            </a:r>
            <a:r>
              <a:rPr b="1" i="1" lang="ru-RU" sz="1800" spc="-1" strike="noStrike">
                <a:solidFill>
                  <a:srgbClr val="ffffff"/>
                </a:solidFill>
                <a:latin typeface="Gungsuh"/>
              </a:rPr>
              <a:t>желания 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общаться с окружающими сверстниками и взрослым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говорящими на неродном язы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На занятиях с дошкольниками и младшими школьниками следует  разыгрывать реальные и необычные нереальные ситуации с обычными неодушевленными предметами, необходимо присутствие элемента сказки, веселья и балов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          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В процессе обучения общению на  неродном языке следует использовать интересные детям необычные ситуации, приключения игрушек и книжек, дополнительную увлекательную информац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         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Для  знакомства с английской культурой и традициями следует разучивать и инсценировать стихи, песни, скороговорки и сказки на изучаемом язы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         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Для воссоздания национального колорита необходим специально оформленный кабинет с большим количеством фотографий, сувениров, репродукций картин, наборами книг на изучаемом языке. В нем также должны быть средства для организации творческих и практически-прикладных детских работ (карандаши, цветная бумага, пластилин, книжки-раскраски). В кабинете должны находится всевозможные средства ТСО (магнитофон, проектор, видеомагнитофон, наборы  аудио и видео кассет) для интенсификации процесса ознакомления с новым материалом и закрепления пройденно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WordArt 13"/>
          <p:cNvSpPr txBox="1"/>
          <p:nvPr/>
        </p:nvSpPr>
        <p:spPr>
          <a:xfrm>
            <a:off x="3276720" y="189000"/>
            <a:ext cx="532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latin typeface="Arial"/>
              </a:rPr>
              <a:t>Особенности  методики  преподавания 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6" name="WordArt 14"/>
          <p:cNvSpPr txBox="1"/>
          <p:nvPr/>
        </p:nvSpPr>
        <p:spPr>
          <a:xfrm>
            <a:off x="2340000" y="981000"/>
            <a:ext cx="655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остранного языка   на  начальном  этап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6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6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6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6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6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600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6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600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600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600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6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8013960" cy="5300640"/>
          </a:xfrm>
          <a:prstGeom prst="rect">
            <a:avLst/>
          </a:prstGeom>
          <a:solidFill>
            <a:srgbClr val="005c9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Коммуникативно-игровой метод обучения (КИМО) предусматривает особую структуру  проведения занятий по иностранному языку, рассчитанную  на органическое включение различных видов игр и игровых упражнений в учебный процес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С помощью игр на уроке для маленьких – «языковом шаге» создаются проблемные ситуации, которые моделируют процесс реальной коммуник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Созданная система упражнений позволяет с начала этапа презентации языкового материала обучать устной речи в благоприятных для учащегося психологических условиях, развивать его самостоятельность, инициативность, активность и гибкость речи, а также необходимые для коммуниканта качества – волю, внимание, вообра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В качестве средств обучения по КИМО рекомендуется использование на занятиях современные обучающие технологии и подключение различных аудиовизуальных комплексов и невербальных средств общения с учетом возраста и языковых возможностей учащихся через различные языковые  иг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При обучении детей коммуникативно-игровым методом следует учитывать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а) принцип новизны и интереса учащихся к вводимому материалу; б) принцип обучения через </a:t>
            </a:r>
            <a:r>
              <a:rPr b="0" i="1" lang="ru-RU" sz="1600" spc="-1" strike="noStrike">
                <a:solidFill>
                  <a:srgbClr val="ffffff"/>
                </a:solidFill>
                <a:latin typeface="Gungsuh"/>
              </a:rPr>
              <a:t>стандартные речевые конструкции,</a:t>
            </a: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 которые могли бы легко комбинироваться для выражения тех мыслей, которые впервые или  повторно возникают в голове у  учащего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«Точечный  приём»  обучения иностранному алфавиту предполагает знакомство учащихся с элементами  письма на 2 году обучения неродному язы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WordArt 10"/>
          <p:cNvSpPr txBox="1"/>
          <p:nvPr/>
        </p:nvSpPr>
        <p:spPr>
          <a:xfrm>
            <a:off x="684360" y="0"/>
            <a:ext cx="7848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ммуникативно-игровая методика (КИМО)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80" name="WordArt 11"/>
          <p:cNvSpPr txBox="1"/>
          <p:nvPr/>
        </p:nvSpPr>
        <p:spPr>
          <a:xfrm rot="186600">
            <a:off x="2050560" y="836640"/>
            <a:ext cx="51865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7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инструмент  обучения неродному языку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7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6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6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1. Создание языковой атмосферы и мимическая размин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2. Фонетическая зарядка (с отработкой знаков транскрипции) и фонетические игр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3. Закрепление ранее пройденного материала с одновременным контролем того, как он понят и усвоен деть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4. Проведение смоделированных игр-упражнений для активизации речевой дея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5. Гимнастика-физкультминутка при словесном или музыкальном сопровожден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6. Представление нового  материала, обязательные игры-упражнения на употребление новых слов и фраз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7. Подвижная игра со словесным сопровождением на английском язык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8. Шуточное подведение итогов урока и прощание на  изучаемом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 </a:t>
            </a: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язы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2" name="Picture 4" descr="lines23[1]"/>
          <p:cNvPicPr/>
          <p:nvPr/>
        </p:nvPicPr>
        <p:blipFill>
          <a:blip r:embed="rId1"/>
          <a:stretch/>
        </p:blipFill>
        <p:spPr>
          <a:xfrm>
            <a:off x="1763640" y="4437000"/>
            <a:ext cx="5472360" cy="360360"/>
          </a:xfrm>
          <a:prstGeom prst="rect">
            <a:avLst/>
          </a:prstGeom>
          <a:ln w="0">
            <a:noFill/>
          </a:ln>
        </p:spPr>
      </p:pic>
      <p:sp>
        <p:nvSpPr>
          <p:cNvPr id="683" name="WordArt 7"/>
          <p:cNvSpPr txBox="1"/>
          <p:nvPr/>
        </p:nvSpPr>
        <p:spPr>
          <a:xfrm>
            <a:off x="1979640" y="189000"/>
            <a:ext cx="684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труктура урока иностранного языка –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84" name="WordArt 8"/>
          <p:cNvSpPr txBox="1"/>
          <p:nvPr/>
        </p:nvSpPr>
        <p:spPr>
          <a:xfrm>
            <a:off x="2050920" y="981000"/>
            <a:ext cx="648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«языкового шага» для дошк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6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6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6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6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2286000" y="15526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7"/>
          <p:cNvSpPr/>
          <p:nvPr/>
        </p:nvSpPr>
        <p:spPr>
          <a:xfrm>
            <a:off x="0" y="1822320"/>
            <a:ext cx="698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коммуникативно-игровой  методике  обучения следует  использовать следующие  виды  иг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южетно-ролевые игры («Магазин», «У доктора», «Летнее кафе», «Экскурсия по зоопарку», «Веселые зверушки») и т.п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ольно-печатные (лото, домино, путеводители, морские путешествия) и т.п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мимические игры (изображение предм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животных с помощью мимики и жестов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ьчиковые игры (сопровождение стихов и песен кодированными движениями пальцев рук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нитные игры с фруктами, овощами, цифр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намичные (подвижные) иг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8" name="Picture 9" descr="av-534[1]"/>
          <p:cNvPicPr/>
          <p:nvPr/>
        </p:nvPicPr>
        <p:blipFill>
          <a:blip r:embed="rId1"/>
          <a:stretch/>
        </p:blipFill>
        <p:spPr>
          <a:xfrm>
            <a:off x="6588000" y="3789360"/>
            <a:ext cx="2556000" cy="3068640"/>
          </a:xfrm>
          <a:prstGeom prst="rect">
            <a:avLst/>
          </a:prstGeom>
          <a:ln w="0">
            <a:noFill/>
          </a:ln>
        </p:spPr>
      </p:pic>
      <p:sp>
        <p:nvSpPr>
          <p:cNvPr id="689" name="WordArt 11"/>
          <p:cNvSpPr txBox="1"/>
          <p:nvPr/>
        </p:nvSpPr>
        <p:spPr>
          <a:xfrm>
            <a:off x="1222200" y="476280"/>
            <a:ext cx="79218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как главный методический прием обуче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0" name="WordArt 12"/>
          <p:cNvSpPr txBox="1"/>
          <p:nvPr/>
        </p:nvSpPr>
        <p:spPr>
          <a:xfrm>
            <a:off x="2771640" y="1197000"/>
            <a:ext cx="597564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школьников и младших шк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20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2000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2000"/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2000"/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2000"/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2000"/>
                                        <p:tgtEl>
                                          <p:spTgt spid="6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2000"/>
                                        <p:tgtEl>
                                          <p:spTgt spid="6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9" dur="2000"/>
                                        <p:tgtEl>
                                          <p:spTgt spid="6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-360" y="738000"/>
            <a:ext cx="4506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1 год обучения (5-6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1. Я и моя сем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2. Мои игруш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3. Домашние живот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4. Дикие живот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5. Все цвета раду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6. Овощи и фрук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7. Наша одеж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8. Времена года. По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9. Пища и посу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10. Наш 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427280" y="260280"/>
            <a:ext cx="5252760" cy="67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2 год обучения (6-7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1. Наш город. Где мы живе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2. Виды транспор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3. Мебель в дом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4. У доктора. Части тел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5. Личная гигиена и здоровь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6. Професс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7. Скоро в школ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8. Спорт. Глаголы движ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9. Наши праздник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10. Телефонный разгово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8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9"/>
          <p:cNvSpPr/>
          <p:nvPr/>
        </p:nvSpPr>
        <p:spPr>
          <a:xfrm>
            <a:off x="4427640" y="620640"/>
            <a:ext cx="0" cy="6237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WordArt 12"/>
          <p:cNvSpPr txBox="1"/>
          <p:nvPr/>
        </p:nvSpPr>
        <p:spPr>
          <a:xfrm>
            <a:off x="1476360" y="333360"/>
            <a:ext cx="61531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туации учебного общ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-360" y="3499920"/>
            <a:ext cx="6156360" cy="33577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Gungsuh"/>
              </a:rPr>
              <a:t>       </a:t>
            </a:r>
            <a:r>
              <a:rPr b="1" lang="ru-RU" sz="1600" spc="-1" strike="noStrike">
                <a:solidFill>
                  <a:srgbClr val="000099"/>
                </a:solidFill>
                <a:latin typeface="Gungsuh"/>
              </a:rPr>
              <a:t>Предлагаемая вашему вниманию книга "Весёлые шаги"  открывает серию учебных пособий, предназначенных для проведения уроков иностранного  языка в период предварительного устного курса в детских садах, клубах, детских студиях, в подготовительных классах школ, гимназий и для занятий с детьми дома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Gungsuh"/>
              </a:rPr>
              <a:t>         </a:t>
            </a:r>
            <a:r>
              <a:rPr b="1" lang="ru-RU" sz="1600" spc="-1" strike="noStrike">
                <a:solidFill>
                  <a:srgbClr val="000099"/>
                </a:solidFill>
                <a:latin typeface="Gungsuh"/>
              </a:rPr>
              <a:t>Пособие адресовано преподавателям иностранного языка, работающим с детьми пяти- семилетнего возраста, а также воспитателям детских садов, студентам педагогических университетов и родителям, владеющим основами иностранного языка; может быть использовано для индивидуальных и групповых занятий.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7" name="Picture 6" descr="Веселые шаги: Обучаем дошкольников русскому языку как иностранному."/>
          <p:cNvPicPr/>
          <p:nvPr/>
        </p:nvPicPr>
        <p:blipFill>
          <a:blip r:embed="rId1"/>
          <a:stretch/>
        </p:blipFill>
        <p:spPr>
          <a:xfrm>
            <a:off x="6012000" y="2997360"/>
            <a:ext cx="2952720" cy="374472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7"/>
          <p:cNvSpPr/>
          <p:nvPr/>
        </p:nvSpPr>
        <p:spPr>
          <a:xfrm>
            <a:off x="3708360" y="0"/>
            <a:ext cx="5651640" cy="2898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Gungsuh"/>
              </a:rPr>
              <a:t>     </a:t>
            </a:r>
            <a:r>
              <a:rPr b="1" lang="ru-RU" sz="1600" spc="-1" strike="noStrike">
                <a:solidFill>
                  <a:srgbClr val="000099"/>
                </a:solidFill>
                <a:latin typeface="Gungsuh"/>
              </a:rPr>
              <a:t>Авторская коммуникативно-игровая методика обучения русскому языку как иностранному является универсальной и может быть применена для изучения любого  неродного языка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а начальном этапе.</a:t>
            </a:r>
            <a:r>
              <a:rPr b="1" lang="ru-RU" sz="1600" spc="-1" strike="noStrike">
                <a:solidFill>
                  <a:srgbClr val="000099"/>
                </a:solidFill>
                <a:latin typeface="Gungsuh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Gungsuh"/>
              </a:rPr>
              <a:t>    </a:t>
            </a:r>
            <a:r>
              <a:rPr b="1" lang="ru-RU" sz="1600" spc="-1" strike="noStrike">
                <a:solidFill>
                  <a:srgbClr val="000099"/>
                </a:solidFill>
                <a:latin typeface="Gungsuh"/>
              </a:rPr>
              <a:t>Подробное описание КИМО, языковых игр, игр-упражнений, «точечного метода» изучения алфавита, коммуникативных песен, считалок, рифмовок и много другого полезного в работе по иностранному языку на начальном этапе можно найти в  книге О.Е. Сергеевой  «Веселые шаг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WordArt 10"/>
          <p:cNvSpPr txBox="1"/>
          <p:nvPr/>
        </p:nvSpPr>
        <p:spPr>
          <a:xfrm>
            <a:off x="179280" y="115920"/>
            <a:ext cx="3248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Веселые шаги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0" name="Text Box 11"/>
          <p:cNvSpPr/>
          <p:nvPr/>
        </p:nvSpPr>
        <p:spPr>
          <a:xfrm>
            <a:off x="0" y="1484280"/>
            <a:ext cx="3708360" cy="15858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селые шаги: Обучаем дошкольников русскому языку как иностранном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втор: Сергеева О.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дательство: "Русский язык. Курсы"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д издания: 2005, страниц: 183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ISBN: 5-88337-069-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30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0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30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30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30T18:09:57Z</dcterms:created>
  <dc:creator>ОЛЯ</dc:creator>
  <dc:description/>
  <dc:language>en-US</dc:language>
  <cp:lastModifiedBy>777</cp:lastModifiedBy>
  <dcterms:modified xsi:type="dcterms:W3CDTF">2018-07-27T08:10:53Z</dcterms:modified>
  <cp:revision>50</cp:revision>
  <dc:subject/>
  <dc:title>Английский  для  малышей</dc:title>
</cp:coreProperties>
</file>