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1320-657B-413A-AB03-016DB002A3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5ECD-BC2C-4A8D-9368-158111FA41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резентация подготовлена для проведения урока « Общая характеристика неметаллов » в 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лассе по теме «Неметаллы». Служит для иллюстрации  речи учител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3088-AB74-4F51-9A12-EFF2E651CA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подготовлена для проведения урока « Общая характеристика неметаллов » в 9 классе по 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Неметаллы ». Служит для индивидуальной речи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E53D-A170-49C6-AC90-4884423736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12C9-23DA-41AD-A251-4E3DF9FD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B666-825E-4B94-AE98-68D186ED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9739-D613-47CF-9D1C-1B3A01C6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56E-ACD7-443A-AF09-FF314ABC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5169-DDB4-4E17-BFA6-3FA27129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0C5E-507D-4543-8379-C8A17DC5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5CB7-EB37-42F3-A7F8-F6CE0D68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1FFD-3C32-4698-8B38-C728157A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35EA-2D44-458C-8242-1396AA56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81BD-FF1C-4570-ABC6-42759175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03EE-2B57-425E-8186-F7B86980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9C5A-68F7-4DB7-AADA-DB203AFD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6DA7-DF8B-4A93-A9B0-57500F58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C309-B440-4DCB-BDA8-6B7DFE96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25F8-3486-4339-BFFC-45DF83BA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8FA0-F0C3-49DB-9DEE-7B13394F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01C7-7105-4A21-8CED-A22B4D82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767A7-055D-45A8-BCF0-7B5B6504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C9860-92B0-4D2D-B330-978385B9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44ACB-BAA1-4D63-8E11-4E901EB0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1A78A-6290-469D-A420-BE426B60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C413F-3ECF-4597-9EF2-A4936A98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E103-E54F-4FA2-BB1B-89FE8D1B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174BD-D1CE-4C51-B254-6850BAD8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4E158-0419-45BE-9B88-765680FC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2B9BC-8A90-4BA7-BB25-02FE9DD1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D7CAA-7160-485C-96E5-7CC91B22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87B04-9FE3-4BBE-B9D7-503B8C84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80658-05D2-4739-AB8A-D22ABBEC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9EC72-2BA0-40AE-AC59-37A00384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BC9EB-87A7-4EC4-98D8-5F1994B1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59B7E-BF1C-4557-9DEF-2210B5E3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286D2-71A0-4FCE-B38E-96DCC29E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34A-4E28-4132-9D8C-057FB6F9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409C6-7292-4745-93D5-9DEEB3F7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A3629-CB37-41AE-878A-F0B1FEDE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96AB0-BDB3-445F-97E1-517A4FFE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73F28-8516-4617-9D0B-59CDC054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1BE00-3531-471B-9996-5DEAD6E6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68F9-6440-44D5-A28F-ED81F798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816FA-F515-4491-BF3E-5E3B61D9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EF73F-AA69-4D59-BC8B-8B8A6091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CBABF-053C-48A0-B403-28B9CF52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D14A7-FB08-4EC6-89F0-B418D1BB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05D9-F511-4F46-AFCC-9C5088F2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300A6-5935-49B9-8FC8-272FF945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AE657-7062-43EF-90FD-AAFDF97B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EA9B8-7568-4198-934E-A6F19B1C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1F673-0562-426B-BEF0-27E5456F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ACF32-87B4-44AB-A32E-789D8064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6C8DE-68F5-4D9A-85D3-A98AAA39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581E4-9F42-4DE6-AE21-83662375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60490-5557-488B-9A57-37661FC6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D0CEF-3B5A-45FB-ACBC-41AFDF2E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11116-A597-43A2-9C1C-2B46286D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545B-5467-4CBC-AFC9-E81EDE31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4FB9E-A09C-4811-8298-8DD43B39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8876F-98AE-4152-8E0E-47A4938F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553F9-A482-4E86-A534-F993970D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0D837-2A21-4075-9E53-636C5869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12B19-E872-4BAD-B416-61E2A43A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E67F3-CD01-4354-AC33-5D70E3B3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64CF5-E656-485A-B909-D1BA4A63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CAB81-8993-471A-84C1-3D1E640E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78400-E1E4-4F03-BD5E-2F87B700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A10AC-497A-4B1A-9C7E-B4F0DF40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23C-DE73-47A1-A2A2-98E683A4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BD031-C11C-4644-879B-B8FDDC5E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3DD0C-7A77-44BF-A25D-EB1C86AB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BED44-EBEC-48C2-BA47-6CAA835D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25BDA-67BD-40A3-B61A-E82B21E6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4A3C0-4885-4F57-912F-75CB5279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8D5F6-DA4E-40D3-BAEA-8CA52AA9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F940C-AE56-49DF-94FA-07EF1746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69419-062F-47E7-9ABE-82905189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6F1F5-D5D3-4EC2-A4E0-1906BD35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94719-88B2-4B66-A0A9-C12215C1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7A33-CC7E-454C-96D7-DA6D3E06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CD4A1-13C2-4513-80B7-D7AC2825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4C34D-7F6D-4591-9AEA-C5D66C92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79D4F-F907-42AC-BFEA-36E08E07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C44BB-0001-42D4-8147-44E002D7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25D62-388A-41FE-A6E8-CD557AB3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594-E263-416B-B173-0B0C817B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CBD5-8755-462F-8ACE-7EFBD152AF9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285C-CF9B-4F5A-9D1E-D752E58AFC6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DBAF-6740-4361-8D3E-3E068FF0F0D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B6FD-907B-4E5F-8B6B-82E97E2B49C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4496-CEF6-4A4F-808C-77BB1299433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3074-0A9D-4167-B118-0C0B6C9AC70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6605-F397-40CF-AA63-E46B05D5E96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2627280" y="4941360"/>
            <a:ext cx="5113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Учитель химии МБОУ Богатищевская СОШ Притуло Т.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TextBox 2"/>
          <p:cNvSpPr/>
          <p:nvPr/>
        </p:nvSpPr>
        <p:spPr>
          <a:xfrm>
            <a:off x="1692360" y="1773360"/>
            <a:ext cx="61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2e65"/>
                </a:solidFill>
                <a:latin typeface="Arial"/>
              </a:rPr>
              <a:t>Аллотропные видоизменения кислород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33ccff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ndara"/>
              </a:rPr>
              <a:t>Нахождение в природе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360" y="141264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4000" spc="-1" strike="noStrike" baseline="-25000">
                <a:solidFill>
                  <a:srgbClr val="073e87"/>
                </a:solidFill>
                <a:latin typeface="Candara"/>
              </a:rPr>
              <a:t>2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оздух – 21% по объёму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23%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масс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765320" y="1412640"/>
            <a:ext cx="382284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                 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4000" spc="-1" strike="noStrike" baseline="-25000">
                <a:solidFill>
                  <a:srgbClr val="073e87"/>
                </a:solidFill>
                <a:latin typeface="Candara"/>
              </a:rPr>
              <a:t>3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тмосфера (верхний слой) – озоновый экран Земл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6" name="Picture 5" descr="ru_60"/>
          <p:cNvPicPr/>
          <p:nvPr/>
        </p:nvPicPr>
        <p:blipFill>
          <a:blip r:embed="rId1"/>
          <a:stretch/>
        </p:blipFill>
        <p:spPr>
          <a:xfrm>
            <a:off x="468360" y="3789360"/>
            <a:ext cx="3816360" cy="2481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earth_27"/>
          <p:cNvPicPr/>
          <p:nvPr/>
        </p:nvPicPr>
        <p:blipFill>
          <a:blip r:embed="rId2"/>
          <a:stretch/>
        </p:blipFill>
        <p:spPr>
          <a:xfrm>
            <a:off x="4788000" y="3789360"/>
            <a:ext cx="3529080" cy="2432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33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611280" y="1557360"/>
            <a:ext cx="76802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4000" spc="-1" strike="noStrike" baseline="-25000">
                <a:solidFill>
                  <a:srgbClr val="073e87"/>
                </a:solidFill>
                <a:latin typeface="Candara"/>
              </a:rPr>
              <a:t>2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4000" spc="-1" strike="noStrike" baseline="-25000">
                <a:solidFill>
                  <a:srgbClr val="073e87"/>
                </a:solidFill>
                <a:latin typeface="Candara"/>
              </a:rPr>
              <a:t>3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 = О                          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еполярная                                              полярн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M</a:t>
            </a:r>
            <a:r>
              <a:rPr b="0" lang="en-US" sz="2400" spc="-1" strike="noStrike" baseline="-25000">
                <a:solidFill>
                  <a:srgbClr val="073e87"/>
                </a:solidFill>
                <a:latin typeface="Candara"/>
              </a:rPr>
              <a:t>r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= 32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M</a:t>
            </a:r>
            <a:r>
              <a:rPr b="0" lang="en-US" sz="2400" spc="-1" strike="noStrike" baseline="-25000">
                <a:solidFill>
                  <a:srgbClr val="073e87"/>
                </a:solidFill>
                <a:latin typeface="Candara"/>
              </a:rPr>
              <a:t>r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= 48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стойчив                                                 неустойчи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ndara"/>
              </a:rPr>
              <a:t>Строение молекулы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-54144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AutoShape 18"/>
          <p:cNvCxnSpPr>
            <a:stCxn id="378" idx="2"/>
            <a:endCxn id="378" idx="2"/>
          </p:cNvCxnSpPr>
          <p:nvPr/>
        </p:nvCxnSpPr>
        <p:spPr>
          <a:xfrm>
            <a:off x="4451040" y="662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382" name="Picture 26" descr=""/>
          <p:cNvPicPr/>
          <p:nvPr/>
        </p:nvPicPr>
        <p:blipFill>
          <a:blip r:embed="rId1"/>
          <a:stretch/>
        </p:blipFill>
        <p:spPr>
          <a:xfrm>
            <a:off x="5867280" y="2575080"/>
            <a:ext cx="1182960" cy="81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3" dur="20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20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200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33ccff"/>
            </a:gs>
            <a:gs pos="100000">
              <a:srgbClr val="ff99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ndara"/>
              </a:rPr>
              <a:t>Физические свойства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14200" y="785880"/>
          <a:ext cx="8626680" cy="6072120"/>
        </p:xfrm>
        <a:graphic>
          <a:graphicData uri="http://schemas.openxmlformats.org/drawingml/2006/table">
            <a:tbl>
              <a:tblPr/>
              <a:tblGrid>
                <a:gridCol w="2874960"/>
                <a:gridCol w="2876760"/>
                <a:gridCol w="28749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а(н.у.)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о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регатное состояни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з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з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            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ый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х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запах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х свежест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3 г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4 г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воримость в вод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раство -рим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 растворим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чность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оксиче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че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33ccff"/>
            </a:gs>
            <a:gs pos="100000">
              <a:srgbClr val="ff99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Химические свойств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250920" y="1413000"/>
            <a:ext cx="41767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ru-RU" sz="4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ьный окислитель, но не окисляет Au и Pt, окисляет многие металлы, образуя оксиды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Cu + 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2Cu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ует со всеми неметаллами, кроме галогенов, за исключением 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+ 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ение сложных веществ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 + 3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2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+ 2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4214880" y="1601640"/>
            <a:ext cx="49291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205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нь сильный окислитель, более реакционноспособнее, чем двухатомный кислоро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яет почти все металлы (за исключением золота, платины и иридия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Ag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+  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 baseline="10000">
                <a:solidFill>
                  <a:srgbClr val="000000"/>
                </a:solidFill>
                <a:latin typeface="Arial"/>
              </a:rPr>
              <a:t>(комнатная температура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яет многие неметаллы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 + 2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+ 2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ение сложных вещест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KI + 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= 2KOH + I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ndara"/>
              </a:rPr>
              <a:t>Получение в природе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85480" y="1557360"/>
            <a:ext cx="442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                </a:t>
            </a:r>
            <a:r>
              <a:rPr b="1" lang="ru-RU" sz="48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4800" spc="-1" strike="noStrike" baseline="-25000">
                <a:solidFill>
                  <a:srgbClr val="073e87"/>
                </a:solidFill>
                <a:latin typeface="Candara"/>
              </a:rPr>
              <a:t>2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6СО</a:t>
            </a:r>
            <a:r>
              <a:rPr b="0" lang="ru-RU" sz="2400" spc="-1" strike="noStrike" baseline="-25000">
                <a:solidFill>
                  <a:srgbClr val="073e87"/>
                </a:solidFill>
                <a:latin typeface="Candara"/>
              </a:rPr>
              <a:t>2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+ 6Н</a:t>
            </a:r>
            <a:r>
              <a:rPr b="0" lang="ru-RU" sz="2400" spc="-1" strike="noStrike" baseline="-25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 = С</a:t>
            </a:r>
            <a:r>
              <a:rPr b="0" lang="ru-RU" sz="2400" spc="-1" strike="noStrike" baseline="-25000">
                <a:solidFill>
                  <a:srgbClr val="073e87"/>
                </a:solidFill>
                <a:latin typeface="Candara"/>
              </a:rPr>
              <a:t>6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</a:t>
            </a:r>
            <a:r>
              <a:rPr b="0" lang="ru-RU" sz="2400" spc="-1" strike="noStrike" baseline="-25000">
                <a:solidFill>
                  <a:srgbClr val="073e87"/>
                </a:solidFill>
                <a:latin typeface="Candara"/>
              </a:rPr>
              <a:t>12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0" lang="ru-RU" sz="2400" spc="-1" strike="noStrike" baseline="-25000">
                <a:solidFill>
                  <a:srgbClr val="073e87"/>
                </a:solidFill>
                <a:latin typeface="Candara"/>
              </a:rPr>
              <a:t>6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+ 6О</a:t>
            </a:r>
            <a:r>
              <a:rPr b="0" lang="ru-RU" sz="2400" spc="-1" strike="noStrike" baseline="-25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оцесс фотосинтез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832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4400" spc="-1" strike="noStrike" baseline="-25000">
                <a:solidFill>
                  <a:srgbClr val="073e87"/>
                </a:solidFill>
                <a:latin typeface="Candara"/>
              </a:rPr>
              <a:t>3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О</a:t>
            </a:r>
            <a:r>
              <a:rPr b="0" lang="ru-RU" sz="2400" spc="-1" strike="noStrike" baseline="-25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Arial Unicode MS"/>
                <a:ea typeface="Arial Unicode MS"/>
              </a:rPr>
              <a:t>⇄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2О</a:t>
            </a:r>
            <a:r>
              <a:rPr b="0" lang="ru-RU" sz="2400" spc="-1" strike="noStrike" baseline="-25000">
                <a:solidFill>
                  <a:srgbClr val="073e87"/>
                </a:solidFill>
                <a:latin typeface="Candara"/>
              </a:rPr>
              <a:t>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Грозовые разряд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1" name="Picture 5" descr="bfoto_ru_113"/>
          <p:cNvPicPr/>
          <p:nvPr/>
        </p:nvPicPr>
        <p:blipFill>
          <a:blip r:embed="rId1"/>
          <a:stretch/>
        </p:blipFill>
        <p:spPr>
          <a:xfrm>
            <a:off x="395280" y="3933720"/>
            <a:ext cx="4032360" cy="2303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123"/>
          <p:cNvPicPr/>
          <p:nvPr/>
        </p:nvPicPr>
        <p:blipFill>
          <a:blip r:embed="rId2"/>
          <a:stretch/>
        </p:blipFill>
        <p:spPr>
          <a:xfrm>
            <a:off x="5076720" y="3933720"/>
            <a:ext cx="33512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33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ndara"/>
              </a:rPr>
              <a:t>Значение кислорода и озона 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Candara"/>
              </a:rPr>
              <a:t>в природе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95280" y="1413000"/>
            <a:ext cx="3672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e87"/>
                </a:solidFill>
                <a:latin typeface="Candara"/>
              </a:rPr>
              <a:t>                 </a:t>
            </a:r>
            <a:r>
              <a:rPr b="1" lang="en-US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1600" spc="-1" strike="noStrike" baseline="-25000">
                <a:solidFill>
                  <a:srgbClr val="073e87"/>
                </a:solidFill>
                <a:latin typeface="Candara"/>
              </a:rPr>
              <a:t>2</a:t>
            </a: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            </a:t>
            </a: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дыхание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           </a:t>
            </a: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(животные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1600" spc="-1" strike="noStrike" baseline="-25000">
                <a:solidFill>
                  <a:srgbClr val="073e87"/>
                </a:solidFill>
                <a:latin typeface="Candara"/>
              </a:rPr>
              <a:t>2 </a:t>
            </a: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Candara"/>
              </a:rPr>
              <a:t>гемоглобин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Н</a:t>
            </a:r>
            <a:r>
              <a:rPr b="1" lang="ru-RU" sz="1600" spc="-1" strike="noStrike" baseline="-25000">
                <a:solidFill>
                  <a:srgbClr val="073e87"/>
                </a:solidFill>
                <a:latin typeface="Candara"/>
              </a:rPr>
              <a:t>2</a:t>
            </a: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О + СО</a:t>
            </a:r>
            <a:r>
              <a:rPr b="1" lang="ru-RU" sz="1600" spc="-1" strike="noStrike" baseline="-25000">
                <a:solidFill>
                  <a:srgbClr val="073e87"/>
                </a:solidFill>
                <a:latin typeface="Candara"/>
              </a:rPr>
              <a:t>2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                       </a:t>
            </a:r>
            <a:r>
              <a:rPr b="1" lang="ru-RU" sz="1600" spc="-1" strike="noStrike">
                <a:solidFill>
                  <a:srgbClr val="00cc00"/>
                </a:solidFill>
                <a:latin typeface="Candara"/>
              </a:rPr>
              <a:t>хлорофилл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                    </a:t>
            </a: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фотосинтез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                     </a:t>
            </a: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(растения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Равновесие всего живого в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                </a:t>
            </a: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природе.   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643280" y="1599840"/>
            <a:ext cx="40435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                             </a:t>
            </a:r>
            <a:r>
              <a:rPr b="1" lang="ru-RU" sz="33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3300" spc="-1" strike="noStrike" baseline="-25000">
                <a:solidFill>
                  <a:srgbClr val="073e87"/>
                </a:solidFill>
                <a:latin typeface="Candara"/>
              </a:rPr>
              <a:t>3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900" spc="-1" strike="noStrike">
                <a:solidFill>
                  <a:srgbClr val="073e87"/>
                </a:solidFill>
                <a:latin typeface="Candara"/>
              </a:rPr>
              <a:t>Озоновый слой поглощает солнечные излучения, губительные для всего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1900" spc="-1" strike="noStrike">
                <a:solidFill>
                  <a:srgbClr val="073e87"/>
                </a:solidFill>
                <a:latin typeface="Candara"/>
              </a:rPr>
              <a:t>живого на ЗЕМЛЕ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en-US" sz="1900" spc="-1" strike="noStrike">
                <a:solidFill>
                  <a:srgbClr val="073e87"/>
                </a:solidFill>
                <a:latin typeface="Candara"/>
              </a:rPr>
              <a:t>    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1900" spc="-1" strike="noStrike">
                <a:solidFill>
                  <a:srgbClr val="073e87"/>
                </a:solidFill>
                <a:latin typeface="Candara"/>
              </a:rPr>
              <a:t>О П А С Н О !!!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1900" spc="-1" strike="noStrike">
                <a:solidFill>
                  <a:srgbClr val="073e87"/>
                </a:solidFill>
                <a:latin typeface="Candara"/>
              </a:rPr>
              <a:t>«озоновые дыры»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1892160" y="26352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"/>
          <p:cNvSpPr/>
          <p:nvPr/>
        </p:nvSpPr>
        <p:spPr>
          <a:xfrm flipV="1">
            <a:off x="826920" y="2060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0"/>
          <p:cNvSpPr/>
          <p:nvPr/>
        </p:nvSpPr>
        <p:spPr>
          <a:xfrm>
            <a:off x="826920" y="2060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1857240" y="40719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2"/>
          <p:cNvSpPr/>
          <p:nvPr/>
        </p:nvSpPr>
        <p:spPr>
          <a:xfrm flipH="1">
            <a:off x="928440" y="54291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4"/>
          <p:cNvSpPr/>
          <p:nvPr/>
        </p:nvSpPr>
        <p:spPr>
          <a:xfrm flipV="1">
            <a:off x="928800" y="357156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5" descr="1189497516_06"/>
          <p:cNvPicPr/>
          <p:nvPr/>
        </p:nvPicPr>
        <p:blipFill>
          <a:blip r:embed="rId1"/>
          <a:stretch/>
        </p:blipFill>
        <p:spPr>
          <a:xfrm>
            <a:off x="4786200" y="4143240"/>
            <a:ext cx="3456000" cy="2522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WordArt 4"/>
          <p:cNvSpPr txBox="1"/>
          <p:nvPr/>
        </p:nvSpPr>
        <p:spPr>
          <a:xfrm>
            <a:off x="971640" y="765000"/>
            <a:ext cx="748800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1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внимание!</a:t>
            </a:r>
            <a:endParaRPr b="1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99cc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53964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80ff"/>
                </a:solidFill>
                <a:uFillTx/>
                <a:latin typeface="Candara"/>
                <a:hlinkClick r:id="rId1" action="ppaction://hlinksldjump"/>
              </a:rPr>
              <a:t>Аллотропия</a:t>
            </a:r>
            <a:r>
              <a:rPr b="0" lang="ru-RU" sz="2200" spc="-1" strike="noStrike" u="sng">
                <a:solidFill>
                  <a:srgbClr val="0080ff"/>
                </a:solidFill>
                <a:uFillTx/>
                <a:latin typeface="Candara"/>
                <a:hlinkClick r:id="rId2" action="ppaction://hlinksldjump"/>
              </a:rPr>
              <a:t>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Аллотропные модификации кислорода</a:t>
            </a:r>
            <a:r>
              <a:rPr b="0" lang="ru-RU" sz="2200" spc="-1" strike="noStrike">
                <a:solidFill>
                  <a:srgbClr val="0000ff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andara"/>
              </a:rPr>
              <a:t>История открытия кислорода и озон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Нахождение в природе</a:t>
            </a:r>
            <a:r>
              <a:rPr b="0" lang="ru-RU" sz="2200" spc="-1" strike="noStrike">
                <a:solidFill>
                  <a:srgbClr val="0000ff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Строение молекулы</a:t>
            </a:r>
            <a:r>
              <a:rPr b="0" lang="ru-RU" sz="2200" spc="-1" strike="noStrike">
                <a:solidFill>
                  <a:srgbClr val="0000ff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Физические свойств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andara"/>
              </a:rPr>
              <a:t>Химические свойств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Получение в природе</a:t>
            </a:r>
            <a:r>
              <a:rPr b="0" lang="ru-RU" sz="2200" spc="-1" strike="noStrike">
                <a:solidFill>
                  <a:srgbClr val="0000ff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Значение кислорода и озона в природе</a:t>
            </a:r>
            <a:r>
              <a:rPr b="0" lang="ru-RU" sz="2200" spc="-1" strike="noStrike">
                <a:solidFill>
                  <a:srgbClr val="0000ff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andara"/>
              </a:rPr>
              <a:t>Проверь себя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Литература</a:t>
            </a:r>
            <a:r>
              <a:rPr b="0" lang="ru-RU" sz="2200" spc="-1" strike="noStrike">
                <a:solidFill>
                  <a:srgbClr val="0000ff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ndara"/>
              </a:rPr>
              <a:t>Оглавление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50920" y="2781360"/>
            <a:ext cx="46800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пособность атомов одного элемен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овывать несколько простых   веществ.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ndara"/>
              </a:rPr>
              <a:t>Аллотропия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andara"/>
              </a:rPr>
              <a:t>(от греческих слов </a:t>
            </a:r>
            <a:r>
              <a:rPr b="0" lang="en-US" sz="3600" spc="-1" strike="noStrike">
                <a:solidFill>
                  <a:srgbClr val="0000ff"/>
                </a:solidFill>
                <a:latin typeface="Candara"/>
              </a:rPr>
              <a:t>allos </a:t>
            </a:r>
            <a:r>
              <a:rPr b="0" lang="ru-RU" sz="3600" spc="-1" strike="noStrike">
                <a:solidFill>
                  <a:srgbClr val="0000ff"/>
                </a:solidFill>
                <a:latin typeface="Candara"/>
              </a:rPr>
              <a:t>– другой и </a:t>
            </a:r>
            <a:r>
              <a:rPr b="0" lang="en-US" sz="3600" spc="-1" strike="noStrike">
                <a:solidFill>
                  <a:srgbClr val="0000ff"/>
                </a:solidFill>
                <a:latin typeface="Candara"/>
              </a:rPr>
              <a:t>tropos </a:t>
            </a:r>
            <a:r>
              <a:rPr b="0" lang="ru-RU" sz="3600" spc="-1" strike="noStrike">
                <a:solidFill>
                  <a:srgbClr val="0000ff"/>
                </a:solidFill>
                <a:latin typeface="Candara"/>
              </a:rPr>
              <a:t>– образ, способ)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Picture 7" descr="&amp;Fcy;&amp;icy;&amp;zcy;&amp;icy;&amp;kcy;&amp;acy;"/>
          <p:cNvPicPr/>
          <p:nvPr/>
        </p:nvPicPr>
        <p:blipFill>
          <a:blip r:embed="rId2"/>
          <a:stretch/>
        </p:blipFill>
        <p:spPr>
          <a:xfrm>
            <a:off x="5286240" y="3068640"/>
            <a:ext cx="3571920" cy="2997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ndara"/>
              </a:rPr>
              <a:t>Аллотропные модификации кислорода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                  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2800" spc="-1" strike="noStrike" baseline="-25000">
                <a:solidFill>
                  <a:srgbClr val="073e87"/>
                </a:solidFill>
                <a:latin typeface="Candara"/>
              </a:rPr>
              <a:t>2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                    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кислород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(простое вещество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К. В. Шееле 1772 г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Дж. Пристли 1774 г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А. Лавуазье 1777г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«рождающий кислоты»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4000" spc="-1" strike="noStrike" baseline="-25000">
                <a:solidFill>
                  <a:srgbClr val="073e87"/>
                </a:solidFill>
                <a:latin typeface="Candara"/>
              </a:rPr>
              <a:t>3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зон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простое вещество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Х. Ф. Шёнбейн 1839 г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пахнущий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380"/>
                            </p:stCondLst>
                            <p:childTnLst>
                              <p:par>
                                <p:cTn id="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680"/>
                            </p:stCondLst>
                            <p:childTnLst>
                              <p:par>
                                <p:cTn id="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80"/>
                            </p:stCondLst>
                            <p:childTnLst>
                              <p:par>
                                <p:cTn id="1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3580"/>
                            </p:stCondLst>
                            <p:childTnLst>
                              <p:par>
                                <p:cTn id="10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6079"/>
                            </p:stCondLst>
                            <p:childTnLst>
                              <p:par>
                                <p:cTn id="1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1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Рисунок1"/>
          <p:cNvPicPr/>
          <p:nvPr/>
        </p:nvPicPr>
        <p:blipFill>
          <a:blip r:embed="rId2"/>
          <a:stretch/>
        </p:blipFill>
        <p:spPr>
          <a:xfrm>
            <a:off x="214200" y="285840"/>
            <a:ext cx="3200400" cy="41907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"/>
          <p:cNvSpPr/>
          <p:nvPr/>
        </p:nvSpPr>
        <p:spPr>
          <a:xfrm>
            <a:off x="3643200" y="333360"/>
            <a:ext cx="55008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72 год. Карл Вильгель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еле  (шведский учёный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е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крыть загадку огня 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этом неожиданн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аружил, что воздух — н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, а смесь двух газов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орые он называл воздухо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огненным»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428760" y="5072040"/>
            <a:ext cx="839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ко приоритет открытия кислорода принадлежит Джозефу Пристли, который описал его   в    1774 г. независимо от Шеел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1200600" y="4797360"/>
            <a:ext cx="18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42–178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3929040" y="371484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777 г. был опубликован  труд  Шееле «Химический трактат о воздухе и огне»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3071880" y="189000"/>
            <a:ext cx="60721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74 год. Джозеф Прист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ая состав воздуха, пытался выяснить, какие его составляющие могут выделиться из химических веществ при их нагревании. Нагревая оксид ртути (II), он получил газ и назвал его «дефлогистированным воздухом». Исследуя свойства полученного газа, Пристли обнаружил, что зажженная свеча горела в нем ослепительно ярко и что он поддерживает дыхание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5" descr="Рисунок2"/>
          <p:cNvPicPr/>
          <p:nvPr/>
        </p:nvPicPr>
        <p:blipFill>
          <a:blip r:embed="rId1"/>
          <a:stretch/>
        </p:blipFill>
        <p:spPr>
          <a:xfrm>
            <a:off x="142920" y="260280"/>
            <a:ext cx="2817720" cy="364644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7"/>
          <p:cNvSpPr/>
          <p:nvPr/>
        </p:nvSpPr>
        <p:spPr>
          <a:xfrm>
            <a:off x="583920" y="392904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733-180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285840" y="522936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бор для получения кислорода ( Д.Пристли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9" descr="Рисунок3"/>
          <p:cNvPicPr/>
          <p:nvPr/>
        </p:nvPicPr>
        <p:blipFill>
          <a:blip r:embed="rId2"/>
          <a:stretch/>
        </p:blipFill>
        <p:spPr>
          <a:xfrm>
            <a:off x="4714920" y="4965840"/>
            <a:ext cx="3071880" cy="189216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8"/>
          <p:cNvSpPr/>
          <p:nvPr/>
        </p:nvSpPr>
        <p:spPr>
          <a:xfrm>
            <a:off x="1285920" y="4429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днее А.Лавуазье назвал этот газ кислородом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99cc"/>
            </a:gs>
            <a:gs pos="100000">
              <a:srgbClr val="33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4"/>
          <p:cNvSpPr/>
          <p:nvPr/>
        </p:nvSpPr>
        <p:spPr>
          <a:xfrm>
            <a:off x="3629160" y="217440"/>
            <a:ext cx="550836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первые количественный состав воздуха установил французский ученый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уан Лора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уазь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17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)                     По результатам своего известного 12-дневного опыта он сделал вывод, что весь воздух в целом состоит из кислорода, пригодного для дыхания и горения, и азота, неживого газа, в пропорциях 1/5 и 4/5 объема соответственно. Ученый предложил «жизненный воздух» переименовать в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, поскольку при сгорании в кислороде большинство веществ превращается в кислоты, а «удушливый воздух» – в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зо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, т.к. он не поддерживает жизнь, вредит жизн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5" descr="Рисунок4"/>
          <p:cNvPicPr/>
          <p:nvPr/>
        </p:nvPicPr>
        <p:blipFill>
          <a:blip r:embed="rId1"/>
          <a:stretch/>
        </p:blipFill>
        <p:spPr>
          <a:xfrm>
            <a:off x="395280" y="217440"/>
            <a:ext cx="2743200" cy="361800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6"/>
          <p:cNvSpPr/>
          <p:nvPr/>
        </p:nvSpPr>
        <p:spPr>
          <a:xfrm>
            <a:off x="1046160" y="39337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1743-1794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684360" y="5373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Лавуаз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Рисунок5"/>
          <p:cNvPicPr/>
          <p:nvPr/>
        </p:nvPicPr>
        <p:blipFill>
          <a:blip r:embed="rId2"/>
          <a:stretch/>
        </p:blipFill>
        <p:spPr>
          <a:xfrm>
            <a:off x="4643280" y="4724280"/>
            <a:ext cx="348012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33cc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571680" y="2276640"/>
            <a:ext cx="8177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вые озон обнаружил в 1785 голландский физи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 ван Мару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характерному запаху (свежести) и окислительным свойствам, которые приобретает воздух после пропускания через него электрических искр. Однако как новое вещество он описан не был, ван Марум считал, что образуется особая «электрическая материя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755640" y="5748480"/>
            <a:ext cx="25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1799 – 1868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4138560" y="860400"/>
            <a:ext cx="30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стиан Фридрих Шёнб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4138560" y="2205000"/>
            <a:ext cx="453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лож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м химик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X.Ф. Шёнбейн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1840 г., вошёл в словари в конце 19-ого века. Многие источники именно ему отдают приоритет открытия озона в 1839 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7" descr="Рисунок6"/>
          <p:cNvPicPr/>
          <p:nvPr/>
        </p:nvPicPr>
        <p:blipFill>
          <a:blip r:embed="rId1"/>
          <a:stretch/>
        </p:blipFill>
        <p:spPr>
          <a:xfrm>
            <a:off x="179280" y="692280"/>
            <a:ext cx="3484800" cy="4705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8:59:45Z</dcterms:created>
  <dc:creator>Ленка</dc:creator>
  <dc:description/>
  <dc:language>en-US</dc:language>
  <cp:lastModifiedBy>User</cp:lastModifiedBy>
  <dcterms:modified xsi:type="dcterms:W3CDTF">2018-07-28T18:58:34Z</dcterms:modified>
  <cp:revision>56</cp:revision>
  <dc:subject/>
  <dc:title>Аллотропия кислорода</dc:title>
</cp:coreProperties>
</file>