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E2F2-F3DE-4888-9A56-405DBF091E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2173-7755-4E09-B3B4-42E160B46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езентация подготовлена для проведения урока « Общая характеристика неметаллов » в 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лассе по теме «Неметаллы». Служит для иллюстрации  речи учител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2330-E25A-4D8E-9237-729448907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дготовлена для проведения урока « Общая характеристика неметаллов » в 9 классе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Неметаллы ». Служит для индивидуальной речи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6D81-579A-46DE-A6B6-63E287DF9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48A-99A2-447E-A0BD-ECAEE84F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25B-B62F-4B7D-858A-C76AA107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940-ADBA-424C-84BB-94D766DB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8BF-B573-47F8-96E4-F123BE39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1A05-2146-48CB-80F6-4AFFE68E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A16-CE33-407E-B882-60079167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B29B-EED4-473A-BDC9-AB76FDF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8A83-D6BF-4E20-A7CD-D430E87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66A8-DA79-4F4A-A09C-3D25E53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E440-6229-4421-B10B-941FC8C7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F00-BA0C-486E-9DF3-6F716A5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E9C-BE50-4342-8E31-4DD1540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6937-F9A9-47CF-9A5A-82385CC6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2DE-BFB7-406D-B75C-EEE3A57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FCE9-9149-42D3-9BF4-B8A1C034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885F-4DF2-48ED-884B-6C0117C5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AE82-5AE2-428E-BC30-9314FE74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8EE5-240D-416F-AEB6-6084920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443B-276F-4292-BD43-D8B258C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F6C7-353D-4E9F-9643-2573AEB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DAF5-B33A-4B41-927F-7EDECF9C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64F8-9916-49B9-B6BB-F397D57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C57-2E8F-4429-AA7F-B83452B6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3A69-09CC-484E-AEC6-73F73F8A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2E6C-5463-41A6-B02A-B6F7A3CA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ED7F-E71B-4E06-A444-8ACA1BD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79B0-17AE-4341-BDAB-BA48CE1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2840-E27D-4773-8029-0CF26DF2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E1C4-DDDD-4B80-9AFC-8221F0F2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80D5A-138B-4174-9704-6EFB9539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F3F1F-0F7F-472E-89CE-1D353782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23DA-D88D-4498-BF28-83BE4BF6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5EA1-3E3F-4454-833F-590AA1E0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902-63DE-45F8-9D21-F34034A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67B9-E5CE-43A2-8FA7-73B45FA6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1D778-6500-4F73-BD74-8759990D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8752C-237C-439D-8BE4-F5F0D038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C1AB-DBFA-4997-BF35-2020DB9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A0E8-1E97-4AF2-853B-BF79519B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BBCC-88B8-49D6-A895-3EE2C36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BA5F-4874-4738-97AD-A7EB6BA0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F2CD-5AB8-4437-BB7F-34C38A2C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A9ED-E797-4FE2-93E7-C6E6CC5F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05B3-97C4-497A-932F-D6B8D8CD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AB9-180D-4B30-BD77-CB8BD052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1DFE-8710-4124-A7BF-DF70E78A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B0D18-4FB5-45DD-9142-5A087990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CCACF-7047-47D2-9841-5CBE4A2B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9AA96-D290-4180-A94A-36C3D32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3673-6862-4185-A10E-B78F0BA5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5C2C-A089-41FC-91BE-138EB38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BA929-9ADD-4D97-B5DD-BDA8C381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D6359-62D3-4223-8AE1-240789A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735A-7BFE-4452-B50C-E2E15DF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1646F-829A-4F69-806B-1C965845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37F-D64F-4191-9C91-4467E45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4F68-33EE-4112-B55D-27A4CDE8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CD35-9077-434D-94B2-F804CE6E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04B33-6487-4BD4-A5F1-735CA266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03D80-1D79-455F-831E-8FE02F9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FE6C-2675-4C2B-BCC3-76C13C7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56EDD-459E-4AFB-8C2F-2DCB7584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C35D-885B-490F-B02C-930C173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12AA0-E46C-4767-8C2D-82E4B12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B50B-CFDE-487C-971C-1CA888BB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542B-E83E-4C00-B952-77E9C78C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5B1-9A28-44EA-9DEF-C63E5B74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47E37-9321-4A6A-B3C8-03B69D1D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E90A-3819-41D9-8A42-E85CA570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7867D-4836-4E7F-AE3B-362760DB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A2901-1B7D-4459-AED6-479930DD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4BB6-901B-4560-AE1C-8ADE84B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F02D-84D6-405F-ACEC-570DC733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2808F-5664-4E7B-B440-584F8642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494A-4218-477B-87F2-254580F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F3796-15F6-415C-95EB-751216AF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89F19-0ECB-4257-8DC1-67C59B7B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FF5-8109-4081-8AB8-7B98B75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0AA6-5A06-47FA-B623-87605B7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CD12-9C6A-42FC-B750-3FE23437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31A11-F4CA-44DF-BB6F-50647AC2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8C53C-DE61-4F49-8853-EABDDDC5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0AD3-43EC-4EF7-9F20-14624320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881-F322-420C-8CE6-DA0729CC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2FA-9AEE-45FA-9722-27927C88F7B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743-2E71-40EA-B68E-3917D80806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A460-A84E-495D-AC50-4B789D8B259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131-E56F-4763-B442-978EBE38193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43A-CFC0-473A-A41C-759512C6DEF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3107-3142-45B4-9CEF-4F5CD6584B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9316-7864-4E3D-AF28-8B30DCF919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627280" y="4941360"/>
            <a:ext cx="5113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Учитель химии МБОУ Богатищевская СОШ Притуло Т.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169236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Arial"/>
              </a:rPr>
              <a:t>Аллотропные видоизменения кислород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Нахождение в природе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360" y="141264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здух – 21% по объём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3%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асс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765320" y="1412640"/>
            <a:ext cx="38228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  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тмосфера (верхний слой) – озоновый экран Зем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6" name="Picture 5" descr="ru_60"/>
          <p:cNvPicPr/>
          <p:nvPr/>
        </p:nvPicPr>
        <p:blipFill>
          <a:blip r:embed="rId1"/>
          <a:stretch/>
        </p:blipFill>
        <p:spPr>
          <a:xfrm>
            <a:off x="468360" y="3789360"/>
            <a:ext cx="3816360" cy="2481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earth_27"/>
          <p:cNvPicPr/>
          <p:nvPr/>
        </p:nvPicPr>
        <p:blipFill>
          <a:blip r:embed="rId2"/>
          <a:stretch/>
        </p:blipFill>
        <p:spPr>
          <a:xfrm>
            <a:off x="4788000" y="3789360"/>
            <a:ext cx="3529080" cy="243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1280" y="1557360"/>
            <a:ext cx="76802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 = О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еполярная                                              поляр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M</a:t>
            </a:r>
            <a:r>
              <a:rPr b="0" lang="en-US" sz="2400" spc="-1" strike="noStrike" baseline="-25000">
                <a:solidFill>
                  <a:srgbClr val="073e87"/>
                </a:solidFill>
                <a:latin typeface="Candara"/>
              </a:rPr>
              <a:t>r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= 32      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            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M</a:t>
            </a:r>
            <a:r>
              <a:rPr b="0" lang="en-US" sz="2400" spc="-1" strike="noStrike" baseline="-25000">
                <a:solidFill>
                  <a:srgbClr val="073e87"/>
                </a:solidFill>
                <a:latin typeface="Candara"/>
              </a:rPr>
              <a:t>r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= 48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стойчив                                                 неустойчи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ndara"/>
              </a:rPr>
              <a:t>Строение молекулы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-541440" y="38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AutoShape 18"/>
          <p:cNvCxnSpPr>
            <a:stCxn id="378" idx="2"/>
            <a:endCxn id="378" idx="2"/>
          </p:cNvCxnSpPr>
          <p:nvPr/>
        </p:nvCxnSpPr>
        <p:spPr>
          <a:xfrm>
            <a:off x="4451040" y="662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82" name="Picture 26" descr=""/>
          <p:cNvPicPr/>
          <p:nvPr/>
        </p:nvPicPr>
        <p:blipFill>
          <a:blip r:embed="rId1"/>
          <a:stretch/>
        </p:blipFill>
        <p:spPr>
          <a:xfrm>
            <a:off x="5867280" y="2575080"/>
            <a:ext cx="1182960" cy="81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Физические свойств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14200" y="785880"/>
          <a:ext cx="8626680" cy="6072120"/>
        </p:xfrm>
        <a:graphic>
          <a:graphicData uri="http://schemas.openxmlformats.org/drawingml/2006/table">
            <a:tbl>
              <a:tblPr/>
              <a:tblGrid>
                <a:gridCol w="2874960"/>
                <a:gridCol w="2876760"/>
                <a:gridCol w="2874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(н.у.)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о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регатное состояни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            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х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х свежести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тность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 г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 г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имость в воде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раство -рим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 растворим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ость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ксиче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ен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Химические свойств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250920" y="1413000"/>
            <a:ext cx="41767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й окислитель, но не окисляет Au и Pt, окисляет многие металлы, образуя оксид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Cu +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Cu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ует со всеми неметаллами, кроме галогенов, за исключением 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+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ение сложных веществ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 + 3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2S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214880" y="1601640"/>
            <a:ext cx="49291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0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нь сильный окислитель, более реакционноспособнее, чем двухатомный кислор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яет почти все металлы (за исключением золота, платины и иридия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g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+ 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baseline="10000">
                <a:solidFill>
                  <a:srgbClr val="000000"/>
                </a:solidFill>
                <a:latin typeface="Arial"/>
              </a:rPr>
              <a:t>(комнатная температур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яет многие неметаллы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 + 2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+ 2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ение сложных вещест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KI +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= 2KOH +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Получение в природе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85480" y="1557360"/>
            <a:ext cx="4429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                </a:t>
            </a:r>
            <a:r>
              <a:rPr b="1" lang="ru-RU" sz="48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8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С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+ 6Н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 = С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6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1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6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+ 6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цесс фотосинтез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44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4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Arial Unicode MS"/>
                <a:ea typeface="Arial Unicode MS"/>
              </a:rPr>
              <a:t>⇄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2О</a:t>
            </a:r>
            <a:r>
              <a:rPr b="0" lang="ru-RU" sz="24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розовые разря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Picture 5" descr="bfoto_ru_113"/>
          <p:cNvPicPr/>
          <p:nvPr/>
        </p:nvPicPr>
        <p:blipFill>
          <a:blip r:embed="rId1"/>
          <a:stretch/>
        </p:blipFill>
        <p:spPr>
          <a:xfrm>
            <a:off x="395280" y="393372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123"/>
          <p:cNvPicPr/>
          <p:nvPr/>
        </p:nvPicPr>
        <p:blipFill>
          <a:blip r:embed="rId2"/>
          <a:stretch/>
        </p:blipFill>
        <p:spPr>
          <a:xfrm>
            <a:off x="5076720" y="3933720"/>
            <a:ext cx="33512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Значение кислорода и озона 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в природе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3000"/>
            <a:ext cx="3672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1" lang="en-US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дыхани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(животные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Candara"/>
              </a:rPr>
              <a:t>гемоглобин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Н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О + СО</a:t>
            </a:r>
            <a:r>
              <a:rPr b="1" lang="ru-RU" sz="16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   </a:t>
            </a:r>
            <a:r>
              <a:rPr b="1" lang="ru-RU" sz="1600" spc="-1" strike="noStrike">
                <a:solidFill>
                  <a:srgbClr val="00cc00"/>
                </a:solidFill>
                <a:latin typeface="Candara"/>
              </a:rPr>
              <a:t>хлорофил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фотосинтез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(растения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Равновесие всего живого в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                </a:t>
            </a: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природе.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43280" y="1599840"/>
            <a:ext cx="4043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                             </a:t>
            </a:r>
            <a:r>
              <a:rPr b="1" lang="ru-RU" sz="33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33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Озоновый слой поглощает солнечные излучения, губительные для всего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живого на ЗЕМЛЕ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19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О П А С Н О !!!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«озоновые дыры»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1892160" y="26352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 flipV="1">
            <a:off x="826920" y="206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826920" y="206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857240" y="40719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2"/>
          <p:cNvSpPr/>
          <p:nvPr/>
        </p:nvSpPr>
        <p:spPr>
          <a:xfrm flipH="1">
            <a:off x="928440" y="5429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 flipV="1">
            <a:off x="928800" y="357156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5" descr="1189497516_06"/>
          <p:cNvPicPr/>
          <p:nvPr/>
        </p:nvPicPr>
        <p:blipFill>
          <a:blip r:embed="rId1"/>
          <a:stretch/>
        </p:blipFill>
        <p:spPr>
          <a:xfrm>
            <a:off x="4786200" y="4143240"/>
            <a:ext cx="3456000" cy="252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4"/>
          <p:cNvSpPr txBox="1"/>
          <p:nvPr/>
        </p:nvSpPr>
        <p:spPr>
          <a:xfrm>
            <a:off x="971640" y="765000"/>
            <a:ext cx="748800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!</a:t>
            </a:r>
            <a:endParaRPr b="1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99cc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64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80ff"/>
                </a:solidFill>
                <a:uFillTx/>
                <a:latin typeface="Candara"/>
                <a:hlinkClick r:id="rId1" action="ppaction://hlinksldjump"/>
              </a:rPr>
              <a:t>Аллотропия</a:t>
            </a:r>
            <a:r>
              <a:rPr b="0" lang="ru-RU" sz="2200" spc="-1" strike="noStrike" u="sng">
                <a:solidFill>
                  <a:srgbClr val="0080ff"/>
                </a:solidFill>
                <a:uFillTx/>
                <a:latin typeface="Candara"/>
                <a:hlinkClick r:id="rId2" action="ppaction://hlinksldjump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Аллотропные модификации кислорода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История открытия кислорода и озон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хождение в природе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троение молекулы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Физические свойст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Химические свойств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олучение в природе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Значение кислорода и озона в природе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Проверь себ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Литература</a:t>
            </a:r>
            <a:r>
              <a:rPr b="0" lang="ru-RU" sz="2200" spc="-1" strike="noStrike">
                <a:solidFill>
                  <a:srgbClr val="0000ff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ndara"/>
              </a:rPr>
              <a:t>Оглавление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2781360"/>
            <a:ext cx="46800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пособность атомов одного элемен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овывать несколько простых   веществ.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Аллотропия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ndara"/>
              </a:rPr>
              <a:t>(от греческих слов </a:t>
            </a:r>
            <a:r>
              <a:rPr b="0" lang="en-US" sz="3600" spc="-1" strike="noStrike">
                <a:solidFill>
                  <a:srgbClr val="0000ff"/>
                </a:solidFill>
                <a:latin typeface="Candara"/>
              </a:rPr>
              <a:t>allos </a:t>
            </a:r>
            <a:r>
              <a:rPr b="0" lang="ru-RU" sz="3600" spc="-1" strike="noStrike">
                <a:solidFill>
                  <a:srgbClr val="0000ff"/>
                </a:solidFill>
                <a:latin typeface="Candara"/>
              </a:rPr>
              <a:t>– другой и </a:t>
            </a:r>
            <a:r>
              <a:rPr b="0" lang="en-US" sz="3600" spc="-1" strike="noStrike">
                <a:solidFill>
                  <a:srgbClr val="0000ff"/>
                </a:solidFill>
                <a:latin typeface="Candara"/>
              </a:rPr>
              <a:t>tropos </a:t>
            </a:r>
            <a:r>
              <a:rPr b="0" lang="ru-RU" sz="3600" spc="-1" strike="noStrike">
                <a:solidFill>
                  <a:srgbClr val="0000ff"/>
                </a:solidFill>
                <a:latin typeface="Candara"/>
              </a:rPr>
              <a:t>– образ, способ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7" descr="&amp;Fcy;&amp;icy;&amp;zcy;&amp;icy;&amp;kcy;&amp;acy;"/>
          <p:cNvPicPr/>
          <p:nvPr/>
        </p:nvPicPr>
        <p:blipFill>
          <a:blip r:embed="rId2"/>
          <a:stretch/>
        </p:blipFill>
        <p:spPr>
          <a:xfrm>
            <a:off x="5286240" y="3068640"/>
            <a:ext cx="357192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Аллотропные модификации кислорода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              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2800" spc="-1" strike="noStrike" baseline="-25000">
                <a:solidFill>
                  <a:srgbClr val="073e87"/>
                </a:solidFill>
                <a:latin typeface="Candara"/>
              </a:rPr>
              <a:t>2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             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ислоро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(простое вещество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К. В. Шееле 1772 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ж. Пристли 1774 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. Лавуазье 1777г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«рождающий кислоты»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4000" spc="-1" strike="noStrike" baseline="-25000">
                <a:solidFill>
                  <a:srgbClr val="073e87"/>
                </a:solidFill>
                <a:latin typeface="Candara"/>
              </a:rPr>
              <a:t>3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 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зон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простое вещество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Х. Ф. Шёнбейн 1839 г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пахнущий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38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58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079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Рисунок1"/>
          <p:cNvPicPr/>
          <p:nvPr/>
        </p:nvPicPr>
        <p:blipFill>
          <a:blip r:embed="rId2"/>
          <a:stretch/>
        </p:blipFill>
        <p:spPr>
          <a:xfrm>
            <a:off x="214200" y="285840"/>
            <a:ext cx="3200400" cy="41907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3643200" y="333360"/>
            <a:ext cx="55008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72 год. Карл Вильгель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еле  (шведский учёный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крыть загадку огня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неожиданн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аружил, что воздух — 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, а смесь двух газов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ые он называл воздух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гненным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428760" y="5072040"/>
            <a:ext cx="839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ко приоритет открытия кислорода принадлежит Джозефу Пристли, который описал его   в    1774 г. независимо от Шеел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200600" y="479736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2–178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3929040" y="371484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777 г. был опубликован  труд  Шееле «Химический трактат о воздухе и огне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3071880" y="189000"/>
            <a:ext cx="60721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74 год. Джозеф Прист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ая состав воздуха, пытался выяснить, какие его составляющие могут выделиться из химических веществ при их нагревании. Нагревая оксид ртути (II), он получил газ и назвал его «дефлогистированным воздухом». Исследуя свойства полученного газа, Пристли обнаружил, что зажженная свеча горела в нем ослепительно ярко и что он поддерживает дыхани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Рисунок2"/>
          <p:cNvPicPr/>
          <p:nvPr/>
        </p:nvPicPr>
        <p:blipFill>
          <a:blip r:embed="rId1"/>
          <a:stretch/>
        </p:blipFill>
        <p:spPr>
          <a:xfrm>
            <a:off x="142920" y="260280"/>
            <a:ext cx="2817720" cy="36464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7"/>
          <p:cNvSpPr/>
          <p:nvPr/>
        </p:nvSpPr>
        <p:spPr>
          <a:xfrm>
            <a:off x="583920" y="39290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733-180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285840" y="522936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бор для получения кислорода ( Д.Пристли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9" descr="Рисунок3"/>
          <p:cNvPicPr/>
          <p:nvPr/>
        </p:nvPicPr>
        <p:blipFill>
          <a:blip r:embed="rId2"/>
          <a:stretch/>
        </p:blipFill>
        <p:spPr>
          <a:xfrm>
            <a:off x="4714920" y="4965840"/>
            <a:ext cx="3071880" cy="18921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8"/>
          <p:cNvSpPr/>
          <p:nvPr/>
        </p:nvSpPr>
        <p:spPr>
          <a:xfrm>
            <a:off x="1285920" y="4429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днее А.Лавуазье назвал этот газ кислородом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99cc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629160" y="217440"/>
            <a:ext cx="55083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количественный состав воздуха установил французский ученый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уан Лор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уазь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 17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)                     По результатам своего известного 12-дневного опыта он сделал вывод, что весь воздух в целом состоит из кислорода, пригодного для дыхания и горения, и азота, неживого газа, в пропорциях 1/5 и 4/5 объема соответственно. Ученый предложил «жизненный воздух» переименовать в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, поскольку при сгорании в кислороде большинство веществ превращается в кислоты, а «удушливый воздух» – в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, т.к. он не поддерживает жизнь, вредит жизн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5" descr="Рисунок4"/>
          <p:cNvPicPr/>
          <p:nvPr/>
        </p:nvPicPr>
        <p:blipFill>
          <a:blip r:embed="rId1"/>
          <a:stretch/>
        </p:blipFill>
        <p:spPr>
          <a:xfrm>
            <a:off x="395280" y="217440"/>
            <a:ext cx="2743200" cy="36180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6"/>
          <p:cNvSpPr/>
          <p:nvPr/>
        </p:nvSpPr>
        <p:spPr>
          <a:xfrm>
            <a:off x="1046160" y="39337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1743-1794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84360" y="5373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Лавуаз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Рисунок5"/>
          <p:cNvPicPr/>
          <p:nvPr/>
        </p:nvPicPr>
        <p:blipFill>
          <a:blip r:embed="rId2"/>
          <a:stretch/>
        </p:blipFill>
        <p:spPr>
          <a:xfrm>
            <a:off x="4643280" y="4724280"/>
            <a:ext cx="34801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3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571680" y="2276640"/>
            <a:ext cx="8177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зон обнаружил в 1785 голландский физ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 ван Мару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характерному запаху (свежести) и окислительным свойствам, которые приобретает воздух после пропускания через него электрических искр. Однако как новое вещество он описан не был, ван Марум считал, что образуется особая «электрическая материя»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755640" y="5748480"/>
            <a:ext cx="25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1799 – 1868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138560" y="86040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иан Фридрих Шёнб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138560" y="220500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лож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м химик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X.Ф. Шёнбей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1840 г., вошёл в словари в конце 19-ого века. Многие источники именно ему отдают приоритет открытия озона в 1839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Рисунок6"/>
          <p:cNvPicPr/>
          <p:nvPr/>
        </p:nvPicPr>
        <p:blipFill>
          <a:blip r:embed="rId1"/>
          <a:stretch/>
        </p:blipFill>
        <p:spPr>
          <a:xfrm>
            <a:off x="179280" y="692280"/>
            <a:ext cx="3484800" cy="4705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8:59:45Z</dcterms:created>
  <dc:creator>Ленка</dc:creator>
  <dc:description/>
  <dc:language>en-US</dc:language>
  <cp:lastModifiedBy>User</cp:lastModifiedBy>
  <dcterms:modified xsi:type="dcterms:W3CDTF">2018-07-28T18:58:34Z</dcterms:modified>
  <cp:revision>56</cp:revision>
  <dc:subject/>
  <dc:title>Аллотропия кислорода</dc:title>
</cp:coreProperties>
</file>