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6771-2793-4463-AD5F-AA0EF01B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B71D-B354-4475-AADD-43ECFBCD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7DD-51CE-4730-9A2F-50B2C41F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A6EA-69DB-4357-B04C-19E58A37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901C-6859-4F13-80F9-F8875384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C6B1-4735-4D0D-A21B-69B09328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EECE-7ACB-4981-9238-CBE4FFA5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B3A9-8585-4B00-A09C-1CB6EF67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D098-8C6A-42C7-B070-D25B532F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D170-9D51-4734-BEFE-ACEB6095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4901-935F-414B-9A86-A9394E8F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2D76-CC5B-4F3C-B08F-652F2B98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0BF5-8828-4CB3-BADF-18E3CB48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9053-AFA3-4E5D-8DFD-06BBDFFC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1947-C68E-4947-8263-EF20FC31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BF4B-84C2-49C1-AB4F-2F929178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765F-8874-4E3E-825C-5857470B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9A7B96-C4F6-457A-9626-BCBFF6E5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45797-F000-4144-9BD2-E9B5CDFE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582D7E-DD52-4CCC-8D52-73363D24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3DBA5-9575-4C06-8CE1-6DD5A6EA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89D80-6406-4B7E-9A2D-AE84E5E5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925C-378F-4601-9C66-C2A2AFAA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B45270-4E9D-49CC-9C8D-9818B27F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52023-B769-4A46-9453-23DA8364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A7484F-1FE5-44DC-A9FA-8F1FF8C6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FBC923-1660-45A9-880E-398D0EBA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634848-E8E4-4AD4-AB9B-E4549F27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B8F54-A1CA-4706-B3DC-FA433BD9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F7C12-7068-4FAF-A5A0-FFB8EF09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DF431-0F6C-4028-8F98-1CB0F53D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09BE7-53B7-4493-9187-AC25071B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7D3F3-4214-4D82-A44D-3DFADB0D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6BBF-CA36-479A-A65C-50E58E03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E1419-96F9-4170-A73B-1F89D287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10E77-6339-40CB-A6B4-5CD6D8C5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68E84-C4C9-41B5-837F-7D84CC3D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FBB85-4E14-4EC8-98E2-0C5C2D47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7FE5C-2217-4F5D-B6BC-9F941373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89F81-9C3F-4ADF-B08A-FB85B15E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651D4-2C72-442B-A45E-E1E9E2FF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CEC96-E0D4-46B0-92C7-CC0F17A6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CA818-982F-4F69-9DF1-017535E6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380D7-0FB2-432A-929D-B6095985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EB6-024B-49C6-90A9-10698004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ABF2C0-1E4C-41FD-9940-8B39902A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F760C7-EE8E-4E56-AF1B-8D718CB6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D874A8-28BD-4EB2-AD91-6F892E7B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4DA325-C3D0-4C0A-8586-D335BC3E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24A482-3413-41C8-87EF-8B6B38B3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F64AD8-1993-4C16-9035-06DD849E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B00D29-63C6-419A-BE96-4649A502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83AC0C-6C7E-4D30-97FE-02866158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B8BC66-F9DE-4851-BA80-7EF38FFB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3C9818-10EC-48FB-B033-6592315A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1164-08AC-4864-ADC2-6C5B7E1C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F1A48B-3D13-460A-A368-8EE966D1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E2C6C0-C8DC-4CE6-A2A5-4B1AE650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1AF673-4E7F-4478-B53E-F684A56A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C04485-1857-42F6-A580-A0C76E1D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3409C9-2425-45B6-9981-4F31C8EC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3D21AA-9674-4107-80C9-C0CA664D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98E7F0-B1F3-409A-877F-FEA935AB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EDE1FD-61D8-437F-8398-5AC1A497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2A84CB-4CE3-4E7C-9886-A27AD7B2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4A5FE2-F54A-4538-A48B-AE391D49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8254-A3D9-440E-89F8-21ACEEE0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92819D-E711-41F6-9678-FCF6E6BB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89E604-AE3D-4309-AED0-5873D776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60E66C-189C-4996-909C-083DD3AF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BA6D9A-8821-4651-9DB0-7451C6C1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9AD9CC-C00D-4B98-B547-A20DC6FE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B80861-FB1C-4A70-9CD1-23319D54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648B96-9CE5-4C48-B310-560F1C5C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8BDEF3-678C-49FA-9529-5F294FF7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846329-D833-4FA9-A621-0559655A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89A882-0C59-47F6-937F-9980260C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6D5A-B95A-407C-809C-F8E4D8E6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8A8106-86EC-4747-84E7-D1D4E5F4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A671A9-8F1B-4031-9699-DE43222E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0C0A78-7F4F-4EFE-A972-C08A4E96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CB9FC7-32B3-4BF0-A196-64CDC803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F1CF34-22CF-40AE-89E8-4AFF5F88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91EB-BC23-42ED-B2D2-168626B0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B4C9-B4D0-4DD2-A814-82B39F1BD1B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59BF-EF9C-45D1-B22D-37A2B543F4E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05F8-132C-418D-888B-31B8461B4BF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6434-CF78-41C5-B629-B20D8DFF2DD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B5A0-DB76-4540-85C9-AAA675E89E2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349E-0AA8-48E0-8677-D86B074D208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61CB-0CF5-4410-A890-3E68F767931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28880" y="856800"/>
            <a:ext cx="69292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6e84b4"/>
                </a:solidFill>
                <a:latin typeface="Times New Roman"/>
                <a:ea typeface="Times New Roman"/>
              </a:rPr>
              <a:t>КОНСУЛЬТАЦИЯ</a:t>
            </a:r>
            <a:r>
              <a:rPr b="1" lang="ru-RU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ЛЯ ПЕДАГОГОВ</a:t>
            </a:r>
            <a:br>
              <a:rPr sz="27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АЗВИТИЕ ИНИЦИАТИВЫ И САМОСТОЯТЕЛЬНОСТИ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РОЦЕССЕ ОРГАНИЗАЦИИ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ИГАТЕЛЬНОЙ ДЕЯТЕЛЬНОСТИ ДЕТЕЙ»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214800" y="4429080"/>
            <a:ext cx="55324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e84b4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e84b4"/>
                </a:solidFill>
                <a:latin typeface="Times New Roman"/>
                <a:ea typeface="Times New Roman"/>
              </a:rPr>
              <a:t>инструктор по физической культуре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e84b4"/>
                </a:solidFill>
                <a:latin typeface="Times New Roman"/>
                <a:ea typeface="Times New Roman"/>
              </a:rPr>
              <a:t>Кожанов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e84b4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e84b4"/>
                </a:solidFill>
                <a:latin typeface="Times New Roman"/>
                <a:ea typeface="Times New Roman"/>
              </a:rPr>
              <a:t>Наталья Александро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Овал 2"/>
          <p:cNvGrpSpPr/>
          <p:nvPr/>
        </p:nvGrpSpPr>
        <p:grpSpPr>
          <a:xfrm>
            <a:off x="1719360" y="384120"/>
            <a:ext cx="5205240" cy="2567160"/>
            <a:chOff x="1719360" y="384120"/>
            <a:chExt cx="5205240" cy="2567160"/>
          </a:xfrm>
        </p:grpSpPr>
        <p:pic>
          <p:nvPicPr>
            <p:cNvPr id="354" name="Овал 2" descr=""/>
            <p:cNvPicPr/>
            <p:nvPr/>
          </p:nvPicPr>
          <p:blipFill>
            <a:blip r:embed="rId1"/>
            <a:stretch/>
          </p:blipFill>
          <p:spPr>
            <a:xfrm>
              <a:off x="1719360" y="384120"/>
              <a:ext cx="5205240" cy="25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2529000" y="784080"/>
              <a:ext cx="3585960" cy="17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Федеральном государственном образовательном стандарте выделены основные линии личностного 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вит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ребенка дошкольного возра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Блок-схема: знак завершения 11"/>
          <p:cNvGrpSpPr/>
          <p:nvPr/>
        </p:nvGrpSpPr>
        <p:grpSpPr>
          <a:xfrm>
            <a:off x="5218200" y="2955960"/>
            <a:ext cx="3170160" cy="1208160"/>
            <a:chOff x="5218200" y="2955960"/>
            <a:chExt cx="3170160" cy="1208160"/>
          </a:xfrm>
        </p:grpSpPr>
        <p:pic>
          <p:nvPicPr>
            <p:cNvPr id="357" name="Блок-схема: знак завершения 11" descr=""/>
            <p:cNvPicPr/>
            <p:nvPr/>
          </p:nvPicPr>
          <p:blipFill>
            <a:blip r:embed="rId2"/>
            <a:stretch/>
          </p:blipFill>
          <p:spPr>
            <a:xfrm>
              <a:off x="5218200" y="2955960"/>
              <a:ext cx="317016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5429160" y="3157560"/>
              <a:ext cx="27496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Инициати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Блок-схема: знак завершения 12"/>
          <p:cNvGrpSpPr/>
          <p:nvPr/>
        </p:nvGrpSpPr>
        <p:grpSpPr>
          <a:xfrm>
            <a:off x="291960" y="3029040"/>
            <a:ext cx="3200400" cy="1135080"/>
            <a:chOff x="291960" y="3029040"/>
            <a:chExt cx="3200400" cy="1135080"/>
          </a:xfrm>
        </p:grpSpPr>
        <p:pic>
          <p:nvPicPr>
            <p:cNvPr id="360" name="Блок-схема: знак завершения 12" descr=""/>
            <p:cNvPicPr/>
            <p:nvPr/>
          </p:nvPicPr>
          <p:blipFill>
            <a:blip r:embed="rId3"/>
            <a:stretch/>
          </p:blipFill>
          <p:spPr>
            <a:xfrm>
              <a:off x="291960" y="3029040"/>
              <a:ext cx="320040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01480" y="3218040"/>
              <a:ext cx="27831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Самостоятель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Блок-схема: знак завершения 9"/>
          <p:cNvGrpSpPr/>
          <p:nvPr/>
        </p:nvGrpSpPr>
        <p:grpSpPr>
          <a:xfrm>
            <a:off x="2859120" y="4743360"/>
            <a:ext cx="3170160" cy="1206720"/>
            <a:chOff x="2859120" y="4743360"/>
            <a:chExt cx="3170160" cy="1206720"/>
          </a:xfrm>
        </p:grpSpPr>
        <p:pic>
          <p:nvPicPr>
            <p:cNvPr id="363" name="Блок-схема: знак завершения 9" descr=""/>
            <p:cNvPicPr/>
            <p:nvPr/>
          </p:nvPicPr>
          <p:blipFill>
            <a:blip r:embed="rId4"/>
            <a:stretch/>
          </p:blipFill>
          <p:spPr>
            <a:xfrm>
              <a:off x="2859120" y="4743360"/>
              <a:ext cx="3170160" cy="12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071880" y="4943520"/>
              <a:ext cx="27493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Творчест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65" name="Прямая со стрелкой 14"/>
          <p:cNvCxnSpPr/>
          <p:nvPr/>
        </p:nvCxnSpPr>
        <p:spPr>
          <a:xfrm flipH="1">
            <a:off x="2285640" y="2571840"/>
            <a:ext cx="286560" cy="429120"/>
          </a:xfrm>
          <a:prstGeom prst="straightConnector1">
            <a:avLst/>
          </a:prstGeom>
          <a:ln w="5724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6" name="Прямая со стрелкой 16"/>
          <p:cNvCxnSpPr/>
          <p:nvPr/>
        </p:nvCxnSpPr>
        <p:spPr>
          <a:xfrm flipH="1">
            <a:off x="4428360" y="3142800"/>
            <a:ext cx="2520" cy="1358280"/>
          </a:xfrm>
          <a:prstGeom prst="straightConnector1">
            <a:avLst/>
          </a:prstGeom>
          <a:ln w="5724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7" name="Прямая со стрелкой 18"/>
          <p:cNvCxnSpPr/>
          <p:nvPr/>
        </p:nvCxnSpPr>
        <p:spPr>
          <a:xfrm>
            <a:off x="6642720" y="2499840"/>
            <a:ext cx="214920" cy="429480"/>
          </a:xfrm>
          <a:prstGeom prst="straightConnector1">
            <a:avLst/>
          </a:prstGeom>
          <a:ln w="57240">
            <a:solidFill>
              <a:srgbClr val="ff6903"/>
            </a:solidFill>
            <a:miter/>
            <a:tailEnd len="med" type="arrow" w="med"/>
          </a:ln>
        </p:spPr>
      </p:cxnSp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Равнобедренный треугольник 12"/>
          <p:cNvSpPr/>
          <p:nvPr/>
        </p:nvSpPr>
        <p:spPr>
          <a:xfrm>
            <a:off x="2214720" y="3643200"/>
            <a:ext cx="4572000" cy="2643480"/>
          </a:xfrm>
          <a:prstGeom prst="triangle">
            <a:avLst>
              <a:gd name="adj" fmla="val 50000"/>
            </a:avLst>
          </a:prstGeom>
          <a:solidFill>
            <a:srgbClr val="80f93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оциальных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равственных, эстетических, интеллектуальных, физических качеств, 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ативности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сти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 ответственности ребён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Равнобедренный треугольник 14"/>
          <p:cNvSpPr/>
          <p:nvPr/>
        </p:nvSpPr>
        <p:spPr>
          <a:xfrm>
            <a:off x="3071880" y="2214720"/>
            <a:ext cx="2786040" cy="2500200"/>
          </a:xfrm>
          <a:prstGeom prst="triangle">
            <a:avLst>
              <a:gd name="adj" fmla="val 50000"/>
            </a:avLst>
          </a:prstGeom>
          <a:solidFill>
            <a:srgbClr val="80f93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пособностей и творческого потенциала каждого реб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Равнобедренный треугольник 15"/>
          <p:cNvSpPr/>
          <p:nvPr/>
        </p:nvSpPr>
        <p:spPr>
          <a:xfrm>
            <a:off x="3429000" y="1500120"/>
            <a:ext cx="2143080" cy="1857600"/>
          </a:xfrm>
          <a:prstGeom prst="triangle">
            <a:avLst>
              <a:gd name="adj" fmla="val 50000"/>
            </a:avLst>
          </a:prstGeom>
          <a:solidFill>
            <a:srgbClr val="80f93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ей ЗО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7-конечная звезда 16"/>
          <p:cNvSpPr/>
          <p:nvPr/>
        </p:nvSpPr>
        <p:spPr>
          <a:xfrm>
            <a:off x="3357720" y="428760"/>
            <a:ext cx="2214360" cy="157140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решает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7"/>
          <p:cNvSpPr/>
          <p:nvPr/>
        </p:nvSpPr>
        <p:spPr>
          <a:xfrm>
            <a:off x="3929040" y="6286680"/>
            <a:ext cx="1071720" cy="5713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Схема 7" descr=""/>
          <p:cNvPicPr/>
          <p:nvPr/>
        </p:nvPicPr>
        <p:blipFill>
          <a:blip r:embed="rId1"/>
          <a:stretch/>
        </p:blipFill>
        <p:spPr>
          <a:xfrm>
            <a:off x="993600" y="208080"/>
            <a:ext cx="7180560" cy="63687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ая выноска 2"/>
          <p:cNvSpPr/>
          <p:nvPr/>
        </p:nvSpPr>
        <p:spPr>
          <a:xfrm>
            <a:off x="357120" y="214200"/>
            <a:ext cx="4572000" cy="12859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d3f9fd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 развития детской инициативы и творческого само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Выноска-облако 3"/>
          <p:cNvSpPr/>
          <p:nvPr/>
        </p:nvSpPr>
        <p:spPr>
          <a:xfrm>
            <a:off x="857160" y="2214720"/>
            <a:ext cx="2751120" cy="1223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4fdfe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могу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суме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Выноска-облако 4"/>
          <p:cNvSpPr/>
          <p:nvPr/>
        </p:nvSpPr>
        <p:spPr>
          <a:xfrm>
            <a:off x="3143160" y="1714680"/>
            <a:ext cx="3071880" cy="14284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e2fbfe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то очень просто, я тебе помог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Выноска-облако 5"/>
          <p:cNvSpPr/>
          <p:nvPr/>
        </p:nvSpPr>
        <p:spPr>
          <a:xfrm>
            <a:off x="5357880" y="428760"/>
            <a:ext cx="3143160" cy="1500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3f9fd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ы очень творческий ребенок, у тебя все получится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Рисунок 6" descr="5.png"/>
          <p:cNvPicPr/>
          <p:nvPr/>
        </p:nvPicPr>
        <p:blipFill>
          <a:blip r:embed="rId1"/>
          <a:stretch/>
        </p:blipFill>
        <p:spPr>
          <a:xfrm>
            <a:off x="-214200" y="3357720"/>
            <a:ext cx="2625480" cy="3500280"/>
          </a:xfrm>
          <a:prstGeom prst="rect">
            <a:avLst/>
          </a:prstGeom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1928880" y="314280"/>
            <a:ext cx="405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ля поддержки </a:t>
            </a:r>
            <a:r>
              <a:rPr b="1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етской инициативы необходимо</a:t>
            </a:r>
            <a:r>
              <a:rPr b="0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Овал 6"/>
          <p:cNvSpPr/>
          <p:nvPr/>
        </p:nvSpPr>
        <p:spPr>
          <a:xfrm>
            <a:off x="6429240" y="2928960"/>
            <a:ext cx="2357640" cy="1785960"/>
          </a:xfrm>
          <a:prstGeom prst="ellipse">
            <a:avLst/>
          </a:prstGeom>
          <a:solidFill>
            <a:srgbClr val="a6f769"/>
          </a:solidFill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11111"/>
                </a:solidFill>
                <a:latin typeface="Calibri"/>
                <a:ea typeface="Times New Roman"/>
              </a:rPr>
              <a:t>5. Предоставлять детям </a:t>
            </a:r>
            <a:r>
              <a:rPr b="1" lang="ru-RU" sz="1100" spc="-1" strike="noStrike">
                <a:solidFill>
                  <a:srgbClr val="111111"/>
                </a:solidFill>
                <a:latin typeface="Calibri"/>
                <a:ea typeface="Times New Roman"/>
              </a:rPr>
              <a:t>самостоятельность во всем</a:t>
            </a:r>
            <a:r>
              <a:rPr b="0" lang="ru-RU" sz="1100" spc="-1" strike="noStrike">
                <a:solidFill>
                  <a:srgbClr val="111111"/>
                </a:solidFill>
                <a:latin typeface="Calibri"/>
                <a:ea typeface="Times New Roman"/>
              </a:rPr>
              <a:t>, что не представляет опасности для их жизни и здоровья, помогая им реализовывать собственные замыслы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Овал 8"/>
          <p:cNvSpPr/>
          <p:nvPr/>
        </p:nvSpPr>
        <p:spPr>
          <a:xfrm>
            <a:off x="285840" y="1071720"/>
            <a:ext cx="1571400" cy="1357200"/>
          </a:xfrm>
          <a:prstGeom prst="ellipse">
            <a:avLst/>
          </a:prstGeom>
          <a:solidFill>
            <a:srgbClr val="d6fbbb"/>
          </a:solidFill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11111"/>
                </a:solidFill>
                <a:latin typeface="Calibri"/>
                <a:ea typeface="Times New Roman"/>
              </a:rPr>
              <a:t>1. Отмечать и приветствовать даже минимальные успехи </a:t>
            </a:r>
            <a:r>
              <a:rPr b="1" lang="ru-RU" sz="1100" spc="-1" strike="noStrike">
                <a:solidFill>
                  <a:srgbClr val="111111"/>
                </a:solidFill>
                <a:latin typeface="Calibri"/>
                <a:ea typeface="Times New Roman"/>
              </a:rPr>
              <a:t>детей</a:t>
            </a:r>
            <a:r>
              <a:rPr b="0" lang="ru-RU" sz="1100" spc="-1" strike="noStrike">
                <a:solidFill>
                  <a:srgbClr val="111111"/>
                </a:solidFill>
                <a:latin typeface="Calibri"/>
                <a:ea typeface="Times New Roman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Овал 9"/>
          <p:cNvSpPr/>
          <p:nvPr/>
        </p:nvSpPr>
        <p:spPr>
          <a:xfrm>
            <a:off x="2928960" y="3786120"/>
            <a:ext cx="1928880" cy="1785960"/>
          </a:xfrm>
          <a:prstGeom prst="ellipse">
            <a:avLst/>
          </a:prstGeom>
          <a:solidFill>
            <a:srgbClr val="b1f87c"/>
          </a:solidFill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11111"/>
                </a:solidFill>
                <a:latin typeface="Calibri"/>
                <a:ea typeface="Times New Roman"/>
              </a:rPr>
              <a:t>5. Содержать в открытом доступе различные атрибуты к </a:t>
            </a:r>
            <a:r>
              <a:rPr b="1" lang="ru-RU" sz="1100" spc="-1" strike="noStrike">
                <a:solidFill>
                  <a:srgbClr val="111111"/>
                </a:solidFill>
                <a:latin typeface="Calibri"/>
                <a:ea typeface="Times New Roman"/>
              </a:rPr>
              <a:t>развлечениям</a:t>
            </a:r>
            <a:r>
              <a:rPr b="0" lang="ru-RU" sz="1100" spc="-1" strike="noStrike">
                <a:solidFill>
                  <a:srgbClr val="111111"/>
                </a:solidFill>
                <a:latin typeface="Calibri"/>
                <a:ea typeface="Times New Roman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Овал 10"/>
          <p:cNvSpPr/>
          <p:nvPr/>
        </p:nvSpPr>
        <p:spPr>
          <a:xfrm>
            <a:off x="1357200" y="2357280"/>
            <a:ext cx="2000520" cy="1643400"/>
          </a:xfrm>
          <a:prstGeom prst="ellipse">
            <a:avLst/>
          </a:prstGeom>
          <a:solidFill>
            <a:srgbClr val="c0f995"/>
          </a:solidFill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1111"/>
                </a:solidFill>
                <a:latin typeface="Calibri"/>
                <a:ea typeface="Times New Roman"/>
              </a:rPr>
              <a:t>3. Не критиковать результаты </a:t>
            </a:r>
            <a:r>
              <a:rPr b="1" lang="ru-RU" sz="1200" spc="-1" strike="noStrike">
                <a:solidFill>
                  <a:srgbClr val="111111"/>
                </a:solidFill>
                <a:latin typeface="Calibri"/>
                <a:ea typeface="Times New Roman"/>
              </a:rPr>
              <a:t>деятельности ребенка и его самого как личность</a:t>
            </a:r>
            <a:r>
              <a:rPr b="0" lang="ru-RU" sz="1200" spc="-1" strike="noStrike">
                <a:solidFill>
                  <a:srgbClr val="111111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Овал 11"/>
          <p:cNvSpPr/>
          <p:nvPr/>
        </p:nvSpPr>
        <p:spPr>
          <a:xfrm>
            <a:off x="4929120" y="4572000"/>
            <a:ext cx="2071800" cy="1857240"/>
          </a:xfrm>
          <a:prstGeom prst="ellipse">
            <a:avLst/>
          </a:prstGeom>
          <a:solidFill>
            <a:srgbClr val="a4f765"/>
          </a:solidFill>
          <a:ln w="255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11111"/>
                </a:solidFill>
                <a:latin typeface="Calibri"/>
                <a:ea typeface="Times New Roman"/>
              </a:rPr>
              <a:t>4. Формировать у </a:t>
            </a:r>
            <a:r>
              <a:rPr b="1" lang="ru-RU" sz="1100" spc="-1" strike="noStrike">
                <a:solidFill>
                  <a:srgbClr val="111111"/>
                </a:solidFill>
                <a:latin typeface="Calibri"/>
                <a:ea typeface="Times New Roman"/>
              </a:rPr>
              <a:t>детей привычку самостоятельно</a:t>
            </a:r>
            <a:r>
              <a:rPr b="0" lang="ru-RU" sz="1100" spc="-1" strike="noStrike">
                <a:solidFill>
                  <a:srgbClr val="111111"/>
                </a:solidFill>
                <a:latin typeface="Calibri"/>
                <a:ea typeface="Times New Roman"/>
              </a:rPr>
              <a:t> находить для себя интересные занятия; приучать свободно пользоваться игрушками и пособиям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7"/>
          <p:cNvSpPr/>
          <p:nvPr/>
        </p:nvSpPr>
        <p:spPr>
          <a:xfrm>
            <a:off x="714240" y="785880"/>
            <a:ext cx="642960" cy="28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12"/>
          <p:cNvSpPr/>
          <p:nvPr/>
        </p:nvSpPr>
        <p:spPr>
          <a:xfrm>
            <a:off x="2071800" y="2071800"/>
            <a:ext cx="642960" cy="2854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13"/>
          <p:cNvSpPr/>
          <p:nvPr/>
        </p:nvSpPr>
        <p:spPr>
          <a:xfrm>
            <a:off x="3643200" y="3571920"/>
            <a:ext cx="642960" cy="28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4"/>
          <p:cNvSpPr/>
          <p:nvPr/>
        </p:nvSpPr>
        <p:spPr>
          <a:xfrm>
            <a:off x="5643720" y="4286160"/>
            <a:ext cx="642960" cy="28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5"/>
          <p:cNvSpPr/>
          <p:nvPr/>
        </p:nvSpPr>
        <p:spPr>
          <a:xfrm>
            <a:off x="7215120" y="2714760"/>
            <a:ext cx="642960" cy="2854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17"/>
          <p:cNvSpPr/>
          <p:nvPr/>
        </p:nvSpPr>
        <p:spPr>
          <a:xfrm>
            <a:off x="5143680" y="1785960"/>
            <a:ext cx="2393640" cy="9288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ая соединительная линия 20"/>
          <p:cNvSpPr/>
          <p:nvPr/>
        </p:nvSpPr>
        <p:spPr>
          <a:xfrm>
            <a:off x="5072040" y="1785960"/>
            <a:ext cx="892080" cy="25002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ая соединительная линия 22"/>
          <p:cNvSpPr/>
          <p:nvPr/>
        </p:nvSpPr>
        <p:spPr>
          <a:xfrm flipH="1">
            <a:off x="3965400" y="1785960"/>
            <a:ext cx="1035360" cy="17859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24"/>
          <p:cNvSpPr/>
          <p:nvPr/>
        </p:nvSpPr>
        <p:spPr>
          <a:xfrm>
            <a:off x="4929120" y="1785960"/>
            <a:ext cx="7164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Дуга 27"/>
          <p:cNvSpPr/>
          <p:nvPr/>
        </p:nvSpPr>
        <p:spPr>
          <a:xfrm>
            <a:off x="1000080" y="428760"/>
            <a:ext cx="928800" cy="914400"/>
          </a:xfrm>
          <a:prstGeom prst="pie">
            <a:avLst/>
          </a:prstGeom>
          <a:noFill/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29"/>
          <p:cNvSpPr/>
          <p:nvPr/>
        </p:nvSpPr>
        <p:spPr>
          <a:xfrm>
            <a:off x="1928160" y="857160"/>
            <a:ext cx="500040" cy="11430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5-конечная звезда 31"/>
          <p:cNvSpPr/>
          <p:nvPr/>
        </p:nvSpPr>
        <p:spPr>
          <a:xfrm>
            <a:off x="1500120" y="214200"/>
            <a:ext cx="914400" cy="91440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5-конечная звезда 32"/>
          <p:cNvSpPr/>
          <p:nvPr/>
        </p:nvSpPr>
        <p:spPr>
          <a:xfrm>
            <a:off x="4500720" y="1285920"/>
            <a:ext cx="1056960" cy="8571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оугольник 1"/>
          <p:cNvSpPr/>
          <p:nvPr/>
        </p:nvSpPr>
        <p:spPr>
          <a:xfrm>
            <a:off x="1000080" y="28584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Развитие детской самостоятельности осуществляется чере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Группа 2"/>
          <p:cNvGrpSpPr/>
          <p:nvPr/>
        </p:nvGrpSpPr>
        <p:grpSpPr>
          <a:xfrm>
            <a:off x="1143000" y="1857240"/>
            <a:ext cx="6985080" cy="552600"/>
            <a:chOff x="1143000" y="1857240"/>
            <a:chExt cx="6985080" cy="552600"/>
          </a:xfrm>
        </p:grpSpPr>
        <p:sp>
          <p:nvSpPr>
            <p:cNvPr id="400" name="Прямоугольник 3"/>
            <p:cNvSpPr/>
            <p:nvPr/>
          </p:nvSpPr>
          <p:spPr>
            <a:xfrm>
              <a:off x="1143000" y="1857240"/>
              <a:ext cx="6985080" cy="55260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Прямоугольник 4"/>
            <p:cNvSpPr/>
            <p:nvPr/>
          </p:nvSpPr>
          <p:spPr>
            <a:xfrm>
              <a:off x="1143000" y="1857240"/>
              <a:ext cx="69850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2160" rIns="542160" tIns="249840" bIns="8532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24"/>
                </a:spcAft>
                <a:buClr>
                  <a:srgbClr val="000000"/>
                </a:buClr>
                <a:buFont typeface="Century Schoolbook"/>
                <a:buChar char="•"/>
                <a:tabLst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Группа 5"/>
          <p:cNvGrpSpPr/>
          <p:nvPr/>
        </p:nvGrpSpPr>
        <p:grpSpPr>
          <a:xfrm>
            <a:off x="1357200" y="1357200"/>
            <a:ext cx="5521320" cy="911160"/>
            <a:chOff x="1357200" y="1357200"/>
            <a:chExt cx="5521320" cy="911160"/>
          </a:xfrm>
        </p:grpSpPr>
        <p:sp>
          <p:nvSpPr>
            <p:cNvPr id="403" name="Скругленный прямоугольник 6"/>
            <p:cNvSpPr/>
            <p:nvPr/>
          </p:nvSpPr>
          <p:spPr>
            <a:xfrm>
              <a:off x="1357200" y="1357200"/>
              <a:ext cx="5467680" cy="911160"/>
            </a:xfrm>
            <a:prstGeom prst="roundRect">
              <a:avLst>
                <a:gd name="adj" fmla="val 16667"/>
              </a:avLst>
            </a:prstGeom>
            <a:solidFill>
              <a:srgbClr val="fe863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Скругленный прямоугольник 4"/>
            <p:cNvSpPr/>
            <p:nvPr/>
          </p:nvSpPr>
          <p:spPr>
            <a:xfrm>
              <a:off x="1499760" y="1428480"/>
              <a:ext cx="53787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4680" rIns="18468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 Поручения детям-дежурны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Прямоугольник 8"/>
          <p:cNvSpPr/>
          <p:nvPr/>
        </p:nvSpPr>
        <p:spPr>
          <a:xfrm>
            <a:off x="1143000" y="3786120"/>
            <a:ext cx="6985080" cy="63360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9"/>
          <p:cNvSpPr/>
          <p:nvPr/>
        </p:nvSpPr>
        <p:spPr>
          <a:xfrm>
            <a:off x="1143000" y="2786040"/>
            <a:ext cx="6985080" cy="60336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0"/>
          <p:cNvSpPr/>
          <p:nvPr/>
        </p:nvSpPr>
        <p:spPr>
          <a:xfrm>
            <a:off x="1143000" y="4857840"/>
            <a:ext cx="6985080" cy="60300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11"/>
          <p:cNvSpPr/>
          <p:nvPr/>
        </p:nvSpPr>
        <p:spPr>
          <a:xfrm>
            <a:off x="1143000" y="5929200"/>
            <a:ext cx="6985080" cy="60336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Группа 12"/>
          <p:cNvGrpSpPr/>
          <p:nvPr/>
        </p:nvGrpSpPr>
        <p:grpSpPr>
          <a:xfrm>
            <a:off x="1285920" y="2500200"/>
            <a:ext cx="5551560" cy="754200"/>
            <a:chOff x="1285920" y="2500200"/>
            <a:chExt cx="5551560" cy="754200"/>
          </a:xfrm>
        </p:grpSpPr>
        <p:sp>
          <p:nvSpPr>
            <p:cNvPr id="410" name="Скругленный прямоугольник 13"/>
            <p:cNvSpPr/>
            <p:nvPr/>
          </p:nvSpPr>
          <p:spPr>
            <a:xfrm>
              <a:off x="1285920" y="2500200"/>
              <a:ext cx="5551560" cy="754200"/>
            </a:xfrm>
            <a:prstGeom prst="roundRect">
              <a:avLst>
                <a:gd name="adj" fmla="val 16667"/>
              </a:avLst>
            </a:prstGeom>
            <a:solidFill>
              <a:srgbClr val="fe863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Скругленный прямоугольник 4"/>
            <p:cNvSpPr/>
            <p:nvPr/>
          </p:nvSpPr>
          <p:spPr>
            <a:xfrm>
              <a:off x="1322280" y="2536560"/>
              <a:ext cx="547884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4680" rIns="1846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 Использование разных приёмов при выполнении ОРУ и ОВД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Группа 15"/>
          <p:cNvGrpSpPr/>
          <p:nvPr/>
        </p:nvGrpSpPr>
        <p:grpSpPr>
          <a:xfrm>
            <a:off x="1285920" y="3500280"/>
            <a:ext cx="5551560" cy="747720"/>
            <a:chOff x="1285920" y="3500280"/>
            <a:chExt cx="5551560" cy="747720"/>
          </a:xfrm>
        </p:grpSpPr>
        <p:sp>
          <p:nvSpPr>
            <p:cNvPr id="413" name="Скругленный прямоугольник 16"/>
            <p:cNvSpPr/>
            <p:nvPr/>
          </p:nvSpPr>
          <p:spPr>
            <a:xfrm>
              <a:off x="1285920" y="3500280"/>
              <a:ext cx="5551560" cy="747720"/>
            </a:xfrm>
            <a:prstGeom prst="roundRect">
              <a:avLst>
                <a:gd name="adj" fmla="val 16667"/>
              </a:avLst>
            </a:prstGeom>
            <a:solidFill>
              <a:srgbClr val="fe863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Скругленный прямоугольник 4"/>
            <p:cNvSpPr/>
            <p:nvPr/>
          </p:nvSpPr>
          <p:spPr>
            <a:xfrm>
              <a:off x="1322280" y="3536640"/>
              <a:ext cx="5478840" cy="6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4680" rIns="1846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 Творческие задания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Группа 8"/>
          <p:cNvGrpSpPr/>
          <p:nvPr/>
        </p:nvGrpSpPr>
        <p:grpSpPr>
          <a:xfrm>
            <a:off x="1357200" y="4572000"/>
            <a:ext cx="5551560" cy="747720"/>
            <a:chOff x="1357200" y="4572000"/>
            <a:chExt cx="5551560" cy="747720"/>
          </a:xfrm>
        </p:grpSpPr>
        <p:sp>
          <p:nvSpPr>
            <p:cNvPr id="416" name="Скругленный прямоугольник 19"/>
            <p:cNvSpPr/>
            <p:nvPr/>
          </p:nvSpPr>
          <p:spPr>
            <a:xfrm>
              <a:off x="1357200" y="4572000"/>
              <a:ext cx="5551560" cy="747720"/>
            </a:xfrm>
            <a:prstGeom prst="roundRect">
              <a:avLst>
                <a:gd name="adj" fmla="val 16667"/>
              </a:avLst>
            </a:prstGeom>
            <a:solidFill>
              <a:srgbClr val="fe863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Скругленный прямоугольник 4"/>
            <p:cNvSpPr/>
            <p:nvPr/>
          </p:nvSpPr>
          <p:spPr>
            <a:xfrm>
              <a:off x="1393560" y="4608360"/>
              <a:ext cx="5478840" cy="6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4680" rIns="1846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 Карточки-схемы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Группа 12"/>
          <p:cNvGrpSpPr/>
          <p:nvPr/>
        </p:nvGrpSpPr>
        <p:grpSpPr>
          <a:xfrm>
            <a:off x="1285920" y="5572080"/>
            <a:ext cx="5551560" cy="747720"/>
            <a:chOff x="1285920" y="5572080"/>
            <a:chExt cx="5551560" cy="747720"/>
          </a:xfrm>
        </p:grpSpPr>
        <p:sp>
          <p:nvSpPr>
            <p:cNvPr id="419" name="Скругленный прямоугольник 23"/>
            <p:cNvSpPr/>
            <p:nvPr/>
          </p:nvSpPr>
          <p:spPr>
            <a:xfrm>
              <a:off x="1285920" y="5572080"/>
              <a:ext cx="5551560" cy="747720"/>
            </a:xfrm>
            <a:prstGeom prst="roundRect">
              <a:avLst>
                <a:gd name="adj" fmla="val 16667"/>
              </a:avLst>
            </a:prstGeom>
            <a:solidFill>
              <a:srgbClr val="fe863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Скругленный прямоугольник 4"/>
            <p:cNvSpPr/>
            <p:nvPr/>
          </p:nvSpPr>
          <p:spPr>
            <a:xfrm>
              <a:off x="1322280" y="5608440"/>
              <a:ext cx="5478840" cy="6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4680" rIns="1846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. Подвижные игры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Скругленная прямоугольная выноска 1"/>
          <p:cNvSpPr/>
          <p:nvPr/>
        </p:nvSpPr>
        <p:spPr>
          <a:xfrm>
            <a:off x="1285920" y="500040"/>
            <a:ext cx="6715080" cy="3214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7ee3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амостоятельность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оянно развивающееся личностное качество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оосновы которого закладываются в дошкольном возра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Рисунок 2" descr=""/>
          <p:cNvPicPr/>
          <p:nvPr/>
        </p:nvPicPr>
        <p:blipFill>
          <a:blip r:embed="rId1"/>
          <a:srcRect l="8113" t="11061" r="8113" b="7029"/>
          <a:stretch/>
        </p:blipFill>
        <p:spPr>
          <a:xfrm>
            <a:off x="1143000" y="3929040"/>
            <a:ext cx="2428920" cy="27417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7T07:50:42Z</dcterms:created>
  <dc:creator>Наталья</dc:creator>
  <dc:description/>
  <dc:language>en-US</dc:language>
  <cp:lastModifiedBy>1</cp:lastModifiedBy>
  <dcterms:modified xsi:type="dcterms:W3CDTF">2018-07-28T02:00:57Z</dcterms:modified>
  <cp:revision>125</cp:revision>
  <dc:subject/>
  <dc:title>Использование педагогических технологий в физкультурно – оздоровительной работе  ДОУ</dc:title>
</cp:coreProperties>
</file>