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A98-EABE-4AB7-8934-6DD8C163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F2A-6F3D-4694-80E5-5B8F29B4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A68-CFFF-48F2-9D30-1A5D9130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D06-FFFC-47BC-8D9D-0B613A9D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6E27-3791-4710-AC86-0C311474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66B6-6F57-419E-831A-DD1A0C67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C95D-AC31-46BF-80A2-2B1689A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9BC6-6802-473B-97C6-74A2F45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4036-EA0C-417E-B935-E25DA06F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83AB-7FD1-4A82-997B-DCEAE4CE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5721-0865-4809-BB1C-2A48B48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3D1-7F60-4C10-A226-9CA1E7D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E68-7235-4E58-8250-C55FC76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D7E6-BF0C-4DD7-9EE1-69EEBAE7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AFFC-DC47-432E-BF9D-6990F2C2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6EC9-F694-4330-976C-34C01E38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A698-FB9D-4F6B-B9B8-7C7972EC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C1528-5106-4FAE-BA30-13AC1A77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99677-0FAB-45D5-9FF5-F013B30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C8EA0-BC35-4E21-A474-0157567F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5D699-A8FB-434D-A233-1F5669ED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A22B9-CE66-4502-A181-4501A9F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A12-86E0-4BF1-A405-3A0EC01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4CB37-A8D9-45CE-A1F0-7471A476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50F50-C1D9-40D6-A8A8-D178CC5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7C57F-D148-458D-BB6E-903E86C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2C958-8A99-45BC-8E7B-672D895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D6264-C663-442F-8127-8CCE38F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4743F-32E9-49BB-8BAE-9A199238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74DEF-46C8-4F49-B075-DE6AC70F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FFB4-0263-4087-9C50-B3E513B3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A92A-A064-43A7-A5CC-612C90E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92BF-6580-4DA3-8F1E-893A652C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7A0-997E-4727-8E15-0428568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474D-8035-46F7-BAA3-C0BBB71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8D7F-8240-4331-A4F5-E9ECC476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DDD1-6F35-4FD0-BC98-C0F3C21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5929-D5BA-401B-888E-2E254F6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24F5-B3B8-4ABD-AEF6-0AB33786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8937-A521-40B4-B6E2-B99F8D1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F68E-84EC-4E0B-BE23-FEEEB69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4964-3FD3-48E5-9AC6-8E678516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307E-42B3-4E96-BC48-9E563DF9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B7B1F-6174-4C56-8D00-D5210E09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3A8-669F-47E7-B7CE-619306A5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C7ADD-BE18-4730-8B22-81F618D2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63755-DC21-4C44-AA03-2EC898C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620BA-4E73-4FF9-98E5-3ECE28CE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3067D-356B-4FA7-9837-2F63CC97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E627A-A3B4-4813-B321-3B8F802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58E46-85B9-4DCE-B080-E8BA0F8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0FAD8-6D4B-4182-8C15-29A4BA99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13F1A-53D8-4DC8-B07D-96EDEF9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9E624-ACFE-4136-8698-A8FF1DB3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2DBB3-DBD7-49F1-919C-AB071769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7CE-CF8B-4120-A0E3-2D74965C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BA6BF-BAB5-4EE9-8B4C-DA1B059A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7C086-AB9D-4BB0-BA84-C0B890A2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C354F-C63E-4662-AC70-FE0F0D1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2192E-87A1-4E7E-9CC6-5FD8C6B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626C5-4E6F-4D1F-B1FE-D3E7A4F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83268-A550-4FBE-8AC8-A278EAA9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7CFFE-B8CB-460E-9DC1-94B5849A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1E250-4702-4674-818B-C401A0D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B079D-AEE0-4742-B26D-E0175F0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79202-4DE9-4611-B542-ACB09EF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B74-675D-41BC-BD46-724DE75B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8D0174-FEC3-49BA-8AD6-6132008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8316B-2BD8-4F84-90E4-47A9534F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549EA-E98B-4F78-BEEB-7C82ED54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3A13F-2F8B-4C85-AC22-371F9236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2496F-A91A-4F09-ABCE-306E2C8E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01F06-7870-42A1-9DFB-B271FFC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B4EFC-5183-4C1E-B6C6-4078642B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294C2-D7B5-42DC-BD18-3731E64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652E4-6F04-46BB-B0F4-4F6CAE6E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B29D5-723B-4C39-8908-F54F824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81A-21A6-4575-BE1E-519426C7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381C9-023F-40B1-8221-09CA6A3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771D9-25CE-4613-A769-BC9CCADF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1E4BD-D4A3-41ED-9D8F-7E9D7F1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861C2-1B1F-4EDB-AEF7-BD1A3396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2A093-B50A-4137-B08E-0A027344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9B5-9968-42B8-94E9-A09F537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86F-EF5C-4609-9588-91D016B0E3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3CD-E22F-4A31-8F25-B7419208A0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B6D6-8613-4123-88CD-69FB8B0887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E390-7915-44C6-B867-2DBE2DCAE7F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9CE5-AF1C-4DCF-9C10-D979318B3F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1BE9-4A14-49F0-BB2B-91BB36F6B6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61C-2D6D-49DC-8B01-B89BF254CA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880" y="856800"/>
            <a:ext cx="69292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КОНСУЛЬТАЦИЯ</a:t>
            </a:r>
            <a:r>
              <a:rPr b="1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ЕДАГОГОВ</a:t>
            </a:r>
            <a:br>
              <a:rPr sz="27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ИНИЦИАТИВЫ И САМОСТОЯТЕЛЬНОСТ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ЦЕССЕ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ГАТЕЛЬНОЙ ДЕЯТЕЛЬНОСТИ ДЕТЕЙ»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14800" y="4429080"/>
            <a:ext cx="5532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Кожано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Овал 2"/>
          <p:cNvGrpSpPr/>
          <p:nvPr/>
        </p:nvGrpSpPr>
        <p:grpSpPr>
          <a:xfrm>
            <a:off x="1719360" y="384120"/>
            <a:ext cx="5205240" cy="2567160"/>
            <a:chOff x="1719360" y="384120"/>
            <a:chExt cx="5205240" cy="2567160"/>
          </a:xfrm>
        </p:grpSpPr>
        <p:pic>
          <p:nvPicPr>
            <p:cNvPr id="354" name="Овал 2" descr=""/>
            <p:cNvPicPr/>
            <p:nvPr/>
          </p:nvPicPr>
          <p:blipFill>
            <a:blip r:embed="rId1"/>
            <a:stretch/>
          </p:blipFill>
          <p:spPr>
            <a:xfrm>
              <a:off x="1719360" y="384120"/>
              <a:ext cx="52052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529000" y="784080"/>
              <a:ext cx="358596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Федеральном государственном образовательном стандарте выделены основные линии личностного 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ребенка дошкольного возра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Блок-схема: знак завершения 11"/>
          <p:cNvGrpSpPr/>
          <p:nvPr/>
        </p:nvGrpSpPr>
        <p:grpSpPr>
          <a:xfrm>
            <a:off x="5218200" y="2955960"/>
            <a:ext cx="3170160" cy="1208160"/>
            <a:chOff x="5218200" y="2955960"/>
            <a:chExt cx="3170160" cy="1208160"/>
          </a:xfrm>
        </p:grpSpPr>
        <p:pic>
          <p:nvPicPr>
            <p:cNvPr id="357" name="Блок-схема: знак завершения 11" descr=""/>
            <p:cNvPicPr/>
            <p:nvPr/>
          </p:nvPicPr>
          <p:blipFill>
            <a:blip r:embed="rId2"/>
            <a:stretch/>
          </p:blipFill>
          <p:spPr>
            <a:xfrm>
              <a:off x="5218200" y="2955960"/>
              <a:ext cx="31701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29160" y="3157560"/>
              <a:ext cx="27496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Инициа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Блок-схема: знак завершения 12"/>
          <p:cNvGrpSpPr/>
          <p:nvPr/>
        </p:nvGrpSpPr>
        <p:grpSpPr>
          <a:xfrm>
            <a:off x="291960" y="3029040"/>
            <a:ext cx="3200400" cy="1135080"/>
            <a:chOff x="291960" y="3029040"/>
            <a:chExt cx="3200400" cy="1135080"/>
          </a:xfrm>
        </p:grpSpPr>
        <p:pic>
          <p:nvPicPr>
            <p:cNvPr id="360" name="Блок-схема: знак завершения 12" descr=""/>
            <p:cNvPicPr/>
            <p:nvPr/>
          </p:nvPicPr>
          <p:blipFill>
            <a:blip r:embed="rId3"/>
            <a:stretch/>
          </p:blipFill>
          <p:spPr>
            <a:xfrm>
              <a:off x="291960" y="3029040"/>
              <a:ext cx="32004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01480" y="3218040"/>
              <a:ext cx="2783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амостояте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Блок-схема: знак завершения 9"/>
          <p:cNvGrpSpPr/>
          <p:nvPr/>
        </p:nvGrpSpPr>
        <p:grpSpPr>
          <a:xfrm>
            <a:off x="2859120" y="4743360"/>
            <a:ext cx="3170160" cy="1206720"/>
            <a:chOff x="2859120" y="4743360"/>
            <a:chExt cx="3170160" cy="1206720"/>
          </a:xfrm>
        </p:grpSpPr>
        <p:pic>
          <p:nvPicPr>
            <p:cNvPr id="363" name="Блок-схема: знак завершения 9" descr=""/>
            <p:cNvPicPr/>
            <p:nvPr/>
          </p:nvPicPr>
          <p:blipFill>
            <a:blip r:embed="rId4"/>
            <a:stretch/>
          </p:blipFill>
          <p:spPr>
            <a:xfrm>
              <a:off x="2859120" y="4743360"/>
              <a:ext cx="317016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071880" y="4943520"/>
              <a:ext cx="2749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вор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5" name="Прямая со стрелкой 14"/>
          <p:cNvCxnSpPr/>
          <p:nvPr/>
        </p:nvCxnSpPr>
        <p:spPr>
          <a:xfrm flipH="1">
            <a:off x="2285640" y="2571840"/>
            <a:ext cx="286560" cy="42912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6" name="Прямая со стрелкой 16"/>
          <p:cNvCxnSpPr/>
          <p:nvPr/>
        </p:nvCxnSpPr>
        <p:spPr>
          <a:xfrm flipH="1">
            <a:off x="4428360" y="3142800"/>
            <a:ext cx="2520" cy="135828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18"/>
          <p:cNvCxnSpPr/>
          <p:nvPr/>
        </p:nvCxnSpPr>
        <p:spPr>
          <a:xfrm>
            <a:off x="6642720" y="2499840"/>
            <a:ext cx="214920" cy="42948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arrow" w="med"/>
          </a:ln>
        </p:spPr>
      </p:cxn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Равнобедренный треугольник 12"/>
          <p:cNvSpPr/>
          <p:nvPr/>
        </p:nvSpPr>
        <p:spPr>
          <a:xfrm>
            <a:off x="2214720" y="3643200"/>
            <a:ext cx="4572000" cy="2643480"/>
          </a:xfrm>
          <a:prstGeom prst="triangle">
            <a:avLst>
              <a:gd name="adj" fmla="val 50000"/>
            </a:avLst>
          </a:prstGeom>
          <a:solidFill>
            <a:srgbClr val="80f93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равственных, эстетических, интеллектуальных, физических качеств,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ност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ответственности ребё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Равнобедренный треугольник 14"/>
          <p:cNvSpPr/>
          <p:nvPr/>
        </p:nvSpPr>
        <p:spPr>
          <a:xfrm>
            <a:off x="3071880" y="2214720"/>
            <a:ext cx="2786040" cy="2500200"/>
          </a:xfrm>
          <a:prstGeom prst="triangle">
            <a:avLst>
              <a:gd name="adj" fmla="val 50000"/>
            </a:avLst>
          </a:prstGeom>
          <a:solidFill>
            <a:srgbClr val="80f93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пособностей и творческого потенциала каждого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Равнобедренный треугольник 15"/>
          <p:cNvSpPr/>
          <p:nvPr/>
        </p:nvSpPr>
        <p:spPr>
          <a:xfrm>
            <a:off x="3429000" y="1500120"/>
            <a:ext cx="2143080" cy="1857600"/>
          </a:xfrm>
          <a:prstGeom prst="triangle">
            <a:avLst>
              <a:gd name="adj" fmla="val 50000"/>
            </a:avLst>
          </a:prstGeom>
          <a:solidFill>
            <a:srgbClr val="80f93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ей ЗО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7-конечная звезда 16"/>
          <p:cNvSpPr/>
          <p:nvPr/>
        </p:nvSpPr>
        <p:spPr>
          <a:xfrm>
            <a:off x="3357720" y="428760"/>
            <a:ext cx="2214360" cy="157140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решае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3929040" y="6286680"/>
            <a:ext cx="107172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хема 7" descr=""/>
          <p:cNvPicPr/>
          <p:nvPr/>
        </p:nvPicPr>
        <p:blipFill>
          <a:blip r:embed="rId1"/>
          <a:stretch/>
        </p:blipFill>
        <p:spPr>
          <a:xfrm>
            <a:off x="993600" y="208080"/>
            <a:ext cx="7180560" cy="6368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ая выноска 2"/>
          <p:cNvSpPr/>
          <p:nvPr/>
        </p:nvSpPr>
        <p:spPr>
          <a:xfrm>
            <a:off x="357120" y="214200"/>
            <a:ext cx="4572000" cy="1285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d3f9fd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 развития детской инициативы и творческого само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носка-облако 3"/>
          <p:cNvSpPr/>
          <p:nvPr/>
        </p:nvSpPr>
        <p:spPr>
          <a:xfrm>
            <a:off x="857160" y="2214720"/>
            <a:ext cx="2751120" cy="1223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4fdfe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мог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уме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Выноска-облако 4"/>
          <p:cNvSpPr/>
          <p:nvPr/>
        </p:nvSpPr>
        <p:spPr>
          <a:xfrm>
            <a:off x="3143160" y="1714680"/>
            <a:ext cx="3071880" cy="1428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2fbfe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о очень просто, я тебе помог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носка-облако 5"/>
          <p:cNvSpPr/>
          <p:nvPr/>
        </p:nvSpPr>
        <p:spPr>
          <a:xfrm>
            <a:off x="5357880" y="428760"/>
            <a:ext cx="314316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f9fd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очень творческий ребенок, у тебя все получится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6" descr="5.png"/>
          <p:cNvPicPr/>
          <p:nvPr/>
        </p:nvPicPr>
        <p:blipFill>
          <a:blip r:embed="rId1"/>
          <a:stretch/>
        </p:blipFill>
        <p:spPr>
          <a:xfrm>
            <a:off x="-214200" y="3357720"/>
            <a:ext cx="2625480" cy="350028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1928880" y="314280"/>
            <a:ext cx="405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поддержки </a:t>
            </a: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етской инициативы необходимо</a:t>
            </a: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6"/>
          <p:cNvSpPr/>
          <p:nvPr/>
        </p:nvSpPr>
        <p:spPr>
          <a:xfrm>
            <a:off x="6429240" y="2928960"/>
            <a:ext cx="2357640" cy="1785960"/>
          </a:xfrm>
          <a:prstGeom prst="ellipse">
            <a:avLst/>
          </a:prstGeom>
          <a:solidFill>
            <a:srgbClr val="a6f769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5. Предоставлять детям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самостоятельность во всем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, что не представляет опасности для их жизни и здоровья, помогая им реализовывать собственные замыслы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8"/>
          <p:cNvSpPr/>
          <p:nvPr/>
        </p:nvSpPr>
        <p:spPr>
          <a:xfrm>
            <a:off x="285840" y="1071720"/>
            <a:ext cx="1571400" cy="1357200"/>
          </a:xfrm>
          <a:prstGeom prst="ellipse">
            <a:avLst/>
          </a:prstGeom>
          <a:solidFill>
            <a:srgbClr val="d6fbbb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Отмечать и приветствовать даже минимальные успехи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детей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9"/>
          <p:cNvSpPr/>
          <p:nvPr/>
        </p:nvSpPr>
        <p:spPr>
          <a:xfrm>
            <a:off x="2928960" y="3786120"/>
            <a:ext cx="1928880" cy="1785960"/>
          </a:xfrm>
          <a:prstGeom prst="ellipse">
            <a:avLst/>
          </a:prstGeom>
          <a:solidFill>
            <a:srgbClr val="b1f87c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5. Содержать в открытом доступе различные атрибуты к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развлечениям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10"/>
          <p:cNvSpPr/>
          <p:nvPr/>
        </p:nvSpPr>
        <p:spPr>
          <a:xfrm>
            <a:off x="1357200" y="2357280"/>
            <a:ext cx="2000520" cy="1643400"/>
          </a:xfrm>
          <a:prstGeom prst="ellipse">
            <a:avLst/>
          </a:prstGeom>
          <a:solidFill>
            <a:srgbClr val="c0f995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Не критиковать результаты </a:t>
            </a:r>
            <a:r>
              <a:rPr b="1" lang="ru-RU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деятельности ребенка и его самого как личность</a:t>
            </a:r>
            <a:r>
              <a:rPr b="0" lang="ru-RU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11"/>
          <p:cNvSpPr/>
          <p:nvPr/>
        </p:nvSpPr>
        <p:spPr>
          <a:xfrm>
            <a:off x="4929120" y="4572000"/>
            <a:ext cx="2071800" cy="1857240"/>
          </a:xfrm>
          <a:prstGeom prst="ellipse">
            <a:avLst/>
          </a:prstGeom>
          <a:solidFill>
            <a:srgbClr val="a4f765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4. Формировать у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детей привычку самостоятельно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 находить для себя интересные занятия; приучать свободно пользоваться игрушками и пособия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7"/>
          <p:cNvSpPr/>
          <p:nvPr/>
        </p:nvSpPr>
        <p:spPr>
          <a:xfrm>
            <a:off x="714240" y="78588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2071800" y="2071800"/>
            <a:ext cx="642960" cy="28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3"/>
          <p:cNvSpPr/>
          <p:nvPr/>
        </p:nvSpPr>
        <p:spPr>
          <a:xfrm>
            <a:off x="3643200" y="357192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4"/>
          <p:cNvSpPr/>
          <p:nvPr/>
        </p:nvSpPr>
        <p:spPr>
          <a:xfrm>
            <a:off x="5643720" y="428616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5"/>
          <p:cNvSpPr/>
          <p:nvPr/>
        </p:nvSpPr>
        <p:spPr>
          <a:xfrm>
            <a:off x="7215120" y="2714760"/>
            <a:ext cx="642960" cy="28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7"/>
          <p:cNvSpPr/>
          <p:nvPr/>
        </p:nvSpPr>
        <p:spPr>
          <a:xfrm>
            <a:off x="5143680" y="1785960"/>
            <a:ext cx="2393640" cy="928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0"/>
          <p:cNvSpPr/>
          <p:nvPr/>
        </p:nvSpPr>
        <p:spPr>
          <a:xfrm>
            <a:off x="5072040" y="1785960"/>
            <a:ext cx="892080" cy="25002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 flipH="1">
            <a:off x="3965400" y="1785960"/>
            <a:ext cx="1035360" cy="17859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4"/>
          <p:cNvSpPr/>
          <p:nvPr/>
        </p:nvSpPr>
        <p:spPr>
          <a:xfrm>
            <a:off x="4929120" y="1785960"/>
            <a:ext cx="716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Дуга 27"/>
          <p:cNvSpPr/>
          <p:nvPr/>
        </p:nvSpPr>
        <p:spPr>
          <a:xfrm>
            <a:off x="1000080" y="428760"/>
            <a:ext cx="928800" cy="914400"/>
          </a:xfrm>
          <a:prstGeom prst="pie">
            <a:avLst/>
          </a:pr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29"/>
          <p:cNvSpPr/>
          <p:nvPr/>
        </p:nvSpPr>
        <p:spPr>
          <a:xfrm>
            <a:off x="1928160" y="857160"/>
            <a:ext cx="500040" cy="1143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5-конечная звезда 31"/>
          <p:cNvSpPr/>
          <p:nvPr/>
        </p:nvSpPr>
        <p:spPr>
          <a:xfrm>
            <a:off x="1500120" y="21420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5-конечная звезда 32"/>
          <p:cNvSpPr/>
          <p:nvPr/>
        </p:nvSpPr>
        <p:spPr>
          <a:xfrm>
            <a:off x="4500720" y="1285920"/>
            <a:ext cx="1056960" cy="8571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1000080" y="2858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 детской самостоятельности осуществляется 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Группа 2"/>
          <p:cNvGrpSpPr/>
          <p:nvPr/>
        </p:nvGrpSpPr>
        <p:grpSpPr>
          <a:xfrm>
            <a:off x="1143000" y="1857240"/>
            <a:ext cx="6985080" cy="552600"/>
            <a:chOff x="1143000" y="1857240"/>
            <a:chExt cx="6985080" cy="552600"/>
          </a:xfrm>
        </p:grpSpPr>
        <p:sp>
          <p:nvSpPr>
            <p:cNvPr id="400" name="Прямоугольник 3"/>
            <p:cNvSpPr/>
            <p:nvPr/>
          </p:nvSpPr>
          <p:spPr>
            <a:xfrm>
              <a:off x="1143000" y="1857240"/>
              <a:ext cx="6985080" cy="5526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оугольник 4"/>
            <p:cNvSpPr/>
            <p:nvPr/>
          </p:nvSpPr>
          <p:spPr>
            <a:xfrm>
              <a:off x="1143000" y="1857240"/>
              <a:ext cx="69850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2160" rIns="542160" tIns="249840" bIns="8532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entury Schoolbook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Группа 5"/>
          <p:cNvGrpSpPr/>
          <p:nvPr/>
        </p:nvGrpSpPr>
        <p:grpSpPr>
          <a:xfrm>
            <a:off x="1357200" y="1357200"/>
            <a:ext cx="5521320" cy="911160"/>
            <a:chOff x="1357200" y="1357200"/>
            <a:chExt cx="5521320" cy="911160"/>
          </a:xfrm>
        </p:grpSpPr>
        <p:sp>
          <p:nvSpPr>
            <p:cNvPr id="403" name="Скругленный прямоугольник 6"/>
            <p:cNvSpPr/>
            <p:nvPr/>
          </p:nvSpPr>
          <p:spPr>
            <a:xfrm>
              <a:off x="1357200" y="1357200"/>
              <a:ext cx="5467680" cy="91116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Скругленный прямоугольник 4"/>
            <p:cNvSpPr/>
            <p:nvPr/>
          </p:nvSpPr>
          <p:spPr>
            <a:xfrm>
              <a:off x="1499760" y="1428480"/>
              <a:ext cx="5378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Поручения детям-дежурны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Прямоугольник 8"/>
          <p:cNvSpPr/>
          <p:nvPr/>
        </p:nvSpPr>
        <p:spPr>
          <a:xfrm>
            <a:off x="1143000" y="3786120"/>
            <a:ext cx="6985080" cy="6336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1143000" y="2786040"/>
            <a:ext cx="6985080" cy="60336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0"/>
          <p:cNvSpPr/>
          <p:nvPr/>
        </p:nvSpPr>
        <p:spPr>
          <a:xfrm>
            <a:off x="1143000" y="4857840"/>
            <a:ext cx="6985080" cy="6030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1"/>
          <p:cNvSpPr/>
          <p:nvPr/>
        </p:nvSpPr>
        <p:spPr>
          <a:xfrm>
            <a:off x="1143000" y="5929200"/>
            <a:ext cx="6985080" cy="60336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Группа 12"/>
          <p:cNvGrpSpPr/>
          <p:nvPr/>
        </p:nvGrpSpPr>
        <p:grpSpPr>
          <a:xfrm>
            <a:off x="1285920" y="2500200"/>
            <a:ext cx="5551560" cy="754200"/>
            <a:chOff x="1285920" y="2500200"/>
            <a:chExt cx="5551560" cy="754200"/>
          </a:xfrm>
        </p:grpSpPr>
        <p:sp>
          <p:nvSpPr>
            <p:cNvPr id="410" name="Скругленный прямоугольник 13"/>
            <p:cNvSpPr/>
            <p:nvPr/>
          </p:nvSpPr>
          <p:spPr>
            <a:xfrm>
              <a:off x="1285920" y="2500200"/>
              <a:ext cx="5551560" cy="75420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Скругленный прямоугольник 4"/>
            <p:cNvSpPr/>
            <p:nvPr/>
          </p:nvSpPr>
          <p:spPr>
            <a:xfrm>
              <a:off x="1322280" y="2536560"/>
              <a:ext cx="547884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Использование разных приёмов при выполнении ОРУ и ОВ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Группа 15"/>
          <p:cNvGrpSpPr/>
          <p:nvPr/>
        </p:nvGrpSpPr>
        <p:grpSpPr>
          <a:xfrm>
            <a:off x="1285920" y="3500280"/>
            <a:ext cx="5551560" cy="747720"/>
            <a:chOff x="1285920" y="3500280"/>
            <a:chExt cx="5551560" cy="747720"/>
          </a:xfrm>
        </p:grpSpPr>
        <p:sp>
          <p:nvSpPr>
            <p:cNvPr id="413" name="Скругленный прямоугольник 16"/>
            <p:cNvSpPr/>
            <p:nvPr/>
          </p:nvSpPr>
          <p:spPr>
            <a:xfrm>
              <a:off x="1285920" y="3500280"/>
              <a:ext cx="5551560" cy="7477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Скругленный прямоугольник 4"/>
            <p:cNvSpPr/>
            <p:nvPr/>
          </p:nvSpPr>
          <p:spPr>
            <a:xfrm>
              <a:off x="1322280" y="3536640"/>
              <a:ext cx="54788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Творческие задания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Группа 8"/>
          <p:cNvGrpSpPr/>
          <p:nvPr/>
        </p:nvGrpSpPr>
        <p:grpSpPr>
          <a:xfrm>
            <a:off x="1357200" y="4572000"/>
            <a:ext cx="5551560" cy="747720"/>
            <a:chOff x="1357200" y="4572000"/>
            <a:chExt cx="5551560" cy="747720"/>
          </a:xfrm>
        </p:grpSpPr>
        <p:sp>
          <p:nvSpPr>
            <p:cNvPr id="416" name="Скругленный прямоугольник 19"/>
            <p:cNvSpPr/>
            <p:nvPr/>
          </p:nvSpPr>
          <p:spPr>
            <a:xfrm>
              <a:off x="1357200" y="4572000"/>
              <a:ext cx="5551560" cy="7477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Скругленный прямоугольник 4"/>
            <p:cNvSpPr/>
            <p:nvPr/>
          </p:nvSpPr>
          <p:spPr>
            <a:xfrm>
              <a:off x="1393560" y="4608360"/>
              <a:ext cx="54788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Карточки-схем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12"/>
          <p:cNvGrpSpPr/>
          <p:nvPr/>
        </p:nvGrpSpPr>
        <p:grpSpPr>
          <a:xfrm>
            <a:off x="1285920" y="5572080"/>
            <a:ext cx="5551560" cy="747720"/>
            <a:chOff x="1285920" y="5572080"/>
            <a:chExt cx="5551560" cy="747720"/>
          </a:xfrm>
        </p:grpSpPr>
        <p:sp>
          <p:nvSpPr>
            <p:cNvPr id="419" name="Скругленный прямоугольник 23"/>
            <p:cNvSpPr/>
            <p:nvPr/>
          </p:nvSpPr>
          <p:spPr>
            <a:xfrm>
              <a:off x="1285920" y="5572080"/>
              <a:ext cx="5551560" cy="7477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Скругленный прямоугольник 4"/>
            <p:cNvSpPr/>
            <p:nvPr/>
          </p:nvSpPr>
          <p:spPr>
            <a:xfrm>
              <a:off x="1322280" y="5608440"/>
              <a:ext cx="54788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 Подвижные игр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ая прямоугольная выноска 1"/>
          <p:cNvSpPr/>
          <p:nvPr/>
        </p:nvSpPr>
        <p:spPr>
          <a:xfrm>
            <a:off x="1285920" y="500040"/>
            <a:ext cx="6715080" cy="3214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7ee3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стоятельност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оянно развивающееся личностное качество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основы которого закладываются в дошкольном возра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2" descr=""/>
          <p:cNvPicPr/>
          <p:nvPr/>
        </p:nvPicPr>
        <p:blipFill>
          <a:blip r:embed="rId1"/>
          <a:srcRect l="8113" t="11061" r="8113" b="7029"/>
          <a:stretch/>
        </p:blipFill>
        <p:spPr>
          <a:xfrm>
            <a:off x="1143000" y="3929040"/>
            <a:ext cx="242892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07:50:42Z</dcterms:created>
  <dc:creator>Наталья</dc:creator>
  <dc:description/>
  <dc:language>en-US</dc:language>
  <cp:lastModifiedBy>1</cp:lastModifiedBy>
  <dcterms:modified xsi:type="dcterms:W3CDTF">2018-07-28T02:00:57Z</dcterms:modified>
  <cp:revision>125</cp:revision>
  <dc:subject/>
  <dc:title>Использование педагогических технологий в физкультурно – оздоровительной работе  ДОУ</dc:title>
</cp:coreProperties>
</file>