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884-9711-4528-BB18-ED3EC32F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BB1-4D7E-4187-AD91-4375B0A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1D8-F513-4DA0-864D-29FA41D4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DF5-18BE-4752-9024-43AF06FA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13BC-7F3F-4BF1-96BE-C562A4FE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1D5-3052-47F5-BE35-45A03DE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E88A-1E6B-4941-9230-4C9163E3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1FB9-FB05-4845-832D-24599E6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160E-7749-47CE-BF6B-DD9D7440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1A48-5372-40C9-89A0-03812BD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BF47-62F5-466B-93FB-98BC38A2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324-C9D4-4A1F-B4AE-260AB7C9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56EC-3E83-499A-B04A-71D17B7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44A1-83F3-4B5A-86D3-085EA95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5AA0-0907-4498-BBD4-1FCC857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AA19-4C36-4D73-A106-7AB609E9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69E9-25C7-42D9-8190-D0B45A169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EE1-E8B5-4945-A5B6-5CA624DE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B55-0EB7-4171-B14C-9CD8327A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B33-507B-45DF-971F-84275C62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EE5-1989-4E25-8991-0EECCC3E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11C-8DC1-40F3-81B1-FF882E8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7802-7BDE-4176-882B-D5523EBA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16E-CF0F-4670-9E50-EA5B77C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CEC1-279C-4624-9183-262A34FD582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064-2F38-4E51-9860-FECA3410BF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d66b"/>
                </a:solidFill>
                <a:latin typeface="Garamond"/>
              </a:rPr>
              <a:t>МБДОУ «Детский сад №9» г. Сосногорска</a:t>
            </a: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презентация к семинару</a:t>
            </a:r>
            <a:br>
              <a:rPr sz="2800"/>
            </a:br>
            <a:br>
              <a:rPr sz="24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СОВРЕМ ЕННЫЕ ПЕДАГОГИЧЕСКИЕ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ТЕХНОЛОГИИ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втор-составитель: Лиси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d66b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ЧАСТИЧНО-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ОИСКОВЫ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95680" y="2057400"/>
            <a:ext cx="4038840" cy="3029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ССЛЕДОВАТЕЛЬСКИ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52480" y="38098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Современные педагогические технологии – это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ДЕЯТЕЛЬНОСТНОГО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типа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9574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4038480" cy="298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я – это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ПРОЦЕСС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ного применения методов и форм работы в логичной последовательности с целью достижения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СОВРЕМЕННЫЕ ПЕДАГОГИЧЕСКИЕ 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1. Проект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2. Здоровьесбере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3. Социоигров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4. Личностно-ориентированн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5. ИКТ и И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ЛЮБОЙ ПРОЕКТ – ЭТО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ПЯТЬ «П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1447920"/>
            <a:ext cx="8229240" cy="4494600"/>
            <a:chOff x="457200" y="1447920"/>
            <a:chExt cx="8229240" cy="4494600"/>
          </a:xfrm>
        </p:grpSpPr>
        <p:cxnSp>
          <p:nvCxnSpPr>
            <p:cNvPr id="125" name="_s116754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816520" y="200052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6752"/>
            <p:cNvCxnSpPr>
              <a:stCxn id="129" idx="0"/>
              <a:endCxn id="127" idx="2"/>
            </p:cNvCxnSpPr>
            <p:nvPr/>
          </p:nvCxnSpPr>
          <p:spPr>
            <a:xfrm flipV="1" rot="16200000">
              <a:off x="4970520" y="284652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16750"/>
            <p:cNvCxnSpPr>
              <a:stCxn id="131" idx="0"/>
              <a:endCxn id="127" idx="2"/>
            </p:cNvCxnSpPr>
            <p:nvPr/>
          </p:nvCxnSpPr>
          <p:spPr>
            <a:xfrm flipV="1" rot="16200000">
              <a:off x="4123440" y="369360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16749"/>
            <p:cNvCxnSpPr>
              <a:stCxn id="133" idx="0"/>
              <a:endCxn id="127" idx="2"/>
            </p:cNvCxnSpPr>
            <p:nvPr/>
          </p:nvCxnSpPr>
          <p:spPr>
            <a:xfrm flipH="1" flipV="1" rot="5400000">
              <a:off x="3276000" y="284796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16748"/>
            <p:cNvCxnSpPr>
              <a:stCxn id="135" idx="0"/>
              <a:endCxn id="127" idx="2"/>
            </p:cNvCxnSpPr>
            <p:nvPr/>
          </p:nvCxnSpPr>
          <p:spPr>
            <a:xfrm flipH="1" flipV="1" rot="5400000">
              <a:off x="2428200" y="200016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16744"/>
            <p:cNvSpPr/>
            <p:nvPr/>
          </p:nvSpPr>
          <p:spPr>
            <a:xfrm>
              <a:off x="3844800" y="144792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проек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16745"/>
            <p:cNvSpPr/>
            <p:nvPr/>
          </p:nvSpPr>
          <p:spPr>
            <a:xfrm>
              <a:off x="45720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ыбор тем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16746"/>
            <p:cNvSpPr/>
            <p:nvPr/>
          </p:nvSpPr>
          <p:spPr>
            <a:xfrm>
              <a:off x="215172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лан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ипотез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иск реш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6747"/>
            <p:cNvSpPr/>
            <p:nvPr/>
          </p:nvSpPr>
          <p:spPr>
            <a:xfrm>
              <a:off x="384624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ве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бор и анализ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16751"/>
            <p:cNvSpPr/>
            <p:nvPr/>
          </p:nvSpPr>
          <p:spPr>
            <a:xfrm>
              <a:off x="554076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ду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16753"/>
            <p:cNvSpPr/>
            <p:nvPr/>
          </p:nvSpPr>
          <p:spPr>
            <a:xfrm>
              <a:off x="7235640" y="414468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езент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дук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 прое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ЗДОРОВЬЕСБЕРЕЖ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1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СОЦИОИГРОВЫЕ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105520" y="38862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ЛИЧНОСТНО-ОРИЕНТИРОВАННЫЕ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743200" cy="2065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38480" cy="3028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2819160" cy="2203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КТ и ИАТ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733560" cy="2809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581640" cy="2930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Современные педагогические технологии сегодня имеют приоритетное значение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1. Что означа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«СОВРЕМЕННЫЕ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. Что означ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«ТЕХНОЛОГИ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РЕЗЮМ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«СОВРЕМЕННЫЕ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- означае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родуктивные,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деятельност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«ТЕХНОЛОГИЯ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– означает процесс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роизводство, выработка проду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деятельности, а не отдельно вз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образовательные мето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СОВРЕМЕННАЯ ОБРАЗОВАТЕЛЬНАЯ СИСТЕМА ПОСТРОЕНА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ПРИНЦИП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НТЕ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СОВРЕМЕННЫЕ ПЕДАГОГИЧЕСКИЕ ТЕХН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КТУАЛЬ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ФФЕКТИ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d66b"/>
                </a:solidFill>
                <a:latin typeface="Garamond"/>
              </a:rPr>
              <a:t>КЛАССИФИКАЦИЯ ОБЩЕОБРАЗОВАТЕЛЬНЫХ МЕТОДОВ  </a:t>
            </a:r>
            <a:br>
              <a:rPr sz="3200"/>
            </a:br>
            <a:r>
              <a:rPr b="1" lang="ru-RU" sz="3200" spc="-1" strike="noStrike">
                <a:solidFill>
                  <a:srgbClr val="00d66b"/>
                </a:solidFill>
                <a:latin typeface="Garamond"/>
              </a:rPr>
              <a:t>(М.Н.Скаткин, И.Я.Лернер</a:t>
            </a:r>
            <a:r>
              <a:rPr b="0" lang="ru-RU" sz="3200" spc="-1" strike="noStrike">
                <a:solidFill>
                  <a:srgbClr val="00d6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1. 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. Репродуктив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3. Проблемное из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4. Частично-поисков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5. Исследователь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66b"/>
                </a:solidFill>
                <a:latin typeface="Garamond"/>
              </a:rPr>
              <a:t>РЕПРОДУКТИВНЫ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  Объяснительно-иллюстра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информационно-рецептив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 Репроду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66b"/>
                </a:solidFill>
                <a:latin typeface="Garamond"/>
              </a:rPr>
              <a:t>ПРОДУКТИВНЫ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 Частично-поис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эвристиче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РОМЕЖУТОЧНАЯ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ГРУПП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Проблемное и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ОБЪЯСНИТЕЛЬНО-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ЛЛЮСТРАТИВНЫ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3657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РЕПРОДУКТИВНЫ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919240" cy="2036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114800" cy="259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3630600" cy="2210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РОБЛЕМНОЕ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ЗЛОЖ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6400" cy="3657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1:45:59Z</dcterms:created>
  <dc:creator>Мамулька</dc:creator>
  <dc:description/>
  <dc:language>en-US</dc:language>
  <cp:lastModifiedBy>Мамулька</cp:lastModifiedBy>
  <dcterms:modified xsi:type="dcterms:W3CDTF">2018-07-28T08:01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