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EF9-BBA9-4BA8-B184-B976B74DC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2594-5F21-46B5-B71A-60C4350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52D1-D151-449F-9778-5AA3E416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B3F0-004B-45DD-BD62-84577E653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E0F-2738-4505-B57F-3B24A1C8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906F2-E90B-4561-9AD4-11B7AB30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0B71-20B4-4D5E-845F-71CE281C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B6D4-1B95-4AB1-A3FE-2039DCEB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C60E-2551-460C-9B63-FAA34354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68FA-5C1B-46ED-AA60-68E3858F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280B-2A4D-4238-B8B9-0B21C46F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74E-949E-43B8-B206-88E7EDCDB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3D45-90F5-4403-B32F-94223686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133D-45BD-413B-844C-775797D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EE1-4F6F-4346-B6E1-ECFDEED0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D7A6-C439-40A7-99A8-025AC6F5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7D979-ECC1-4555-AB59-5D4ACC8E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4411-3D96-4445-BE45-4D7C3533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820-74C6-4D98-AFC3-225D2879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64D-20E1-47F8-AAC1-4864714C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222E-3594-4C89-9768-AC9203D1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252-42E9-4639-B1BF-E8D72AE1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559-834C-4A96-93F8-E5D1E6DD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1115-06E0-467D-AF77-AF5FF2BF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3C00-6560-4CC7-B7E8-9452DDB424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7A95-B94D-43D2-9B03-8E3181A76C6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762120"/>
            <a:ext cx="7620120" cy="28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d66b"/>
                </a:solidFill>
                <a:latin typeface="Garamond"/>
              </a:rPr>
              <a:t>МБДОУ «Детский сад №9» г. Сосногорска</a:t>
            </a:r>
            <a:br>
              <a:rPr sz="1900"/>
            </a:br>
            <a:br>
              <a:rPr sz="1900"/>
            </a:b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презентация к семинару</a:t>
            </a:r>
            <a:br>
              <a:rPr sz="2800"/>
            </a:br>
            <a:br>
              <a:rPr sz="2400"/>
            </a:b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СОВРЕМ ЕННЫЕ ПЕДАГОГИЧЕСКИЕ</a:t>
            </a:r>
            <a:br>
              <a:rPr sz="4000"/>
            </a:br>
            <a:r>
              <a:rPr b="1" lang="en-US" sz="4000" spc="-1" strike="noStrike">
                <a:solidFill>
                  <a:srgbClr val="ff3300"/>
                </a:solidFill>
                <a:latin typeface="Garamond"/>
              </a:rPr>
              <a:t>ТЕХНОЛОГИИ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Автор-составитель: Лисинко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d66b"/>
                </a:solidFill>
                <a:latin typeface="Arial"/>
              </a:rPr>
              <a:t>2016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ЧАСТИЧНО-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ПОИСКОВЫ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95680" y="2057400"/>
            <a:ext cx="4038840" cy="3029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ИССЛЕДОВАТЕЛЬСКИЙ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52480" y="380988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486400" y="380988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d66b"/>
                </a:solidFill>
                <a:latin typeface="Garamond"/>
              </a:rPr>
              <a:t>Современные педагогические технологии – это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d66b"/>
                </a:solidFill>
                <a:latin typeface="Garamond"/>
              </a:rPr>
              <a:t>технологии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Garamond"/>
              </a:rPr>
              <a:t>ДЕЯТЕЛЬНОСТНОГО</a:t>
            </a: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00d66b"/>
                </a:solidFill>
                <a:latin typeface="Garamond"/>
              </a:rPr>
              <a:t>типа.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447920" y="3809880"/>
            <a:ext cx="29574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648320" y="2057400"/>
            <a:ext cx="4038480" cy="298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Технология – это</a:t>
            </a: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ПРОЦЕСС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ного применения методов и форм работы в логичной последовательности с целью достижения результ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Garamond"/>
              </a:rPr>
              <a:t>СОВРЕМЕННЫЕ ПЕДАГОГИЧЕСКИЕ ТЕХНОЛОГИ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1. Проектная деятельност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2. Здоровьесбере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3. Социоигровые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4. Личностно-ориентированные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5. ИКТ и И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ЛЮБОЙ ПРОЕКТ – ЭТО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Garamond"/>
              </a:rPr>
              <a:t>ПЯТЬ «П»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1447920"/>
            <a:ext cx="8229240" cy="4494600"/>
            <a:chOff x="457200" y="1447920"/>
            <a:chExt cx="8229240" cy="4494600"/>
          </a:xfrm>
        </p:grpSpPr>
        <p:cxnSp>
          <p:nvCxnSpPr>
            <p:cNvPr id="125" name="_s116754"/>
            <p:cNvCxnSpPr>
              <a:stCxn id="126" idx="0"/>
              <a:endCxn id="127" idx="2"/>
            </p:cNvCxnSpPr>
            <p:nvPr/>
          </p:nvCxnSpPr>
          <p:spPr>
            <a:xfrm flipV="1" rot="16200000">
              <a:off x="5816520" y="2000520"/>
              <a:ext cx="899640" cy="338832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8" name="_s116752"/>
            <p:cNvCxnSpPr>
              <a:stCxn id="129" idx="0"/>
              <a:endCxn id="127" idx="2"/>
            </p:cNvCxnSpPr>
            <p:nvPr/>
          </p:nvCxnSpPr>
          <p:spPr>
            <a:xfrm flipV="1" rot="16200000">
              <a:off x="4970520" y="2846520"/>
              <a:ext cx="899640" cy="169668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16750"/>
            <p:cNvCxnSpPr>
              <a:stCxn id="131" idx="0"/>
              <a:endCxn id="127" idx="2"/>
            </p:cNvCxnSpPr>
            <p:nvPr/>
          </p:nvCxnSpPr>
          <p:spPr>
            <a:xfrm flipV="1" rot="16200000">
              <a:off x="4123440" y="3693600"/>
              <a:ext cx="899640" cy="21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16749"/>
            <p:cNvCxnSpPr>
              <a:stCxn id="133" idx="0"/>
              <a:endCxn id="127" idx="2"/>
            </p:cNvCxnSpPr>
            <p:nvPr/>
          </p:nvCxnSpPr>
          <p:spPr>
            <a:xfrm flipH="1" flipV="1" rot="5400000">
              <a:off x="3276000" y="2847960"/>
              <a:ext cx="899640" cy="169380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16748"/>
            <p:cNvCxnSpPr>
              <a:stCxn id="135" idx="0"/>
              <a:endCxn id="127" idx="2"/>
            </p:cNvCxnSpPr>
            <p:nvPr/>
          </p:nvCxnSpPr>
          <p:spPr>
            <a:xfrm flipH="1" flipV="1" rot="5400000">
              <a:off x="2428200" y="2000160"/>
              <a:ext cx="899640" cy="3389760"/>
            </a:xfrm>
            <a:prstGeom prst="bentConnector3">
              <a:avLst>
                <a:gd name="adj1" fmla="val 1269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7" name="_s116744"/>
            <p:cNvSpPr/>
            <p:nvPr/>
          </p:nvSpPr>
          <p:spPr>
            <a:xfrm>
              <a:off x="3844800" y="144792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Arial"/>
                </a:rPr>
                <a:t>проек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116745"/>
            <p:cNvSpPr/>
            <p:nvPr/>
          </p:nvSpPr>
          <p:spPr>
            <a:xfrm>
              <a:off x="457200" y="414468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обл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ыбор темы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цел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16746"/>
            <p:cNvSpPr/>
            <p:nvPr/>
          </p:nvSpPr>
          <p:spPr>
            <a:xfrm>
              <a:off x="2151720" y="414468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ланирова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ипотеза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оиск реше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16747"/>
            <p:cNvSpPr/>
            <p:nvPr/>
          </p:nvSpPr>
          <p:spPr>
            <a:xfrm>
              <a:off x="3846240" y="414468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овер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бор и анализ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нформаци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16751"/>
            <p:cNvSpPr/>
            <p:nvPr/>
          </p:nvSpPr>
          <p:spPr>
            <a:xfrm>
              <a:off x="5540760" y="4144680"/>
              <a:ext cx="1452240" cy="1797840"/>
            </a:xfrm>
            <a:custGeom>
              <a:avLst/>
              <a:gdLst>
                <a:gd name="textAreaLeft" fmla="*/ 70560 w 1452240"/>
                <a:gd name="textAreaRight" fmla="*/ 1381680 w 145224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39">
                  <a:moveTo>
                    <a:pt x="3600" y="0"/>
                  </a:moveTo>
                  <a:arcTo wR="3600" hR="3600" stAng="16200000" swAng="-5400000"/>
                  <a:lnTo>
                    <a:pt x="0" y="23139"/>
                  </a:lnTo>
                  <a:arcTo wR="3600" hR="3600" stAng="10800000" swAng="-5400000"/>
                  <a:lnTo>
                    <a:pt x="18000" y="2673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одук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блем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116753"/>
            <p:cNvSpPr/>
            <p:nvPr/>
          </p:nvSpPr>
          <p:spPr>
            <a:xfrm>
              <a:off x="7235640" y="4144680"/>
              <a:ext cx="1450800" cy="1797840"/>
            </a:xfrm>
            <a:custGeom>
              <a:avLst/>
              <a:gdLst>
                <a:gd name="textAreaLeft" fmla="*/ 70560 w 1450800"/>
                <a:gd name="textAreaRight" fmla="*/ 1380240 w 1450800"/>
                <a:gd name="textAreaTop" fmla="*/ 70560 h 1797840"/>
                <a:gd name="textAreaBottom" fmla="*/ 1727280 h 1797840"/>
              </a:gdLst>
              <a:ahLst/>
              <a:rect l="textAreaLeft" t="textAreaTop" r="textAreaRight" b="textAreaBottom"/>
              <a:pathLst>
                <a:path w="21600" h="26766">
                  <a:moveTo>
                    <a:pt x="3600" y="0"/>
                  </a:moveTo>
                  <a:arcTo wR="3600" hR="3600" stAng="16200000" swAng="-5400000"/>
                  <a:lnTo>
                    <a:pt x="0" y="23166"/>
                  </a:lnTo>
                  <a:arcTo wR="3600" hR="3600" stAng="10800000" swAng="-5400000"/>
                  <a:lnTo>
                    <a:pt x="18000" y="267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"/>
                </a:rPr>
                <a:t>Презент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дукт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или проек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ЗДОРОВЬЕСБЕРЕЖЕНИ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523880" y="380988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334120" y="380988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762120" y="13716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СОЦИОИГРОВЫЕ 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ТЕХНОЛОГИ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495680" y="1447920"/>
            <a:ext cx="291960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371600" y="38862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4"/>
          <a:stretch/>
        </p:blipFill>
        <p:spPr>
          <a:xfrm>
            <a:off x="5105520" y="3886200"/>
            <a:ext cx="2919240" cy="2189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ЛИЧНОСТНО-ОРИЕНТИРОВАННЫЕ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ТЕХНОЛОГИИ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743200" cy="20653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038480" cy="30286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762120" y="1447920"/>
            <a:ext cx="2819160" cy="22032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ИКТ и ИАТ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3733560" cy="28098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952880" y="2895480"/>
            <a:ext cx="3581640" cy="29307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Современные педагогические технологии сегодня имеют приоритетное значение.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1. Что означает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«СОВРЕМЕННЫЕ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2. Что означае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«ТЕХНОЛОГИИ»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РЕЗЮМ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«СОВРЕМЕННЫЕ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- означает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продуктивные,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деятельностны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2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3300"/>
                </a:solidFill>
                <a:latin typeface="Arial"/>
              </a:rPr>
              <a:t>«ТЕХНОЛОГИЯ»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– означает процесс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производство, выработка продук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деятельности, а не отдельно взяты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0000ff"/>
                </a:solidFill>
                <a:latin typeface="Arial"/>
              </a:rPr>
              <a:t>образовательные мето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Arial"/>
              </a:rPr>
              <a:t>СОВРЕМЕННАЯ ОБРАЗОВАТЕЛЬНАЯ СИСТЕМА ПОСТРОЕНА 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d66b"/>
                </a:solidFill>
                <a:latin typeface="Arial"/>
              </a:rPr>
              <a:t>ПРИНЦИП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ИНТЕГ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Arial"/>
              </a:rPr>
              <a:t>СОВРЕМЕННЫЕ ПЕДАГОГИЧЕСКИЕ ТЕХН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АКТУАЛЬ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Arial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ЭФФЕКТИ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d66b"/>
                </a:solidFill>
                <a:latin typeface="Garamond"/>
              </a:rPr>
              <a:t>КЛАССИФИКАЦИЯ ОБЩЕОБРАЗОВАТЕЛЬНЫХ МЕТОДОВ  </a:t>
            </a:r>
            <a:br>
              <a:rPr sz="3200"/>
            </a:br>
            <a:r>
              <a:rPr b="1" lang="ru-RU" sz="3200" spc="-1" strike="noStrike">
                <a:solidFill>
                  <a:srgbClr val="00d66b"/>
                </a:solidFill>
                <a:latin typeface="Garamond"/>
              </a:rPr>
              <a:t>(М.Н.Скаткин, И.Я.Лернер</a:t>
            </a:r>
            <a:r>
              <a:rPr b="0" lang="ru-RU" sz="3200" spc="-1" strike="noStrike">
                <a:solidFill>
                  <a:srgbClr val="00d66b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1. Объяснительно-иллюстратив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2. Репродуктивн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3. Проблемное излож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4. Частично-поисковы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5. Исследовательский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66b"/>
                </a:solidFill>
                <a:latin typeface="Garamond"/>
              </a:rPr>
              <a:t>РЕПРОДУКТИВНЫ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904760" y="396252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  Объяснительно-иллюстра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информационно-рецептивны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  Репродуктив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d66b"/>
                </a:solidFill>
                <a:latin typeface="Garamond"/>
              </a:rPr>
              <a:t>ПРОДУКТИВНЫ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 Частично-поисков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эвристическ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  Исследователь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ПРОМЕЖУТОЧНАЯ 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ГРУППА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 Проблемное из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ОБЪЯСНИТЕЛЬНО-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ИЛЛЮСТРАТИВНЫ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876920" cy="36576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РЕПРОДУКТИВНЫ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2919240" cy="20365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114800" cy="259092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09480" y="3809880"/>
            <a:ext cx="3630600" cy="22100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ПРОБЛЕМНОЕ </a:t>
            </a:r>
            <a:br>
              <a:rPr sz="3200"/>
            </a:br>
            <a:r>
              <a:rPr b="0" lang="en-US" sz="3200" spc="-1" strike="noStrike">
                <a:solidFill>
                  <a:srgbClr val="00d66b"/>
                </a:solidFill>
                <a:latin typeface="Garamond"/>
              </a:rPr>
              <a:t>ИЗЛОЖЕНИЕ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486400" cy="365760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1:45:59Z</dcterms:created>
  <dc:creator>Мамулька</dc:creator>
  <dc:description/>
  <dc:language>en-US</dc:language>
  <cp:lastModifiedBy>Мамулька</cp:lastModifiedBy>
  <dcterms:modified xsi:type="dcterms:W3CDTF">2018-07-28T08:01:23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